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1522-E349-4747-8ABF-6F07117DC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559A-1F90-4601-ADB0-075DCB5FD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46E4-502F-44F2-92CA-0469C2CB1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5DBE-B9C9-458B-87FA-9C8591B04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FC157-C1D5-4B84-952F-89C8B5634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11779-93FE-4B45-AD47-C4027528D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39DCF-6F49-4A34-8F92-A6361E666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D755A-05E0-435D-92A0-3C3AA6345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174D6-5DEF-4770-8663-CFF68BA79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6A012-28BF-4419-91DB-D00F0DB7A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3B83C-0AAE-407A-A319-FC6FBC28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F4A4-D6E3-40ED-9F32-3D68BE403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71CA7-371D-4875-B2A6-962BEC470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D4A93-DE84-4C90-9D4C-9BC8483A0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5C7A6-0863-4970-B13A-EF3D79E5E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C1667-80A2-4DE6-9365-66A2BD3C9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C664D-F7AA-4EBB-8FC7-80C99D8A8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81298-3127-4824-8B12-C3BF6694A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407CF-7D86-4DDC-8F22-2693A604C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12EA2-5616-4AD6-BC20-6ADD51003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66143-D12B-4B55-B0AA-65B51C035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5D01F-C857-4AEB-8EA1-C6CF099A8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E31E-C981-480C-B094-9C65BE9FF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D05DE-AB1A-4B18-B07C-3231E6EAE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01778-912C-4F78-BE74-63F39A3D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AD008-84CC-480B-BDAC-18038D9B1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605F2-4032-4797-8E2A-23FADFDF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69F23-1206-4EAB-B285-5868A9C8D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63D90-8D35-4D1F-97A2-7D3DD63E7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430D1-35D6-42D2-B49A-AFCEED906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CFB11-2C57-4E8E-A7A0-78671932C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4F021-BBDC-407B-B237-9D1753029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A71B8-F95D-48F7-9731-402045AD4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2418-B639-43DF-8517-0A322CEE8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1A876-AC1F-41A3-B222-36F6CC272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21175-223F-4036-B363-30E42A8D2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DA94B-6739-491F-ADBA-37D6006BE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113D7-BCCB-46EC-9DB7-F1C6E6E5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CCB09-9DFB-485B-A8F8-009416BCA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E2EB7-62A8-464C-B541-8A58797ED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5F5E6-C357-4C4F-B197-14DF27E01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53D49-32B3-4B80-87A9-58069BD10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9DE3C-1BFA-462F-A8B9-F27465A79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10EA9-3282-4A4D-98E7-B3E6C222E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4F41-91C9-46F1-B66F-A4D1C85D8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8B1760-0B79-4132-9B10-6AA509FDF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F251B-2DC9-4331-9435-5864362A3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11D729-A4D3-4010-98A9-738A70546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169B7C-C91B-47A6-AAC1-F5D439C60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9C111-D59B-463E-A631-89FE331D4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2C242-F665-4D4C-AE5A-9A60EBA6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80CE57-D1B0-45E1-AA57-C6748EFB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8394B-B8C5-4DD7-9958-E7205951A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3026A8-20FB-4697-B4C4-4F92AF5D8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9BC20D-A993-47BF-B6F2-D5BD4914D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7C7C-A037-4D1B-B4FF-37AFA07B5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5F58EA-5C45-44ED-9246-5475BC9FB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788564-E64C-4195-86B9-2888BF868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74D2EA-B18D-4138-812B-34864EB2A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9A68A5-3D4E-43DD-B58D-931026EB4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ED457F-CEF1-48B0-85A6-81500FEC4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F2E5ED-020E-4C6A-BC56-E5B553601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7879AC-A206-4094-8711-23F099997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FFF063-A2A4-4B4A-BE13-6C9B3B26B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D1CDAD-F7AF-470E-A572-8B86096A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E82E72-FA11-4F76-B94B-11F34E7DE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3A67-B18F-4AC2-8B26-E0259D50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00D9B3-4F6E-4AC9-8F3F-3A1EB667C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B55B6-0DD4-4EAC-B221-594A72B1E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43943D-7B94-4805-A448-17D909E22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AC67D9-B22E-4438-85FA-1C5DCD81F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BDCA34-6CC3-42CA-A81E-4E25D5A76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13EBCB-BC30-4F05-8CE3-856B5EC11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641AC2-20A8-4E97-9587-422232DDA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42D0C1-5994-449A-8A87-23A3B9161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FDB57E-BB8D-4113-A068-672A2C7EA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7B3120-4E91-4338-889F-C6A0544D9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FB3F-C5E0-4E8A-AB05-A13CD4AA0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38537F-BBFB-4818-A373-655B4CEC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FB0CCD-0C4C-4E5B-A120-49EEE22B8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C9C6F3-0106-4296-9DC8-5001FCC5E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BDAEDE-2ABC-4F7F-9E6F-6C10C4321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B357D6-EFF4-49EE-9BBA-4CA2FD114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8512-B385-4638-84CD-BBBE52F7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27512-ED28-4B6F-BCFF-8E71569E5F01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B47C4-4B4C-46D3-8794-5EE086163095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B4929-4098-48DC-B927-440DC2054E5B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CC779-91BD-4CDE-9934-8BF601F105D8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1498C-8303-4322-A0E7-7C6406FAF8AF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71991-7842-482C-84C7-F6A939071950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8EB6B-3589-4565-B5C0-869A6E5C6402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Rectangle 2" descr=""/>
          <p:cNvPicPr/>
          <p:nvPr/>
        </p:nvPicPr>
        <p:blipFill>
          <a:blip r:embed="rId1"/>
          <a:stretch/>
        </p:blipFill>
        <p:spPr>
          <a:xfrm>
            <a:off x="1322280" y="1736640"/>
            <a:ext cx="7072560" cy="4365720"/>
          </a:xfrm>
          <a:prstGeom prst="rect">
            <a:avLst/>
          </a:prstGeom>
          <a:ln w="0">
            <a:noFill/>
          </a:ln>
        </p:spPr>
      </p:pic>
      <p:sp>
        <p:nvSpPr>
          <p:cNvPr id="369" name="Text Box 4"/>
          <p:cNvSpPr/>
          <p:nvPr/>
        </p:nvSpPr>
        <p:spPr>
          <a:xfrm>
            <a:off x="5219640" y="4292640"/>
            <a:ext cx="367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 Box 5"/>
          <p:cNvSpPr/>
          <p:nvPr/>
        </p:nvSpPr>
        <p:spPr>
          <a:xfrm>
            <a:off x="4067280" y="623736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3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2" descr="10"/>
          <p:cNvPicPr/>
          <p:nvPr/>
        </p:nvPicPr>
        <p:blipFill>
          <a:blip r:embed="rId1"/>
          <a:srcRect l="3076" t="0" r="4614" b="8024"/>
          <a:stretch/>
        </p:blipFill>
        <p:spPr>
          <a:xfrm>
            <a:off x="1619280" y="1052640"/>
            <a:ext cx="5905440" cy="563868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3"/>
          <p:cNvSpPr/>
          <p:nvPr/>
        </p:nvSpPr>
        <p:spPr>
          <a:xfrm>
            <a:off x="826920" y="115920"/>
            <a:ext cx="79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уравейники имеют более пологую сторону с южной сторо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3"/>
          <p:cNvSpPr/>
          <p:nvPr/>
        </p:nvSpPr>
        <p:spPr>
          <a:xfrm>
            <a:off x="826920" y="260280"/>
            <a:ext cx="79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коло деревьев, пней, больших камней снег быстрее оттаивает с южной сторо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4" name="Picture 4" descr="11"/>
          <p:cNvPicPr/>
          <p:nvPr/>
        </p:nvPicPr>
        <p:blipFill>
          <a:blip r:embed="rId1">
            <a:lum contrast="36000"/>
          </a:blip>
          <a:srcRect l="2260" t="5468" r="753" b="2734"/>
          <a:stretch/>
        </p:blipFill>
        <p:spPr>
          <a:xfrm>
            <a:off x="179280" y="1700280"/>
            <a:ext cx="8785440" cy="45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2"/>
          <p:cNvSpPr/>
          <p:nvPr/>
        </p:nvSpPr>
        <p:spPr>
          <a:xfrm>
            <a:off x="5651640" y="5373720"/>
            <a:ext cx="327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етки деревьев более развиты с южной сторо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6" name="Picture 4" descr="12"/>
          <p:cNvPicPr/>
          <p:nvPr/>
        </p:nvPicPr>
        <p:blipFill>
          <a:blip r:embed="rId1"/>
          <a:stretch/>
        </p:blipFill>
        <p:spPr>
          <a:xfrm>
            <a:off x="179280" y="189000"/>
            <a:ext cx="515952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2"/>
          <p:cNvSpPr/>
          <p:nvPr/>
        </p:nvSpPr>
        <p:spPr>
          <a:xfrm>
            <a:off x="5724360" y="4724280"/>
            <a:ext cx="32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 северном склоне оврагов снег сходит быстре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8" name="Picture 4" descr="13"/>
          <p:cNvPicPr/>
          <p:nvPr/>
        </p:nvPicPr>
        <p:blipFill>
          <a:blip r:embed="rId1"/>
          <a:stretch/>
        </p:blipFill>
        <p:spPr>
          <a:xfrm>
            <a:off x="179280" y="404640"/>
            <a:ext cx="541980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 Box 2"/>
          <p:cNvSpPr/>
          <p:nvPr/>
        </p:nvSpPr>
        <p:spPr>
          <a:xfrm>
            <a:off x="250920" y="5516640"/>
            <a:ext cx="87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жно ориентироваться по лесным просекам, которые делят лес на кварталы. Как правило, их прорубают в направлении север – юг и запад – восто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0" name="Picture 4" descr="3"/>
          <p:cNvPicPr/>
          <p:nvPr/>
        </p:nvPicPr>
        <p:blipFill>
          <a:blip r:embed="rId1"/>
          <a:stretch/>
        </p:blipFill>
        <p:spPr>
          <a:xfrm>
            <a:off x="1042920" y="189000"/>
            <a:ext cx="7201080" cy="52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6"/>
          <p:cNvSpPr/>
          <p:nvPr/>
        </p:nvSpPr>
        <p:spPr>
          <a:xfrm>
            <a:off x="1835280" y="2852640"/>
            <a:ext cx="61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4"/>
          <p:cNvSpPr/>
          <p:nvPr/>
        </p:nvSpPr>
        <p:spPr>
          <a:xfrm>
            <a:off x="287280" y="115920"/>
            <a:ext cx="885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вое условие безопасного пребывания человека в природных условиях – это умение ориентироваться на местности. Самым простым и надёжным прибором для определения  сторон горизонта является компас. Наиболее распространённый вид компаса – компас системы Андрианов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2" name="Picture 5" descr="1"/>
          <p:cNvPicPr/>
          <p:nvPr/>
        </p:nvPicPr>
        <p:blipFill>
          <a:blip r:embed="rId1">
            <a:lum contrast="48000"/>
          </a:blip>
          <a:srcRect l="0" t="1367" r="2734" b="4101"/>
          <a:stretch/>
        </p:blipFill>
        <p:spPr>
          <a:xfrm>
            <a:off x="250920" y="2637000"/>
            <a:ext cx="4105080" cy="3808080"/>
          </a:xfrm>
          <a:prstGeom prst="rect">
            <a:avLst/>
          </a:prstGeom>
          <a:ln w="0">
            <a:noFill/>
          </a:ln>
        </p:spPr>
      </p:pic>
      <p:sp>
        <p:nvSpPr>
          <p:cNvPr id="373" name="Text Box 6"/>
          <p:cNvSpPr/>
          <p:nvPr/>
        </p:nvSpPr>
        <p:spPr>
          <a:xfrm>
            <a:off x="4572000" y="2349360"/>
            <a:ext cx="457200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ля определения сторон горизонта необходимо положить компас горизонтально и повернуть его так, чтобы северный конец стрелки компаса совпадал с нулевым делением шкалы. При таком положении стрелка компаса показывает направление север – юг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2" descr="4"/>
          <p:cNvPicPr/>
          <p:nvPr/>
        </p:nvPicPr>
        <p:blipFill>
          <a:blip r:embed="rId1"/>
          <a:srcRect l="0" t="0" r="802" b="0"/>
          <a:stretch/>
        </p:blipFill>
        <p:spPr>
          <a:xfrm>
            <a:off x="108000" y="115920"/>
            <a:ext cx="4032360" cy="291780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3"/>
          <p:cNvSpPr/>
          <p:nvPr/>
        </p:nvSpPr>
        <p:spPr>
          <a:xfrm>
            <a:off x="4319640" y="189000"/>
            <a:ext cx="4824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рта-схема разворачивается верхней стороной на север. На шкале положенного сверху на карту компаса замечается градус (азимут), соответствующий данному направлен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Line 4"/>
          <p:cNvSpPr/>
          <p:nvPr/>
        </p:nvSpPr>
        <p:spPr>
          <a:xfrm flipV="1">
            <a:off x="826920" y="549000"/>
            <a:ext cx="0" cy="2087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5"/>
          <p:cNvSpPr/>
          <p:nvPr/>
        </p:nvSpPr>
        <p:spPr>
          <a:xfrm>
            <a:off x="611280" y="189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541440" y="2565360"/>
            <a:ext cx="49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Oval 9"/>
          <p:cNvSpPr/>
          <p:nvPr/>
        </p:nvSpPr>
        <p:spPr>
          <a:xfrm>
            <a:off x="1403280" y="98100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Line 10"/>
          <p:cNvSpPr/>
          <p:nvPr/>
        </p:nvSpPr>
        <p:spPr>
          <a:xfrm>
            <a:off x="1476360" y="189000"/>
            <a:ext cx="0" cy="79200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Line 12"/>
          <p:cNvSpPr/>
          <p:nvPr/>
        </p:nvSpPr>
        <p:spPr>
          <a:xfrm>
            <a:off x="1547640" y="1052640"/>
            <a:ext cx="2160720" cy="122400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2" name="Picture 13" descr="5"/>
          <p:cNvPicPr/>
          <p:nvPr/>
        </p:nvPicPr>
        <p:blipFill>
          <a:blip r:embed="rId2"/>
          <a:stretch/>
        </p:blipFill>
        <p:spPr>
          <a:xfrm>
            <a:off x="108000" y="3213000"/>
            <a:ext cx="5130720" cy="346068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15"/>
          <p:cNvSpPr/>
          <p:nvPr/>
        </p:nvSpPr>
        <p:spPr>
          <a:xfrm>
            <a:off x="5472000" y="3429000"/>
            <a:ext cx="36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перь достаточно установить визирное приспособление на избранный курс и двигаться в заданном направлен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2"/>
          <p:cNvSpPr/>
          <p:nvPr/>
        </p:nvSpPr>
        <p:spPr>
          <a:xfrm>
            <a:off x="2771640" y="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вижение по азимут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5" name="Picture 3" descr="6"/>
          <p:cNvPicPr/>
          <p:nvPr/>
        </p:nvPicPr>
        <p:blipFill>
          <a:blip r:embed="rId1"/>
          <a:stretch/>
        </p:blipFill>
        <p:spPr>
          <a:xfrm>
            <a:off x="539640" y="476280"/>
            <a:ext cx="8209080" cy="62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 Box 2"/>
          <p:cNvSpPr/>
          <p:nvPr/>
        </p:nvSpPr>
        <p:spPr>
          <a:xfrm>
            <a:off x="684360" y="11592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 отсутствии компаса следует обратиться к астрономическим способам определения сторон горизон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7" name="Picture 3" descr="ориентирование по пол"/>
          <p:cNvPicPr/>
          <p:nvPr/>
        </p:nvPicPr>
        <p:blipFill>
          <a:blip r:embed="rId1"/>
          <a:stretch/>
        </p:blipFill>
        <p:spPr>
          <a:xfrm>
            <a:off x="324000" y="1413000"/>
            <a:ext cx="5108400" cy="5319720"/>
          </a:xfrm>
          <a:prstGeom prst="rect">
            <a:avLst/>
          </a:prstGeom>
          <a:ln w="0">
            <a:noFill/>
          </a:ln>
        </p:spPr>
      </p:pic>
      <p:sp>
        <p:nvSpPr>
          <p:cNvPr id="388" name="Text Box 4"/>
          <p:cNvSpPr/>
          <p:nvPr/>
        </p:nvSpPr>
        <p:spPr>
          <a:xfrm>
            <a:off x="5472000" y="2421000"/>
            <a:ext cx="36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риентирование по Полярной звезде основано на том, что кажущееся движение небесной сферы происходит вокруг Полярной звезды, т.е. она  остаётся неподвижн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2" descr="7"/>
          <p:cNvPicPr/>
          <p:nvPr/>
        </p:nvPicPr>
        <p:blipFill>
          <a:blip r:embed="rId1"/>
          <a:stretch/>
        </p:blipFill>
        <p:spPr>
          <a:xfrm>
            <a:off x="179280" y="115920"/>
            <a:ext cx="4133880" cy="6603840"/>
          </a:xfrm>
          <a:prstGeom prst="rect">
            <a:avLst/>
          </a:prstGeom>
          <a:ln w="0">
            <a:noFill/>
          </a:ln>
        </p:spPr>
      </p:pic>
      <p:sp>
        <p:nvSpPr>
          <p:cNvPr id="390" name="Text Box 3"/>
          <p:cNvSpPr/>
          <p:nvPr/>
        </p:nvSpPr>
        <p:spPr>
          <a:xfrm>
            <a:off x="4606920" y="260280"/>
            <a:ext cx="453708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очка, находящаяся под полярной звездой на горизонте и будет указывать на Севе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аму же Полярную звезду нетрудно найти по двум крайним звёздам созвездия Большой Медведиц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2" descr="8"/>
          <p:cNvPicPr/>
          <p:nvPr/>
        </p:nvPicPr>
        <p:blipFill>
          <a:blip r:embed="rId1">
            <a:lum contrast="72000"/>
          </a:blip>
          <a:srcRect l="3076" t="753" r="3076" b="753"/>
          <a:stretch/>
        </p:blipFill>
        <p:spPr>
          <a:xfrm>
            <a:off x="5796000" y="115920"/>
            <a:ext cx="3092400" cy="662616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3"/>
          <p:cNvSpPr/>
          <p:nvPr/>
        </p:nvSpPr>
        <p:spPr>
          <a:xfrm>
            <a:off x="250920" y="47628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пределить направление сторон горизонта может помочь полуденное Солнц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 Box 4"/>
          <p:cNvSpPr/>
          <p:nvPr/>
        </p:nvSpPr>
        <p:spPr>
          <a:xfrm>
            <a:off x="250920" y="263700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ам нужен небольшой шест (длиной около 1 м) и немного времени (20-30 минут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5"/>
          <p:cNvSpPr/>
          <p:nvPr/>
        </p:nvSpPr>
        <p:spPr>
          <a:xfrm>
            <a:off x="250920" y="4797360"/>
            <a:ext cx="540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сли Вы встанете спиной к солнцу по своим засечкам, то в таком положении перед Вами – Севе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2"/>
          <p:cNvSpPr/>
          <p:nvPr/>
        </p:nvSpPr>
        <p:spPr>
          <a:xfrm>
            <a:off x="287280" y="115920"/>
            <a:ext cx="88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вольно часто стороны горизонта можно определить с помощью Солнца и механических час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6" name="Picture 3" descr="9"/>
          <p:cNvPicPr/>
          <p:nvPr/>
        </p:nvPicPr>
        <p:blipFill>
          <a:blip r:embed="rId1">
            <a:lum contrast="42000"/>
          </a:blip>
          <a:srcRect l="0" t="0" r="0" b="5272"/>
          <a:stretch/>
        </p:blipFill>
        <p:spPr>
          <a:xfrm>
            <a:off x="1476360" y="981000"/>
            <a:ext cx="6696000" cy="4932360"/>
          </a:xfrm>
          <a:prstGeom prst="rect">
            <a:avLst/>
          </a:prstGeom>
          <a:ln w="0">
            <a:noFill/>
          </a:ln>
        </p:spPr>
      </p:pic>
      <p:sp>
        <p:nvSpPr>
          <p:cNvPr id="397" name="Text Box 4"/>
          <p:cNvSpPr/>
          <p:nvPr/>
        </p:nvSpPr>
        <p:spPr>
          <a:xfrm>
            <a:off x="287280" y="5877000"/>
            <a:ext cx="88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етом часы переведены на час вперёд, поэтому берём не 12 а 13 час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 Box 3"/>
          <p:cNvSpPr/>
          <p:nvPr/>
        </p:nvSpPr>
        <p:spPr>
          <a:xfrm>
            <a:off x="287280" y="115920"/>
            <a:ext cx="8856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сли эти способы ориентирования не помогли, то надо вспомнить ориентирование по местным признак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пример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9" name="Picture 4" descr="1"/>
          <p:cNvPicPr/>
          <p:nvPr/>
        </p:nvPicPr>
        <p:blipFill>
          <a:blip r:embed="rId1"/>
          <a:stretch/>
        </p:blipFill>
        <p:spPr>
          <a:xfrm>
            <a:off x="2050920" y="1484280"/>
            <a:ext cx="4824720" cy="4602240"/>
          </a:xfrm>
          <a:prstGeom prst="rect">
            <a:avLst/>
          </a:prstGeom>
          <a:ln w="0">
            <a:noFill/>
          </a:ln>
        </p:spPr>
      </p:pic>
      <p:sp>
        <p:nvSpPr>
          <p:cNvPr id="400" name="Text Box 5"/>
          <p:cNvSpPr/>
          <p:nvPr/>
        </p:nvSpPr>
        <p:spPr>
          <a:xfrm>
            <a:off x="755640" y="6165720"/>
            <a:ext cx="79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х и лишайники нарастают с северной сторо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9T08:07:44Z</dcterms:created>
  <dc:creator>SamLab.ws</dc:creator>
  <dc:description/>
  <dc:language>en-US</dc:language>
  <cp:lastModifiedBy>Win 7</cp:lastModifiedBy>
  <dcterms:modified xsi:type="dcterms:W3CDTF">2013-10-10T10:11:52Z</dcterms:modified>
  <cp:revision>6</cp:revision>
  <dc:subject/>
  <dc:title>Ориентирование        на местности</dc:title>
</cp:coreProperties>
</file>