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8FE-B915-41FE-8BA3-25A33979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D08-47AC-4C99-8F12-65BCAA8A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D38-04B7-4D8B-ACE6-37E1854F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084-B84C-47D9-A272-F860654E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7C3-8CF4-45EE-AB3C-CCA732AB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04E9-3BD2-4494-B5FC-85A69EB0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52F6-CC9F-44DB-A06E-7DD331B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F932-32F8-40A3-B258-20C43F7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835B-0280-46C3-9620-6BCC194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9ED7-22D1-481D-93C1-A720FF2E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C1F-D44F-4DA2-9C03-98552E22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8D2-992E-4961-B459-F5B5CEE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FE55-C7E2-4FD7-9C4C-D87993C1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D48-3A40-489A-BBF4-5BDE38D7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F801-C32B-439D-9C84-6C2D0FD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2DD-574F-483B-ADC6-D3D75094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C53D-E091-4061-A8EA-501C5CD6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EC63-69D3-484A-BF77-BF5DF18B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B445-608E-4ABF-A4C0-988FDABC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DBCC-D6AC-4D1F-8FB9-7DB3036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19D7-0903-4F37-8368-4E7BD1D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1245-AA9B-42BF-BA58-683774D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636-A8C7-4C05-ABD4-C008583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31EF-859E-4E8F-AAD6-7B9F392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FA46-22FC-43EA-B56C-963E3B8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8A2C-1F0A-4872-AEAE-854560BA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1945-1322-4571-B5B3-D6BDDD7B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9D0D-ACD3-4819-8AA8-63C53FB2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5E3A8-C4A8-4DD0-A49C-4796E1A8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97B2-7DB6-4D05-B7E6-6257CCCF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0534-4668-4CDE-B59B-0C006900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4A6A-0DB2-4BA9-B7F3-B16E4EB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3901-F000-468A-B45E-AF58633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67E-A75F-4C91-ABB7-B6B2FC21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57765-090A-43AB-9622-FD3CAEC7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FFDF-D796-4780-AEC4-A0B54ED1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E0D9-F80F-4259-8B0B-3C1E8B9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A705-2902-493F-8E2E-3B1F453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A225-DDA0-4A3B-9D27-267BB173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5B72-45CE-4C89-ADEA-9D12E84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7F39D-9417-4D12-85F6-8FD190F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5962-9156-44AE-8D97-722B67B4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8253-B0AE-49EB-BBD1-80669A22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B1F7-89F9-4D0E-9507-00FAB5A3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77E-D757-4DBD-8CB7-68E477A3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CAFD0-0E52-4AD2-B6AC-45A51E0A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21A0-6638-4591-978D-6C09187A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2DE2-0760-43BB-90D3-2E109A3D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A620-804E-467D-A75E-E224756B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7539-869D-4397-BA51-4AD3248B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7F87-DD67-4DA5-AA85-D63564EA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E162-2831-4807-A91B-70EC491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66DC-F32B-4B0B-BEBA-9D0EB67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FBA6F-511F-4653-868C-5E08300F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E5542-C383-41D4-856D-3D1A3F89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88F-9780-4256-8C1A-6271E122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C608A-D56A-451A-BC25-C828B7D2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9C05A-091E-4AAB-B843-57E67460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47B1-9009-4B52-B386-25F21EB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C111-32A0-4691-B341-7242F8D7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1962-B2B4-4ED6-B867-D045830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E9B8-8CA9-49B6-B219-75848A4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3260-C19C-4BB2-BBA7-53AF3EB6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AC35-E662-43EF-A52C-37A2F65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7997-BA3C-4764-A960-D27A1922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0E44-685C-4F4F-B469-582F469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A67-B2E8-4844-999B-539D7D5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07C7-E482-4CF6-A9D8-320FF620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B785C-D80D-4A9F-B1D9-6A7E851A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C8FE-2130-45FF-8FE5-A77E8702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51089-DFE2-430F-B4BA-2AED6EE3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99DF-B684-4443-92E6-63F7B9CA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7D65-BDBB-4D6E-99BE-9731834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6291-2B31-4829-936B-43E081C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6C9BF-F79A-440D-9503-932AD87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234A9-9392-4430-A88C-3A35B2D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CA0C-7CAF-460A-AE23-23CFE11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21B-9E43-4B00-9FC4-5BA170B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BF0B-7102-48C1-971A-1A57A57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7A8D-65C0-46D6-9F03-851AFC5B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D93CA-4D79-4DD8-BEDB-662BA9C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7169-ED43-459E-8877-F200CB27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040E-EF5E-40A9-B6DD-1C8B8DB4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616-D7E8-46A7-801D-42768F74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475-6223-47A5-BB3A-D8C6CCFD850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0AA8-F6FC-47D7-A2BF-D53C719656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9FA-B815-4D25-9DC9-BD0D078D856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42A-925C-4B8C-9A8D-5D4479688C1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A98F-11D1-4CA3-A4E8-A4CBBFAE917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7C0-3FD8-4F58-B6C3-4CACC42E0C2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9EAC-DCAF-4C01-A3ED-0FA08DDD418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322280" y="1736640"/>
            <a:ext cx="7072560" cy="4365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5219640" y="429264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067280" y="623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10"/>
          <p:cNvPicPr/>
          <p:nvPr/>
        </p:nvPicPr>
        <p:blipFill>
          <a:blip r:embed="rId1"/>
          <a:srcRect l="3076" t="0" r="4614" b="8024"/>
          <a:stretch/>
        </p:blipFill>
        <p:spPr>
          <a:xfrm>
            <a:off x="1619280" y="1052640"/>
            <a:ext cx="5905440" cy="56386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826920" y="11592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ники имеют более пологую сторону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826920" y="26028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оло деревьев, пней, больших камней снег быстрее оттаивает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11"/>
          <p:cNvPicPr/>
          <p:nvPr/>
        </p:nvPicPr>
        <p:blipFill>
          <a:blip r:embed="rId1">
            <a:lum contrast="36000"/>
          </a:blip>
          <a:srcRect l="2260" t="5468" r="753" b="2734"/>
          <a:stretch/>
        </p:blipFill>
        <p:spPr>
          <a:xfrm>
            <a:off x="179280" y="1700280"/>
            <a:ext cx="878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5651640" y="537372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деревьев более развиты с юж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4" descr="12"/>
          <p:cNvPicPr/>
          <p:nvPr/>
        </p:nvPicPr>
        <p:blipFill>
          <a:blip r:embed="rId1"/>
          <a:stretch/>
        </p:blipFill>
        <p:spPr>
          <a:xfrm>
            <a:off x="179280" y="189000"/>
            <a:ext cx="5159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5724360" y="4724280"/>
            <a:ext cx="32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северном склоне оврагов снег сходит быст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4" descr="13"/>
          <p:cNvPicPr/>
          <p:nvPr/>
        </p:nvPicPr>
        <p:blipFill>
          <a:blip r:embed="rId1"/>
          <a:stretch/>
        </p:blipFill>
        <p:spPr>
          <a:xfrm>
            <a:off x="179280" y="404640"/>
            <a:ext cx="5419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250920" y="5516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но ориентироваться по лесным просекам, которые делят лес на кварталы. Как правило, их прорубают в направлении север – юг и запад – вос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3"/>
          <p:cNvPicPr/>
          <p:nvPr/>
        </p:nvPicPr>
        <p:blipFill>
          <a:blip r:embed="rId1"/>
          <a:stretch/>
        </p:blipFill>
        <p:spPr>
          <a:xfrm>
            <a:off x="1042920" y="189000"/>
            <a:ext cx="72010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6"/>
          <p:cNvSpPr/>
          <p:nvPr/>
        </p:nvSpPr>
        <p:spPr>
          <a:xfrm>
            <a:off x="1835280" y="2852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287280" y="11592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ое условие безопасного пребывания человека в природных условиях – это умение ориентироваться на местности. Самым простым и надёжным прибором для определения  сторон горизонта является компас. Наиболее распространённый вид компаса – компас системы Андри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5" descr="1"/>
          <p:cNvPicPr/>
          <p:nvPr/>
        </p:nvPicPr>
        <p:blipFill>
          <a:blip r:embed="rId1">
            <a:lum contrast="48000"/>
          </a:blip>
          <a:srcRect l="0" t="1367" r="2734" b="4101"/>
          <a:stretch/>
        </p:blipFill>
        <p:spPr>
          <a:xfrm>
            <a:off x="250920" y="2637000"/>
            <a:ext cx="4105080" cy="3808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6"/>
          <p:cNvSpPr/>
          <p:nvPr/>
        </p:nvSpPr>
        <p:spPr>
          <a:xfrm>
            <a:off x="4572000" y="234936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определения сторон горизонта необходимо положить компас горизонтально и повернуть его так, чтобы северный конец стрелки компаса совпадал с нулевым делением шкалы. При таком положении стрелка компаса показывает направление север – ю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"/>
          <p:cNvPicPr/>
          <p:nvPr/>
        </p:nvPicPr>
        <p:blipFill>
          <a:blip r:embed="rId1"/>
          <a:srcRect l="0" t="0" r="802" b="0"/>
          <a:stretch/>
        </p:blipFill>
        <p:spPr>
          <a:xfrm>
            <a:off x="108000" y="115920"/>
            <a:ext cx="4032360" cy="29178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4319640" y="18900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та-схема разворачивается верхней стороной на север. На шкале положенного сверху на карту компаса замечается градус (азимут), соответствующий данному направл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 flipV="1">
            <a:off x="826920" y="549000"/>
            <a:ext cx="0" cy="208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611280" y="1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41440" y="256536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1403280" y="981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476360" y="189000"/>
            <a:ext cx="0" cy="79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547640" y="1052640"/>
            <a:ext cx="2160720" cy="1224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13" descr="5"/>
          <p:cNvPicPr/>
          <p:nvPr/>
        </p:nvPicPr>
        <p:blipFill>
          <a:blip r:embed="rId2"/>
          <a:stretch/>
        </p:blipFill>
        <p:spPr>
          <a:xfrm>
            <a:off x="108000" y="3213000"/>
            <a:ext cx="5130720" cy="346068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5"/>
          <p:cNvSpPr/>
          <p:nvPr/>
        </p:nvSpPr>
        <p:spPr>
          <a:xfrm>
            <a:off x="5472000" y="3429000"/>
            <a:ext cx="36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ерь достаточно установить визирное приспособление на избранный курс и двигаться в заданном направл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2771640" y="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о азиму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3" descr="6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1159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тсутствии компаса следует обратиться к астрономическим способам определения сторон горизо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3" descr="ориентирование по пол"/>
          <p:cNvPicPr/>
          <p:nvPr/>
        </p:nvPicPr>
        <p:blipFill>
          <a:blip r:embed="rId1"/>
          <a:stretch/>
        </p:blipFill>
        <p:spPr>
          <a:xfrm>
            <a:off x="324000" y="1413000"/>
            <a:ext cx="5108400" cy="53197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4"/>
          <p:cNvSpPr/>
          <p:nvPr/>
        </p:nvSpPr>
        <p:spPr>
          <a:xfrm>
            <a:off x="5472000" y="2421000"/>
            <a:ext cx="36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Полярной звезде основано на том, что кажущееся движение небесной сферы происходит вокруг Полярной звезды, т.е. она  остаётся неподвиж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7"/>
          <p:cNvPicPr/>
          <p:nvPr/>
        </p:nvPicPr>
        <p:blipFill>
          <a:blip r:embed="rId1"/>
          <a:stretch/>
        </p:blipFill>
        <p:spPr>
          <a:xfrm>
            <a:off x="179280" y="115920"/>
            <a:ext cx="4133880" cy="66038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4606920" y="260280"/>
            <a:ext cx="4537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чка, находящаяся под полярной звездой на горизонте и будет указывать на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у же Полярную звезду нетрудно найти по двум крайним звёздам созвездия Большой Медвед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8"/>
          <p:cNvPicPr/>
          <p:nvPr/>
        </p:nvPicPr>
        <p:blipFill>
          <a:blip r:embed="rId1">
            <a:lum contrast="72000"/>
          </a:blip>
          <a:srcRect l="3076" t="753" r="3076" b="753"/>
          <a:stretch/>
        </p:blipFill>
        <p:spPr>
          <a:xfrm>
            <a:off x="5796000" y="115920"/>
            <a:ext cx="3092400" cy="6626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3"/>
          <p:cNvSpPr/>
          <p:nvPr/>
        </p:nvSpPr>
        <p:spPr>
          <a:xfrm>
            <a:off x="250920" y="476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направление сторон горизонта может помочь полуденное Солн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50920" y="26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м нужен небольшой шест (длиной около 1 м) и немного времени (20-30 мину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50920" y="479736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встанете спиной к солнцу по своим засечкам, то в таком положении перед Вами – Се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87280" y="11592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вольно часто стороны горизонта можно определить с помощью Солнца и механических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3" descr="9"/>
          <p:cNvPicPr/>
          <p:nvPr/>
        </p:nvPicPr>
        <p:blipFill>
          <a:blip r:embed="rId1">
            <a:lum contrast="42000"/>
          </a:blip>
          <a:srcRect l="0" t="0" r="0" b="5272"/>
          <a:stretch/>
        </p:blipFill>
        <p:spPr>
          <a:xfrm>
            <a:off x="1476360" y="981000"/>
            <a:ext cx="6696000" cy="49323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287280" y="587700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ом часы переведены на час вперёд, поэтому берём не 12 а 13 ча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3"/>
          <p:cNvSpPr/>
          <p:nvPr/>
        </p:nvSpPr>
        <p:spPr>
          <a:xfrm>
            <a:off x="287280" y="115920"/>
            <a:ext cx="885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эти способы ориентирования не помогли, то надо вспомнить ориентирование по местным призна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4" descr="1"/>
          <p:cNvPicPr/>
          <p:nvPr/>
        </p:nvPicPr>
        <p:blipFill>
          <a:blip r:embed="rId1"/>
          <a:stretch/>
        </p:blipFill>
        <p:spPr>
          <a:xfrm>
            <a:off x="2050920" y="1484280"/>
            <a:ext cx="4824720" cy="46022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755640" y="6165720"/>
            <a:ext cx="79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х и лишайники нарастают с северной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8:07:44Z</dcterms:created>
  <dc:creator>SamLab.ws</dc:creator>
  <dc:description/>
  <dc:language>en-US</dc:language>
  <cp:lastModifiedBy>Win 7</cp:lastModifiedBy>
  <dcterms:modified xsi:type="dcterms:W3CDTF">2013-10-10T10:11:52Z</dcterms:modified>
  <cp:revision>6</cp:revision>
  <dc:subject/>
  <dc:title>Ориентирование        на местности</dc:title>
</cp:coreProperties>
</file>