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D3D-389D-4D26-A5C7-D44379A9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162-A544-4C78-8C02-C83BF810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731-C362-4A34-8C91-CC131C34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F83-7906-4EA7-9884-C0364B5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616-988B-45D2-B0D6-602E44FC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C6A-7758-4E43-9242-08DB3B4A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1B6B-0B22-400A-BB4C-9A94AAE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BFB1-509A-4F95-9F1B-065D1558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0DC-B448-42C5-BA28-F6652EC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CF17-AF3B-41B4-BA8A-C71219CC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62F-9720-4F91-ADEB-9320385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962-CE47-4116-85F9-AF1C5ACD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BBF-1007-4449-8FA9-629359E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20DA-15E6-4161-AAE5-41D98B8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D943-4C1D-4C59-B71D-C9F4B49F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EF1-DF3D-45E8-A675-51303BF4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95F6-041E-4E13-9D6C-3E949CDB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EADD-F7ED-46BC-9995-EEE25796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7087-AF1C-4E0C-AAF3-6911A3D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34D6-9E7E-4634-9714-A4645469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E3C7-0A3D-4DC3-8425-CD5DB182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6FE2-7677-4338-8501-8D775EFE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DA-BE7A-4420-8B85-41FCF6B4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0B63-E302-4CFD-9004-13A654D7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7E12-1CC6-43D7-93EA-6634339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9B50-1152-49D1-9EFA-6227275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78B9-E018-49CE-8F7B-DB4E508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35ED-0EF9-467E-B988-2020A6B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E743-5350-4BBD-9671-B38E1AE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8950-A112-4FA7-9EB9-672D4F25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4DB2-87B2-48A8-9E90-3AA567A5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B831-55EC-4181-90C0-B63AD26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A0146-B829-413F-993C-9DBCF23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F24-D741-4EE1-A9B7-825D7D0D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4D90-B337-4B70-A9E0-BA6CC16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B96F-23FA-4D3F-84D7-C6F0A652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1810-510C-4D85-A310-B7D82541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B120-4CD1-4066-AE7D-FE3E8C0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5DCE-316B-40CD-B505-FDBA37DF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9F94-D5FB-495C-9187-0CBE87BD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8F65-9F0B-4671-B523-EBE73B0F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2C76-D5DE-4204-B187-A5F72511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0083-1ABE-4124-87EE-0FBFFE6E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DA2F-69F7-48DD-81AB-FEE684E2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520-D625-4165-A793-36779A5C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74F3-6226-46E8-A745-A4FC6859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0336-2482-432D-9037-1E7B49F0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9DAB-3B6D-4922-AC68-A0FE3892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F118-2D79-4F7D-84F0-574195AF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70AE-5190-40F7-9F49-0CDC77A7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3A83-014B-42EA-9D40-F88EB16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4FD8-F91F-4F2C-BA84-0C5B88A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F5FE3-50B2-41EE-B99F-EABBAAB8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A3BA-CEA3-4D93-9FA8-C7DB00C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9E28-70E5-46D0-9290-DB0A9F11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FE1-4837-47D2-AD0D-9E83599B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3A47E-679E-44B5-A71E-ABB4D6DE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41D3-55D7-431D-ACCE-7EAD67F6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77F8-F492-433A-9CD7-B4E04B2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BDD8-4992-4D58-B2D3-20DE80C7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B0C0-A240-4FB9-87ED-E462E63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E86A-FC66-48B8-B226-8FF587C3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355BB-822F-4961-82CA-D602C22F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8AD4-8307-4014-B769-35E4D83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3900-8D8F-45B7-8A2B-4D70C84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CEC91-86F8-48AE-89C3-5E52831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EC0-5308-4812-930C-09E974D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AC102-61D9-4261-81C0-8F865AC0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816F7-A568-419E-8E35-FBA96079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167F-B17B-44B0-881A-6DFDD653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192B-5033-4CD2-A538-6ECE663D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A922-8817-4715-AB0E-147E05F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74A19-3020-48B6-B993-024A1C90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24CB-A174-49EA-A41B-1AE94FC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CAF1-157B-47E4-8C19-89B6DB8E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70343-E9F8-4F21-9BCC-32F9E34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E7814-BDA8-4FE9-969C-CAC8ADC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9C3-5CC5-433D-8E5C-A23D9DC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9BF1-3819-4052-966A-D45F0BA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9BD2B-4360-4955-8C38-E471E270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5BBAB-FF78-47E8-9E0D-AFABAAEF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0F0D2-4870-4990-A0A7-2EE3E289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09DF-6DEF-4B00-9783-75770545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25B-6218-440B-B964-926EE546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38EF-3D15-475D-9B28-B07B047F405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32E-4544-4951-9DEB-7EC996E444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8C6-A7EB-4FA2-8C48-D0BFF8D9992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09A-5215-4FF0-9C94-D184EC622D0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187-B03D-4FA6-A31E-16C0F92DB94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C3C-6A80-4587-A976-E9E51854602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BBB4-71BD-4B03-8873-8969C1364E5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322280" y="1736640"/>
            <a:ext cx="7072560" cy="4365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5219640" y="42926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67280" y="623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0"/>
          <p:cNvPicPr/>
          <p:nvPr/>
        </p:nvPicPr>
        <p:blipFill>
          <a:blip r:embed="rId1"/>
          <a:srcRect l="3076" t="0" r="4614" b="8024"/>
          <a:stretch/>
        </p:blipFill>
        <p:spPr>
          <a:xfrm>
            <a:off x="1619280" y="1052640"/>
            <a:ext cx="5905440" cy="56386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826920" y="11592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ники имеют более пологую сторону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826920" y="26028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оло деревьев, пней, больших камней снег быстрее оттаивает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1"/>
          <p:cNvPicPr/>
          <p:nvPr/>
        </p:nvPicPr>
        <p:blipFill>
          <a:blip r:embed="rId1">
            <a:lum contrast="36000"/>
          </a:blip>
          <a:srcRect l="2260" t="5468" r="753" b="2734"/>
          <a:stretch/>
        </p:blipFill>
        <p:spPr>
          <a:xfrm>
            <a:off x="179280" y="1700280"/>
            <a:ext cx="878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651640" y="537372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деревьев более развиты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5159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724360" y="4724280"/>
            <a:ext cx="32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северном склоне оврагов снег сходит быст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13"/>
          <p:cNvPicPr/>
          <p:nvPr/>
        </p:nvPicPr>
        <p:blipFill>
          <a:blip r:embed="rId1"/>
          <a:stretch/>
        </p:blipFill>
        <p:spPr>
          <a:xfrm>
            <a:off x="179280" y="404640"/>
            <a:ext cx="5419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250920" y="5516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ориентироваться по лесным просекам, которые делят лес на кварталы. Как правило, их прорубают в направлении север – юг и запад – вос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1835280" y="2852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87280" y="11592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условие безопасного пребывания человека в природных условиях – это умение ориентироваться на местности. Самым простым и надёжным прибором для определения  сторон горизонта является компас. Наиболее распространённый вид компаса – компас системы Андри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1"/>
          <p:cNvPicPr/>
          <p:nvPr/>
        </p:nvPicPr>
        <p:blipFill>
          <a:blip r:embed="rId1">
            <a:lum contrast="48000"/>
          </a:blip>
          <a:srcRect l="0" t="1367" r="2734" b="4101"/>
          <a:stretch/>
        </p:blipFill>
        <p:spPr>
          <a:xfrm>
            <a:off x="250920" y="2637000"/>
            <a:ext cx="4105080" cy="3808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234936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пределения сторон горизонта необходимо положить компас горизонтально и повернуть его так, чтобы северный конец стрелки компаса совпадал с нулевым делением шкалы. При таком положении стрелка компаса показывает направление север – ю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"/>
          <p:cNvPicPr/>
          <p:nvPr/>
        </p:nvPicPr>
        <p:blipFill>
          <a:blip r:embed="rId1"/>
          <a:srcRect l="0" t="0" r="802" b="0"/>
          <a:stretch/>
        </p:blipFill>
        <p:spPr>
          <a:xfrm>
            <a:off x="108000" y="115920"/>
            <a:ext cx="4032360" cy="2917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4319640" y="189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а-схема разворачивается верхней стороной на север. На шкале положенного сверху на карту компаса замечается градус (азимут), соответствующий данному направ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 flipV="1">
            <a:off x="826920" y="549000"/>
            <a:ext cx="0" cy="20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611280" y="1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41440" y="256536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1403280" y="981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476360" y="189000"/>
            <a:ext cx="0" cy="79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547640" y="1052640"/>
            <a:ext cx="216072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3" descr="5"/>
          <p:cNvPicPr/>
          <p:nvPr/>
        </p:nvPicPr>
        <p:blipFill>
          <a:blip r:embed="rId2"/>
          <a:stretch/>
        </p:blipFill>
        <p:spPr>
          <a:xfrm>
            <a:off x="108000" y="3213000"/>
            <a:ext cx="5130720" cy="3460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5472000" y="342900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ерь достаточно установить визирное приспособление на избранный курс и двигаться в заданном направл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2771640" y="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о азиму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3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тсутствии компаса следует обратиться к астрономическим способам определения сторон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3" descr="ориентирование по пол"/>
          <p:cNvPicPr/>
          <p:nvPr/>
        </p:nvPicPr>
        <p:blipFill>
          <a:blip r:embed="rId1"/>
          <a:stretch/>
        </p:blipFill>
        <p:spPr>
          <a:xfrm>
            <a:off x="324000" y="1413000"/>
            <a:ext cx="5108400" cy="53197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4"/>
          <p:cNvSpPr/>
          <p:nvPr/>
        </p:nvSpPr>
        <p:spPr>
          <a:xfrm>
            <a:off x="5472000" y="242100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Полярной звезде основано на том, что кажущееся движение небесной сферы происходит вокруг Полярной звезды, т.е. она  остаётся неподвиж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7"/>
          <p:cNvPicPr/>
          <p:nvPr/>
        </p:nvPicPr>
        <p:blipFill>
          <a:blip r:embed="rId1"/>
          <a:stretch/>
        </p:blipFill>
        <p:spPr>
          <a:xfrm>
            <a:off x="179280" y="115920"/>
            <a:ext cx="4133880" cy="6603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4606920" y="260280"/>
            <a:ext cx="4537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, находящаяся под полярной звездой на горизонте и будет указывать на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у же Полярную звезду нетрудно найти по двум крайним звёздам созвездия Большой Медвед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8"/>
          <p:cNvPicPr/>
          <p:nvPr/>
        </p:nvPicPr>
        <p:blipFill>
          <a:blip r:embed="rId1">
            <a:lum contrast="72000"/>
          </a:blip>
          <a:srcRect l="3076" t="753" r="3076" b="753"/>
          <a:stretch/>
        </p:blipFill>
        <p:spPr>
          <a:xfrm>
            <a:off x="5796000" y="115920"/>
            <a:ext cx="3092400" cy="6626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250920" y="47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направление сторон горизонта может помочь полуденное Солн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26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м нужен небольшой шест (длиной около 1 м) и немного времени (20-30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50920" y="4797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встанете спиной к солнцу по своим засечкам, то в таком положении перед Вами –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87280" y="11592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ольно часто стороны горизонта можно определить с помощью Солнца и механических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3" descr="9"/>
          <p:cNvPicPr/>
          <p:nvPr/>
        </p:nvPicPr>
        <p:blipFill>
          <a:blip r:embed="rId1">
            <a:lum contrast="42000"/>
          </a:blip>
          <a:srcRect l="0" t="0" r="0" b="5272"/>
          <a:stretch/>
        </p:blipFill>
        <p:spPr>
          <a:xfrm>
            <a:off x="1476360" y="981000"/>
            <a:ext cx="6696000" cy="4932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287280" y="587700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часы переведены на час вперёд, поэтому берём не 12 а 13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287280" y="115920"/>
            <a:ext cx="885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эти способы ориентирования не помогли, то надо вспомнить ориентирование по ме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4" descr="1"/>
          <p:cNvPicPr/>
          <p:nvPr/>
        </p:nvPicPr>
        <p:blipFill>
          <a:blip r:embed="rId1"/>
          <a:stretch/>
        </p:blipFill>
        <p:spPr>
          <a:xfrm>
            <a:off x="2050920" y="1484280"/>
            <a:ext cx="4824720" cy="46022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755640" y="616572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х и лишайники нарастают с север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8:07:44Z</dcterms:created>
  <dc:creator>SamLab.ws</dc:creator>
  <dc:description/>
  <dc:language>en-US</dc:language>
  <cp:lastModifiedBy>Win 7</cp:lastModifiedBy>
  <dcterms:modified xsi:type="dcterms:W3CDTF">2013-10-10T10:11:52Z</dcterms:modified>
  <cp:revision>6</cp:revision>
  <dc:subject/>
  <dc:title>Ориентирование        на местности</dc:title>
</cp:coreProperties>
</file>