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35C-6A9E-46C0-BE9F-33A4C7A6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6FE-72F7-408F-8556-5E8BC85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D57-13E3-4FEC-B7FC-7A45C2EE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CEA-60A8-439A-B2E9-84D631F8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D8E-D8FB-4521-8486-3E8D1732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6A5-CF20-4B4A-B253-1E1809A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C90-76CE-48C2-86D4-808D580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7DA-F1E9-4F24-B896-346AC223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FF9-FA63-4C21-AB02-A4EAA1B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5B4-DBCE-4A43-A1F2-A026F4AD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1CA-51CF-4FDB-904B-A6E9C2F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6F4-67A1-4065-93DC-C6A25D5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6C64-F88C-4DC3-8CAE-05D197493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LicKtUIkXAk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ntro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44" name="Group 11"/>
          <p:cNvGrpSpPr/>
          <p:nvPr/>
        </p:nvGrpSpPr>
        <p:grpSpPr>
          <a:xfrm>
            <a:off x="1835280" y="357120"/>
            <a:ext cx="5545080" cy="1847880"/>
            <a:chOff x="1835280" y="357120"/>
            <a:chExt cx="5545080" cy="1847880"/>
          </a:xfrm>
        </p:grpSpPr>
        <p:sp>
          <p:nvSpPr>
            <p:cNvPr id="45" name="Rectangle 12" hidden="1"/>
            <p:cNvSpPr/>
            <p:nvPr/>
          </p:nvSpPr>
          <p:spPr>
            <a:xfrm>
              <a:off x="1835280" y="404640"/>
              <a:ext cx="554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3" descr="DD01630_"/>
            <p:cNvPicPr/>
            <p:nvPr/>
          </p:nvPicPr>
          <p:blipFill>
            <a:blip r:embed="rId4"/>
            <a:stretch/>
          </p:blipFill>
          <p:spPr>
            <a:xfrm>
              <a:off x="1929600" y="715680"/>
              <a:ext cx="9374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3000240" y="357120"/>
              <a:ext cx="4341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втор: Михалева Т.Б. учитель математики МОУ  Усть-Калманская основная общеобразовательная 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5"/>
            <p:cNvSpPr/>
            <p:nvPr/>
          </p:nvSpPr>
          <p:spPr>
            <a:xfrm>
              <a:off x="1835280" y="1261080"/>
              <a:ext cx="554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6"/>
            <p:cNvSpPr/>
            <p:nvPr/>
          </p:nvSpPr>
          <p:spPr>
            <a:xfrm>
              <a:off x="3038400" y="404640"/>
              <a:ext cx="0" cy="116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8"/>
          <p:cNvSpPr/>
          <p:nvPr/>
        </p:nvSpPr>
        <p:spPr>
          <a:xfrm>
            <a:off x="217656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1403280" y="2421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Школьнику о в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6084720" y="2637000"/>
            <a:ext cx="2200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у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2124000" y="331164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ак приносит вред телу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ушает разу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упляет целые наци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.д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_5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7"/>
          <p:cNvSpPr/>
          <p:nvPr/>
        </p:nvSpPr>
        <p:spPr>
          <a:xfrm>
            <a:off x="1042920" y="57340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8 ноября на всей планете отм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еждународный день борьбы с ку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8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9"/>
          <p:cNvSpPr txBox="1"/>
          <p:nvPr/>
        </p:nvSpPr>
        <p:spPr>
          <a:xfrm>
            <a:off x="2556000" y="155736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лассный ч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826920" y="0"/>
            <a:ext cx="79218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ъятиях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3780000" y="206064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93800" y="2678040"/>
            <a:ext cx="38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на та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2484360" y="3716280"/>
            <a:ext cx="3733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фри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340000" y="4724280"/>
            <a:ext cx="4048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мери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411280" y="5734080"/>
            <a:ext cx="347688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ый полю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372360" y="2708280"/>
            <a:ext cx="255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мерики подарило человеку два знаменитых растения – картофель и табак. По справедливому выражению Гете, картофель стал для человечества благословлением, а табак – ка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71640" y="33336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700360" y="3573360"/>
            <a:ext cx="17622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игар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700360" y="4653000"/>
            <a:ext cx="212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апиру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2627280" y="5734080"/>
            <a:ext cx="29145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амокруто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364000" y="342900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м этой травы, по образному выражению Колумба, они «пи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44360" y="333360"/>
            <a:ext cx="581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то обнаружил в та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т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2700360" y="3500280"/>
            <a:ext cx="3024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Жак Русс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627280" y="450864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Поль Бельмонд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2771640" y="5661000"/>
            <a:ext cx="230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Нико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732720" y="2781360"/>
            <a:ext cx="219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– это чрезвычайно сильный яд, действующий преимущественно на нервную систему, пищеварение, а также на дыхательную и сердечно-сосудист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042920" y="83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Екатерина Медичи использовала нюхательный табак как лекарственное средство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2700360" y="3573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смор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700360" y="4653000"/>
            <a:ext cx="19429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игрени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2771640" y="5589720"/>
            <a:ext cx="2089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студ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05760" y="376200"/>
            <a:ext cx="753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В какой стране табак в 16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 объявлен «забавой дьяво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771640" y="350028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спан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2627280" y="4724280"/>
            <a:ext cx="1657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тал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2484360" y="580536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Бразил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59280" y="1628640"/>
            <a:ext cx="38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второй половины 16 века курение начало «триумфальное» шествие по странам и континентам. Итак, к концу XYI века курение проникло в Испании, Португалию, Францию, Англию и Голландию. Тринадцатилетняя война способствовала распространению курения в Германии и Шв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ю табак был завезён английскими купцами в 1585 году через Архангельск, а затем начал широко культивироваться на российской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Книга, написанная английским королем Яковом Первым в 1604 году, назыв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2627280" y="357336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вреде табака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27280" y="4653000"/>
            <a:ext cx="3456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пользе курения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484360" y="5734080"/>
            <a:ext cx="3960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б истории трубки»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588000" y="2852640"/>
            <a:ext cx="25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О вреде табака», принадлежавший Якову I Стюарту, королю Англии. В нем отмечалось, что это «привычка, противная зрению, невыносимая для обоняния, вредная для мозга, опасная для легких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03280" y="952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Большие дозы нико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подобно яд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700360" y="357336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ышьяку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2771640" y="4581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ар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1"/>
          <p:cNvSpPr txBox="1"/>
          <p:nvPr/>
        </p:nvSpPr>
        <p:spPr>
          <a:xfrm>
            <a:off x="2556000" y="558972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нильной кислот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258920" y="33336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Для чего чистят ку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2484360" y="350028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собрать остатки таба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2411280" y="4437000"/>
            <a:ext cx="53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удалить табач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готь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2556000" y="5661000"/>
            <a:ext cx="40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нечего дела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47640" y="1197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деготь, являясь концентратом жидких (органические кислоты, эфирные масла, анилин и др.) и твердых (частицы углерода, канцерогены, полоний) веществ, оседает на стенках воздухоносных путей, накапливается и в альвеолах. Часть табачного дегтя выделяется при кашле с мокротой, а часть проникает в ткани слизистых оболочек, придавая им тем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261080" y="692280"/>
            <a:ext cx="64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Самый популярн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потребления  табака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700360" y="3645000"/>
            <a:ext cx="18702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е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627280" y="4508640"/>
            <a:ext cx="2087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юха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771640" y="5661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же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55640" y="40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934 году во французском городке Ницца компания молодежи устроила соревнование: кто выкурит больше папирос. Двое «победителей» не смогли получить приз, так как скончались, выкурив п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2627280" y="3645000"/>
            <a:ext cx="26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2556000" y="4581360"/>
            <a:ext cx="25923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6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2556000" y="5589720"/>
            <a:ext cx="28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80 папиро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012000" y="364500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члены компании были доставлены в госпиталь в тяжел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16360" y="306864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урящих семьях курящими становятся не более 20% детей, в курящих семьях число курящих детей превышает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ногих курение объясняется подражанием, курящим товарищам или героям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00000" y="333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же люди начинают курить?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основных прич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067280" y="162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ругая при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в молод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2637000"/>
            <a:ext cx="48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ЃаЁЈ ¤  2"/>
          <p:cNvPicPr/>
          <p:nvPr/>
        </p:nvPicPr>
        <p:blipFill>
          <a:blip r:embed="rId2"/>
          <a:stretch/>
        </p:blipFill>
        <p:spPr>
          <a:xfrm>
            <a:off x="755640" y="3357720"/>
            <a:ext cx="374328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2560" y="47628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1. Кого называют «курильщ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невол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2484360" y="4581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находится в обществ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2411280" y="3500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оторых заставляют кури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удительн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2627280" y="5805360"/>
            <a:ext cx="4680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курит в тюрьм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2951280" cy="236880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245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курит сигарету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не кури"/>
          <p:cNvPicPr/>
          <p:nvPr/>
        </p:nvPicPr>
        <p:blipFill>
          <a:blip r:embed="rId3"/>
          <a:stretch/>
        </p:blipFill>
        <p:spPr>
          <a:xfrm>
            <a:off x="971640" y="620640"/>
            <a:ext cx="3384360" cy="329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79200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r_5.wav" descr=""/>
          <p:cNvPicPr/>
          <p:nvPr/>
        </p:nvPicPr>
        <p:blipFill>
          <a:blip r:embed="rId5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1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6" repeatCount="indefinite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9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716360" y="62064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вычка – вторая натура» - именно этим можно объяснить курение многих людей, которые и рады бы бросить это никчемное занятие, да не могут изменить своей вредной привычке. В распространении курения среди девушек немалую роль играет м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чинами начала курения у мужчин является стремление подражать взрослым, отождествление курения с представлениями о самостоятельности, силе, мужественности, то у девушек начало курения часто связано с кокетством, стремлением к оригинальности, желанием нравиться юно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21444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348000" y="2492280"/>
            <a:ext cx="57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и школьник несовместимы. Школьные годы - это годы роста как физического, так и ум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0"/>
            <a:ext cx="6985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2b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 неуспевающих возрастает в тех классах, где больше кур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56000" y="17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timur"/>
          <p:cNvPicPr/>
          <p:nvPr/>
        </p:nvPicPr>
        <p:blipFill>
          <a:blip r:embed="rId7"/>
          <a:stretch/>
        </p:blipFill>
        <p:spPr>
          <a:xfrm>
            <a:off x="1042920" y="2133720"/>
            <a:ext cx="194796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е кури"/>
          <p:cNvPicPr/>
          <p:nvPr/>
        </p:nvPicPr>
        <p:blipFill>
          <a:blip r:embed="rId8"/>
          <a:stretch/>
        </p:blipFill>
        <p:spPr>
          <a:xfrm>
            <a:off x="1042920" y="2133720"/>
            <a:ext cx="2046240" cy="244764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97164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раньше дети, подростки, юноши, девушки ознакомятся с курением и начнут курить, тем быстрее привыкнут к нему, и в дальнейшем отказаться от курения будет очень тру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_5.wav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755640" y="0"/>
            <a:ext cx="561672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6191280" y="479736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Я кури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и ра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умер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6372360" y="476280"/>
            <a:ext cx="277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аграм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" descr="res44F73E49-68A7-436E-9E3F-1D1AB5499ED6"/>
          <p:cNvPicPr/>
          <p:nvPr/>
        </p:nvPicPr>
        <p:blipFill>
          <a:blip r:embed="rId3"/>
          <a:stretch/>
        </p:blipFill>
        <p:spPr>
          <a:xfrm>
            <a:off x="1692360" y="38797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3995640" y="5877000"/>
            <a:ext cx="1006560" cy="42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187280" y="189000"/>
            <a:ext cx="72010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Impact"/>
              </a:rPr>
              <a:t>Состав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Impact"/>
              <a:ea typeface="Impact"/>
            </a:endParaRPr>
          </a:p>
        </p:txBody>
      </p:sp>
      <p:pic>
        <p:nvPicPr>
          <p:cNvPr id="89" name="r_5.wav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6"/>
          <p:cNvGraphicFramePr/>
          <p:nvPr/>
        </p:nvGraphicFramePr>
        <p:xfrm>
          <a:off x="971640" y="1844640"/>
          <a:ext cx="7561080" cy="43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844640"/>
                    <a:ext cx="756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AutoShape 21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924360" y="1628640"/>
          <a:ext cx="4897440" cy="46148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2254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р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ен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8" descr="курить нелльзя"/>
          <p:cNvPicPr/>
          <p:nvPr/>
        </p:nvPicPr>
        <p:blipFill>
          <a:blip r:embed="rId2"/>
          <a:stretch/>
        </p:blipFill>
        <p:spPr>
          <a:xfrm>
            <a:off x="826920" y="189000"/>
            <a:ext cx="2592720" cy="222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900000" y="2508120"/>
            <a:ext cx="2880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е над 200 курящими и 200 некурящими 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м, какими оказались сравнительн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3556080" y="1890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ли, что люди начавшие курить до 15 летнего возраста, умирают от рака легких в 5 раз чаще, чем те которые начали курить после 25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2" descr=""/>
          <p:cNvPicPr/>
          <p:nvPr/>
        </p:nvPicPr>
        <p:blipFill>
          <a:blip r:embed="rId6"/>
          <a:stretch/>
        </p:blipFill>
        <p:spPr>
          <a:xfrm>
            <a:off x="2195640" y="1484280"/>
            <a:ext cx="25380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857160"/>
            <a:ext cx="5953320" cy="486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4" name="Organization Chart 6"/>
          <p:cNvGrpSpPr/>
          <p:nvPr/>
        </p:nvGrpSpPr>
        <p:grpSpPr>
          <a:xfrm>
            <a:off x="900000" y="274680"/>
            <a:ext cx="7786080" cy="5384520"/>
            <a:chOff x="900000" y="274680"/>
            <a:chExt cx="7786080" cy="5384520"/>
          </a:xfrm>
        </p:grpSpPr>
        <p:cxnSp>
          <p:nvCxnSpPr>
            <p:cNvPr id="105" name="_s2052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659920" y="1632960"/>
              <a:ext cx="931320" cy="266724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3"/>
            <p:cNvCxnSpPr>
              <a:stCxn id="109" idx="0"/>
              <a:endCxn id="107" idx="2"/>
            </p:cNvCxnSpPr>
            <p:nvPr/>
          </p:nvCxnSpPr>
          <p:spPr>
            <a:xfrm flipV="1">
              <a:off x="4792680" y="2500920"/>
              <a:ext cx="3600" cy="9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4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993760" y="1633320"/>
              <a:ext cx="931320" cy="266652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5"/>
            <p:cNvSpPr/>
            <p:nvPr/>
          </p:nvSpPr>
          <p:spPr>
            <a:xfrm>
              <a:off x="3565800" y="274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ервая помощ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отравл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никоти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9000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7"/>
            <p:cNvSpPr/>
            <p:nvPr/>
          </p:nvSpPr>
          <p:spPr>
            <a:xfrm>
              <a:off x="35658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8"/>
            <p:cNvSpPr/>
            <p:nvPr/>
          </p:nvSpPr>
          <p:spPr>
            <a:xfrm>
              <a:off x="623268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_5.wav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1"/>
          <p:cNvSpPr/>
          <p:nvPr/>
        </p:nvSpPr>
        <p:spPr>
          <a:xfrm>
            <a:off x="1042920" y="3573360"/>
            <a:ext cx="2160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ить пострадавш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й, ни  в ко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ае не да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гающее усво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419640" y="3429000"/>
            <a:ext cx="27367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воту (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ести яды из организ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влен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ить вод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лонить верхнюю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ловища впере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аздражение н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льцем или чайной лож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6443640" y="357336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таблет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рованного уг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чтобы связать отставш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ганизме я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вать табле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5:26:04Z</dcterms:created>
  <dc:creator>General</dc:creator>
  <dc:description/>
  <dc:language>en-US</dc:language>
  <cp:lastModifiedBy>Admin</cp:lastModifiedBy>
  <dcterms:modified xsi:type="dcterms:W3CDTF">2011-09-15T16:29:59Z</dcterms:modified>
  <cp:revision>84</cp:revision>
  <dc:subject/>
  <dc:title>Слайд 1</dc:title>
</cp:coreProperties>
</file>