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1.wmf" ContentType="image/x-wmf"/>
  <Override PartName="/ppt/media/image7.png" ContentType="image/png"/>
  <Override PartName="/ppt/media/image8.png" ContentType="image/png"/>
  <Override PartName="/ppt/media/image21.png" ContentType="image/png"/>
  <Override PartName="/ppt/media/image4.png" ContentType="image/png"/>
  <Override PartName="/ppt/media/image19.jpeg" ContentType="image/jpeg"/>
  <Override PartName="/ppt/media/image20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2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5CA7-983C-474C-AADE-9072E8A5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2E89-1C51-4B0D-9B47-A67C013F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7188-5CF0-4CB5-B4BD-E235C295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4260-7B59-4F57-A10A-A190C725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1E1A-6F25-4039-91B5-D51D4A95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F5F-A156-42AC-B4D2-BFBC4346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946E-ADE2-40AE-AB72-28767F00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D004-D9E2-4A8E-B229-2EC7B5CA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6266-E14D-4BC3-BD04-4D3B9FBF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B64-C383-4236-A5B4-14A85B81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A885-BA26-4BA7-9228-5E32E97B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DF0E-F3A7-44A5-A2A6-29D7FCBB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B5E9-3ADB-4E16-86BD-518B45A6E8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10.jpeg"/><Relationship Id="rId4" Type="http://schemas.openxmlformats.org/officeDocument/2006/relationships/image" Target="../media/image20.png"/><Relationship Id="rId5" Type="http://schemas.openxmlformats.org/officeDocument/2006/relationships/image" Target="../media/image4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8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hyperlink" Target="http://www.youtube.com/watch?v=LicKtUIkXAk" TargetMode="Externa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tro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intro.mp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44" name="Group 11"/>
          <p:cNvGrpSpPr/>
          <p:nvPr/>
        </p:nvGrpSpPr>
        <p:grpSpPr>
          <a:xfrm>
            <a:off x="1835280" y="357120"/>
            <a:ext cx="5545080" cy="1847880"/>
            <a:chOff x="1835280" y="357120"/>
            <a:chExt cx="5545080" cy="1847880"/>
          </a:xfrm>
        </p:grpSpPr>
        <p:sp>
          <p:nvSpPr>
            <p:cNvPr id="45" name="Rectangle 12" hidden="1"/>
            <p:cNvSpPr/>
            <p:nvPr/>
          </p:nvSpPr>
          <p:spPr>
            <a:xfrm>
              <a:off x="1835280" y="404640"/>
              <a:ext cx="55450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13" descr="DD01630_"/>
            <p:cNvPicPr/>
            <p:nvPr/>
          </p:nvPicPr>
          <p:blipFill>
            <a:blip r:embed="rId4"/>
            <a:stretch/>
          </p:blipFill>
          <p:spPr>
            <a:xfrm>
              <a:off x="1929600" y="715680"/>
              <a:ext cx="937440" cy="36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4"/>
            <p:cNvSpPr/>
            <p:nvPr/>
          </p:nvSpPr>
          <p:spPr>
            <a:xfrm>
              <a:off x="3000240" y="357120"/>
              <a:ext cx="43419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0" tIns="36360" bIns="36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Автор: Михалева Т.Б. учитель математики МОУ  Усть-Калманская основная общеобразовательная шко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5"/>
            <p:cNvSpPr/>
            <p:nvPr/>
          </p:nvSpPr>
          <p:spPr>
            <a:xfrm>
              <a:off x="1835280" y="1261080"/>
              <a:ext cx="554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6"/>
            <p:cNvSpPr/>
            <p:nvPr/>
          </p:nvSpPr>
          <p:spPr>
            <a:xfrm>
              <a:off x="3038400" y="404640"/>
              <a:ext cx="0" cy="1162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 Box 18"/>
          <p:cNvSpPr/>
          <p:nvPr/>
        </p:nvSpPr>
        <p:spPr>
          <a:xfrm>
            <a:off x="2176560" y="100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26"/>
          <p:cNvSpPr txBox="1"/>
          <p:nvPr/>
        </p:nvSpPr>
        <p:spPr>
          <a:xfrm>
            <a:off x="1403280" y="2421000"/>
            <a:ext cx="431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Школьнику о вред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</p:txBody>
      </p:sp>
      <p:sp>
        <p:nvSpPr>
          <p:cNvPr id="52" name="WordArt 29"/>
          <p:cNvSpPr txBox="1"/>
          <p:nvPr/>
        </p:nvSpPr>
        <p:spPr>
          <a:xfrm>
            <a:off x="6084720" y="2637000"/>
            <a:ext cx="22003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кур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</p:txBody>
      </p:sp>
      <p:sp>
        <p:nvSpPr>
          <p:cNvPr id="53" name="Rectangle 35"/>
          <p:cNvSpPr/>
          <p:nvPr/>
        </p:nvSpPr>
        <p:spPr>
          <a:xfrm>
            <a:off x="2124000" y="3311640"/>
            <a:ext cx="51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абак приносит вред телу,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рушает разум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упляет целые нации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.де Бальз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_5.wav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7"/>
          <p:cNvSpPr/>
          <p:nvPr/>
        </p:nvSpPr>
        <p:spPr>
          <a:xfrm>
            <a:off x="1042920" y="573408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18 ноября на всей планете отмеч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Международный день борьбы с кур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8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39"/>
          <p:cNvSpPr txBox="1"/>
          <p:nvPr/>
        </p:nvSpPr>
        <p:spPr>
          <a:xfrm>
            <a:off x="2556000" y="1557360"/>
            <a:ext cx="4537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Классный ча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20" name="WordArt 6"/>
          <p:cNvSpPr txBox="1"/>
          <p:nvPr/>
        </p:nvSpPr>
        <p:spPr>
          <a:xfrm>
            <a:off x="826920" y="0"/>
            <a:ext cx="7921800" cy="188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объятиях табачного дым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WordArt 7"/>
          <p:cNvSpPr txBox="1"/>
          <p:nvPr/>
        </p:nvSpPr>
        <p:spPr>
          <a:xfrm>
            <a:off x="3780000" y="2060640"/>
            <a:ext cx="201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ы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693800" y="2678040"/>
            <a:ext cx="38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одина таб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2484360" y="3716280"/>
            <a:ext cx="37339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Южная Африка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WordArt 11"/>
          <p:cNvSpPr txBox="1"/>
          <p:nvPr/>
        </p:nvSpPr>
        <p:spPr>
          <a:xfrm>
            <a:off x="2340000" y="4724280"/>
            <a:ext cx="40482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Южная Америка;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WordArt 12"/>
          <p:cNvSpPr txBox="1"/>
          <p:nvPr/>
        </p:nvSpPr>
        <p:spPr>
          <a:xfrm>
            <a:off x="2411280" y="5734080"/>
            <a:ext cx="3476880" cy="3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Южный полюс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4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6372360" y="2708280"/>
            <a:ext cx="2555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ие Америки подарило человеку два знаменитых растения – картофель и табак. По справедливому выражению Гете, картофель стал для человечества благословлением, а табак – ка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7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6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1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7" dur="1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" dur="1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971640" y="333360"/>
            <a:ext cx="79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Когда Колумб в 1492 году высадился на побережье Кубы, то он встретил жителей с головнями в руках и с травой, употребляемой для курения, которую они называли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9"/>
          <p:cNvSpPr txBox="1"/>
          <p:nvPr/>
        </p:nvSpPr>
        <p:spPr>
          <a:xfrm>
            <a:off x="2700360" y="3573360"/>
            <a:ext cx="1762200" cy="4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сигаро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WordArt 10"/>
          <p:cNvSpPr txBox="1"/>
          <p:nvPr/>
        </p:nvSpPr>
        <p:spPr>
          <a:xfrm>
            <a:off x="2700360" y="4653000"/>
            <a:ext cx="2124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папирус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WordArt 11"/>
          <p:cNvSpPr txBox="1"/>
          <p:nvPr/>
        </p:nvSpPr>
        <p:spPr>
          <a:xfrm>
            <a:off x="2627280" y="5734080"/>
            <a:ext cx="291456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самокруто.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5364000" y="3429000"/>
            <a:ext cx="32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ым этой травы, по образному выражению Колумба, они «пил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8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4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5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1044360" y="333360"/>
            <a:ext cx="581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Кто обнаружил в таба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икоти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9"/>
          <p:cNvSpPr txBox="1"/>
          <p:nvPr/>
        </p:nvSpPr>
        <p:spPr>
          <a:xfrm>
            <a:off x="2700360" y="3500280"/>
            <a:ext cx="3024000" cy="4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Жан Жак Руссо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2627280" y="4508640"/>
            <a:ext cx="417672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Жан Поль Бельмондо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2" name="WordArt 11"/>
          <p:cNvSpPr txBox="1"/>
          <p:nvPr/>
        </p:nvSpPr>
        <p:spPr>
          <a:xfrm>
            <a:off x="2771640" y="5661000"/>
            <a:ext cx="23036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Жан Нико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6732720" y="2781360"/>
            <a:ext cx="2195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отин – это чрезвычайно сильный яд, действующий преимущественно на нервную систему, пищеварение, а также на дыхательную и сердечно-сосудистую сис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1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8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9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0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1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042920" y="83664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Екатерина Медичи использовала нюхательный табак как лекарственное средство от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9"/>
          <p:cNvSpPr txBox="1"/>
          <p:nvPr/>
        </p:nvSpPr>
        <p:spPr>
          <a:xfrm>
            <a:off x="2700360" y="3573360"/>
            <a:ext cx="230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насморка;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WordArt 10"/>
          <p:cNvSpPr txBox="1"/>
          <p:nvPr/>
        </p:nvSpPr>
        <p:spPr>
          <a:xfrm>
            <a:off x="2700360" y="4653000"/>
            <a:ext cx="194292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мигрени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WordArt 11"/>
          <p:cNvSpPr txBox="1"/>
          <p:nvPr/>
        </p:nvSpPr>
        <p:spPr>
          <a:xfrm>
            <a:off x="2771640" y="5589720"/>
            <a:ext cx="208944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простуды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AutoShape 12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7" dur="indefinite" restart="never" nodeType="tmRoot">
          <p:childTnLst>
            <p:seq>
              <p:cTn id="24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5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9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0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1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2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905760" y="376200"/>
            <a:ext cx="753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5. В какой стране табак в 16 ве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ыл объявлен «забавой дьявол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9"/>
          <p:cNvSpPr txBox="1"/>
          <p:nvPr/>
        </p:nvSpPr>
        <p:spPr>
          <a:xfrm>
            <a:off x="2771640" y="3500280"/>
            <a:ext cx="151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Испания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WordArt 10"/>
          <p:cNvSpPr txBox="1"/>
          <p:nvPr/>
        </p:nvSpPr>
        <p:spPr>
          <a:xfrm>
            <a:off x="2627280" y="4724280"/>
            <a:ext cx="16574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Италия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WordArt 11"/>
          <p:cNvSpPr txBox="1"/>
          <p:nvPr/>
        </p:nvSpPr>
        <p:spPr>
          <a:xfrm>
            <a:off x="2484360" y="5805360"/>
            <a:ext cx="19432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Бразилия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4859280" y="1628640"/>
            <a:ext cx="388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 второй половины 16 века курение начало «триумфальное» шествие по странам и континентам. Итак, к концу XYI века курение проникло в Испании, Португалию, Францию, Англию и Голландию. Тринадцатилетняя война способствовала распространению курения в Германии и Шве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оссию табак был завезён английскими купцами в 1585 году через Архангельск, а затем начал широко культивироваться на российской зем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8" dur="indefinite" restart="never" nodeType="tmRoot">
          <p:childTnLst>
            <p:seq>
              <p:cTn id="27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8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95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6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7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8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042920" y="54936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6. Книга, написанная английским королем Яковом Первым в 1604 году, называется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10"/>
          <p:cNvSpPr txBox="1"/>
          <p:nvPr/>
        </p:nvSpPr>
        <p:spPr>
          <a:xfrm>
            <a:off x="2627280" y="3573360"/>
            <a:ext cx="3240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«О вреде табака»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WordArt 11"/>
          <p:cNvSpPr txBox="1"/>
          <p:nvPr/>
        </p:nvSpPr>
        <p:spPr>
          <a:xfrm>
            <a:off x="2627280" y="4653000"/>
            <a:ext cx="34560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«О пользе курения»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WordArt 12"/>
          <p:cNvSpPr txBox="1"/>
          <p:nvPr/>
        </p:nvSpPr>
        <p:spPr>
          <a:xfrm>
            <a:off x="2484360" y="5734080"/>
            <a:ext cx="39607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«Об истории трубки»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6588000" y="2852640"/>
            <a:ext cx="25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га «О вреде табака», принадлежавший Якову I Стюарту, королю Англии. В нем отмечалось, что это «привычка, противная зрению, невыносимая для обоняния, вредная для мозга, опасная для легких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4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4" dur="indefinite" restart="never" nodeType="tmRoot">
          <p:childTnLst>
            <p:seq>
              <p:cTn id="315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2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1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2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3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4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1403280" y="95256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7. Большие дозы никот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йствуют подобно яду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9"/>
          <p:cNvSpPr txBox="1"/>
          <p:nvPr/>
        </p:nvSpPr>
        <p:spPr>
          <a:xfrm>
            <a:off x="2700360" y="3573360"/>
            <a:ext cx="1871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мышьяку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WordArt 10"/>
          <p:cNvSpPr txBox="1"/>
          <p:nvPr/>
        </p:nvSpPr>
        <p:spPr>
          <a:xfrm>
            <a:off x="2771640" y="458136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кураре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WordArt 11"/>
          <p:cNvSpPr txBox="1"/>
          <p:nvPr/>
        </p:nvSpPr>
        <p:spPr>
          <a:xfrm>
            <a:off x="2556000" y="5589720"/>
            <a:ext cx="439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синильной кислоте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AutoShape 12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0" dur="indefinite" restart="never" nodeType="tmRoot">
          <p:childTnLst>
            <p:seq>
              <p:cTn id="351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5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2" dur="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3" dur="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4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5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1258920" y="333360"/>
            <a:ext cx="718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8. Для чего чистят кур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уб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9"/>
          <p:cNvSpPr txBox="1"/>
          <p:nvPr/>
        </p:nvSpPr>
        <p:spPr>
          <a:xfrm>
            <a:off x="2484360" y="3500280"/>
            <a:ext cx="5256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чтобы собрать остатки табака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7" name="WordArt 10"/>
          <p:cNvSpPr txBox="1"/>
          <p:nvPr/>
        </p:nvSpPr>
        <p:spPr>
          <a:xfrm>
            <a:off x="2411280" y="4437000"/>
            <a:ext cx="5329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чтобы удалить табачный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готь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8" name="WordArt 11"/>
          <p:cNvSpPr txBox="1"/>
          <p:nvPr/>
        </p:nvSpPr>
        <p:spPr>
          <a:xfrm>
            <a:off x="2556000" y="5661000"/>
            <a:ext cx="4032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от нечего делать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547640" y="1197000"/>
            <a:ext cx="65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ачный деготь, являясь концентратом жидких (органические кислоты, эфирные масла, анилин и др.) и твердых (частицы углерода, канцерогены, полоний) веществ, оседает на стенках воздухоносных путей, накапливается и в альвеолах. Часть табачного дегтя выделяется при кашле с мокротой, а часть проникает в ткани слизистых оболочек, придавая им темный ц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1" dur="indefinite" restart="never" nodeType="tmRoot">
          <p:childTnLst>
            <p:seq>
              <p:cTn id="38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8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8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9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10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1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261080" y="692280"/>
            <a:ext cx="64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9. Самый популярный спос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потребления  табака в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о 19 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9"/>
          <p:cNvSpPr txBox="1"/>
          <p:nvPr/>
        </p:nvSpPr>
        <p:spPr>
          <a:xfrm>
            <a:off x="2700360" y="3645000"/>
            <a:ext cx="187020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курение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WordArt 10"/>
          <p:cNvSpPr txBox="1"/>
          <p:nvPr/>
        </p:nvSpPr>
        <p:spPr>
          <a:xfrm>
            <a:off x="2627280" y="4508640"/>
            <a:ext cx="208764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нюхание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WordArt 11"/>
          <p:cNvSpPr txBox="1"/>
          <p:nvPr/>
        </p:nvSpPr>
        <p:spPr>
          <a:xfrm>
            <a:off x="2771640" y="5661000"/>
            <a:ext cx="2089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жева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1" name="AutoShape 12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7" dur="indefinite" restart="never" nodeType="tmRoot">
          <p:childTnLst>
            <p:seq>
              <p:cTn id="41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2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8" dur="1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9" dur="1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0" dur="1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1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2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755640" y="40464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0.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1934 году во французском городке Ницца компания молодежи устроила соревнование: кто выкурит больше папирос. Двое «победителей» не смогли получить приз, так как скончались, выкурив по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9"/>
          <p:cNvSpPr txBox="1"/>
          <p:nvPr/>
        </p:nvSpPr>
        <p:spPr>
          <a:xfrm>
            <a:off x="2627280" y="3645000"/>
            <a:ext cx="266544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40 папирос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" name="WordArt 10"/>
          <p:cNvSpPr txBox="1"/>
          <p:nvPr/>
        </p:nvSpPr>
        <p:spPr>
          <a:xfrm>
            <a:off x="2556000" y="4581360"/>
            <a:ext cx="259236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60 папирос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WordArt 11"/>
          <p:cNvSpPr txBox="1"/>
          <p:nvPr/>
        </p:nvSpPr>
        <p:spPr>
          <a:xfrm>
            <a:off x="2556000" y="5589720"/>
            <a:ext cx="280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80 папирос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6012000" y="3645000"/>
            <a:ext cx="259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угие члены компании были доставлены в госпиталь в тяжелом со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8" dur="indefinite" restart="never" nodeType="tmRoot">
          <p:childTnLst>
            <p:seq>
              <p:cTn id="44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5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4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5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6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8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1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4716360" y="3068640"/>
            <a:ext cx="442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екурящих семьях курящими становятся не более 20% детей, в курящих семьях число курящих детей превышает 5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многих курение объясняется подражанием, курящим товарищам или героям ки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900000" y="333360"/>
            <a:ext cx="799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чему же люди начинают курить?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11280" y="126828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дной из основных причи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чала курения я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067280" y="1628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опы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11280" y="22050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ругая причи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чала курения в молодом возра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268360" y="2637000"/>
            <a:ext cx="48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ражание взросл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ЃаЁЈ ¤  2"/>
          <p:cNvPicPr/>
          <p:nvPr/>
        </p:nvPicPr>
        <p:blipFill>
          <a:blip r:embed="rId2"/>
          <a:stretch/>
        </p:blipFill>
        <p:spPr>
          <a:xfrm>
            <a:off x="755640" y="3357720"/>
            <a:ext cx="3743280" cy="318744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2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682560" y="476280"/>
            <a:ext cx="751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1. Кого называют «курильщ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неволе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9"/>
          <p:cNvSpPr txBox="1"/>
          <p:nvPr/>
        </p:nvSpPr>
        <p:spPr>
          <a:xfrm>
            <a:off x="2484360" y="4581360"/>
            <a:ext cx="612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тех, кто находится в обществ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рящих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2" name="WordArt 10"/>
          <p:cNvSpPr txBox="1"/>
          <p:nvPr/>
        </p:nvSpPr>
        <p:spPr>
          <a:xfrm>
            <a:off x="2411280" y="3500280"/>
            <a:ext cx="64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тех, которых заставляют курить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нудительно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3" name="WordArt 11"/>
          <p:cNvSpPr txBox="1"/>
          <p:nvPr/>
        </p:nvSpPr>
        <p:spPr>
          <a:xfrm>
            <a:off x="2627280" y="5805360"/>
            <a:ext cx="468000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тех, кто курит в тюрьме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4" name="Picture 12" descr=""/>
          <p:cNvPicPr/>
          <p:nvPr/>
        </p:nvPicPr>
        <p:blipFill>
          <a:blip r:embed="rId2"/>
          <a:stretch/>
        </p:blipFill>
        <p:spPr>
          <a:xfrm>
            <a:off x="3708360" y="981000"/>
            <a:ext cx="2951280" cy="2368800"/>
          </a:xfrm>
          <a:prstGeom prst="rect">
            <a:avLst/>
          </a:prstGeom>
          <a:ln w="9360">
            <a:solidFill>
              <a:srgbClr val="8da2b9"/>
            </a:solidFill>
            <a:miter/>
          </a:ln>
        </p:spPr>
      </p:pic>
      <p:sp>
        <p:nvSpPr>
          <p:cNvPr id="245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4" dur="indefinite" restart="never" nodeType="tmRoot">
          <p:childTnLst>
            <p:seq>
              <p:cTn id="485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9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02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3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14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5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курит сигарету"/>
          <p:cNvPicPr/>
          <p:nvPr/>
        </p:nvPicPr>
        <p:blipFill>
          <a:blip r:embed="rId2"/>
          <a:stretch/>
        </p:blipFill>
        <p:spPr>
          <a:xfrm>
            <a:off x="611280" y="0"/>
            <a:ext cx="853272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не кури"/>
          <p:cNvPicPr/>
          <p:nvPr/>
        </p:nvPicPr>
        <p:blipFill>
          <a:blip r:embed="rId3"/>
          <a:stretch/>
        </p:blipFill>
        <p:spPr>
          <a:xfrm>
            <a:off x="971640" y="620640"/>
            <a:ext cx="3384360" cy="3292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4"/>
          <a:stretch/>
        </p:blipFill>
        <p:spPr>
          <a:xfrm>
            <a:off x="6877080" y="2997360"/>
            <a:ext cx="792000" cy="1933560"/>
          </a:xfrm>
          <a:prstGeom prst="rect">
            <a:avLst/>
          </a:prstGeom>
          <a:ln w="0">
            <a:noFill/>
          </a:ln>
        </p:spPr>
      </p:pic>
      <p:pic>
        <p:nvPicPr>
          <p:cNvPr id="250" name="r_5.wav" descr=""/>
          <p:cNvPicPr/>
          <p:nvPr/>
        </p:nvPicPr>
        <p:blipFill>
          <a:blip r:embed="rId5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1">
            <a:hlinkClick r:id="" action="ppaction://hlinkshowjump?jump=firs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10800" y="3962"/>
                </a:moveTo>
                <a:lnTo>
                  <a:pt x="13376" y="6573"/>
                </a:lnTo>
                <a:lnTo>
                  <a:pt x="13376" y="4832"/>
                </a:lnTo>
                <a:lnTo>
                  <a:pt x="15152" y="4832"/>
                </a:lnTo>
                <a:lnTo>
                  <a:pt x="15152" y="8349"/>
                </a:lnTo>
                <a:lnTo>
                  <a:pt x="17763" y="10925"/>
                </a:lnTo>
                <a:lnTo>
                  <a:pt x="16109" y="10925"/>
                </a:lnTo>
                <a:lnTo>
                  <a:pt x="16109" y="18114"/>
                </a:lnTo>
                <a:lnTo>
                  <a:pt x="5491" y="18114"/>
                </a:lnTo>
                <a:lnTo>
                  <a:pt x="5491" y="10925"/>
                </a:lnTo>
                <a:lnTo>
                  <a:pt x="3837" y="10925"/>
                </a:lnTo>
                <a:close/>
              </a:path>
              <a:path fill="darkenLess" w="21600" h="21850">
                <a:moveTo>
                  <a:pt x="13376" y="6573"/>
                </a:moveTo>
                <a:lnTo>
                  <a:pt x="13376" y="4832"/>
                </a:lnTo>
                <a:lnTo>
                  <a:pt x="15152" y="4832"/>
                </a:lnTo>
                <a:lnTo>
                  <a:pt x="15152" y="8349"/>
                </a:lnTo>
                <a:close/>
              </a:path>
              <a:path fill="darkenLess" w="21600" h="21850">
                <a:moveTo>
                  <a:pt x="9877" y="14424"/>
                </a:moveTo>
                <a:lnTo>
                  <a:pt x="11723" y="14424"/>
                </a:lnTo>
                <a:lnTo>
                  <a:pt x="11723" y="18114"/>
                </a:lnTo>
                <a:lnTo>
                  <a:pt x="16109" y="18114"/>
                </a:lnTo>
                <a:lnTo>
                  <a:pt x="16109" y="10925"/>
                </a:lnTo>
                <a:lnTo>
                  <a:pt x="5491" y="10925"/>
                </a:lnTo>
                <a:lnTo>
                  <a:pt x="5491" y="18114"/>
                </a:lnTo>
                <a:lnTo>
                  <a:pt x="9877" y="18114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 repeatCount="indefinite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mph" presetID="26" repeatCount="indefinite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500" autoRev="1" fill="hold"/>
                                        <p:tgtEl>
                                          <p:spTgt spid="2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9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4716360" y="620640"/>
            <a:ext cx="3959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ривычка – вторая натура» - именно этим можно объяснить курение многих людей, которые и рады бы бросить это никчемное занятие, да не могут изменить своей вредной привычке. В распространении курения среди девушек немалую роль играет м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причинами начала курения у мужчин является стремление подражать взрослым, отождествление курения с представлениями о самостоятельности, силе, мужественности, то у девушек начало курения часто связано с кокетством, стремлением к оригинальности, желанием нравиться юнош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3214440" cy="424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0" name="AutoShape 7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3348000" y="2492280"/>
            <a:ext cx="57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рение и школьник несовместимы. Школьные годы - это годы роста как физического, так и умствен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рганизму нужно много сил, чтобы справиться со всеми нагрузками. Как известно, навыки, привычки, усвоенные в школьном возрасте, самые прочные. Это относиться не только к полезным, но и к вредным привычк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547640" y="0"/>
            <a:ext cx="698508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42b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рение отрицательно влияет на успеваемость шк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исло неуспевающих возрастает в тех классах, где больше курящ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456000" y="177336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рение школьников замедляет их физическое и психическое развитие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timur"/>
          <p:cNvPicPr/>
          <p:nvPr/>
        </p:nvPicPr>
        <p:blipFill>
          <a:blip r:embed="rId7"/>
          <a:stretch/>
        </p:blipFill>
        <p:spPr>
          <a:xfrm>
            <a:off x="1042920" y="2133720"/>
            <a:ext cx="1947960" cy="237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не кури"/>
          <p:cNvPicPr/>
          <p:nvPr/>
        </p:nvPicPr>
        <p:blipFill>
          <a:blip r:embed="rId8"/>
          <a:stretch/>
        </p:blipFill>
        <p:spPr>
          <a:xfrm>
            <a:off x="1042920" y="2133720"/>
            <a:ext cx="2046240" cy="2447640"/>
          </a:xfrm>
          <a:prstGeom prst="rect">
            <a:avLst/>
          </a:prstGeom>
          <a:ln w="9360">
            <a:solidFill>
              <a:srgbClr val="8da2b9"/>
            </a:solidFill>
            <a:miter/>
          </a:ln>
        </p:spPr>
      </p:pic>
      <p:sp>
        <p:nvSpPr>
          <p:cNvPr id="77" name="Rectangle 11"/>
          <p:cNvSpPr/>
          <p:nvPr/>
        </p:nvSpPr>
        <p:spPr>
          <a:xfrm>
            <a:off x="971640" y="53737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м раньше дети, подростки, юноши, девушки ознакомятся с курением и начнут курить, тем быстрее привыкнут к нему, и в дальнейшем отказаться от курения будет очень труд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_5.wav" descr=""/>
          <p:cNvPicPr/>
          <p:nvPr/>
        </p:nvPicPr>
        <p:blipFill>
          <a:blip r:embed="rId10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5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755640" y="0"/>
            <a:ext cx="5616720" cy="3844800"/>
          </a:xfrm>
          <a:prstGeom prst="rect">
            <a:avLst/>
          </a:prstGeom>
          <a:ln w="0">
            <a:noFill/>
          </a:ln>
        </p:spPr>
      </p:pic>
      <p:sp>
        <p:nvSpPr>
          <p:cNvPr id="82" name="WordArt 9"/>
          <p:cNvSpPr txBox="1"/>
          <p:nvPr/>
        </p:nvSpPr>
        <p:spPr>
          <a:xfrm>
            <a:off x="6191280" y="4797360"/>
            <a:ext cx="2952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Я курил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и ран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умер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</p:txBody>
      </p:sp>
      <p:sp>
        <p:nvSpPr>
          <p:cNvPr id="83" name="WordArt 10"/>
          <p:cNvSpPr txBox="1"/>
          <p:nvPr/>
        </p:nvSpPr>
        <p:spPr>
          <a:xfrm>
            <a:off x="6372360" y="476280"/>
            <a:ext cx="2771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иаграмм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рящих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кольников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ш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кол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Picture 11" descr="res44F73E49-68A7-436E-9E3F-1D1AB5499ED6"/>
          <p:cNvPicPr/>
          <p:nvPr/>
        </p:nvPicPr>
        <p:blipFill>
          <a:blip r:embed="rId3"/>
          <a:stretch/>
        </p:blipFill>
        <p:spPr>
          <a:xfrm>
            <a:off x="1692360" y="3879720"/>
            <a:ext cx="3971880" cy="2978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4"/>
          <a:stretch/>
        </p:blipFill>
        <p:spPr>
          <a:xfrm>
            <a:off x="3995640" y="5877000"/>
            <a:ext cx="1006560" cy="4255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5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 repeatCount="indefinite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600"/>
                            </p:stCondLst>
                            <p:childTnLst>
                              <p:par>
                                <p:cTn id="7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88" name="WordArt 9"/>
          <p:cNvSpPr txBox="1"/>
          <p:nvPr/>
        </p:nvSpPr>
        <p:spPr>
          <a:xfrm>
            <a:off x="1187280" y="189000"/>
            <a:ext cx="7201080" cy="18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Impact"/>
              </a:rPr>
              <a:t>Состав табачного дым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Impact"/>
              <a:ea typeface="Impact"/>
            </a:endParaRPr>
          </a:p>
        </p:txBody>
      </p:sp>
      <p:pic>
        <p:nvPicPr>
          <p:cNvPr id="89" name="r_5.wav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Object 16"/>
          <p:cNvGraphicFramePr/>
          <p:nvPr/>
        </p:nvGraphicFramePr>
        <p:xfrm>
          <a:off x="971640" y="1844640"/>
          <a:ext cx="7561080" cy="4392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1844640"/>
                    <a:ext cx="756108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AutoShape 21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3924360" y="1628640"/>
          <a:ext cx="4897440" cy="4614840"/>
        </p:xfrm>
        <a:graphic>
          <a:graphicData uri="http://schemas.openxmlformats.org/drawingml/2006/table">
            <a:tbl>
              <a:tblPr/>
              <a:tblGrid>
                <a:gridCol w="2592360"/>
                <a:gridCol w="1079640"/>
                <a:gridCol w="122544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ящ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курящ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нерв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нижение слу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лохая пам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Плохое физическое состоя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Плохое умственное состоя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Нечистоплот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Плохие отме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Медленно сообража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Picture 48" descr="курить нелльзя"/>
          <p:cNvPicPr/>
          <p:nvPr/>
        </p:nvPicPr>
        <p:blipFill>
          <a:blip r:embed="rId2"/>
          <a:stretch/>
        </p:blipFill>
        <p:spPr>
          <a:xfrm>
            <a:off x="826920" y="189000"/>
            <a:ext cx="2592720" cy="2222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9"/>
          <p:cNvSpPr/>
          <p:nvPr/>
        </p:nvSpPr>
        <p:spPr>
          <a:xfrm>
            <a:off x="900000" y="2508120"/>
            <a:ext cx="2880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ечение нескольких лет ученые проводили наблюдение над 200 курящими и 200 некурящими школь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теперь посмотрим, какими оказались сравнительные результа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1"/>
          <p:cNvSpPr/>
          <p:nvPr/>
        </p:nvSpPr>
        <p:spPr>
          <a:xfrm>
            <a:off x="3556080" y="189000"/>
            <a:ext cx="558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ановили, что люди начавшие курить до 15 летнего возраста, умирают от рака легких в 5 раз чаще, чем те которые начали курить после 25 л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2" descr=""/>
          <p:cNvPicPr/>
          <p:nvPr/>
        </p:nvPicPr>
        <p:blipFill>
          <a:blip r:embed="rId6"/>
          <a:stretch/>
        </p:blipFill>
        <p:spPr>
          <a:xfrm>
            <a:off x="2195640" y="1484280"/>
            <a:ext cx="253800" cy="3808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5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2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0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0120" y="857160"/>
            <a:ext cx="5953320" cy="4864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grpSp>
        <p:nvGrpSpPr>
          <p:cNvPr id="104" name="Organization Chart 6"/>
          <p:cNvGrpSpPr/>
          <p:nvPr/>
        </p:nvGrpSpPr>
        <p:grpSpPr>
          <a:xfrm>
            <a:off x="900000" y="274680"/>
            <a:ext cx="7786080" cy="5384520"/>
            <a:chOff x="900000" y="274680"/>
            <a:chExt cx="7786080" cy="5384520"/>
          </a:xfrm>
        </p:grpSpPr>
        <p:cxnSp>
          <p:nvCxnSpPr>
            <p:cNvPr id="105" name="_s2052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5659920" y="1632960"/>
              <a:ext cx="931320" cy="2667240"/>
            </a:xfrm>
            <a:prstGeom prst="bentConnector3">
              <a:avLst>
                <a:gd name="adj1" fmla="val 136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053"/>
            <p:cNvCxnSpPr>
              <a:stCxn id="109" idx="0"/>
              <a:endCxn id="107" idx="2"/>
            </p:cNvCxnSpPr>
            <p:nvPr/>
          </p:nvCxnSpPr>
          <p:spPr>
            <a:xfrm flipV="1">
              <a:off x="4792680" y="2500920"/>
              <a:ext cx="3600" cy="93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2054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2993760" y="1633320"/>
              <a:ext cx="931320" cy="2666520"/>
            </a:xfrm>
            <a:prstGeom prst="bentConnector3">
              <a:avLst>
                <a:gd name="adj1" fmla="val 136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2055"/>
            <p:cNvSpPr/>
            <p:nvPr/>
          </p:nvSpPr>
          <p:spPr>
            <a:xfrm>
              <a:off x="3565800" y="274680"/>
              <a:ext cx="2453400" cy="2180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Первая помощ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пр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отравлен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никотин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056"/>
            <p:cNvSpPr/>
            <p:nvPr/>
          </p:nvSpPr>
          <p:spPr>
            <a:xfrm>
              <a:off x="900000" y="3478680"/>
              <a:ext cx="2453400" cy="2180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057"/>
            <p:cNvSpPr/>
            <p:nvPr/>
          </p:nvSpPr>
          <p:spPr>
            <a:xfrm>
              <a:off x="3565800" y="3478680"/>
              <a:ext cx="2453400" cy="2180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058"/>
            <p:cNvSpPr/>
            <p:nvPr/>
          </p:nvSpPr>
          <p:spPr>
            <a:xfrm>
              <a:off x="6232680" y="3478680"/>
              <a:ext cx="2453400" cy="2180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r_5.wav" descr=""/>
          <p:cNvPicPr/>
          <p:nvPr/>
        </p:nvPicPr>
        <p:blipFill>
          <a:blip r:embed="rId2"/>
          <a:stretch/>
        </p:blipFill>
        <p:spPr>
          <a:xfrm>
            <a:off x="1792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1"/>
          <p:cNvSpPr/>
          <p:nvPr/>
        </p:nvSpPr>
        <p:spPr>
          <a:xfrm>
            <a:off x="1042920" y="3573360"/>
            <a:ext cx="216072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оить пострадавш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дой, ни  в ко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учае не да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ок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огающее усвоен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2"/>
          <p:cNvSpPr/>
          <p:nvPr/>
        </p:nvSpPr>
        <p:spPr>
          <a:xfrm>
            <a:off x="3419640" y="3429000"/>
            <a:ext cx="273672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звать рвоту (что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вести яды из организм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ачала д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авленно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ить вод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клонить верхнюю ча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ловища впере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звать раздражение не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льцем или чайной ложк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3"/>
          <p:cNvSpPr/>
          <p:nvPr/>
        </p:nvSpPr>
        <p:spPr>
          <a:xfrm>
            <a:off x="6443640" y="3573360"/>
            <a:ext cx="208908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ть таблетк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ктивированного уг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чтобы связать отставш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рганизме яд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ивать таблет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учше вод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4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4T05:26:04Z</dcterms:created>
  <dc:creator>General</dc:creator>
  <dc:description/>
  <dc:language>en-US</dc:language>
  <cp:lastModifiedBy>Admin</cp:lastModifiedBy>
  <dcterms:modified xsi:type="dcterms:W3CDTF">2011-09-15T16:29:59Z</dcterms:modified>
  <cp:revision>84</cp:revision>
  <dc:subject/>
  <dc:title>Слайд 1</dc:title>
</cp:coreProperties>
</file>