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wmf" ContentType="image/x-wmf"/>
  <Override PartName="/ppt/media/image7.png" ContentType="image/png"/>
  <Override PartName="/ppt/media/image8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ACE-4735-4CAA-82B2-C5F6B82E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85F-AEEE-4C62-A8B8-A8964DAF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05E-06C0-4F15-A5AD-B9327EE4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D60-09B9-4BE9-A24C-2538C85A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0C6-20F2-4DC9-9465-F86C375D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D58-10B1-45BB-94E6-4F93A0CA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9A8-7B73-4165-99E7-4450A968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3A5-4FF1-4114-86C0-92769871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4DB-3541-49A3-A0E7-83F98E03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346-2281-40CF-A3B6-E336D81B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094-FC1D-45E1-AA53-20D72287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DF6-F2F1-4122-8129-0916A515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CC1F-0917-45CB-8AE8-3DCF3F608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10.jpeg"/><Relationship Id="rId4" Type="http://schemas.openxmlformats.org/officeDocument/2006/relationships/image" Target="../media/image20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hyperlink" Target="http://www.youtube.com/watch?v=LicKtUIkXAk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tro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ntro.mp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44" name="Group 11"/>
          <p:cNvGrpSpPr/>
          <p:nvPr/>
        </p:nvGrpSpPr>
        <p:grpSpPr>
          <a:xfrm>
            <a:off x="1835280" y="357120"/>
            <a:ext cx="5545080" cy="1847880"/>
            <a:chOff x="1835280" y="357120"/>
            <a:chExt cx="5545080" cy="1847880"/>
          </a:xfrm>
        </p:grpSpPr>
        <p:sp>
          <p:nvSpPr>
            <p:cNvPr id="45" name="Rectangle 12" hidden="1"/>
            <p:cNvSpPr/>
            <p:nvPr/>
          </p:nvSpPr>
          <p:spPr>
            <a:xfrm>
              <a:off x="1835280" y="404640"/>
              <a:ext cx="5545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13" descr="DD01630_"/>
            <p:cNvPicPr/>
            <p:nvPr/>
          </p:nvPicPr>
          <p:blipFill>
            <a:blip r:embed="rId4"/>
            <a:stretch/>
          </p:blipFill>
          <p:spPr>
            <a:xfrm>
              <a:off x="1929600" y="715680"/>
              <a:ext cx="93744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4"/>
            <p:cNvSpPr/>
            <p:nvPr/>
          </p:nvSpPr>
          <p:spPr>
            <a:xfrm>
              <a:off x="3000240" y="357120"/>
              <a:ext cx="43419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Автор: Михалева Т.Б. учитель математики МОУ  Усть-Калманская основная общеобразовательная 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5"/>
            <p:cNvSpPr/>
            <p:nvPr/>
          </p:nvSpPr>
          <p:spPr>
            <a:xfrm>
              <a:off x="1835280" y="1261080"/>
              <a:ext cx="554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6"/>
            <p:cNvSpPr/>
            <p:nvPr/>
          </p:nvSpPr>
          <p:spPr>
            <a:xfrm>
              <a:off x="3038400" y="404640"/>
              <a:ext cx="0" cy="1162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8"/>
          <p:cNvSpPr/>
          <p:nvPr/>
        </p:nvSpPr>
        <p:spPr>
          <a:xfrm>
            <a:off x="217656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1403280" y="2421000"/>
            <a:ext cx="431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Школьнику о вре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2" name="WordArt 29"/>
          <p:cNvSpPr txBox="1"/>
          <p:nvPr/>
        </p:nvSpPr>
        <p:spPr>
          <a:xfrm>
            <a:off x="6084720" y="2637000"/>
            <a:ext cx="22003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ур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2124000" y="331164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бак приносит вред телу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рушает разум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упляет целые наци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.де Бальз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_5.wav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7"/>
          <p:cNvSpPr/>
          <p:nvPr/>
        </p:nvSpPr>
        <p:spPr>
          <a:xfrm>
            <a:off x="1042920" y="57340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8 ноября на всей планете отме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еждународный день борьбы с кур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8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9"/>
          <p:cNvSpPr txBox="1"/>
          <p:nvPr/>
        </p:nvSpPr>
        <p:spPr>
          <a:xfrm>
            <a:off x="2556000" y="1557360"/>
            <a:ext cx="453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лассный ч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826920" y="0"/>
            <a:ext cx="7921800" cy="18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бъятиях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3780000" y="206064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ы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693800" y="2678040"/>
            <a:ext cx="38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дина таб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2484360" y="3716280"/>
            <a:ext cx="3733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фри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2340000" y="4724280"/>
            <a:ext cx="4048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мери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2411280" y="5734080"/>
            <a:ext cx="347688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ый полю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372360" y="2708280"/>
            <a:ext cx="255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ие Америки подарило человеку два знаменитых растения – картофель и табак. По справедливому выражению Гете, картофель стал для человечества благословлением, а табак – ка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71640" y="33336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Когда Колумб в 1492 году высадился на побережье Кубы, то он встретил жителей с головнями в руках и с травой, употребляемой для курения, которую они называл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2700360" y="3573360"/>
            <a:ext cx="176220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сигар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2700360" y="4653000"/>
            <a:ext cx="2124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апиру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2627280" y="5734080"/>
            <a:ext cx="29145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амокруто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364000" y="3429000"/>
            <a:ext cx="32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м этой травы, по образному выражению Колумба, они «пи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044360" y="333360"/>
            <a:ext cx="581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Кто обнаружил в таб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икот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2700360" y="3500280"/>
            <a:ext cx="302400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Жак Русс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627280" y="4508640"/>
            <a:ext cx="4176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Поль Бельмонд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2771640" y="5661000"/>
            <a:ext cx="2303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Нико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732720" y="2781360"/>
            <a:ext cx="2195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тин – это чрезвычайно сильный яд, действующий преимущественно на нервную систему, пищеварение, а также на дыхательную и сердечно-сосудистую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9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042920" y="836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Екатерина Медичи использовала нюхательный табак как лекарственное средство от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2700360" y="3573360"/>
            <a:ext cx="23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асмор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10"/>
          <p:cNvSpPr txBox="1"/>
          <p:nvPr/>
        </p:nvSpPr>
        <p:spPr>
          <a:xfrm>
            <a:off x="2700360" y="4653000"/>
            <a:ext cx="19429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игрени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2771640" y="5589720"/>
            <a:ext cx="208944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ростуды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9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905760" y="376200"/>
            <a:ext cx="753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В какой стране табак в 16 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л объявлен «забавой дьявол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2771640" y="350028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спан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WordArt 10"/>
          <p:cNvSpPr txBox="1"/>
          <p:nvPr/>
        </p:nvSpPr>
        <p:spPr>
          <a:xfrm>
            <a:off x="2627280" y="4724280"/>
            <a:ext cx="16574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тал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11"/>
          <p:cNvSpPr txBox="1"/>
          <p:nvPr/>
        </p:nvSpPr>
        <p:spPr>
          <a:xfrm>
            <a:off x="2484360" y="5805360"/>
            <a:ext cx="19432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Бразили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859280" y="1628640"/>
            <a:ext cx="388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второй половины 16 века курение начало «триумфальное» шествие по странам и континентам. Итак, к концу XYI века курение проникло в Испании, Португалию, Францию, Англию и Голландию. Тринадцатилетняя война способствовала распространению курения в Германии и Шве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ю табак был завезён английскими купцами в 1585 году через Архангельск, а затем начал широко культивироваться на российской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5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6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7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42920" y="54936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. Книга, написанная английским королем Яковом Первым в 1604 году, называет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0"/>
          <p:cNvSpPr txBox="1"/>
          <p:nvPr/>
        </p:nvSpPr>
        <p:spPr>
          <a:xfrm>
            <a:off x="2627280" y="357336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вреде табака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2627280" y="4653000"/>
            <a:ext cx="34560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пользе курения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2484360" y="5734080"/>
            <a:ext cx="3960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б истории трубки»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6588000" y="2852640"/>
            <a:ext cx="25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О вреде табака», принадлежавший Якову I Стюарту, королю Англии. В нем отмечалось, что это «привычка, противная зрению, невыносимая для обоняния, вредная для мозга, опасная для легких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2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4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403280" y="9525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 Большие дозы нико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подобно яд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9"/>
          <p:cNvSpPr txBox="1"/>
          <p:nvPr/>
        </p:nvSpPr>
        <p:spPr>
          <a:xfrm>
            <a:off x="2700360" y="3573360"/>
            <a:ext cx="187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ышьяку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WordArt 10"/>
          <p:cNvSpPr txBox="1"/>
          <p:nvPr/>
        </p:nvSpPr>
        <p:spPr>
          <a:xfrm>
            <a:off x="2771640" y="458136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ар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11"/>
          <p:cNvSpPr txBox="1"/>
          <p:nvPr/>
        </p:nvSpPr>
        <p:spPr>
          <a:xfrm>
            <a:off x="2556000" y="5589720"/>
            <a:ext cx="43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инильной кислот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0" dur="indefinite" restart="never" nodeType="tmRoot">
          <p:childTnLst>
            <p:seq>
              <p:cTn id="35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2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3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4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5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258920" y="333360"/>
            <a:ext cx="71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. Для чего чистят кур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у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2484360" y="3500280"/>
            <a:ext cx="525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собрать остатки таба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2411280" y="4437000"/>
            <a:ext cx="53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удалить табачны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готь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WordArt 11"/>
          <p:cNvSpPr txBox="1"/>
          <p:nvPr/>
        </p:nvSpPr>
        <p:spPr>
          <a:xfrm>
            <a:off x="2556000" y="5661000"/>
            <a:ext cx="40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от нечего делать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47640" y="119700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чный деготь, являясь концентратом жидких (органические кислоты, эфирные масла, анилин и др.) и твердых (частицы углерода, канцерогены, полоний) веществ, оседает на стенках воздухоносных путей, накапливается и в альвеолах. Часть табачного дегтя выделяется при кашле с мокротой, а часть проникает в ткани слизистых оболочек, придавая им темн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8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9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261080" y="692280"/>
            <a:ext cx="64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9. Самый популярны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потребления  табака в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 19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2700360" y="3645000"/>
            <a:ext cx="18702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е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2627280" y="4508640"/>
            <a:ext cx="20876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юха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>
            <a:off x="2771640" y="5661000"/>
            <a:ext cx="208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же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9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0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1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2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55640" y="40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934 году во французском городке Ницца компания молодежи устроила соревнование: кто выкурит больше папирос. Двое «победителей» не смогли получить приз, так как скончались, выкурив п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9"/>
          <p:cNvSpPr txBox="1"/>
          <p:nvPr/>
        </p:nvSpPr>
        <p:spPr>
          <a:xfrm>
            <a:off x="2627280" y="3645000"/>
            <a:ext cx="26654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4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10"/>
          <p:cNvSpPr txBox="1"/>
          <p:nvPr/>
        </p:nvSpPr>
        <p:spPr>
          <a:xfrm>
            <a:off x="2556000" y="4581360"/>
            <a:ext cx="259236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6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11"/>
          <p:cNvSpPr txBox="1"/>
          <p:nvPr/>
        </p:nvSpPr>
        <p:spPr>
          <a:xfrm>
            <a:off x="2556000" y="5589720"/>
            <a:ext cx="280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80 папиро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012000" y="364500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угие члены компании были доставлены в госпиталь в тяжел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716360" y="3068640"/>
            <a:ext cx="442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курящих семьях курящими становятся не более 20% детей, в курящих семьях число курящих детей превышает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ногих курение объясняется подражанием, курящим товарищам или героям 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900000" y="333360"/>
            <a:ext cx="79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ему же люди начинают курить?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12682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ой из основных прич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067280" y="1628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пы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11280" y="2205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ругая прич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в молодом возр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268360" y="2637000"/>
            <a:ext cx="48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ажание взрос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ЃаЁЈ ¤  2"/>
          <p:cNvPicPr/>
          <p:nvPr/>
        </p:nvPicPr>
        <p:blipFill>
          <a:blip r:embed="rId2"/>
          <a:stretch/>
        </p:blipFill>
        <p:spPr>
          <a:xfrm>
            <a:off x="755640" y="3357720"/>
            <a:ext cx="3743280" cy="31874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82560" y="476280"/>
            <a:ext cx="751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1. Кого называют «курильщ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невол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9"/>
          <p:cNvSpPr txBox="1"/>
          <p:nvPr/>
        </p:nvSpPr>
        <p:spPr>
          <a:xfrm>
            <a:off x="2484360" y="4581360"/>
            <a:ext cx="612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находится в обществ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WordArt 10"/>
          <p:cNvSpPr txBox="1"/>
          <p:nvPr/>
        </p:nvSpPr>
        <p:spPr>
          <a:xfrm>
            <a:off x="2411280" y="3500280"/>
            <a:ext cx="64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оторых заставляют курить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нудительн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2627280" y="5805360"/>
            <a:ext cx="46800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курит в тюрьм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3708360" y="981000"/>
            <a:ext cx="2951280" cy="236880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245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9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4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5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курит сигарету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не кури"/>
          <p:cNvPicPr/>
          <p:nvPr/>
        </p:nvPicPr>
        <p:blipFill>
          <a:blip r:embed="rId3"/>
          <a:stretch/>
        </p:blipFill>
        <p:spPr>
          <a:xfrm>
            <a:off x="971640" y="620640"/>
            <a:ext cx="3384360" cy="3292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4"/>
          <a:stretch/>
        </p:blipFill>
        <p:spPr>
          <a:xfrm>
            <a:off x="6877080" y="2997360"/>
            <a:ext cx="792000" cy="1933560"/>
          </a:xfrm>
          <a:prstGeom prst="rect">
            <a:avLst/>
          </a:prstGeom>
          <a:ln w="0">
            <a:noFill/>
          </a:ln>
        </p:spPr>
      </p:pic>
      <p:pic>
        <p:nvPicPr>
          <p:cNvPr id="250" name="r_5.wav" descr=""/>
          <p:cNvPicPr/>
          <p:nvPr/>
        </p:nvPicPr>
        <p:blipFill>
          <a:blip r:embed="rId5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1">
            <a:hlinkClick r:id="" action="ppaction://hlinkshowjump?jump=firs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26" repeatCount="indefinite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500" autoRev="1" fill="hold"/>
                                        <p:tgtEl>
                                          <p:spTgt spid="2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9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716360" y="620640"/>
            <a:ext cx="3959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вычка – вторая натура» - именно этим можно объяснить курение многих людей, которые и рады бы бросить это никчемное занятие, да не могут изменить своей вредной привычке. В распространении курения среди девушек немалую роль играет м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ичинами начала курения у мужчин является стремление подражать взрослым, отождествление курения с представлениями о самостоятельности, силе, мужественности, то у девушек начало курения часто связано с кокетством, стремлением к оригинальности, желанием нравиться юнош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3214440" cy="424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348000" y="2492280"/>
            <a:ext cx="57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и школьник несовместимы. Школьные годы - это годы роста как физического, так и умстве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547640" y="0"/>
            <a:ext cx="698508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2b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сло неуспевающих возрастает в тех классах, где больше курящ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456000" y="1773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timur"/>
          <p:cNvPicPr/>
          <p:nvPr/>
        </p:nvPicPr>
        <p:blipFill>
          <a:blip r:embed="rId7"/>
          <a:stretch/>
        </p:blipFill>
        <p:spPr>
          <a:xfrm>
            <a:off x="1042920" y="2133720"/>
            <a:ext cx="1947960" cy="23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не кури"/>
          <p:cNvPicPr/>
          <p:nvPr/>
        </p:nvPicPr>
        <p:blipFill>
          <a:blip r:embed="rId8"/>
          <a:stretch/>
        </p:blipFill>
        <p:spPr>
          <a:xfrm>
            <a:off x="1042920" y="2133720"/>
            <a:ext cx="2046240" cy="244764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77" name="Rectangle 11"/>
          <p:cNvSpPr/>
          <p:nvPr/>
        </p:nvSpPr>
        <p:spPr>
          <a:xfrm>
            <a:off x="971640" y="5373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м раньше дети, подростки, юноши, девушки ознакомятся с курением и начнут курить, тем быстрее привыкнут к нему, и в дальнейшем отказаться от курения будет очень труд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_5.wav" descr=""/>
          <p:cNvPicPr/>
          <p:nvPr/>
        </p:nvPicPr>
        <p:blipFill>
          <a:blip r:embed="rId10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755640" y="0"/>
            <a:ext cx="5616720" cy="384480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>
            <a:off x="6191280" y="479736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Я курил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и ран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умер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6372360" y="476280"/>
            <a:ext cx="277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аграмм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ьник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ш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11" descr="res44F73E49-68A7-436E-9E3F-1D1AB5499ED6"/>
          <p:cNvPicPr/>
          <p:nvPr/>
        </p:nvPicPr>
        <p:blipFill>
          <a:blip r:embed="rId3"/>
          <a:stretch/>
        </p:blipFill>
        <p:spPr>
          <a:xfrm>
            <a:off x="1692360" y="3879720"/>
            <a:ext cx="3971880" cy="297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4"/>
          <a:stretch/>
        </p:blipFill>
        <p:spPr>
          <a:xfrm>
            <a:off x="3995640" y="5877000"/>
            <a:ext cx="1006560" cy="4255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 repeatCount="indefinite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600"/>
                            </p:stCondLst>
                            <p:childTnLst>
                              <p:par>
                                <p:cTn id="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9"/>
          <p:cNvSpPr txBox="1"/>
          <p:nvPr/>
        </p:nvSpPr>
        <p:spPr>
          <a:xfrm>
            <a:off x="1187280" y="189000"/>
            <a:ext cx="7201080" cy="18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Impact"/>
              </a:rPr>
              <a:t>Состав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Impact"/>
              <a:ea typeface="Impact"/>
            </a:endParaRPr>
          </a:p>
        </p:txBody>
      </p:sp>
      <p:pic>
        <p:nvPicPr>
          <p:cNvPr id="89" name="r_5.wav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16"/>
          <p:cNvGraphicFramePr/>
          <p:nvPr/>
        </p:nvGraphicFramePr>
        <p:xfrm>
          <a:off x="971640" y="1844640"/>
          <a:ext cx="7561080" cy="439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844640"/>
                    <a:ext cx="7561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AutoShape 21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924360" y="1628640"/>
          <a:ext cx="4897440" cy="461484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22544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р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нижение сл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лохая пам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лохое физическ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лохое умственн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Нечистопло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Плохие отме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Медленно сообража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48" descr="курить нелльзя"/>
          <p:cNvPicPr/>
          <p:nvPr/>
        </p:nvPicPr>
        <p:blipFill>
          <a:blip r:embed="rId2"/>
          <a:stretch/>
        </p:blipFill>
        <p:spPr>
          <a:xfrm>
            <a:off x="826920" y="189000"/>
            <a:ext cx="2592720" cy="2222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9"/>
          <p:cNvSpPr/>
          <p:nvPr/>
        </p:nvSpPr>
        <p:spPr>
          <a:xfrm>
            <a:off x="900000" y="2508120"/>
            <a:ext cx="2880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ечение нескольких лет ученые проводили наблюдение над 200 курящими и 200 некурящими 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еперь посмотрим, какими оказались сравнительные результ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3556080" y="189000"/>
            <a:ext cx="55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или, что люди начавшие курить до 15 летнего возраста, умирают от рака легких в 5 раз чаще, чем те которые начали курить после 25 л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2" descr=""/>
          <p:cNvPicPr/>
          <p:nvPr/>
        </p:nvPicPr>
        <p:blipFill>
          <a:blip r:embed="rId6"/>
          <a:stretch/>
        </p:blipFill>
        <p:spPr>
          <a:xfrm>
            <a:off x="2195640" y="1484280"/>
            <a:ext cx="253800" cy="3808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857160"/>
            <a:ext cx="5953320" cy="486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pSp>
        <p:nvGrpSpPr>
          <p:cNvPr id="104" name="Organization Chart 6"/>
          <p:cNvGrpSpPr/>
          <p:nvPr/>
        </p:nvGrpSpPr>
        <p:grpSpPr>
          <a:xfrm>
            <a:off x="900000" y="274680"/>
            <a:ext cx="7786080" cy="5384520"/>
            <a:chOff x="900000" y="274680"/>
            <a:chExt cx="7786080" cy="5384520"/>
          </a:xfrm>
        </p:grpSpPr>
        <p:cxnSp>
          <p:nvCxnSpPr>
            <p:cNvPr id="105" name="_s2052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659920" y="1632960"/>
              <a:ext cx="931320" cy="266724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3"/>
            <p:cNvCxnSpPr>
              <a:stCxn id="109" idx="0"/>
              <a:endCxn id="107" idx="2"/>
            </p:cNvCxnSpPr>
            <p:nvPr/>
          </p:nvCxnSpPr>
          <p:spPr>
            <a:xfrm flipV="1">
              <a:off x="4792680" y="2500920"/>
              <a:ext cx="3600" cy="93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4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993760" y="1633320"/>
              <a:ext cx="931320" cy="266652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5"/>
            <p:cNvSpPr/>
            <p:nvPr/>
          </p:nvSpPr>
          <p:spPr>
            <a:xfrm>
              <a:off x="3565800" y="274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ервая помощ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р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отравл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никотин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56"/>
            <p:cNvSpPr/>
            <p:nvPr/>
          </p:nvSpPr>
          <p:spPr>
            <a:xfrm>
              <a:off x="9000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057"/>
            <p:cNvSpPr/>
            <p:nvPr/>
          </p:nvSpPr>
          <p:spPr>
            <a:xfrm>
              <a:off x="35658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58"/>
            <p:cNvSpPr/>
            <p:nvPr/>
          </p:nvSpPr>
          <p:spPr>
            <a:xfrm>
              <a:off x="623268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r_5.wav" descr=""/>
          <p:cNvPicPr/>
          <p:nvPr/>
        </p:nvPicPr>
        <p:blipFill>
          <a:blip r:embed="rId2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1"/>
          <p:cNvSpPr/>
          <p:nvPr/>
        </p:nvSpPr>
        <p:spPr>
          <a:xfrm>
            <a:off x="1042920" y="3573360"/>
            <a:ext cx="2160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оить пострадавш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й, ни  в ко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чае не да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огающее усво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3419640" y="3429000"/>
            <a:ext cx="273672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воту (что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вести яды из организ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ачала 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авленн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ить вод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лонить верхнюю 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ловища впере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аздражение не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льцем или чайной ложк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6443640" y="3573360"/>
            <a:ext cx="208908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ть таблет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ированного уг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чтобы связать отставш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рганизме я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вать табле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чше во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05:26:04Z</dcterms:created>
  <dc:creator>General</dc:creator>
  <dc:description/>
  <dc:language>en-US</dc:language>
  <cp:lastModifiedBy>Admin</cp:lastModifiedBy>
  <dcterms:modified xsi:type="dcterms:W3CDTF">2011-09-15T16:29:59Z</dcterms:modified>
  <cp:revision>84</cp:revision>
  <dc:subject/>
  <dc:title>Слайд 1</dc:title>
</cp:coreProperties>
</file>