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F8A-D361-45E5-AA0C-FCA711B7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989-9C1A-4E98-B5C3-A1FD0CB2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17C-9ECE-4D74-ACEF-3575EF93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F80-DD68-455E-932A-82516DE7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41F-9CFD-4D36-8D82-2D0AF07A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E1A-7970-47F6-9C6F-2CAF8334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8A0-1EE3-47B9-BB1A-4EE27C5B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4ED-7C45-4441-90DC-4146B3FF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A42-8ED4-4307-BE9B-5C842E4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EB6-74F1-4396-B940-28436BB5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F95-81A9-4030-B141-0EA4A943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3FC-FF6C-444F-A3A6-829699B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C5E7-CD09-4FE2-AFA3-413262E0F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10.jpe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LicKtUIkXAk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ro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ntro.mp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44" name="Group 11"/>
          <p:cNvGrpSpPr/>
          <p:nvPr/>
        </p:nvGrpSpPr>
        <p:grpSpPr>
          <a:xfrm>
            <a:off x="1835280" y="357120"/>
            <a:ext cx="5545080" cy="1847880"/>
            <a:chOff x="1835280" y="357120"/>
            <a:chExt cx="5545080" cy="1847880"/>
          </a:xfrm>
        </p:grpSpPr>
        <p:sp>
          <p:nvSpPr>
            <p:cNvPr id="45" name="Rectangle 12" hidden="1"/>
            <p:cNvSpPr/>
            <p:nvPr/>
          </p:nvSpPr>
          <p:spPr>
            <a:xfrm>
              <a:off x="1835280" y="404640"/>
              <a:ext cx="5545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3" descr="DD01630_"/>
            <p:cNvPicPr/>
            <p:nvPr/>
          </p:nvPicPr>
          <p:blipFill>
            <a:blip r:embed="rId4"/>
            <a:stretch/>
          </p:blipFill>
          <p:spPr>
            <a:xfrm>
              <a:off x="1929600" y="715680"/>
              <a:ext cx="937440" cy="3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4"/>
            <p:cNvSpPr/>
            <p:nvPr/>
          </p:nvSpPr>
          <p:spPr>
            <a:xfrm>
              <a:off x="3000240" y="357120"/>
              <a:ext cx="43419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36360" bIns="36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Автор: Михалева Т.Б. учитель математики МОУ  Усть-Калманская основная общеобразовательная 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5"/>
            <p:cNvSpPr/>
            <p:nvPr/>
          </p:nvSpPr>
          <p:spPr>
            <a:xfrm>
              <a:off x="1835280" y="1261080"/>
              <a:ext cx="554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6"/>
            <p:cNvSpPr/>
            <p:nvPr/>
          </p:nvSpPr>
          <p:spPr>
            <a:xfrm>
              <a:off x="3038400" y="404640"/>
              <a:ext cx="0" cy="1162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18"/>
          <p:cNvSpPr/>
          <p:nvPr/>
        </p:nvSpPr>
        <p:spPr>
          <a:xfrm>
            <a:off x="217656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26"/>
          <p:cNvSpPr txBox="1"/>
          <p:nvPr/>
        </p:nvSpPr>
        <p:spPr>
          <a:xfrm>
            <a:off x="1403280" y="2421000"/>
            <a:ext cx="431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Школьнику о вред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2" name="WordArt 29"/>
          <p:cNvSpPr txBox="1"/>
          <p:nvPr/>
        </p:nvSpPr>
        <p:spPr>
          <a:xfrm>
            <a:off x="6084720" y="2637000"/>
            <a:ext cx="220032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ур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2124000" y="331164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бак приносит вред телу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рушает разум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упляет целые наци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.де Бальз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_5.wav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7"/>
          <p:cNvSpPr/>
          <p:nvPr/>
        </p:nvSpPr>
        <p:spPr>
          <a:xfrm>
            <a:off x="1042920" y="57340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18 ноября на всей планете отм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еждународный день борьбы с кур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8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9"/>
          <p:cNvSpPr txBox="1"/>
          <p:nvPr/>
        </p:nvSpPr>
        <p:spPr>
          <a:xfrm>
            <a:off x="2556000" y="1557360"/>
            <a:ext cx="4537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Классный ч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826920" y="0"/>
            <a:ext cx="792180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бъятиях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3780000" y="2060640"/>
            <a:ext cx="201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: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693800" y="2678040"/>
            <a:ext cx="38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дина та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2484360" y="3716280"/>
            <a:ext cx="3733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фри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2340000" y="4724280"/>
            <a:ext cx="4048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ая Амери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2411280" y="5734080"/>
            <a:ext cx="347688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Южный полю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6372360" y="2708280"/>
            <a:ext cx="2555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ие Америки подарило человеку два знаменитых растения – картофель и табак. По справедливому выражению Гете, картофель стал для человечества благословлением, а табак – ка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71640" y="33336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Когда Колумб в 1492 году высадился на побережье Кубы, то он встретил жителей с головнями в руках и с травой, употребляемой для курения, которую они называли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700360" y="3573360"/>
            <a:ext cx="17622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игар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700360" y="4653000"/>
            <a:ext cx="21240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апиру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2627280" y="5734080"/>
            <a:ext cx="29145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амокруто.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364000" y="3429000"/>
            <a:ext cx="32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м этой травы, по образному выражению Колумба, они «пи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44360" y="333360"/>
            <a:ext cx="581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Кто обнаружил в таб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кот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2700360" y="3500280"/>
            <a:ext cx="302400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Жак Русс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2627280" y="450864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Поль Бельмонд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2771640" y="5661000"/>
            <a:ext cx="230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Жан Нико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732720" y="2781360"/>
            <a:ext cx="2195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тин – это чрезвычайно сильный яд, действующий преимущественно на нервную систему, пищеварение, а также на дыхательную и сердечно-сосудистую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1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9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042920" y="83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Екатерина Медичи использовала нюхательный табак как лекарственное средство от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2700360" y="3573360"/>
            <a:ext cx="2305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сморка;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2700360" y="4653000"/>
            <a:ext cx="19429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игрени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2771640" y="5589720"/>
            <a:ext cx="208944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простуд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05760" y="376200"/>
            <a:ext cx="753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В какой стране табак в 16 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 объявлен «забавой дьявол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2771640" y="350028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спан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WordArt 10"/>
          <p:cNvSpPr txBox="1"/>
          <p:nvPr/>
        </p:nvSpPr>
        <p:spPr>
          <a:xfrm>
            <a:off x="2627280" y="4724280"/>
            <a:ext cx="16574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Итали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2484360" y="5805360"/>
            <a:ext cx="19432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Бразили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859280" y="1628640"/>
            <a:ext cx="38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второй половины 16 века курение начало «триумфальное» шествие по странам и континентам. Итак, к концу XYI века курение проникло в Испании, Португалию, Францию, Англию и Голландию. Тринадцатилетняя война способствовала распространению курения в Германии и Шве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ссию табак был завезён английскими купцами в 1585 году через Архангельск, а затем начал широко культивироваться на российской зем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Книга, написанная английским королем Яковом Первым в 1604 году, называет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0"/>
          <p:cNvSpPr txBox="1"/>
          <p:nvPr/>
        </p:nvSpPr>
        <p:spPr>
          <a:xfrm>
            <a:off x="2627280" y="357336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вреде табака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2627280" y="4653000"/>
            <a:ext cx="345600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 пользе курения»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484360" y="5734080"/>
            <a:ext cx="3960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«Об истории трубки»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588000" y="2852640"/>
            <a:ext cx="25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О вреде табака», принадлежавший Якову I Стюарту, королю Англии. В нем отмечалось, что это «привычка, противная зрению, невыносимая для обоняния, вредная для мозга, опасная для легких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403280" y="9525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Большие дозы никот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подобно яду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9"/>
          <p:cNvSpPr txBox="1"/>
          <p:nvPr/>
        </p:nvSpPr>
        <p:spPr>
          <a:xfrm>
            <a:off x="2700360" y="3573360"/>
            <a:ext cx="187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ышьяку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10"/>
          <p:cNvSpPr txBox="1"/>
          <p:nvPr/>
        </p:nvSpPr>
        <p:spPr>
          <a:xfrm>
            <a:off x="2771640" y="4581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ар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11"/>
          <p:cNvSpPr txBox="1"/>
          <p:nvPr/>
        </p:nvSpPr>
        <p:spPr>
          <a:xfrm>
            <a:off x="2556000" y="5589720"/>
            <a:ext cx="43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нильной кислот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0" dur="indefinite" restart="never" nodeType="tmRoot">
          <p:childTnLst>
            <p:seq>
              <p:cTn id="35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4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5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258920" y="333360"/>
            <a:ext cx="71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Для чего чистят кур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9"/>
          <p:cNvSpPr txBox="1"/>
          <p:nvPr/>
        </p:nvSpPr>
        <p:spPr>
          <a:xfrm>
            <a:off x="2484360" y="3500280"/>
            <a:ext cx="525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собрать остатки табака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2411280" y="4437000"/>
            <a:ext cx="532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чтобы удалить табач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готь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>
            <a:off x="2556000" y="5661000"/>
            <a:ext cx="40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нечего делать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547640" y="1197000"/>
            <a:ext cx="65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деготь, являясь концентратом жидких (органические кислоты, эфирные масла, анилин и др.) и твердых (частицы углерода, канцерогены, полоний) веществ, оседает на стенках воздухоносных путей, накапливается и в альвеолах. Часть табачного дегтя выделяется при кашле с мокротой, а часть проникает в ткани слизистых оболочек, придавая им темный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8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9" dur="1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261080" y="692280"/>
            <a:ext cx="64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Самый популярный спос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потребления  табака в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 19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9"/>
          <p:cNvSpPr txBox="1"/>
          <p:nvPr/>
        </p:nvSpPr>
        <p:spPr>
          <a:xfrm>
            <a:off x="2700360" y="3645000"/>
            <a:ext cx="18702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куре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0"/>
          <p:cNvSpPr txBox="1"/>
          <p:nvPr/>
        </p:nvSpPr>
        <p:spPr>
          <a:xfrm>
            <a:off x="2627280" y="4508640"/>
            <a:ext cx="20876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юхание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>
            <a:off x="2771640" y="5661000"/>
            <a:ext cx="208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же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0" dur="1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1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2" dur="1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55640" y="404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934 году во французском городке Ницца компания молодежи устроила соревнование: кто выкурит больше папирос. Двое «победителей» не смогли получить приз, так как скончались, выкурив п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9"/>
          <p:cNvSpPr txBox="1"/>
          <p:nvPr/>
        </p:nvSpPr>
        <p:spPr>
          <a:xfrm>
            <a:off x="2627280" y="3645000"/>
            <a:ext cx="26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10"/>
          <p:cNvSpPr txBox="1"/>
          <p:nvPr/>
        </p:nvSpPr>
        <p:spPr>
          <a:xfrm>
            <a:off x="2556000" y="4581360"/>
            <a:ext cx="25923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60 папирос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2556000" y="5589720"/>
            <a:ext cx="28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80 папирос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012000" y="3645000"/>
            <a:ext cx="25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гие члены компании были доставлены в госпиталь в тяжел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7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8" dur="1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4716360" y="306864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курящих семьях курящими становятся не более 20% детей, в курящих семьях число курящих детей превышает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многих курение объясняется подражанием, курящим товарищам или героям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900000" y="333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же люди начинают курить?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268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дной из основных прич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067280" y="162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пы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ругая прич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а курения в молод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268360" y="2637000"/>
            <a:ext cx="48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ражание взрос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ЃаЁЈ ¤  2"/>
          <p:cNvPicPr/>
          <p:nvPr/>
        </p:nvPicPr>
        <p:blipFill>
          <a:blip r:embed="rId2"/>
          <a:stretch/>
        </p:blipFill>
        <p:spPr>
          <a:xfrm>
            <a:off x="755640" y="3357720"/>
            <a:ext cx="3743280" cy="31874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5"/>
          <p:cNvSpPr/>
          <p:nvPr/>
        </p:nvSpPr>
        <p:spPr>
          <a:xfrm>
            <a:off x="1476360" y="342900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476360" y="4437000"/>
            <a:ext cx="792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476360" y="5516640"/>
            <a:ext cx="792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82560" y="476280"/>
            <a:ext cx="751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1. Кого называют «курильщ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невол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2484360" y="4581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находится в обществ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2411280" y="3500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оторых заставляют кури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удительно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2627280" y="5805360"/>
            <a:ext cx="46800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ех, кто курит в тюрьм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4" name="Picture 1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2951280" cy="236880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245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9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4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курит сигарету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не кури"/>
          <p:cNvPicPr/>
          <p:nvPr/>
        </p:nvPicPr>
        <p:blipFill>
          <a:blip r:embed="rId3"/>
          <a:stretch/>
        </p:blipFill>
        <p:spPr>
          <a:xfrm>
            <a:off x="971640" y="620640"/>
            <a:ext cx="3384360" cy="3292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6877080" y="2997360"/>
            <a:ext cx="792000" cy="1933560"/>
          </a:xfrm>
          <a:prstGeom prst="rect">
            <a:avLst/>
          </a:prstGeom>
          <a:ln w="0">
            <a:noFill/>
          </a:ln>
        </p:spPr>
      </p:pic>
      <p:pic>
        <p:nvPicPr>
          <p:cNvPr id="250" name="r_5.wav" descr=""/>
          <p:cNvPicPr/>
          <p:nvPr/>
        </p:nvPicPr>
        <p:blipFill>
          <a:blip r:embed="rId5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1">
            <a:hlinkClick r:id="" action="ppaction://hlinkshowjump?jump=firs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10800" y="3962"/>
                </a:moveTo>
                <a:lnTo>
                  <a:pt x="13376" y="6573"/>
                </a:ln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lnTo>
                  <a:pt x="17763" y="10925"/>
                </a:lnTo>
                <a:lnTo>
                  <a:pt x="16109" y="10925"/>
                </a:lnTo>
                <a:lnTo>
                  <a:pt x="16109" y="18114"/>
                </a:lnTo>
                <a:lnTo>
                  <a:pt x="5491" y="18114"/>
                </a:lnTo>
                <a:lnTo>
                  <a:pt x="5491" y="10925"/>
                </a:lnTo>
                <a:lnTo>
                  <a:pt x="3837" y="10925"/>
                </a:lnTo>
                <a:close/>
              </a:path>
              <a:path fill="darkenLess" w="21600" h="21850">
                <a:moveTo>
                  <a:pt x="13376" y="6573"/>
                </a:moveTo>
                <a:lnTo>
                  <a:pt x="13376" y="4832"/>
                </a:lnTo>
                <a:lnTo>
                  <a:pt x="15152" y="4832"/>
                </a:lnTo>
                <a:lnTo>
                  <a:pt x="15152" y="8349"/>
                </a:lnTo>
                <a:close/>
              </a:path>
              <a:path fill="darkenLess" w="21600" h="21850">
                <a:moveTo>
                  <a:pt x="9877" y="14424"/>
                </a:moveTo>
                <a:lnTo>
                  <a:pt x="11723" y="14424"/>
                </a:lnTo>
                <a:lnTo>
                  <a:pt x="11723" y="18114"/>
                </a:lnTo>
                <a:lnTo>
                  <a:pt x="16109" y="18114"/>
                </a:lnTo>
                <a:lnTo>
                  <a:pt x="16109" y="10925"/>
                </a:lnTo>
                <a:lnTo>
                  <a:pt x="5491" y="10925"/>
                </a:lnTo>
                <a:lnTo>
                  <a:pt x="5491" y="18114"/>
                </a:lnTo>
                <a:lnTo>
                  <a:pt x="9877" y="18114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6" repeatCount="indefinite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9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716360" y="62064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ивычка – вторая натура» - именно этим можно объяснить курение многих людей, которые и рады бы бросить это никчемное занятие, да не могут изменить своей вредной привычке. В распространении курения среди девушек немалую роль играет м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чинами начала курения у мужчин является стремление подражать взрослым, отождествление курения с представлениями о самостоятельности, силе, мужественности, то у девушек начало курения часто связано с кокетством, стремлением к оригинальности, желанием нравиться юнош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3214440" cy="42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348000" y="2492280"/>
            <a:ext cx="57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и школьник несовместимы. Школьные годы - это годы роста как физического, так и умстве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547640" y="0"/>
            <a:ext cx="69850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42b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исло неуспевающих возрастает в тех классах, где больше кур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56000" y="1773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timur"/>
          <p:cNvPicPr/>
          <p:nvPr/>
        </p:nvPicPr>
        <p:blipFill>
          <a:blip r:embed="rId7"/>
          <a:stretch/>
        </p:blipFill>
        <p:spPr>
          <a:xfrm>
            <a:off x="1042920" y="2133720"/>
            <a:ext cx="194796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не кури"/>
          <p:cNvPicPr/>
          <p:nvPr/>
        </p:nvPicPr>
        <p:blipFill>
          <a:blip r:embed="rId8"/>
          <a:stretch/>
        </p:blipFill>
        <p:spPr>
          <a:xfrm>
            <a:off x="1042920" y="2133720"/>
            <a:ext cx="2046240" cy="2447640"/>
          </a:xfrm>
          <a:prstGeom prst="rect">
            <a:avLst/>
          </a:prstGeom>
          <a:ln w="9360">
            <a:solidFill>
              <a:srgbClr val="8da2b9"/>
            </a:solidFill>
            <a:miter/>
          </a:ln>
        </p:spPr>
      </p:pic>
      <p:sp>
        <p:nvSpPr>
          <p:cNvPr id="77" name="Rectangle 11"/>
          <p:cNvSpPr/>
          <p:nvPr/>
        </p:nvSpPr>
        <p:spPr>
          <a:xfrm>
            <a:off x="97164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раньше дети, подростки, юноши, девушки ознакомятся с курением и начнут курить, тем быстрее привыкнут к нему, и в дальнейшем отказаться от курения будет очень тру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_5.wav" descr=""/>
          <p:cNvPicPr/>
          <p:nvPr/>
        </p:nvPicPr>
        <p:blipFill>
          <a:blip r:embed="rId10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755640" y="0"/>
            <a:ext cx="5616720" cy="3844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6191280" y="479736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Я курил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и ран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Arial"/>
              </a:rPr>
              <a:t>умер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6372360" y="476280"/>
            <a:ext cx="277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аграмм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рящи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ьник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л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a2b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" descr="res44F73E49-68A7-436E-9E3F-1D1AB5499ED6"/>
          <p:cNvPicPr/>
          <p:nvPr/>
        </p:nvPicPr>
        <p:blipFill>
          <a:blip r:embed="rId3"/>
          <a:stretch/>
        </p:blipFill>
        <p:spPr>
          <a:xfrm>
            <a:off x="1692360" y="387972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4"/>
          <a:stretch/>
        </p:blipFill>
        <p:spPr>
          <a:xfrm>
            <a:off x="3995640" y="5877000"/>
            <a:ext cx="1006560" cy="4255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1187280" y="189000"/>
            <a:ext cx="72010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da2b9"/>
                </a:solidFill>
                <a:latin typeface="Impact"/>
              </a:rPr>
              <a:t>Состав табачного ды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da2b9"/>
              </a:solidFill>
              <a:latin typeface="Impact"/>
              <a:ea typeface="Impact"/>
            </a:endParaRPr>
          </a:p>
        </p:txBody>
      </p:sp>
      <p:pic>
        <p:nvPicPr>
          <p:cNvPr id="89" name="r_5.wav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6"/>
          <p:cNvGraphicFramePr/>
          <p:nvPr/>
        </p:nvGraphicFramePr>
        <p:xfrm>
          <a:off x="971640" y="1844640"/>
          <a:ext cx="7561080" cy="43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844640"/>
                    <a:ext cx="75610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AutoShape 21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924360" y="1628640"/>
          <a:ext cx="4897440" cy="4614840"/>
        </p:xfrm>
        <a:graphic>
          <a:graphicData uri="http://schemas.openxmlformats.org/drawingml/2006/table">
            <a:tbl>
              <a:tblPr/>
              <a:tblGrid>
                <a:gridCol w="2592360"/>
                <a:gridCol w="1079640"/>
                <a:gridCol w="122544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рв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ическ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ен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48" descr="курить нелльзя"/>
          <p:cNvPicPr/>
          <p:nvPr/>
        </p:nvPicPr>
        <p:blipFill>
          <a:blip r:embed="rId2"/>
          <a:stretch/>
        </p:blipFill>
        <p:spPr>
          <a:xfrm>
            <a:off x="826920" y="189000"/>
            <a:ext cx="2592720" cy="222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9"/>
          <p:cNvSpPr/>
          <p:nvPr/>
        </p:nvSpPr>
        <p:spPr>
          <a:xfrm>
            <a:off x="900000" y="2508120"/>
            <a:ext cx="2880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ечение нескольких лет ученые проводили наблюдение над 200 курящими и 200 некурящими 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м, какими оказались сравнительные результ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3556080" y="18900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ли, что люди начавшие курить до 15 летнего возраста, умирают от рака легких в 5 раз чаще, чем те которые начали курить после 25 л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2" descr=""/>
          <p:cNvPicPr/>
          <p:nvPr/>
        </p:nvPicPr>
        <p:blipFill>
          <a:blip r:embed="rId6"/>
          <a:stretch/>
        </p:blipFill>
        <p:spPr>
          <a:xfrm>
            <a:off x="2195640" y="1484280"/>
            <a:ext cx="253800" cy="3808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857160"/>
            <a:ext cx="5953320" cy="486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pSp>
        <p:nvGrpSpPr>
          <p:cNvPr id="104" name="Organization Chart 6"/>
          <p:cNvGrpSpPr/>
          <p:nvPr/>
        </p:nvGrpSpPr>
        <p:grpSpPr>
          <a:xfrm>
            <a:off x="900000" y="274680"/>
            <a:ext cx="7786080" cy="5384520"/>
            <a:chOff x="900000" y="274680"/>
            <a:chExt cx="7786080" cy="5384520"/>
          </a:xfrm>
        </p:grpSpPr>
        <p:cxnSp>
          <p:nvCxnSpPr>
            <p:cNvPr id="105" name="_s2052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659920" y="1632960"/>
              <a:ext cx="931320" cy="266724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3"/>
            <p:cNvCxnSpPr>
              <a:stCxn id="109" idx="0"/>
              <a:endCxn id="107" idx="2"/>
            </p:cNvCxnSpPr>
            <p:nvPr/>
          </p:nvCxnSpPr>
          <p:spPr>
            <a:xfrm flipV="1">
              <a:off x="4792680" y="2500920"/>
              <a:ext cx="3600" cy="9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2054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993760" y="1633320"/>
              <a:ext cx="931320" cy="2666520"/>
            </a:xfrm>
            <a:prstGeom prst="bentConnector3">
              <a:avLst>
                <a:gd name="adj1" fmla="val 136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2055"/>
            <p:cNvSpPr/>
            <p:nvPr/>
          </p:nvSpPr>
          <p:spPr>
            <a:xfrm>
              <a:off x="3565800" y="274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ервая помощ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п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отравл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8a0000"/>
                  </a:solidFill>
                  <a:latin typeface="Arial"/>
                </a:rPr>
                <a:t>никоти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9000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057"/>
            <p:cNvSpPr/>
            <p:nvPr/>
          </p:nvSpPr>
          <p:spPr>
            <a:xfrm>
              <a:off x="356580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58"/>
            <p:cNvSpPr/>
            <p:nvPr/>
          </p:nvSpPr>
          <p:spPr>
            <a:xfrm>
              <a:off x="6232680" y="3478680"/>
              <a:ext cx="2453400" cy="21805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_5.wav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1"/>
          <p:cNvSpPr/>
          <p:nvPr/>
        </p:nvSpPr>
        <p:spPr>
          <a:xfrm>
            <a:off x="1042920" y="3573360"/>
            <a:ext cx="2160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оить пострадавш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й, ни  в ко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ае не да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гающее усво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3419640" y="3429000"/>
            <a:ext cx="273672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воту (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ести яды из организ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ачала 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влен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ить вод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клонить верхнюю ча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ловища впере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звать раздражение не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льцем или чайной ложк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6443640" y="3573360"/>
            <a:ext cx="20890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таблет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рованного уг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чтобы связать отставш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рганизме я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вать табле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 во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4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5:26:04Z</dcterms:created>
  <dc:creator>General</dc:creator>
  <dc:description/>
  <dc:language>en-US</dc:language>
  <cp:lastModifiedBy>Admin</cp:lastModifiedBy>
  <dcterms:modified xsi:type="dcterms:W3CDTF">2011-09-15T16:29:59Z</dcterms:modified>
  <cp:revision>84</cp:revision>
  <dc:subject/>
  <dc:title>Слайд 1</dc:title>
</cp:coreProperties>
</file>