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8C8B-F8CB-4D50-8BF0-6DE7C1EA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EE4-7DEC-4BAF-9EAE-9FE036F1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4D0-8586-4400-BA1A-0191335F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8D0-BC9D-4E16-B7EE-8D12C39C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4CD-5F80-4806-8A26-94F1D39A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8D2-7B33-470F-AE12-7BE7A73D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7FC-E134-475D-BD07-00150D19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DAB-2858-4F33-AFA4-7C49BCD9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B1C-BB53-4E06-9279-8B609373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7A2-BDD5-4DB6-A07B-229EFC59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CA4-F8FC-4ACE-8E78-E923F1BD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325-517A-4A84-A029-DF3A5D47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DB58-3B33-4635-B18C-CC6DED28CF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ewsru.com/pict/big/782476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newsru.com/pict/big/782477.html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page?&amp;p=4&amp;text=&#1085;&#1072;&#1074;&#1086;&#1076;&#1085;&#1077;&#1085;&#1080;&#1103;&amp;rpt=simage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85;&#1091;&#1083;&#1100;%20&#1087;&#1086;&#1089;&#1090;&#1072;.ppt" TargetMode="External"/><Relationship Id="rId2" Type="http://schemas.openxmlformats.org/officeDocument/2006/relationships/hyperlink" Target="file:///&#1086;&#1088;&#1076;&#1080;&#1085;&#1072;&#1088;.ppt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10&amp;text=&#1085;&#1072;&#1074;&#1086;&#1076;&#1085;&#1077;&#1085;&#1080;&#1103;&amp;rpt=simag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newsru.com/pict/big/782475.html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Урок ОБЖ в 7 классе по теме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иды наводнений и их оценка»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оловодь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периодически повторяющийся относительно продолжительный подъем уровня воды в реках, вызываемый обычно весенним таянием снега на равнинах или дождевыми осадками, а также весенне – летним таянием снега в горах; его следствием является затопление низких участков местно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i?id=2798168&amp;tov=2"/>
          <p:cNvPicPr/>
          <p:nvPr/>
        </p:nvPicPr>
        <p:blipFill>
          <a:blip r:embed="rId1"/>
          <a:stretch/>
        </p:blipFill>
        <p:spPr>
          <a:xfrm>
            <a:off x="5364000" y="4292640"/>
            <a:ext cx="2448000" cy="1839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Павод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интенсивный периодический, сравнительно кратковременный подъем уровня воды в реке, вызываемый обильными дождями, ливнями, иногда быстрым таянием снега при зимних оттепел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i?id=10921897&amp;tov=8"/>
          <p:cNvPicPr/>
          <p:nvPr/>
        </p:nvPicPr>
        <p:blipFill>
          <a:blip r:embed="rId1"/>
          <a:stretch/>
        </p:blipFill>
        <p:spPr>
          <a:xfrm>
            <a:off x="755640" y="4005360"/>
            <a:ext cx="3384720" cy="25448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i?id=8205484&amp;tov=7"/>
          <p:cNvPicPr/>
          <p:nvPr/>
        </p:nvPicPr>
        <p:blipFill>
          <a:blip r:embed="rId2"/>
          <a:stretch/>
        </p:blipFill>
        <p:spPr>
          <a:xfrm>
            <a:off x="4932360" y="400536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За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нагромождение льдин во время весеннего ледохода в сужениях и излучинах русла реки, стесняющее течение и вызывающее подъем уровня воды в месте скопления льда и некоторых участков выше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i?id=31367288&amp;tov=8"/>
          <p:cNvPicPr/>
          <p:nvPr/>
        </p:nvPicPr>
        <p:blipFill>
          <a:blip r:embed="rId1"/>
          <a:stretch/>
        </p:blipFill>
        <p:spPr>
          <a:xfrm>
            <a:off x="179280" y="3716280"/>
            <a:ext cx="2737080" cy="2043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i?id=42432918&amp;tov=3"/>
          <p:cNvPicPr/>
          <p:nvPr/>
        </p:nvPicPr>
        <p:blipFill>
          <a:blip r:embed="rId2"/>
          <a:stretch/>
        </p:blipFill>
        <p:spPr>
          <a:xfrm>
            <a:off x="3203640" y="3716280"/>
            <a:ext cx="2663640" cy="1984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i?id=34286741&amp;tov=6"/>
          <p:cNvPicPr/>
          <p:nvPr/>
        </p:nvPicPr>
        <p:blipFill>
          <a:blip r:embed="rId3"/>
          <a:stretch/>
        </p:blipFill>
        <p:spPr>
          <a:xfrm>
            <a:off x="6156360" y="3716280"/>
            <a:ext cx="2663640" cy="198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Заж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скопление рыхлого ледового материала во время ледостава (в начале зимы) в сужениях и излучинах русла реки, вызывающее подъем уровня воды на некоторых участках выше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i?id=2482363&amp;tov=7"/>
          <p:cNvPicPr/>
          <p:nvPr/>
        </p:nvPicPr>
        <p:blipFill>
          <a:blip r:embed="rId1"/>
          <a:stretch/>
        </p:blipFill>
        <p:spPr>
          <a:xfrm>
            <a:off x="324000" y="3573360"/>
            <a:ext cx="2592360" cy="20527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i?id=23165678&amp;tov=5"/>
          <p:cNvPicPr/>
          <p:nvPr/>
        </p:nvPicPr>
        <p:blipFill>
          <a:blip r:embed="rId2"/>
          <a:stretch/>
        </p:blipFill>
        <p:spPr>
          <a:xfrm>
            <a:off x="3276720" y="3573360"/>
            <a:ext cx="2663640" cy="19893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i?id=11544603&amp;tov=3"/>
          <p:cNvPicPr/>
          <p:nvPr/>
        </p:nvPicPr>
        <p:blipFill>
          <a:blip r:embed="rId3"/>
          <a:stretch/>
        </p:blipFill>
        <p:spPr>
          <a:xfrm>
            <a:off x="6156360" y="3573360"/>
            <a:ext cx="2592360" cy="1940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етровой наг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подъем уровня воды, вызванный воздействием ветра на водную поверхность, случающийся обычно в морских устьях крупных рек, а также на ветровом берегу больших озер, водохранилищ и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i?id=7580670&amp;tov=6"/>
          <p:cNvPicPr/>
          <p:nvPr/>
        </p:nvPicPr>
        <p:blipFill>
          <a:blip r:embed="rId1"/>
          <a:stretch/>
        </p:blipFill>
        <p:spPr>
          <a:xfrm>
            <a:off x="179280" y="3860640"/>
            <a:ext cx="3024360" cy="20304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i?id=6889315&amp;tov=5"/>
          <p:cNvPicPr/>
          <p:nvPr/>
        </p:nvPicPr>
        <p:blipFill>
          <a:blip r:embed="rId2"/>
          <a:stretch/>
        </p:blipFill>
        <p:spPr>
          <a:xfrm>
            <a:off x="3564000" y="3429000"/>
            <a:ext cx="2106720" cy="2879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i?id=10039931&amp;tov=7"/>
          <p:cNvPicPr/>
          <p:nvPr/>
        </p:nvPicPr>
        <p:blipFill>
          <a:blip r:embed="rId3"/>
          <a:stretch/>
        </p:blipFill>
        <p:spPr>
          <a:xfrm>
            <a:off x="6227640" y="3429000"/>
            <a:ext cx="2170080" cy="287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аводнения при прорывах плот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– это интенсивный, обычно значительный подъем уровня воды в реке (водотоке), вызванный прорывом плотины, дамбы, или естественной природной преграды в горных районах при оползнях, обвалах горных пород, движении ледников и других экстремальных явл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i?id=6583452&amp;tov=2"/>
          <p:cNvPicPr/>
          <p:nvPr/>
        </p:nvPicPr>
        <p:blipFill>
          <a:blip r:embed="rId1"/>
          <a:stretch/>
        </p:blipFill>
        <p:spPr>
          <a:xfrm>
            <a:off x="250920" y="4149720"/>
            <a:ext cx="2168280" cy="2519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i?id=30956772&amp;tov=5"/>
          <p:cNvPicPr/>
          <p:nvPr/>
        </p:nvPicPr>
        <p:blipFill>
          <a:blip r:embed="rId2"/>
          <a:stretch/>
        </p:blipFill>
        <p:spPr>
          <a:xfrm>
            <a:off x="2627280" y="4149720"/>
            <a:ext cx="3097080" cy="25192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i?id=40408201&amp;tov=7"/>
          <p:cNvPicPr/>
          <p:nvPr/>
        </p:nvPicPr>
        <p:blipFill>
          <a:blip r:embed="rId3"/>
          <a:stretch/>
        </p:blipFill>
        <p:spPr>
          <a:xfrm>
            <a:off x="5940360" y="4149720"/>
            <a:ext cx="2952720" cy="2519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Поражающие факторы наводн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Затопление и подто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Скорость и высота подъема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корость течения (сила тока), водовор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ереохлаждение тела в в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рекращение доступа кислорода расте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Проникновение воды и ила в приборы, механизмы, сооружения, трубопро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4" descr="i?id=10664284&amp;tov=6"/>
          <p:cNvPicPr/>
          <p:nvPr/>
        </p:nvPicPr>
        <p:blipFill>
          <a:blip r:embed="rId1"/>
          <a:stretch/>
        </p:blipFill>
        <p:spPr>
          <a:xfrm>
            <a:off x="250920" y="5084640"/>
            <a:ext cx="2160360" cy="16210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i?id=46684019&amp;tov=5"/>
          <p:cNvPicPr/>
          <p:nvPr/>
        </p:nvPicPr>
        <p:blipFill>
          <a:blip r:embed="rId2"/>
          <a:stretch/>
        </p:blipFill>
        <p:spPr>
          <a:xfrm>
            <a:off x="2556000" y="5084640"/>
            <a:ext cx="2447640" cy="15876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i?id=27360321&amp;tov=8"/>
          <p:cNvPicPr/>
          <p:nvPr/>
        </p:nvPicPr>
        <p:blipFill>
          <a:blip r:embed="rId3"/>
          <a:stretch/>
        </p:blipFill>
        <p:spPr>
          <a:xfrm>
            <a:off x="5148360" y="508464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i?id=30020103&amp;tov=2"/>
          <p:cNvPicPr/>
          <p:nvPr/>
        </p:nvPicPr>
        <p:blipFill>
          <a:blip r:embed="rId4"/>
          <a:stretch/>
        </p:blipFill>
        <p:spPr>
          <a:xfrm>
            <a:off x="7451640" y="5084640"/>
            <a:ext cx="14414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Классификация наводн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i?id=10958956&amp;tov=6"/>
          <p:cNvPicPr/>
          <p:nvPr/>
        </p:nvPicPr>
        <p:blipFill>
          <a:blip r:embed="rId1"/>
          <a:stretch/>
        </p:blipFill>
        <p:spPr>
          <a:xfrm>
            <a:off x="539640" y="1916280"/>
            <a:ext cx="2519640" cy="18795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i?id=32813178&amp;tov=4"/>
          <p:cNvPicPr/>
          <p:nvPr/>
        </p:nvPicPr>
        <p:blipFill>
          <a:blip r:embed="rId2"/>
          <a:stretch/>
        </p:blipFill>
        <p:spPr>
          <a:xfrm>
            <a:off x="4788000" y="1916280"/>
            <a:ext cx="3240000" cy="1915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i?id=10262028&amp;tov=3"/>
          <p:cNvPicPr/>
          <p:nvPr/>
        </p:nvPicPr>
        <p:blipFill>
          <a:blip r:embed="rId3"/>
          <a:stretch/>
        </p:blipFill>
        <p:spPr>
          <a:xfrm>
            <a:off x="2268360" y="4221000"/>
            <a:ext cx="33134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Низк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малые) – на равнинных реках,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1 раз в 5-10 л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i?id=14630017&amp;tov=4"/>
          <p:cNvPicPr/>
          <p:nvPr/>
        </p:nvPicPr>
        <p:blipFill>
          <a:blip r:embed="rId1"/>
          <a:stretch/>
        </p:blipFill>
        <p:spPr>
          <a:xfrm>
            <a:off x="2340000" y="2205000"/>
            <a:ext cx="44640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Высок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провождаются значительным затоплением территорий и охватывают большие земельные участки речных долин и низ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1 раз в 20-25 л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una"/>
          <p:cNvPicPr/>
          <p:nvPr/>
        </p:nvPicPr>
        <p:blipFill>
          <a:blip r:embed="rId1"/>
          <a:stretch/>
        </p:blipFill>
        <p:spPr>
          <a:xfrm>
            <a:off x="2556000" y="2997360"/>
            <a:ext cx="388908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Многие исследователи полагают, что значительная часть преданий о потопе основывается на действительно происшедших катастрофах в разных районах Земного шара на протяжении нескольких последних тысячелети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49360"/>
            <a:ext cx="3600360" cy="26892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Особенно сильно, примерно в 10 раз, он возрос за вторую половину ХХ века, когда, по расчетам некоторых ученых, площадь паводкоопасных территорий на Земле составила примерно 3 млн. кв. км, на которых проживает около 1 миллиарда человек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54936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i?id=14707906&amp;tov=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3573360"/>
            <a:ext cx="3816360" cy="2976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ыдающиес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хватывают речные бассей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1 раз в 50-100 л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i?id=15178658&amp;tov=5"/>
          <p:cNvPicPr/>
          <p:nvPr/>
        </p:nvPicPr>
        <p:blipFill>
          <a:blip r:embed="rId1"/>
          <a:stretch/>
        </p:blipFill>
        <p:spPr>
          <a:xfrm>
            <a:off x="2411280" y="2565360"/>
            <a:ext cx="439272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18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атастрофическ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хватывают до нескольких речных сист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1 раз в 100-200 л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i?id=4741440&amp;tov=5"/>
          <p:cNvPicPr/>
          <p:nvPr/>
        </p:nvPicPr>
        <p:blipFill>
          <a:blip r:embed="rId1"/>
          <a:stretch/>
        </p:blipFill>
        <p:spPr>
          <a:xfrm>
            <a:off x="2124000" y="2565360"/>
            <a:ext cx="468000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Основные параметры водного режима ре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Arial"/>
              </a:rPr>
              <a:t>Уровень в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тсчитывается от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уля пост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от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рдина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Arial"/>
              </a:rPr>
              <a:t>Расход в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личество воды (сток воды), протекающий через замыкающий створ реки за секунду (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Arial"/>
              </a:rPr>
              <a:t>Объем навод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змеряется в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определяется посредством умножения суммы средних суточных расходов воды за половодье (паводок) на коэффициент 0,0864 (число миллионов секунд в сутка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6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68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Характеристики наводн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лощадь затоп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змеры покрытой водой и прилегающей к реке мес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одолжи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топления – время с момента выхода воды на пойму и до входа реки в ру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корость подъема уровня в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еличина, характеризующая прирост уровня воды и процесса наводнения за определенное время по отношению к первоначальному уров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9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Для закрепления.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 зависимости от причин возникновения наводнения подразделяются на несколько видов.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айдите ошибку в данных прим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22960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ловодь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вод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тор или заж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Г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гон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Д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р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Е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званные прорывом плот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Ж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званные прилив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З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званные подводными землетряс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  <a:ea typeface="Tahoma"/>
              </a:rPr>
              <a:t>§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  <a:ea typeface="Tahoma"/>
              </a:rPr>
              <a:t> 5.1 (стр. 114 -12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  <a:ea typeface="Tahoma"/>
              </a:rPr>
              <a:t>Письменно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 напиши в тетради, в чем сходство и отличия затора и заж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знакомить с основными понятиями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звивать интерес к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оспитывать чувство взаимопомощи, дисциплинированность и самосто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Наводн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– это затопление водой значительной местности в результате подъема уровня воды в реке, водохранилище, озере или море, вызванное обильным притоком воды в период снеготаяния или ливней, ветровых нагонов, при заторах, зажорах, прорывах плот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Voda12"/>
          <p:cNvPicPr/>
          <p:nvPr/>
        </p:nvPicPr>
        <p:blipFill>
          <a:blip r:embed="rId1"/>
          <a:stretch/>
        </p:blipFill>
        <p:spPr>
          <a:xfrm>
            <a:off x="4859280" y="4005360"/>
            <a:ext cx="3454560" cy="241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94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однения угрожают почти всей земной поверхности. Установлено, что только в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США 10 миллионов челове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живут на местности, подверженной наводнения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татистике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ЮНЕСК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лько от речных наводнений за последние 20 лет погибло около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200 тысяч челове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не включая жертв наводнений вызванных тропическими циклонами)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мнению некоторых гидрологов эта цифра сильно занижена. Только в одном 19 столетии число жертв наводнений на китайских реках достигло цифры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1 миллио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Из истор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i?id=42740644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89000"/>
            <a:ext cx="1727280" cy="12618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. 4"/>
          <p:cNvSpPr/>
          <p:nvPr/>
        </p:nvSpPr>
        <p:spPr>
          <a:xfrm>
            <a:off x="250920" y="1147680"/>
            <a:ext cx="88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Рассказ о наводнениях подобает начать со Всемирного Потопа: "В шестисотый год жизни Ноевой, во второй месяц, в семнадцатый день месяца, в сей день разверзлись все источники великой бездны и окна небесные отворились; и лился на землю дождь сорок дней и сорок ночей… И усилилась вода на земле чрезвычайно, так что покрылись все высокие горы, какие есть под небом. На пятнадцать локтей поднялась над ними вода, и покрылись горы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Легенды о нем найдены у народов всех частей Земли, и некоторые ученые не теряют надежды отыскать его природные причины. К сожалению, легендами исчерпывается все наличные сведения об этом колоссальном явлении. Современное естествознание не может его объясн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Для всемирного сорокадневного дождя не хватит всей влаги, содержащейся в атмосфере, а для покрытия самых высоких гор - даже всей вообще воды на Земле, включая ледниковые щиты Антарктиды и Гренланд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663300"/>
                </a:solidFill>
                <a:latin typeface="Tahoma"/>
              </a:rPr>
              <a:t>По - видимому, такое поистине всемирное распространение легенд о потопе вызвано всемирным распространением великих наводн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 счастью, не все наводнения были столь губительны, а некоторые, наоборот, обеспечивали благополучие и процветание. Ежегодные разливы Нила, например, многие тысячелетия служили экономической базой цивилизации Египта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Искусство устройства каналов и запруд - одно из древнейших технических достижений человечества. Скорее всего оно не намного младше колеса. Примечательно, что люди впервые научились ему в Египте и Шумере в связи с разливами рек. Уже в те отдаленные времена техника управления водой достигала высокого уровня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Китае техника ирригации появилась вначале в долине реки Хуанхэ, также известной своими наводнениям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чины наводн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Arial"/>
              </a:rPr>
              <a:t>Интенсивные и продолжительные лив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Таяние лед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рыв внутриледниковых оз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Сильные вет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Подводные землетрясения и извержения вулк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ятель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86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Типы наводн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http://tmn.fio.ru/works/40x/302/images/nav2_.jpg"/>
          <p:cNvPicPr/>
          <p:nvPr/>
        </p:nvPicPr>
        <p:blipFill>
          <a:blip r:embed="rId1"/>
          <a:stretch/>
        </p:blipFill>
        <p:spPr>
          <a:xfrm>
            <a:off x="179280" y="2349360"/>
            <a:ext cx="2305080" cy="17877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http://tmn.fio.ru/works/40x/302/images/nav4.jpg"/>
          <p:cNvPicPr/>
          <p:nvPr/>
        </p:nvPicPr>
        <p:blipFill>
          <a:blip r:embed="rId2"/>
          <a:stretch/>
        </p:blipFill>
        <p:spPr>
          <a:xfrm>
            <a:off x="2987640" y="2276640"/>
            <a:ext cx="2592360" cy="1822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http://tmn.fio.ru/works/40x/302/images/zat2.jpg"/>
          <p:cNvPicPr/>
          <p:nvPr/>
        </p:nvPicPr>
        <p:blipFill>
          <a:blip r:embed="rId3"/>
          <a:stretch/>
        </p:blipFill>
        <p:spPr>
          <a:xfrm>
            <a:off x="6156360" y="2276640"/>
            <a:ext cx="2519280" cy="19238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. 6"/>
          <p:cNvSpPr/>
          <p:nvPr/>
        </p:nvSpPr>
        <p:spPr>
          <a:xfrm>
            <a:off x="0" y="2766960"/>
            <a:ext cx="301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. 7"/>
          <p:cNvSpPr/>
          <p:nvPr/>
        </p:nvSpPr>
        <p:spPr>
          <a:xfrm>
            <a:off x="0" y="2766960"/>
            <a:ext cx="329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. 8"/>
          <p:cNvSpPr/>
          <p:nvPr/>
        </p:nvSpPr>
        <p:spPr>
          <a:xfrm>
            <a:off x="0" y="2766960"/>
            <a:ext cx="283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9" descr="Наводнения сопутствуют человеческому обществу с древнейших времен. Легенды о великом потопе, в котором погибло почти все человечество, распространены по всему миру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2000" y="4365720"/>
            <a:ext cx="2735280" cy="2054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picture--113"/>
          <p:cNvPicPr/>
          <p:nvPr/>
        </p:nvPicPr>
        <p:blipFill>
          <a:blip r:embed="rId6"/>
          <a:stretch/>
        </p:blipFill>
        <p:spPr>
          <a:xfrm>
            <a:off x="4859280" y="4365720"/>
            <a:ext cx="2737080" cy="2050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1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