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3A6-1DED-4006-B0B4-9234AAAF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B86-20FE-49D5-962C-04374BF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6C0-BCB8-4EA2-B88B-C2DF6F54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830-E006-4E2F-BE44-389C76B1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09ED-89AB-49AA-BE89-F266709C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F278-E6B3-4D7A-B9A1-E032D2E6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79E-1A4F-4FEA-8BE4-669FF62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E676-E205-4518-997A-F4C3BF88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F496-7978-4007-BA9D-6FB7CEF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49DE-E589-4ECB-803D-15E0D1C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CF2-296F-4F9D-B6DF-DA72C41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2F4-1814-45AE-A999-89B6B367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010-8FA5-4B91-8F51-873FF29E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DA87-91D8-485C-B772-9AD975A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A36-47A5-4F40-9430-27655698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DF2E-463E-4157-AD09-C5F48C33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30E-897C-4316-94FF-41B66F64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4AB-D258-42D4-9848-89B6A29E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25E-94E7-4ED2-87DA-672C19E5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4CF-940D-451C-87E4-A554F16F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93D-86A8-41DE-9FE7-E07C860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ECF-C9AC-4115-B60C-DF475D6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ADF-B485-432F-AA72-A3DAE18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9E6-3C7C-4FF2-A97D-17A56B82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D951-EB56-464A-8537-4EE4375D02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B98B-1FFF-480F-85F3-27D5A2A691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3757 0.28819 C -0.36459 0.29328 -0.35365 0.30069 -0.34184 0.30324 C -0.31632 0.30856 -0.29011 0.30787 -0.26441 0.3118 C -0.21181 0.31967 -0.15938 0.32176 -0.10643 0.32476 C -0.04566 0.32338 -0.03785 0.32615 0.0033 0.3206 C 0.01354 0.31921 0.02361 0.31759 0.03385 0.3162 C 0.03871 0.31551 0.04843 0.31412 0.04843 0.31412 C 0.05712 0.30995 0.07587 0.30763 0.07587 0.30763 C 0.0842 0.30416 0.09114 0.30301 0.1 0.30115 C 0.11892 0.29699 0.13732 0.2912 0.15642 0.28819 C 0.16545 0.28426 0.17482 0.28356 0.18385 0.27963 C 0.19548 0.25671 0.17587 0.23541 0.16302 0.22384 C 0.15191 0.21388 0.14878 0.20601 0.13715 0.20231 C 0.12517 0.19259 0.11059 0.18888 0.09687 0.18495 C 0.06684 0.17638 0.04427 0.17384 0.01302 0.17222 C -0.04896 0.1743 -0.10313 0.17569 -0.16615 0.1743 C -0.18854 0.17199 -0.21198 0.17106 -0.23386 0.16342 C -0.26632 0.15185 -0.24358 0.15694 -0.26615 0.15277 C -0.28525 0.14236 -0.30452 0.13356 -0.32257 0.1206 C -0.33455 0.11203 -0.33837 0.10601 -0.34827 0.09676 C -0.354 0.08588 -0.35643 0.08634 -0.3467 0.07963 C -0.33056 0.08032 -0.31441 0.08055 -0.29827 0.08171 C -0.27466 0.08356 -0.25104 0.09351 -0.22743 0.09676 C -0.19636 0.10092 -0.16511 0.10162 -0.13386 0.10324 C -0.06979 0.10254 -0.00591 0.10301 0.05816 0.10115 C 0.0901 0.10023 0.11892 0.0912 0.15 0.08611 C 0.17569 0.07638 0.16493 0.07916 0.18229 0.07546 C 0.18819 0.07268 0.19409 0.06944 0.2 0.06666 C 0.20521 0.06435 0.21111 0.06342 0.21614 0.06018 C 0.22309 0.05555 0.2283 0.04861 0.23559 0.04513 C 0.2408 0.03588 0.24392 0.02592 0.24687 0.01504 C 0.2493 -0.01204 0.24705 -0.03588 0.24201 -0.06227 C 0.24149 -0.06482 0.23975 -0.06644 0.23871 -0.06875 C 0.23159 -0.08542 0.22552 -0.09537 0.21458 -0.10741 C 0.19288 -0.13102 0.16753 -0.14653 0.14045 -0.15695 C 0.12604 -0.1625 0.11319 -0.16922 0.09843 -0.17199 C 0.03159 -0.2007 -0.03959 -0.21829 -0.10955 -0.22362 C -0.11823 -0.22292 -0.12674 -0.22269 -0.13542 -0.22153 C -0.14896 -0.21968 -0.1757 -0.21505 -0.1757 -0.21505 C -0.18872 -0.20996 -0.20191 -0.20764 -0.21441 -0.2 C -0.22552 -0.19329 -0.23542 -0.18426 -0.2467 -0.17848 C -0.25452 -0.16806 -0.25521 -0.16112 -0.25799 -0.14607 C -0.25868 -0.14237 -0.26042 -0.13912 -0.26129 -0.13542 C -0.26441 -0.12176 -0.26719 -0.10649 -0.26927 -0.09237 C -0.26875 -0.08635 -0.26841 -0.07037 -0.26615 -0.06227 C -0.26233 -0.04885 -0.25504 -0.04028 -0.24827 -0.0301 C -0.2316 -0.00487 -0.20417 0.02176 -0.18212 0.03888 C -0.17066 0.04791 -0.15729 0.05301 -0.14514 0.06018 C -0.12795 0.0706 -0.11198 0.07662 -0.09358 0.08171 C -0.08716 0.08356 -0.07413 0.08611 -0.07413 0.08611 C -0.05799 0.08541 -0.04184 0.08541 -0.0257 0.08402 C -0.02084 0.08356 -0.01615 0.08101 -0.01129 0.07963 C -0.00695 0.07824 0.00173 0.07546 0.00173 0.07546 C 0.00833 0.07106 0.01423 0.0699 0.021 0.06666 C 0.03576 0.05949 0.05087 0.04791 0.06614 0.04305 C 0.07534 0.03495 0.08455 0.02777 0.09357 0.01944 C 0.09514 0.01805 0.09687 0.01643 0.09843 0.01504 C 0.1 0.01365 0.1033 0.01088 0.1033 0.01088 C 0.10434 0.00856 0.10972 -0.00162 0.10972 -0.00649 C 0.10972 -0.01505 0.10937 -0.02385 0.10816 -0.03218 C 0.10712 -0.03912 0.10173 -0.04352 0.09843 -0.04931 C 0.09305 -0.0588 0.08593 -0.06528 0.07916 -0.07315 C 0.06996 -0.0838 0.06024 -0.09584 0.04843 -0.10093 C 0.03611 -0.11204 0.02569 -0.09746 0.01458 -0.09028 C 0.01198 -0.08866 0.0092 -0.08704 0.00642 -0.08588 C 0.00225 -0.08426 -0.00643 -0.08172 -0.00643 -0.08172 C -0.00851 -0.07963 -0.01059 -0.07709 -0.01285 -0.07524 C -0.01441 -0.07408 -0.01632 -0.07431 -0.01771 -0.07315 C -0.02448 -0.06713 -0.02674 -0.05672 -0.029 -0.04723 C -0.02795 -0.03264 -0.03004 -0.01389 -0.01771 -0.00857 C -0.01216 -0.00371 -0.00677 3.7037E-007 -5.55556E-007 3.7037E-007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- э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АРКОМАНИЯ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от греч. nark – оцепенение, mania – безумие, страсть) – заболевание, выражающееся в физической и/или психической зависимости потребителя от наркотиков, постепенно приводящей к разрушению его организма. Необходимо различать понятия «потребление наркотиков», «наркомания» и «наркотизм»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МА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требление наркотических средств в принципе аналогично потреблению алкоголя и табака: все эти вещества относят к «вредным благам», поскольку они дают потребителю субъективное ощущение удовольствия, но в то же время наносят его организму вред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0" descr="3233"/>
          <p:cNvPicPr/>
          <p:nvPr/>
        </p:nvPicPr>
        <p:blipFill>
          <a:blip r:embed="rId1"/>
          <a:stretch/>
        </p:blipFill>
        <p:spPr>
          <a:xfrm>
            <a:off x="684360" y="24210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потреб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Наркопотребление может происходить не только «ради наслаждения», но быть рекомендованным врачом в качестве лекарственного средства (как болеутоляющее, снотворное, психостимулятор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narkomaniia"/>
          <p:cNvPicPr/>
          <p:nvPr/>
        </p:nvPicPr>
        <p:blipFill>
          <a:blip r:embed="rId1"/>
          <a:stretch/>
        </p:blipFill>
        <p:spPr>
          <a:xfrm>
            <a:off x="4686480" y="2554200"/>
            <a:ext cx="4000320" cy="2586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отребление наркотиков происходит регулярно, то в организме потребителя происходят изменения, в результате которых постепенно формируется физическая и/или психическая зависимость от наркотиков. В результате этого потребление наркотиков становится необходимым чтобы снять болезненные ощущения («ломку»). Состояние, при котором человек испытывает потребность в регулярном приеме наркотиков, называют наркоманией. Наркотизм же – это социальное явление, выражающееся в потреблении некоторой частью населения наркотических средств и соответствующих последствиях. Впрочем, часто понятием «наркомания» обозначают как индивидуальное состояние потребителя наркотиков, так и массовое наркопотреб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03"/>
          <p:cNvSpPr/>
          <p:nvPr/>
        </p:nvSpPr>
        <p:spPr>
          <a:xfrm>
            <a:off x="5159520" y="-73332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вропейское общество познакомилось с привезенными с Востока наркотиками (гашиш, опиум) в начале 19 в. Они стали популярны не только как болеутоляющие лекарства, но и как средства «расширения сознания». Первоначально наркомания развивалась только в богемных кругах. После опиумных войн 1839–1860 европейцы заставили правительство Китайской империи легализовать торговлю опиумом, который англичане привозили из Индии. Поскольку ранее в Китае наркотики почти не были известны и отсутствовала культура их потребления, то наркомания буквально захлестнула эту бедную страну. Китайские мигранты завезли опиумокурение в Америку. Таким образом, к началу 20 в. наркомания стала известна уже во многих странах мира, но широко распространена лишь в некоторых социальных слоях (преступники, богемная элита, бывшие военные). После запрета легальной торговли наркотиками круг их потребителей в основном ограничивался «социальным дн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тие наркоман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лом произошел в 1960-е, когда «молодежная революция» в атмосфере «общества всеобщего благосостояния» втянула в потребление наркотиков сначала молодежь, а затем и средние слои Америки и Западной Европы. За несколько лет масштабы наркомании в развитых странах выросли в несколько раз. Устойчивая тенденция увеличения наркомании действовала в странах «золотого миллиарда» до 1990-х, когда эпидемия СПИДа и рост популярности здорового образа жизни несколько уменьшили привлекательность наркотиков. Обострение социально-экономических проблем в странах «третьего мира» привело к росту наркопотребления во второй половине 20 в. и в этих государствах. К концу 20 в. наркоманию стали называть одной из глобальных проблем соврем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кобизне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борьбу с наркоманией пытались вести путем традиционных запретов, сформировался обширный нелегальный наркорынок. Наркобизнес стал самым высокоприбыльным видом мафиозного предпринимательства, каким он остается и по сей день, обеспечивая примерно половину доходов международной организованной преступ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2222222222"/>
          <p:cNvPicPr/>
          <p:nvPr/>
        </p:nvPicPr>
        <p:blipFill>
          <a:blip r:embed="rId1"/>
          <a:stretch/>
        </p:blipFill>
        <p:spPr>
          <a:xfrm>
            <a:off x="6948360" y="620640"/>
            <a:ext cx="924120" cy="75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"/>
          <p:cNvPicPr/>
          <p:nvPr/>
        </p:nvPicPr>
        <p:blipFill>
          <a:blip r:embed="rId2"/>
          <a:stretch/>
        </p:blipFill>
        <p:spPr>
          <a:xfrm>
            <a:off x="900000" y="47628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201702860_1173608471_1173432971_4"/>
          <p:cNvPicPr/>
          <p:nvPr/>
        </p:nvPicPr>
        <p:blipFill>
          <a:blip r:embed="rId3"/>
          <a:stretch/>
        </p:blipFill>
        <p:spPr>
          <a:xfrm>
            <a:off x="4572000" y="2276640"/>
            <a:ext cx="4032360" cy="2781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8:48:13Z</dcterms:created>
  <dc:creator>Я</dc:creator>
  <dc:description/>
  <dc:language>en-US</dc:language>
  <cp:lastModifiedBy>ДВ</cp:lastModifiedBy>
  <dcterms:modified xsi:type="dcterms:W3CDTF">2010-04-24T04:42:11Z</dcterms:modified>
  <cp:revision>5</cp:revision>
  <dc:subject/>
  <dc:title>НАРКОМАНИЯ</dc:title>
</cp:coreProperties>
</file>