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laser.wav" ContentType="audio/x-wav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5144-4B39-47A5-8568-68327B23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AABB-6640-4F0C-AD29-F030E539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4A31-4108-41A4-90F2-35EB4B26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649-A19C-4E5A-A629-191CA86D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7AA6-8124-4D21-90DC-2A8F41A3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E3AB-9F06-463D-8170-ECFDB615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3E6F-5F0D-464C-94B7-F0BE1BDD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C38E-86A3-4C4F-BD44-1A3F4CDD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01D7-5F8C-444E-9412-495DDE1D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8553-9A4B-4B72-9C11-C4864A6E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06C3-946E-4D6F-B658-4DC02862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1780-A105-461B-8F96-007CA3A4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77D1-A613-403F-826C-4DCDD796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C1DB-14DE-431D-ADF6-FC2999C5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B74C-48E5-400C-9788-BA340471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A6E3-9372-4BE4-96D0-F55AA171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07E7-7ABA-4ED5-91A0-6701601C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BAF-BF9F-487E-8452-5C4426F6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393-D72C-440F-9973-5BAB48FF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535A-6309-4573-931A-8BA9C31E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B745-9387-43AE-8A78-EF3C6D9D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9986-CC36-4DCC-9226-548D2575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3BD4-4B23-4D97-9659-FF24A8D1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472F-A993-4486-8D4B-61F8AB9C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76C5-D864-43C6-87CD-83583A18C96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76C8-717C-41B7-BCA8-B2CE0759FA6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29.xml"/><Relationship Id="rId8" Type="http://schemas.openxmlformats.org/officeDocument/2006/relationships/slide" Target="slide9.xml"/><Relationship Id="rId9" Type="http://schemas.openxmlformats.org/officeDocument/2006/relationships/slide" Target="slide14.xml"/><Relationship Id="rId10" Type="http://schemas.openxmlformats.org/officeDocument/2006/relationships/slide" Target="slide19.xml"/><Relationship Id="rId11" Type="http://schemas.openxmlformats.org/officeDocument/2006/relationships/slide" Target="slide24.xml"/><Relationship Id="rId12" Type="http://schemas.openxmlformats.org/officeDocument/2006/relationships/slide" Target="slide5.xml"/><Relationship Id="rId13" Type="http://schemas.openxmlformats.org/officeDocument/2006/relationships/slide" Target="slide10.xml"/><Relationship Id="rId14" Type="http://schemas.openxmlformats.org/officeDocument/2006/relationships/slide" Target="slide15.xml"/><Relationship Id="rId15" Type="http://schemas.openxmlformats.org/officeDocument/2006/relationships/slide" Target="slide20.xml"/><Relationship Id="rId16" Type="http://schemas.openxmlformats.org/officeDocument/2006/relationships/slide" Target="slide25.xml"/><Relationship Id="rId17" Type="http://schemas.openxmlformats.org/officeDocument/2006/relationships/slide" Target="slide6.xml"/><Relationship Id="rId18" Type="http://schemas.openxmlformats.org/officeDocument/2006/relationships/slide" Target="slide16.xml"/><Relationship Id="rId19" Type="http://schemas.openxmlformats.org/officeDocument/2006/relationships/slide" Target="slide21.xml"/><Relationship Id="rId20" Type="http://schemas.openxmlformats.org/officeDocument/2006/relationships/slide" Target="slide26.xml"/><Relationship Id="rId21" Type="http://schemas.openxmlformats.org/officeDocument/2006/relationships/slide" Target="slide31.xml"/><Relationship Id="rId22" Type="http://schemas.openxmlformats.org/officeDocument/2006/relationships/slide" Target="slide11.xml"/><Relationship Id="rId23" Type="http://schemas.openxmlformats.org/officeDocument/2006/relationships/slide" Target="slide7.xml"/><Relationship Id="rId24" Type="http://schemas.openxmlformats.org/officeDocument/2006/relationships/slide" Target="slide17.xml"/><Relationship Id="rId25" Type="http://schemas.openxmlformats.org/officeDocument/2006/relationships/slide" Target="slide12.xml"/><Relationship Id="rId26" Type="http://schemas.openxmlformats.org/officeDocument/2006/relationships/slide" Target="slide22.xml"/><Relationship Id="rId27" Type="http://schemas.openxmlformats.org/officeDocument/2006/relationships/slide" Target="slide27.xml"/><Relationship Id="rId28" Type="http://schemas.openxmlformats.org/officeDocument/2006/relationships/slide" Target="slide32.xml"/><Relationship Id="rId2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481320"/>
            <a:ext cx="7772400" cy="25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        </a:t>
            </a:r>
            <a:br>
              <a:rPr sz="4800"/>
            </a:br>
            <a:br>
              <a:rPr sz="4800"/>
            </a:br>
            <a:r>
              <a:rPr b="0" lang="en-US" sz="8000" spc="-1" strike="noStrike">
                <a:solidFill>
                  <a:srgbClr val="ffcc66"/>
                </a:solidFill>
                <a:latin typeface="Arial"/>
              </a:rPr>
              <a:t>Многообразие </a:t>
            </a:r>
            <a:br>
              <a:rPr sz="8000"/>
            </a:br>
            <a:r>
              <a:rPr b="0" lang="en-US" sz="8000" spc="-1" strike="noStrike">
                <a:solidFill>
                  <a:srgbClr val="ffcc66"/>
                </a:solidFill>
                <a:latin typeface="Arial"/>
              </a:rPr>
              <a:t>животных.</a:t>
            </a:r>
            <a:br>
              <a:rPr sz="8000"/>
            </a:br>
            <a:endParaRPr b="0" lang="en-US" sz="8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2560" y="2598840"/>
            <a:ext cx="7772400" cy="3497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Учитель биологии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Гречишкина О.И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очему лягуш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меют разную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краску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урую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зеленую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584000" y="404640"/>
            <a:ext cx="561492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Земноводные</a:t>
            </a:r>
            <a:br>
              <a:rPr sz="4000"/>
            </a:b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27280" y="5877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Защитная окрас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6" descr="безхвостые"/>
          <p:cNvPicPr/>
          <p:nvPr/>
        </p:nvPicPr>
        <p:blipFill>
          <a:blip r:embed="rId2"/>
          <a:stretch/>
        </p:blipFill>
        <p:spPr>
          <a:xfrm>
            <a:off x="4643280" y="2924280"/>
            <a:ext cx="450072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2200" y="19810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Оба его глаза 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своих движения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независимы друг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от друга. Один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может смотрет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вверх, а друг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в это же время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вниз, или вб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543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Земноводные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40360" y="2816280"/>
            <a:ext cx="3132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Хамеле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6" descr="06050606"/>
          <p:cNvPicPr/>
          <p:nvPr/>
        </p:nvPicPr>
        <p:blipFill>
          <a:blip r:embed="rId2"/>
          <a:srcRect l="0" t="0" r="66822" b="49674"/>
          <a:stretch/>
        </p:blipFill>
        <p:spPr>
          <a:xfrm>
            <a:off x="4751280" y="2600280"/>
            <a:ext cx="385920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01640" y="2259000"/>
            <a:ext cx="6956640" cy="352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акое значение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имеют выпуклы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глаза у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земноводных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250920" y="225360"/>
            <a:ext cx="55800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Земноводные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 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32000" y="5373720"/>
            <a:ext cx="62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Не выходя из воды они могут видеть все вокру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0" descr="0_22e4c_a8d3ca0c_XL"/>
          <p:cNvPicPr/>
          <p:nvPr/>
        </p:nvPicPr>
        <p:blipFill>
          <a:blip r:embed="rId2"/>
          <a:stretch/>
        </p:blipFill>
        <p:spPr>
          <a:xfrm>
            <a:off x="5580000" y="2168640"/>
            <a:ext cx="309564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560" y="2168640"/>
            <a:ext cx="8605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акие животные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относятся к                  пресмыкающимся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50920" y="367920"/>
            <a:ext cx="7850160" cy="16923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Пресмыкающиеся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7280" y="4834080"/>
            <a:ext cx="34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рокодилы, ящерицы, змеи, черепах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15"/>
          <p:cNvGrpSpPr/>
          <p:nvPr/>
        </p:nvGrpSpPr>
        <p:grpSpPr>
          <a:xfrm>
            <a:off x="287280" y="2143080"/>
            <a:ext cx="7777080" cy="4714560"/>
            <a:chOff x="287280" y="2143080"/>
            <a:chExt cx="7777080" cy="4714560"/>
          </a:xfrm>
        </p:grpSpPr>
        <p:pic>
          <p:nvPicPr>
            <p:cNvPr id="177" name="Picture 12" descr="КОЖИСТАЯ ЧЕРЕПАХА 3"/>
            <p:cNvPicPr/>
            <p:nvPr/>
          </p:nvPicPr>
          <p:blipFill>
            <a:blip r:embed="rId2"/>
            <a:stretch/>
          </p:blipFill>
          <p:spPr>
            <a:xfrm>
              <a:off x="287280" y="2143080"/>
              <a:ext cx="2735280" cy="2463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178" name="Picture 10" descr="КОЖИСТАЯ ЧЕРЕПАХА"/>
            <p:cNvPicPr/>
            <p:nvPr/>
          </p:nvPicPr>
          <p:blipFill>
            <a:blip r:embed="rId3"/>
            <a:stretch/>
          </p:blipFill>
          <p:spPr>
            <a:xfrm>
              <a:off x="3887640" y="4210200"/>
              <a:ext cx="4176720" cy="2647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50560" y="2457360"/>
            <a:ext cx="4141800" cy="316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 минуту опасности они выбрасывают эту ядовитую смесь через своё жало – раздвоенный язы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95280" y="301680"/>
            <a:ext cx="752472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Пресмыкающиеся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56000" y="3357720"/>
            <a:ext cx="6119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Зме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42" descr=""/>
          <p:cNvPicPr/>
          <p:nvPr/>
        </p:nvPicPr>
        <p:blipFill>
          <a:blip r:embed="rId2"/>
          <a:stretch/>
        </p:blipFill>
        <p:spPr>
          <a:xfrm>
            <a:off x="5003640" y="3465360"/>
            <a:ext cx="3816360" cy="26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0328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ткладывают ли черепахи яйц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685800" y="301680"/>
            <a:ext cx="7199280" cy="1866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Пресмыкающиеся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3789360"/>
            <a:ext cx="6372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3" descr="22"/>
          <p:cNvPicPr/>
          <p:nvPr/>
        </p:nvPicPr>
        <p:blipFill>
          <a:blip r:embed="rId1"/>
          <a:stretch/>
        </p:blipFill>
        <p:spPr>
          <a:xfrm>
            <a:off x="5508720" y="3753000"/>
            <a:ext cx="286056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4920" y="2241720"/>
            <a:ext cx="8605800" cy="374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ие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асположен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ртинках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26920" y="259920"/>
            <a:ext cx="7453440" cy="180036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Пресмыкающиеся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89" name="Group 12"/>
          <p:cNvGrpSpPr/>
          <p:nvPr/>
        </p:nvGrpSpPr>
        <p:grpSpPr>
          <a:xfrm>
            <a:off x="4392720" y="2708280"/>
            <a:ext cx="4751280" cy="2808360"/>
            <a:chOff x="4392720" y="2708280"/>
            <a:chExt cx="4751280" cy="2808360"/>
          </a:xfrm>
        </p:grpSpPr>
        <p:pic>
          <p:nvPicPr>
            <p:cNvPr id="190" name="Picture 9" descr="varanus_komodoensis"/>
            <p:cNvPicPr/>
            <p:nvPr/>
          </p:nvPicPr>
          <p:blipFill>
            <a:blip r:embed="rId1"/>
            <a:stretch/>
          </p:blipFill>
          <p:spPr>
            <a:xfrm>
              <a:off x="6960960" y="2708280"/>
              <a:ext cx="2183040" cy="28040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191" name="Picture 11" descr="varanus_komodoensis3"/>
            <p:cNvPicPr/>
            <p:nvPr/>
          </p:nvPicPr>
          <p:blipFill>
            <a:blip r:embed="rId2"/>
            <a:srcRect l="0" t="6546" r="0" b="0"/>
            <a:stretch/>
          </p:blipFill>
          <p:spPr>
            <a:xfrm>
              <a:off x="4392720" y="2708280"/>
              <a:ext cx="2339640" cy="2808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31640" y="23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рган осяза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змей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Пресмыкающиеся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4" name="Содержимое 3" descr="Веретеница ломкая"/>
          <p:cNvPicPr/>
          <p:nvPr/>
        </p:nvPicPr>
        <p:blipFill>
          <a:blip r:embed="rId2"/>
          <a:stretch/>
        </p:blipFill>
        <p:spPr>
          <a:xfrm>
            <a:off x="5327640" y="2286000"/>
            <a:ext cx="338472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х, чистюля! Ах, кокетка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ккуратней птицы не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груди всегда салфетка 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 на завтрак, и в обед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403280" y="297000"/>
            <a:ext cx="644544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Птицы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47640" y="5734080"/>
            <a:ext cx="25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о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9528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 помощью чего размножаются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птицы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64785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_x000b_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48000" y="4905360"/>
            <a:ext cx="262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Яйц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516720" y="2384280"/>
            <a:ext cx="21715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184720" y="0"/>
            <a:ext cx="395928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3280" y="1449360"/>
            <a:ext cx="79236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95640" y="144936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48360" y="3284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3280" y="46162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5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0000" y="5734080"/>
            <a:ext cx="75708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7200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43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43640" y="573408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7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8000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8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4364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9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4364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0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0872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1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3564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2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0872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3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0872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4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5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7236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6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010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7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3600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8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0872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9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0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0872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1" action="ppaction://hlinksldjump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72360" y="148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2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010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3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10108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4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3600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5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3600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6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6436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7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3600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8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6000" y="333360"/>
            <a:ext cx="428472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Ры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6000" y="1484280"/>
            <a:ext cx="424800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Земновод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2529000"/>
            <a:ext cx="4356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ресмыкающие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537000"/>
            <a:ext cx="4248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т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7280" y="4616280"/>
            <a:ext cx="4140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Млекопитающ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5769000"/>
            <a:ext cx="4356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амые,  самая, сам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5221440" cy="256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В кого превратился Гадкий утенок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в сказке Андерсена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79640" y="3968640"/>
            <a:ext cx="5221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леб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400720" y="4005360"/>
            <a:ext cx="360036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ая птица сидел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плече капитан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Флинт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800000" y="225360"/>
            <a:ext cx="6661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87640" y="490536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опуга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29512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58560" y="2276640"/>
            <a:ext cx="81327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акие особенности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троения птиц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являются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приспособлением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для полета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03640" y="5734080"/>
            <a:ext cx="58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Перья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крылья, клюв без зубов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759280" y="1989000"/>
            <a:ext cx="28958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9280" y="18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лавное отличие млекопитающих от других животных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763280" y="225360"/>
            <a:ext cx="5977080" cy="15638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Млекопитающие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rcRect l="0" t="51668" r="67438" b="0"/>
          <a:stretch/>
        </p:blipFill>
        <p:spPr>
          <a:xfrm>
            <a:off x="7236000" y="184464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My_2[1]"/>
          <p:cNvPicPr/>
          <p:nvPr/>
        </p:nvPicPr>
        <p:blipFill>
          <a:blip r:embed="rId3"/>
          <a:stretch/>
        </p:blipFill>
        <p:spPr>
          <a:xfrm>
            <a:off x="7236000" y="3897360"/>
            <a:ext cx="1653840" cy="1584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rcRect l="34888" t="49986" r="33725" b="0"/>
          <a:stretch/>
        </p:blipFill>
        <p:spPr>
          <a:xfrm>
            <a:off x="5184720" y="5157720"/>
            <a:ext cx="1800360" cy="1440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У каких животных зубы растут в течение всей жизн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763280" y="367920"/>
            <a:ext cx="5977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Млекопитающие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  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64000" y="4508640"/>
            <a:ext cx="273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грызу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551640" y="3284640"/>
            <a:ext cx="2448000" cy="241272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24000" y="4184640"/>
            <a:ext cx="2341440" cy="237636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93720" y="2368080"/>
            <a:ext cx="6221520" cy="2406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акое млекопитающее  имеет орган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тицы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186920" y="296640"/>
            <a:ext cx="6046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Млекопитающие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51280" y="3681360"/>
            <a:ext cx="619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Утконо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3" descr="G:\ШКОЛА ИРА\8 клас\ссавці\Новая папка (4)\platypus1.jpg"/>
          <p:cNvPicPr/>
          <p:nvPr/>
        </p:nvPicPr>
        <p:blipFill>
          <a:blip r:embed="rId2"/>
          <a:stretch/>
        </p:blipFill>
        <p:spPr>
          <a:xfrm>
            <a:off x="5400720" y="3789360"/>
            <a:ext cx="3564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9810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 какому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тряду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тносятся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эти животные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295280" y="225360"/>
            <a:ext cx="64072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Млекопитающие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558972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Рукокрыл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%5BBI7ZD_13-07%5D_%5BIL_03%5D-k" descr=""/>
          <p:cNvPicPr/>
          <p:nvPr/>
        </p:nvPicPr>
        <p:blipFill>
          <a:blip r:embed="rId2"/>
          <a:stretch/>
        </p:blipFill>
        <p:spPr>
          <a:xfrm>
            <a:off x="4608360" y="2205000"/>
            <a:ext cx="43196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31640" y="22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их и с какой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целью человек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домашнил диких животных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Млекопитающие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19280" y="4473720"/>
            <a:ext cx="5797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обака, кролик, утки, гуси, корова. Молоко, яйца, мяс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148360" y="2060640"/>
            <a:ext cx="19447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79280" y="225000"/>
            <a:ext cx="6399000" cy="14922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Самые, самая, самые</a:t>
            </a:r>
            <a:br>
              <a:rPr sz="4000"/>
            </a:b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76360" y="501336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34920" y="4689360"/>
            <a:ext cx="4032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оробьиные 5100 ви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зовите отряд птиц, содержащий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ибольшее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число видов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867280" y="2781360"/>
            <a:ext cx="28958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98480" y="2290320"/>
            <a:ext cx="6951600" cy="352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ескрылая птиц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овой Зеландии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 отряда страусо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655640" y="260280"/>
            <a:ext cx="597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Самые, самая, самые </a:t>
            </a:r>
            <a:br>
              <a:rPr sz="4000"/>
            </a:b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 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35280" y="55530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и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443640" y="2241720"/>
            <a:ext cx="1895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743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БЛАГОДАРЯ КАКОМ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РГАНУ РЫБ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ДЫШУТ В ВОД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31640" y="301320"/>
            <a:ext cx="79567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Ры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 _x000b_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34920" y="562464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ЖАБ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2313000"/>
            <a:ext cx="3960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260360" y="2649240"/>
            <a:ext cx="6927840" cy="3444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амая больша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змея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97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Самые, самая, самые </a:t>
            </a:r>
            <a:br>
              <a:rPr sz="4000"/>
            </a:b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08360" y="4689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Анакон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400720" y="2023920"/>
            <a:ext cx="35272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896400" y="2538000"/>
            <a:ext cx="4789800" cy="1575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амый сильный хищник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68360" y="188640"/>
            <a:ext cx="6081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Самые, самая, самые </a:t>
            </a:r>
            <a:br>
              <a:rPr sz="4000"/>
            </a:b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530064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едв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176720" y="3176640"/>
            <a:ext cx="472104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58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ую страну называют «Земля попугаев»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Самые, самая, самые </a:t>
            </a:r>
            <a:br>
              <a:rPr sz="4000"/>
            </a:b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0000" y="476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Австр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003640" y="3789360"/>
            <a:ext cx="33483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195228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ие рыб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тносятся к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хрящевым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2560" y="260280"/>
            <a:ext cx="69836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РЫБЫ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640" y="5049720"/>
            <a:ext cx="25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Акулы и ска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435640" y="1808280"/>
            <a:ext cx="3708360" cy="2303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319640" y="4076640"/>
            <a:ext cx="367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колько кругов кровообращения имеют ры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863280" y="260280"/>
            <a:ext cx="6877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Рыбы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0000" y="5589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Од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248000" y="3716280"/>
            <a:ext cx="35276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1280" y="296640"/>
            <a:ext cx="78123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Ры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18464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оспринимает силу тока в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Какие функции выполняет боковая линия у рыб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824360" y="3608280"/>
            <a:ext cx="35942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31280" y="1736280"/>
            <a:ext cx="8496360" cy="3816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ольшинство рыб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ткладывают огромное                                              количество икрино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Треска – около 7 млн.,    сазан – 1,5 млн.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щука – до 1 млн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чему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258560" y="296640"/>
            <a:ext cx="61894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Рыбы_x000b_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16360" y="548172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ольшинство из них  погиб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2"/>
          <a:stretch/>
        </p:blipFill>
        <p:spPr>
          <a:xfrm>
            <a:off x="468360" y="2168640"/>
            <a:ext cx="3744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28720" y="2269800"/>
            <a:ext cx="6565680" cy="3227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очему клас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Земноводных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меет такое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звание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87280" y="296640"/>
            <a:ext cx="57945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Земноводные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 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34920" y="5589720"/>
            <a:ext cx="68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Они обитают на суше, а размножаются в в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7" descr="06040201"/>
          <p:cNvPicPr/>
          <p:nvPr/>
        </p:nvPicPr>
        <p:blipFill>
          <a:blip r:embed="rId2"/>
          <a:stretch/>
        </p:blipFill>
        <p:spPr>
          <a:xfrm>
            <a:off x="5616720" y="3357720"/>
            <a:ext cx="3276360" cy="2361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f_0225"/>
          <p:cNvPicPr/>
          <p:nvPr/>
        </p:nvPicPr>
        <p:blipFill>
          <a:blip r:embed="rId3"/>
          <a:stretch/>
        </p:blipFill>
        <p:spPr>
          <a:xfrm>
            <a:off x="5688000" y="1125360"/>
            <a:ext cx="320364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15640" y="1881000"/>
            <a:ext cx="8242200" cy="4824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сключи лишнее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лягушка, жаба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тритон, саламандр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58920" y="367920"/>
            <a:ext cx="59054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Земноводные 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08360" y="5408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аламанд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8" descr="les_34i"/>
          <p:cNvPicPr/>
          <p:nvPr/>
        </p:nvPicPr>
        <p:blipFill>
          <a:blip r:embed="rId2"/>
          <a:stretch/>
        </p:blipFill>
        <p:spPr>
          <a:xfrm>
            <a:off x="395280" y="4834080"/>
            <a:ext cx="2376360" cy="176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ТРИТОН ГРЕБЕНЧАТЫЙ"/>
          <p:cNvPicPr/>
          <p:nvPr/>
        </p:nvPicPr>
        <p:blipFill>
          <a:blip r:embed="rId3"/>
          <a:stretch/>
        </p:blipFill>
        <p:spPr>
          <a:xfrm>
            <a:off x="5688000" y="1916280"/>
            <a:ext cx="29559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4:43:57Z</dcterms:created>
  <dc:creator>Ольга</dc:creator>
  <dc:description/>
  <dc:language>en-US</dc:language>
  <cp:lastModifiedBy>SamLab.ws</cp:lastModifiedBy>
  <dcterms:modified xsi:type="dcterms:W3CDTF">2012-05-06T16:46:01Z</dcterms:modified>
  <cp:revision>22</cp:revision>
  <dc:subject>закрепление знаний о птицах</dc:subject>
  <dc:title>своя игра "Птицы"</dc:title>
</cp:coreProperties>
</file>