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laser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A98-D533-418A-B920-9DBDB6C5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A82-7A78-4886-B4BE-B7A3F6DF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9C9-DE5D-4DEB-8D9B-D8E7E183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EC1-B374-40BE-96D8-D26E1EA5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D874-122C-4953-B8BA-DE8BE82D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1055-9BB7-43B3-9450-AE11413B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C08A-DF73-4775-B8CB-5170003E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A9F6-5496-4553-8441-8126F6EB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840C-8989-4B16-BF8D-BCECF497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EFF4-7188-4D7E-89B7-296D796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0E6B-E9C1-4385-BBF2-E0F174D7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FDE-2FA3-49CF-A7EF-35DAED33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35EC-23C2-4B26-99BF-F26B35AE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0DBD-C017-4A15-BE5B-BD05036B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BC45-213B-47F3-A197-61218266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2EA7-E634-447B-BB18-7BE73A56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AED5-A25D-4CCF-9F64-F1861333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836-76DA-42EC-BF1F-7F983A18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61D-F311-4714-B9D9-9433BD81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372-1BF8-498F-9AA9-30725411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418-EDED-4D79-8D70-C9D9C429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4D6-8791-4E74-9345-081FBB06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EA7-FADC-4E3F-8983-05819F91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5AC-0882-4A9D-AC54-95AC2FAA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4D32-30EB-44C0-B5F1-5BB553F781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1CFB-4CFE-4AA4-B2C7-BDE80B385E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29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5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25.xml"/><Relationship Id="rId17" Type="http://schemas.openxmlformats.org/officeDocument/2006/relationships/slide" Target="slide6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31.xml"/><Relationship Id="rId22" Type="http://schemas.openxmlformats.org/officeDocument/2006/relationships/slide" Target="slide11.xml"/><Relationship Id="rId23" Type="http://schemas.openxmlformats.org/officeDocument/2006/relationships/slide" Target="slide7.xml"/><Relationship Id="rId24" Type="http://schemas.openxmlformats.org/officeDocument/2006/relationships/slide" Target="slide17.xml"/><Relationship Id="rId25" Type="http://schemas.openxmlformats.org/officeDocument/2006/relationships/slide" Target="slide12.xml"/><Relationship Id="rId26" Type="http://schemas.openxmlformats.org/officeDocument/2006/relationships/slide" Target="slide22.xml"/><Relationship Id="rId27" Type="http://schemas.openxmlformats.org/officeDocument/2006/relationships/slide" Target="slide27.xml"/><Relationship Id="rId28" Type="http://schemas.openxmlformats.org/officeDocument/2006/relationships/slide" Target="slide32.xml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48132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       </a:t>
            </a:r>
            <a:br>
              <a:rPr sz="4800"/>
            </a:br>
            <a:br>
              <a:rPr sz="4800"/>
            </a:br>
            <a:r>
              <a:rPr b="0" lang="en-US" sz="8000" spc="-1" strike="noStrike">
                <a:solidFill>
                  <a:srgbClr val="ffcc66"/>
                </a:solidFill>
                <a:latin typeface="Arial"/>
              </a:rPr>
              <a:t>Многообразие </a:t>
            </a:r>
            <a:br>
              <a:rPr sz="8000"/>
            </a:br>
            <a:r>
              <a:rPr b="0" lang="en-US" sz="8000" spc="-1" strike="noStrike">
                <a:solidFill>
                  <a:srgbClr val="ffcc66"/>
                </a:solidFill>
                <a:latin typeface="Arial"/>
              </a:rPr>
              <a:t>животных.</a:t>
            </a:r>
            <a:br>
              <a:rPr sz="8000"/>
            </a:b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читель биологии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Гречишкина О.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очему лягуш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меют разну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краску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урую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еленую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</a:t>
            </a:r>
            <a:br>
              <a:rPr sz="4000"/>
            </a:b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27280" y="587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щитная окрас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безхвостые"/>
          <p:cNvPicPr/>
          <p:nvPr/>
        </p:nvPicPr>
        <p:blipFill>
          <a:blip r:embed="rId2"/>
          <a:stretch/>
        </p:blipFill>
        <p:spPr>
          <a:xfrm>
            <a:off x="4643280" y="2924280"/>
            <a:ext cx="45007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220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Оба его глаза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своих движен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независимы друг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от друга. Оди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может смотрет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вверх, а друг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в это же время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вниз, или вб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543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2816280"/>
            <a:ext cx="3132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Хамеле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6" descr="06050606"/>
          <p:cNvPicPr/>
          <p:nvPr/>
        </p:nvPicPr>
        <p:blipFill>
          <a:blip r:embed="rId2"/>
          <a:srcRect l="0" t="0" r="66822" b="49674"/>
          <a:stretch/>
        </p:blipFill>
        <p:spPr>
          <a:xfrm>
            <a:off x="4751280" y="2600280"/>
            <a:ext cx="385920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01640" y="2259000"/>
            <a:ext cx="6956640" cy="352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ое значен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меют выпукл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глаза у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земноводных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537372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Не выходя из воды они могут видеть все вокр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0" descr="0_22e4c_a8d3ca0c_XL"/>
          <p:cNvPicPr/>
          <p:nvPr/>
        </p:nvPicPr>
        <p:blipFill>
          <a:blip r:embed="rId2"/>
          <a:stretch/>
        </p:blipFill>
        <p:spPr>
          <a:xfrm>
            <a:off x="5580000" y="2168640"/>
            <a:ext cx="309564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2168640"/>
            <a:ext cx="8605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ие животны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тносятся к                  пресмыкающимс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50920" y="367920"/>
            <a:ext cx="7850160" cy="16923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7280" y="4834080"/>
            <a:ext cx="34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рокодилы, ящерицы, змеи, черепах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287280" y="2143080"/>
            <a:ext cx="7777080" cy="4714560"/>
            <a:chOff x="287280" y="2143080"/>
            <a:chExt cx="7777080" cy="4714560"/>
          </a:xfrm>
        </p:grpSpPr>
        <p:pic>
          <p:nvPicPr>
            <p:cNvPr id="177" name="Picture 12" descr="КОЖИСТАЯ ЧЕРЕПАХА 3"/>
            <p:cNvPicPr/>
            <p:nvPr/>
          </p:nvPicPr>
          <p:blipFill>
            <a:blip r:embed="rId2"/>
            <a:stretch/>
          </p:blipFill>
          <p:spPr>
            <a:xfrm>
              <a:off x="287280" y="2143080"/>
              <a:ext cx="2735280" cy="2463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178" name="Picture 10" descr="КОЖИСТАЯ ЧЕРЕПАХА"/>
            <p:cNvPicPr/>
            <p:nvPr/>
          </p:nvPicPr>
          <p:blipFill>
            <a:blip r:embed="rId3"/>
            <a:stretch/>
          </p:blipFill>
          <p:spPr>
            <a:xfrm>
              <a:off x="3887640" y="4210200"/>
              <a:ext cx="4176720" cy="264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560" y="2457360"/>
            <a:ext cx="4141800" cy="31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минуту опасности они выбрасывают эту ядовитую смесь через своё жало – раздвоенный язы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335772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ме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2" descr=""/>
          <p:cNvPicPr/>
          <p:nvPr/>
        </p:nvPicPr>
        <p:blipFill>
          <a:blip r:embed="rId2"/>
          <a:stretch/>
        </p:blipFill>
        <p:spPr>
          <a:xfrm>
            <a:off x="5003640" y="3465360"/>
            <a:ext cx="381636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3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кладывают ли черепахи яйц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789360"/>
            <a:ext cx="637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22"/>
          <p:cNvPicPr/>
          <p:nvPr/>
        </p:nvPicPr>
        <p:blipFill>
          <a:blip r:embed="rId1"/>
          <a:stretch/>
        </p:blipFill>
        <p:spPr>
          <a:xfrm>
            <a:off x="5508720" y="3753000"/>
            <a:ext cx="28605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4920" y="2241720"/>
            <a:ext cx="8605800" cy="374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полож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ртинках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344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89" name="Group 12"/>
          <p:cNvGrpSpPr/>
          <p:nvPr/>
        </p:nvGrpSpPr>
        <p:grpSpPr>
          <a:xfrm>
            <a:off x="4392720" y="2708280"/>
            <a:ext cx="4751280" cy="2808360"/>
            <a:chOff x="4392720" y="2708280"/>
            <a:chExt cx="4751280" cy="2808360"/>
          </a:xfrm>
        </p:grpSpPr>
        <p:pic>
          <p:nvPicPr>
            <p:cNvPr id="190" name="Picture 9" descr="varanus_komodoensis"/>
            <p:cNvPicPr/>
            <p:nvPr/>
          </p:nvPicPr>
          <p:blipFill>
            <a:blip r:embed="rId1"/>
            <a:stretch/>
          </p:blipFill>
          <p:spPr>
            <a:xfrm>
              <a:off x="6960960" y="2708280"/>
              <a:ext cx="2183040" cy="28040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191" name="Picture 11" descr="varanus_komodoensis3"/>
            <p:cNvPicPr/>
            <p:nvPr/>
          </p:nvPicPr>
          <p:blipFill>
            <a:blip r:embed="rId2"/>
            <a:srcRect l="0" t="6546" r="0" b="0"/>
            <a:stretch/>
          </p:blipFill>
          <p:spPr>
            <a:xfrm>
              <a:off x="4392720" y="2708280"/>
              <a:ext cx="2339640" cy="2808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3164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рган осяз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зм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4" name="Содержимое 3" descr="Веретеница ломкая"/>
          <p:cNvPicPr/>
          <p:nvPr/>
        </p:nvPicPr>
        <p:blipFill>
          <a:blip r:embed="rId2"/>
          <a:stretch/>
        </p:blipFill>
        <p:spPr>
          <a:xfrm>
            <a:off x="5327640" y="2286000"/>
            <a:ext cx="33847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х, чистюля! Ах, кокетк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ккуратней птицы н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груди всегда салфетка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на завтрак, и в обе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Птиц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573408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тиц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48000" y="4905360"/>
            <a:ext cx="26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Яйц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516720" y="2384280"/>
            <a:ext cx="2171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84720" y="0"/>
            <a:ext cx="3959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144936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95640" y="144936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616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0000" y="573408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7200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3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43640" y="57340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564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872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872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72360" y="148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010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36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3600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64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3600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00" y="333360"/>
            <a:ext cx="428472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ы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000" y="1484280"/>
            <a:ext cx="424800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Земново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52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ресмыкающие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537000"/>
            <a:ext cx="4248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7280" y="4616280"/>
            <a:ext cx="4140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лекопита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76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амые,  самая, сам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5221440" cy="256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 кого превратился Гадкий утенок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 сказке Андерсен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79640" y="3968640"/>
            <a:ext cx="522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400720" y="4005360"/>
            <a:ext cx="3600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ая птица сидел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плече капита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линт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800000" y="225360"/>
            <a:ext cx="666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87640" y="4905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ие особенност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троения птиц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являютс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риспособлением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для полет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5734080"/>
            <a:ext cx="58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ерья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крылья, клюв без зубов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759280" y="1989000"/>
            <a:ext cx="2895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лавное отличие млекопитающих от других животны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51668" r="67438" b="0"/>
          <a:stretch/>
        </p:blipFill>
        <p:spPr>
          <a:xfrm>
            <a:off x="7236000" y="184464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My_2[1]"/>
          <p:cNvPicPr/>
          <p:nvPr/>
        </p:nvPicPr>
        <p:blipFill>
          <a:blip r:embed="rId3"/>
          <a:stretch/>
        </p:blipFill>
        <p:spPr>
          <a:xfrm>
            <a:off x="7236000" y="3897360"/>
            <a:ext cx="1653840" cy="1584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rcRect l="34888" t="49986" r="33725" b="0"/>
          <a:stretch/>
        </p:blipFill>
        <p:spPr>
          <a:xfrm>
            <a:off x="5184720" y="5157720"/>
            <a:ext cx="1800360" cy="1440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У каких животных зубы растут в течение всей жизн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Млекопитающие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4508640"/>
            <a:ext cx="273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грызу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551640" y="3284640"/>
            <a:ext cx="2448000" cy="24127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24000" y="4184640"/>
            <a:ext cx="2341440" cy="23763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93720" y="2368080"/>
            <a:ext cx="6221520" cy="2406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акое млекопитающее  имеет орган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тицы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51280" y="3681360"/>
            <a:ext cx="61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Уткон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G:\ШКОЛА ИРА\8 клас\ссавці\Новая папка (4)\platypus1.jpg"/>
          <p:cNvPicPr/>
          <p:nvPr/>
        </p:nvPicPr>
        <p:blipFill>
          <a:blip r:embed="rId2"/>
          <a:stretch/>
        </p:blipFill>
        <p:spPr>
          <a:xfrm>
            <a:off x="5400720" y="3789360"/>
            <a:ext cx="3564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 какому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ряду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носятс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эти животны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558972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Рукокрыл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%5BBI7ZD_13-07%5D_%5BIL_03%5D-k" descr=""/>
          <p:cNvPicPr/>
          <p:nvPr/>
        </p:nvPicPr>
        <p:blipFill>
          <a:blip r:embed="rId2"/>
          <a:stretch/>
        </p:blipFill>
        <p:spPr>
          <a:xfrm>
            <a:off x="4608360" y="2205000"/>
            <a:ext cx="4319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31640" y="22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х и с какой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целью человек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домашнил диких животных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4473720"/>
            <a:ext cx="5797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бака, кролик, утки, гуси, корова. Молоко, яйца, мяс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1944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34920" y="4689360"/>
            <a:ext cx="4032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робьиные 5100 в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отряд птиц, содержащ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ибольше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исло вид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867280" y="2781360"/>
            <a:ext cx="2895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98480" y="2290320"/>
            <a:ext cx="695160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скрылая птиц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вой Зеланди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отряда страус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65564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35280" y="5553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и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443640" y="2241720"/>
            <a:ext cx="1895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743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БЛАГОДАРЯ КАКОМ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РГАНУ РЫБ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ЫШУТ В ВОД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31640" y="30132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_x000b_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34920" y="5624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ЖАБ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2313000"/>
            <a:ext cx="3960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60360" y="2649240"/>
            <a:ext cx="6927840" cy="3444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амая больша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мея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08360" y="4689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након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400720" y="2023920"/>
            <a:ext cx="35272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96400" y="2538000"/>
            <a:ext cx="4789800" cy="157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амый сильный хищник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3006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едв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176720" y="3176640"/>
            <a:ext cx="47210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ую страну называют «Земля попугаев»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476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встр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33483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1952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рыб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носятся 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хрящевы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9836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504972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кулы и ск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1808280"/>
            <a:ext cx="3708360" cy="230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319640" y="4076640"/>
            <a:ext cx="367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колько кругов кровообращения имеют ры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00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д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248000" y="3716280"/>
            <a:ext cx="3527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280" y="296640"/>
            <a:ext cx="78123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8464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спринимает силу тока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кие функции выполняет боковая линия у рыб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24360" y="3608280"/>
            <a:ext cx="3594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31280" y="1736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ольшинство рыб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ткладывают огромное                                              количество икрин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ска – около 7 млн.,    сазан – 1,5 млн.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щука – до 1 млн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чему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58560" y="296640"/>
            <a:ext cx="61894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Рыбы_x000b_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548172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льшинство из них  погиб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468360" y="2168640"/>
            <a:ext cx="374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8720" y="2269800"/>
            <a:ext cx="6565680" cy="3227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очему клас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емноводны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меет тако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звание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34920" y="558972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ни обитают на суше, а размножаются в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7" descr="06040201"/>
          <p:cNvPicPr/>
          <p:nvPr/>
        </p:nvPicPr>
        <p:blipFill>
          <a:blip r:embed="rId2"/>
          <a:stretch/>
        </p:blipFill>
        <p:spPr>
          <a:xfrm>
            <a:off x="5616720" y="3357720"/>
            <a:ext cx="3276360" cy="2361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f_0225"/>
          <p:cNvPicPr/>
          <p:nvPr/>
        </p:nvPicPr>
        <p:blipFill>
          <a:blip r:embed="rId3"/>
          <a:stretch/>
        </p:blipFill>
        <p:spPr>
          <a:xfrm>
            <a:off x="5688000" y="1125360"/>
            <a:ext cx="320364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15640" y="1881000"/>
            <a:ext cx="8242200" cy="4824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сключи лишне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лягушка, жаба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тритон, саламанд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Земноводные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08360" y="5408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аламан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8" descr="les_34i"/>
          <p:cNvPicPr/>
          <p:nvPr/>
        </p:nvPicPr>
        <p:blipFill>
          <a:blip r:embed="rId2"/>
          <a:stretch/>
        </p:blipFill>
        <p:spPr>
          <a:xfrm>
            <a:off x="395280" y="4834080"/>
            <a:ext cx="2376360" cy="176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ТРИТОН ГРЕБЕНЧАТЫЙ"/>
          <p:cNvPicPr/>
          <p:nvPr/>
        </p:nvPicPr>
        <p:blipFill>
          <a:blip r:embed="rId3"/>
          <a:stretch/>
        </p:blipFill>
        <p:spPr>
          <a:xfrm>
            <a:off x="5688000" y="1916280"/>
            <a:ext cx="29559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SamLab.ws</cp:lastModifiedBy>
  <dcterms:modified xsi:type="dcterms:W3CDTF">2012-05-06T16:46:01Z</dcterms:modified>
  <cp:revision>22</cp:revision>
  <dc:subject>закрепление знаний о птицах</dc:subject>
  <dc:title>своя игра "Птицы"</dc:title>
</cp:coreProperties>
</file>