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BA4F-8BB1-4252-8AE8-ED4527DD6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8BF4-8E50-4C7B-B1EF-82BA862F18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803F-22CD-4086-A1BB-A08CC23BFE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C04-29CF-4140-B94B-077ADBCD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BC0-0A0C-4D3C-81AD-C0ABD564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382-A1C6-4070-91BF-33DD047F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8C1-AA40-42BE-B569-500540E9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FD2-190A-43AD-824A-0995BCE0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F17-F2DF-4DD3-9539-087C6F70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8F4-D1CC-4D68-82E5-3EBBF50C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7FE-53CC-40D7-9C09-5707E466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EE8-DEF0-42CB-9ABB-DB23F044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E58-B3BD-4449-8DE2-037D692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44B-1B42-4ADF-B40F-D827CA1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C93-450A-49E9-918D-9277DC9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C4AE-1084-492C-B342-E74A47618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Arial"/>
              </a:rPr>
              <a:t>М. Ю. Лермонтов.</a:t>
            </a:r>
            <a:br>
              <a:rPr sz="5400"/>
            </a:b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Arial"/>
              </a:rPr>
              <a:t>Жизнь и судьба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PLM-019-"/>
          <p:cNvPicPr/>
          <p:nvPr/>
        </p:nvPicPr>
        <p:blipFill>
          <a:blip r:embed="rId2"/>
          <a:stretch/>
        </p:blipFill>
        <p:spPr>
          <a:xfrm>
            <a:off x="3429000" y="2071800"/>
            <a:ext cx="2214720" cy="278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E:\s10.gif"/>
          <p:cNvPicPr/>
          <p:nvPr/>
        </p:nvPicPr>
        <p:blipFill>
          <a:blip r:embed="rId3"/>
          <a:stretch/>
        </p:blipFill>
        <p:spPr>
          <a:xfrm>
            <a:off x="285840" y="4429080"/>
            <a:ext cx="743040" cy="22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E:\s10.gif"/>
          <p:cNvPicPr/>
          <p:nvPr/>
        </p:nvPicPr>
        <p:blipFill>
          <a:blip r:embed="rId4"/>
          <a:stretch/>
        </p:blipFill>
        <p:spPr>
          <a:xfrm>
            <a:off x="8072280" y="4429080"/>
            <a:ext cx="743040" cy="22194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17859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</a:rPr>
              <a:t>П. Е. Заболотский. Портрет  М. Ю. Лермонт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SVECHKA.GIF"/>
          <p:cNvPicPr/>
          <p:nvPr/>
        </p:nvPicPr>
        <p:blipFill>
          <a:blip r:embed="rId2"/>
          <a:stretch/>
        </p:blipFill>
        <p:spPr>
          <a:xfrm>
            <a:off x="2214720" y="1928880"/>
            <a:ext cx="49291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Детские годы М. Ю. Лермонтова.</a:t>
            </a:r>
            <a:br>
              <a:rPr sz="4400"/>
            </a:br>
            <a:br>
              <a:rPr sz="7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Родился в Москве в семье армейского капитана Юрия Петровича и Марии Михайловны Лермонтовых. Брак, заключенный против воли матери невесты, был неравным и несчастливым; мальчик рос в обстановке семейных несоглас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foto 6"/>
          <p:cNvPicPr/>
          <p:nvPr/>
        </p:nvPicPr>
        <p:blipFill>
          <a:blip r:embed="rId2"/>
          <a:stretch/>
        </p:blipFill>
        <p:spPr>
          <a:xfrm>
            <a:off x="735120" y="2714760"/>
            <a:ext cx="2265120" cy="322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p6"/>
          <p:cNvPicPr/>
          <p:nvPr/>
        </p:nvPicPr>
        <p:blipFill>
          <a:blip r:embed="rId3"/>
          <a:stretch/>
        </p:blipFill>
        <p:spPr>
          <a:xfrm>
            <a:off x="3286080" y="2714760"/>
            <a:ext cx="2500200" cy="319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foto 5"/>
          <p:cNvPicPr/>
          <p:nvPr/>
        </p:nvPicPr>
        <p:blipFill>
          <a:blip r:embed="rId4"/>
          <a:stretch/>
        </p:blipFill>
        <p:spPr>
          <a:xfrm>
            <a:off x="6000840" y="2714760"/>
            <a:ext cx="2463840" cy="3163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0" y="6000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              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М.М. Лермонтова,               М. Ю. Лермонтов                Ю. П. Лермонтов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                    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мать поэта.                            в детстве.                           отец поэта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Тарханы.</a:t>
            </a:r>
            <a:br>
              <a:rPr sz="4000"/>
            </a:br>
            <a:br>
              <a:rPr sz="9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После смерти матери Лермонтова бабушка сама занялась его воспитанием, полностью отстранив отца. Детство Лермонтова прошло в имении Арсеньевой Тарханы  Пензенской губернии. Мальчик получил отличное домашнее образование, свободно владел французским и немецким языками, увлекался рисованием, музык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foto 4"/>
          <p:cNvPicPr/>
          <p:nvPr/>
        </p:nvPicPr>
        <p:blipFill>
          <a:blip r:embed="rId2"/>
          <a:stretch/>
        </p:blipFill>
        <p:spPr>
          <a:xfrm>
            <a:off x="1214280" y="3500280"/>
            <a:ext cx="1982880" cy="279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1838"/>
          <p:cNvPicPr/>
          <p:nvPr/>
        </p:nvPicPr>
        <p:blipFill>
          <a:blip r:embed="rId3"/>
          <a:stretch/>
        </p:blipFill>
        <p:spPr>
          <a:xfrm>
            <a:off x="4143240" y="3500280"/>
            <a:ext cx="3786480" cy="2835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428760" y="6357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Е. А. Арсеньева, бабушка поэта.                                    Тарх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0104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Москва.</a:t>
            </a:r>
            <a:br>
              <a:rPr sz="4000"/>
            </a:br>
            <a:br>
              <a:rPr sz="7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С 1827 года Лермонтов живет в Москве. Он учится в Московском благородном  пансионе, позднее  в Московском университете на нравственно-политическом, затем –               на словесном отделении.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1"/>
          <p:cNvPicPr/>
          <p:nvPr/>
        </p:nvPicPr>
        <p:blipFill>
          <a:blip r:embed="rId2"/>
          <a:stretch/>
        </p:blipFill>
        <p:spPr>
          <a:xfrm>
            <a:off x="500040" y="2857680"/>
            <a:ext cx="3341880" cy="277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moskva_universitet"/>
          <p:cNvPicPr/>
          <p:nvPr/>
        </p:nvPicPr>
        <p:blipFill>
          <a:blip r:embed="rId3"/>
          <a:stretch/>
        </p:blipFill>
        <p:spPr>
          <a:xfrm>
            <a:off x="4143240" y="2857680"/>
            <a:ext cx="4491000" cy="27860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0" y="56577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           </a:t>
            </a: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И.И. Вивьен.                                           Московский университ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</a:t>
            </a: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осква.  Красные ворота.                   Неизвестный художник. 182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Петербург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85840" y="135720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Оставив  университет, Лермонтов в 1832 году переезжает в Петербург и поступает в Школу гвардейских подпрапорщиков и кавалерийских юнкеров; выпущен корнетом Лейб-гвардии гусарского полка в 1834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8"/>
          <p:cNvPicPr/>
          <p:nvPr/>
        </p:nvPicPr>
        <p:blipFill>
          <a:blip r:embed="rId2"/>
          <a:stretch/>
        </p:blipFill>
        <p:spPr>
          <a:xfrm>
            <a:off x="1000080" y="3071880"/>
            <a:ext cx="4587840" cy="2786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" descr="lermontov03"/>
          <p:cNvPicPr/>
          <p:nvPr/>
        </p:nvPicPr>
        <p:blipFill>
          <a:blip r:embed="rId3"/>
          <a:stretch/>
        </p:blipFill>
        <p:spPr>
          <a:xfrm>
            <a:off x="6143760" y="3071880"/>
            <a:ext cx="19285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857160" y="600084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тербург. 1820-е гг.                   Портрет Лермонтова-ко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Первая ссылка на Кавказ.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6500"/>
            </a:br>
            <a:br>
              <a:rPr sz="700"/>
            </a:br>
            <a:br>
              <a:rPr sz="7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В феврале 1837 года за стихотворение "Смерть поэта"                               М. Ю. Лермонтов был переведен в Нижегородский драгунский полк на Кавка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E:\avtoportret.jpg"/>
          <p:cNvPicPr/>
          <p:nvPr/>
        </p:nvPicPr>
        <p:blipFill>
          <a:blip r:embed="rId2"/>
          <a:stretch/>
        </p:blipFill>
        <p:spPr>
          <a:xfrm>
            <a:off x="1143000" y="2714760"/>
            <a:ext cx="2428920" cy="3108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E:\i_325.jpg"/>
          <p:cNvPicPr/>
          <p:nvPr/>
        </p:nvPicPr>
        <p:blipFill>
          <a:blip r:embed="rId3"/>
          <a:stretch/>
        </p:blipFill>
        <p:spPr>
          <a:xfrm>
            <a:off x="5214960" y="2714760"/>
            <a:ext cx="2643120" cy="3132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1071720" y="60008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.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Автопорт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4143240" y="6000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Автограф стихотворения                                                               М. Ю. Лермонтова «Смерть поэт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Кавказ в жизни и творчестве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М. Ю. Лермонт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0" y="1500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На Кавказе были написаны многочисленные произведения, в которых поэт признаётся в своей любви Кавка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Крестовая гора. М.Ю. Лермонтов"/>
          <p:cNvPicPr/>
          <p:nvPr/>
        </p:nvPicPr>
        <p:blipFill>
          <a:blip r:embed="rId2"/>
          <a:stretch/>
        </p:blipFill>
        <p:spPr>
          <a:xfrm>
            <a:off x="500040" y="2786040"/>
            <a:ext cx="3105000" cy="3105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0"/>
          <p:cNvSpPr/>
          <p:nvPr/>
        </p:nvSpPr>
        <p:spPr>
          <a:xfrm>
            <a:off x="2571840" y="26114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тя  я судьбой  на  заре  моих д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 южные  горы,  отторгнут  от ва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  вечно  их  помнить, там  надо быть  ра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 сладкую  песню  отчизны   мо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 я Кав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 младенческих летах я мать потеря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мнилось, что в розовый  вечера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 степь повторяла  мне  памятный  г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это люблю я вершины  тех ск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  я  Кав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счастлив  был  с вами, ущелия го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лет  пронеслось:  всё тоскую по в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м видел я  пару божественных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ердце  лепечет,  воспомня  тот взор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 я Кавказ!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642960" y="60008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«Крестовая го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торая ссылка на Кавказ.</a:t>
            </a:r>
            <a:br>
              <a:rPr sz="4400"/>
            </a:br>
            <a:br>
              <a:rPr sz="1300"/>
            </a:br>
            <a:r>
              <a:rPr b="1" i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 1840 году за дуэль с сыном французского посланника            де Барантом М. Ю. Лермонтова вновь ссылают  на Кавк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E:\vid pjatigorska.jpg"/>
          <p:cNvPicPr/>
          <p:nvPr/>
        </p:nvPicPr>
        <p:blipFill>
          <a:blip r:embed="rId2"/>
          <a:stretch/>
        </p:blipFill>
        <p:spPr>
          <a:xfrm>
            <a:off x="142920" y="2643120"/>
            <a:ext cx="3357360" cy="2505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E:\lerm_3.jpg"/>
          <p:cNvPicPr/>
          <p:nvPr/>
        </p:nvPicPr>
        <p:blipFill>
          <a:blip r:embed="rId3"/>
          <a:stretch/>
        </p:blipFill>
        <p:spPr>
          <a:xfrm>
            <a:off x="3714840" y="2643120"/>
            <a:ext cx="1857240" cy="248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E:\vid tiflisa.jpg"/>
          <p:cNvPicPr/>
          <p:nvPr/>
        </p:nvPicPr>
        <p:blipFill>
          <a:blip r:embed="rId4"/>
          <a:stretch/>
        </p:blipFill>
        <p:spPr>
          <a:xfrm>
            <a:off x="5857920" y="2643120"/>
            <a:ext cx="3071880" cy="24717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428760" y="52862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«Вид Пятигорс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2786040" y="528624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Ю.Лермонтов в сюрт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лейб-гвардии Гусарского по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Акварель А.И.Клюнд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6357960" y="52862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«Вид Тифлис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Гибель М. Ю. Лермонтова.</a:t>
            </a:r>
            <a:br>
              <a:rPr sz="4400"/>
            </a:br>
            <a:br>
              <a:rPr sz="13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15 июля 1841 году на дуэли с Н.Мартыновым                                           Михаил Юрьевич Лермонтов был убит. Похоронен на кладбище в Пятигорске, а в апреле 1842 года гроб с телом Лермонтова перезахоронен на фамильном кладбище в Тархан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35_265-1"/>
          <p:cNvPicPr/>
          <p:nvPr/>
        </p:nvPicPr>
        <p:blipFill>
          <a:blip r:embed="rId2"/>
          <a:stretch/>
        </p:blipFill>
        <p:spPr>
          <a:xfrm>
            <a:off x="2214720" y="3071880"/>
            <a:ext cx="4910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</cp:lastModifiedBy>
  <dcterms:modified xsi:type="dcterms:W3CDTF">2012-12-14T18:15:51Z</dcterms:modified>
  <cp:revision>7</cp:revision>
  <dc:subject/>
  <dc:title>  М. Ю. Лермонтов. Жизнь и судьба. </dc:title>
</cp:coreProperties>
</file>