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F13-57EA-4C09-A8E8-5598261EFF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FC44-BCBE-4F51-9C99-550A842350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9EE-C09F-401C-A0F4-EF61722C15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F20-62B3-4015-85F2-3A78BA52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91A-D32E-48F2-8E6D-0D0E0633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690-0119-4E4F-B79A-38326ACD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A0C-4AC5-49DE-A1F1-D2FBA937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34D-624C-40C1-B32F-20E3B0B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C15-C11D-4822-9BCF-FD5B015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C52-D4F3-4F38-8D43-5E808F0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BE-925E-469B-9DF4-7D77B33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41E-304F-4183-BA9D-68D012C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2A2-6BC6-43AA-B5B8-A8F9C81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9F0-126E-4AD9-A79D-3C3F474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2BB-4347-4020-AF5A-5FF5094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F32-9324-4F12-8205-B56DFCE1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М. Ю. Лермонтов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Жизнь и судьба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PLM-019-"/>
          <p:cNvPicPr/>
          <p:nvPr/>
        </p:nvPicPr>
        <p:blipFill>
          <a:blip r:embed="rId2"/>
          <a:stretch/>
        </p:blipFill>
        <p:spPr>
          <a:xfrm>
            <a:off x="3429000" y="2071800"/>
            <a:ext cx="2214720" cy="27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E:\s10.gif"/>
          <p:cNvPicPr/>
          <p:nvPr/>
        </p:nvPicPr>
        <p:blipFill>
          <a:blip r:embed="rId3"/>
          <a:stretch/>
        </p:blipFill>
        <p:spPr>
          <a:xfrm>
            <a:off x="285840" y="4429080"/>
            <a:ext cx="74304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:\s10.gif"/>
          <p:cNvPicPr/>
          <p:nvPr/>
        </p:nvPicPr>
        <p:blipFill>
          <a:blip r:embed="rId4"/>
          <a:stretch/>
        </p:blipFill>
        <p:spPr>
          <a:xfrm>
            <a:off x="8072280" y="4429080"/>
            <a:ext cx="7430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17859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П. Е. Заболотский. Портрет  М. Ю. Лермонт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SVECHKA.GIF"/>
          <p:cNvPicPr/>
          <p:nvPr/>
        </p:nvPicPr>
        <p:blipFill>
          <a:blip r:embed="rId2"/>
          <a:stretch/>
        </p:blipFill>
        <p:spPr>
          <a:xfrm>
            <a:off x="2214720" y="1928880"/>
            <a:ext cx="49291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етские годы М. Ю. Лермонтова.</a:t>
            </a:r>
            <a:br>
              <a:rPr sz="44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Родился в Москве в семье армейского капитана Юрия Петровича и Марии Михайловны Лермонтовых. Брак, заключенный против воли матери невесты, был неравным и несчастливым; мальчик рос в обстановке семейных несогла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oto 6"/>
          <p:cNvPicPr/>
          <p:nvPr/>
        </p:nvPicPr>
        <p:blipFill>
          <a:blip r:embed="rId2"/>
          <a:stretch/>
        </p:blipFill>
        <p:spPr>
          <a:xfrm>
            <a:off x="735120" y="2714760"/>
            <a:ext cx="2265120" cy="32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p6"/>
          <p:cNvPicPr/>
          <p:nvPr/>
        </p:nvPicPr>
        <p:blipFill>
          <a:blip r:embed="rId3"/>
          <a:stretch/>
        </p:blipFill>
        <p:spPr>
          <a:xfrm>
            <a:off x="3286080" y="2714760"/>
            <a:ext cx="2500200" cy="31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oto 5"/>
          <p:cNvPicPr/>
          <p:nvPr/>
        </p:nvPicPr>
        <p:blipFill>
          <a:blip r:embed="rId4"/>
          <a:stretch/>
        </p:blipFill>
        <p:spPr>
          <a:xfrm>
            <a:off x="6000840" y="2714760"/>
            <a:ext cx="2463840" cy="316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6000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.М. Лермонтова,               М. Ю. Лермонтов                Ю. П. Лермонтов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ать поэта.                            в детстве.                           отец поэта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Тарханы.</a:t>
            </a:r>
            <a:br>
              <a:rPr sz="4000"/>
            </a:br>
            <a:br>
              <a:rPr sz="9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После смерти матери Лермонтова бабушка сама занялась его воспитанием, полностью отстранив отца. Детство Лермонтова прошло в имении Арсеньевой Тарханы  Пензенской губернии. Мальчик получил отличное домашнее образование, свободно владел французским и немецким языками, увлекался рисованием, музык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oto 4"/>
          <p:cNvPicPr/>
          <p:nvPr/>
        </p:nvPicPr>
        <p:blipFill>
          <a:blip r:embed="rId2"/>
          <a:stretch/>
        </p:blipFill>
        <p:spPr>
          <a:xfrm>
            <a:off x="1214280" y="3500280"/>
            <a:ext cx="19828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38"/>
          <p:cNvPicPr/>
          <p:nvPr/>
        </p:nvPicPr>
        <p:blipFill>
          <a:blip r:embed="rId3"/>
          <a:stretch/>
        </p:blipFill>
        <p:spPr>
          <a:xfrm>
            <a:off x="4143240" y="3500280"/>
            <a:ext cx="378648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28760" y="6357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Е. А. Арсеньева, бабушка поэта.                                    Тарх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Москва.</a:t>
            </a:r>
            <a:br>
              <a:rPr sz="40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С 1827 года Лермонтов живет в Москве. Он учится в Московском благородном  пансионе, позднее  в Московском университете на нравственно-политическом, затем –               на словесном отделении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1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27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oskva_universitet"/>
          <p:cNvPicPr/>
          <p:nvPr/>
        </p:nvPicPr>
        <p:blipFill>
          <a:blip r:embed="rId3"/>
          <a:stretch/>
        </p:blipFill>
        <p:spPr>
          <a:xfrm>
            <a:off x="4143240" y="2857680"/>
            <a:ext cx="4491000" cy="2786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56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И.И. Вивьен.                                           Москов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осква.  Красные ворота.                   Неизвестный художник. 18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тербур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85840" y="1357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Оставив  университет, Лермонтов в 1832 году переезжает в Петербург и поступает в Школу гвардейских подпрапорщиков и кавалерийских юнкеров; выпущен корнетом Лейб-гвардии гусарского полка в 183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8"/>
          <p:cNvPicPr/>
          <p:nvPr/>
        </p:nvPicPr>
        <p:blipFill>
          <a:blip r:embed="rId2"/>
          <a:stretch/>
        </p:blipFill>
        <p:spPr>
          <a:xfrm>
            <a:off x="1000080" y="3071880"/>
            <a:ext cx="45878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lermontov03"/>
          <p:cNvPicPr/>
          <p:nvPr/>
        </p:nvPicPr>
        <p:blipFill>
          <a:blip r:embed="rId3"/>
          <a:stretch/>
        </p:blipFill>
        <p:spPr>
          <a:xfrm>
            <a:off x="6143760" y="3071880"/>
            <a:ext cx="19285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857160" y="60008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тербург. 1820-е гг.                   Портрет Лермонтова-ко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рвая ссылка на Кавказ.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500"/>
            </a:br>
            <a:br>
              <a:rPr sz="7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В феврале 1837 года за стихотворение "Смерть поэта"                               М. Ю. Лермонтов был переведен в Нижегородский драгунский полк на Кав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E:\avtoportret.jpg"/>
          <p:cNvPicPr/>
          <p:nvPr/>
        </p:nvPicPr>
        <p:blipFill>
          <a:blip r:embed="rId2"/>
          <a:stretch/>
        </p:blipFill>
        <p:spPr>
          <a:xfrm>
            <a:off x="1143000" y="2714760"/>
            <a:ext cx="2428920" cy="3108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E:\i_325.jpg"/>
          <p:cNvPicPr/>
          <p:nvPr/>
        </p:nvPicPr>
        <p:blipFill>
          <a:blip r:embed="rId3"/>
          <a:stretch/>
        </p:blipFill>
        <p:spPr>
          <a:xfrm>
            <a:off x="5214960" y="2714760"/>
            <a:ext cx="2643120" cy="3132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071720" y="60008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.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вто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143240" y="6000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Автограф стихотворения                                                               М. Ю. Лермонтова «Смерть поэт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вказ в жизни и творчестве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. Ю. Лермонт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На Кавказе были написаны многочисленные произведения, в которых поэт признаётся в своей любви Кавк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Крестовая гора. М.Ю. Лермонтов"/>
          <p:cNvPicPr/>
          <p:nvPr/>
        </p:nvPicPr>
        <p:blipFill>
          <a:blip r:embed="rId2"/>
          <a:stretch/>
        </p:blipFill>
        <p:spPr>
          <a:xfrm>
            <a:off x="500040" y="278604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0"/>
          <p:cNvSpPr/>
          <p:nvPr/>
        </p:nvSpPr>
        <p:spPr>
          <a:xfrm>
            <a:off x="2571840" y="26114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тя  я судьбой  на  заре  моих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южные  горы,  отторгнут  от в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 вечно  их  помнить, там  надо быть  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 сладкую  песню  отчизны   мо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младенческих летах я мать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мнилось, что в розовый  вечера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 степь повторяла  мне  памятный  г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это люблю я вершины  тех ск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 я 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частлив  был  с вами, ущелия г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лет  пронеслось:  всё тоскую по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м видел я  пару божественных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ердце  лепечет,  воспомня  тот взор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2960" y="6000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Крестовая го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ая ссылка на Кавказ.</a:t>
            </a:r>
            <a:br>
              <a:rPr sz="4400"/>
            </a:br>
            <a:br>
              <a:rPr sz="1300"/>
            </a:b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 1840 году за дуэль с сыном французского посланника            де Барантом М. Ю. Лермонтова вновь ссылают  на Кавк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vid pjatigorska.jpg"/>
          <p:cNvPicPr/>
          <p:nvPr/>
        </p:nvPicPr>
        <p:blipFill>
          <a:blip r:embed="rId2"/>
          <a:stretch/>
        </p:blipFill>
        <p:spPr>
          <a:xfrm>
            <a:off x="142920" y="2643120"/>
            <a:ext cx="3357360" cy="250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E:\lerm_3.jpg"/>
          <p:cNvPicPr/>
          <p:nvPr/>
        </p:nvPicPr>
        <p:blipFill>
          <a:blip r:embed="rId3"/>
          <a:stretch/>
        </p:blipFill>
        <p:spPr>
          <a:xfrm>
            <a:off x="3714840" y="2643120"/>
            <a:ext cx="1857240" cy="248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vid tiflisa.jpg"/>
          <p:cNvPicPr/>
          <p:nvPr/>
        </p:nvPicPr>
        <p:blipFill>
          <a:blip r:embed="rId4"/>
          <a:stretch/>
        </p:blipFill>
        <p:spPr>
          <a:xfrm>
            <a:off x="5857920" y="2643120"/>
            <a:ext cx="3071880" cy="2471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428760" y="5286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Пятигор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786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Ю.Лермонтов в сюрт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лейб-гвардии Гусарского п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кварель А.И.Клюнд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635796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Тифлис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Гибель М. Ю. Лермонтова.</a:t>
            </a:r>
            <a:br>
              <a:rPr sz="4400"/>
            </a:br>
            <a:br>
              <a:rPr sz="13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15 июля 1841 году на дуэли с Н.Мартыновым                                           Михаил Юрьевич Лермонтов был убит. Похоронен на кладбище в Пятигорске, а в апреле 1842 года гроб с телом Лермонтова перезахоронен на фамильном кладбище в Тарха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35_265-1"/>
          <p:cNvPicPr/>
          <p:nvPr/>
        </p:nvPicPr>
        <p:blipFill>
          <a:blip r:embed="rId2"/>
          <a:stretch/>
        </p:blipFill>
        <p:spPr>
          <a:xfrm>
            <a:off x="2214720" y="3071880"/>
            <a:ext cx="4910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2-12-14T18:15:51Z</dcterms:modified>
  <cp:revision>7</cp:revision>
  <dc:subject/>
  <dc:title>  М. Ю. Лермонтов. Жизнь и судьба. </dc:title>
</cp:coreProperties>
</file>