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C01-FC48-450F-83EA-335D5CAF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32F-A062-4A36-9265-78EEC973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E26-8747-4F39-AF81-411283BE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AA4-451C-4FC7-8DA2-DBD2A4B7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260C8-7E27-469E-B6C3-29E2A940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1CBC4-DC62-48F8-9EFF-B8DB3318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A359A-4458-46FF-9F2B-9457D66C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06AFE-6893-4D8D-B0ED-D539CDD5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8F732-6E1E-46DD-AF0B-286398C7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075F1-BF4A-4659-AA3B-3820CF5A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C716D-4899-44E7-B902-9A30577E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007-D2F4-4B1F-A23F-687934E3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8DB4A-EE97-4292-BAE9-38DE926B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F48E2-4E2B-4922-9586-ED33390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D2FB2-1FCE-4EAF-A7E7-898B498F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CB442-202F-48DD-AD1B-227ED9AC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71F3B-5955-4DCF-B056-7CB0364C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341-EDCC-48DE-AF27-6F9E1D2F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7D5-D782-4F63-8D90-26C7150F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8CB-C70B-4576-B4C2-40CC753A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FA3-3E6D-440F-A071-E05D2490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044-56FB-4FD7-B981-2769867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3E9-3F20-4CC5-82C1-59B5F23F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951-081D-4409-B508-DE23A521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7E5B-8878-4A75-A5A5-ABECAC8EA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2005-9273-4DD8-876F-CA28D3D0EB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07280" cy="3592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Любовь в жизни </a:t>
            </a:r>
            <a:br>
              <a:rPr sz="6600"/>
            </a:b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и творчестве </a:t>
            </a:r>
            <a:br>
              <a:rPr sz="6600"/>
            </a:b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Александра Сергеевича Пушкин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1"/>
          <a:stretch/>
        </p:blipFill>
        <p:spPr>
          <a:xfrm>
            <a:off x="433440" y="5121360"/>
            <a:ext cx="75214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83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ле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аев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536400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едеет облаков летучая гряда;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везда печальная, вечерняя звезда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вой луч осеребрил увядшие равнины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дремлющий залив, и черных скал вершины;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Люблю твой слабый свет в небесной вышине: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н думы разбудил, уснувшие во мне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Я помню твой восход, знакомое светило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д мирною страной, где все для сердца мило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де стройны тополи в долинах вознеслись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де дремлет нежный мирт и темный кипарис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сладостно шумят полуденные волны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ам некогда в горах, сердечной думы полный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д морем я влачил задумчивую лень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огда на хижины сходила ночи тень -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дева юная во мгле тебя искала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именем своим подругам называла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359080" y="277020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2359080" y="277020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line"/>
          <p:cNvPicPr/>
          <p:nvPr/>
        </p:nvPicPr>
        <p:blipFill>
          <a:blip r:embed="rId1"/>
          <a:stretch/>
        </p:blipFill>
        <p:spPr>
          <a:xfrm>
            <a:off x="2535120" y="28162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line"/>
          <p:cNvPicPr/>
          <p:nvPr/>
        </p:nvPicPr>
        <p:blipFill>
          <a:blip r:embed="rId2"/>
          <a:stretch/>
        </p:blipFill>
        <p:spPr>
          <a:xfrm>
            <a:off x="2543040" y="41353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7" descr="Е.Н.Раевская. Неизвестный художник. 1820-е гг."/>
          <p:cNvPicPr/>
          <p:nvPr/>
        </p:nvPicPr>
        <p:blipFill>
          <a:blip r:embed="rId3"/>
          <a:stretch/>
        </p:blipFill>
        <p:spPr>
          <a:xfrm>
            <a:off x="5710320" y="2276640"/>
            <a:ext cx="2903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4475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ария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аев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пой, красавица, при м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ы песен Грузии печальной: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поминают мне о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Другую жизнь и берег дальный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вы! Напоминают м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вои жестокие напевы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степь, и ночь - и при лу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Черты далекой бедной девы...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 призрак милый, роков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ебя увидев, забываю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о ты поешь - и предо м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Его я вновь воображаю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пой, красавица при м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ы песен Грузии печальной: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поминают мне о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Другую жизнь и берег дальны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8" descr="С.Н.Раевская. Неизвестный художник. 1820-е гг."/>
          <p:cNvPicPr/>
          <p:nvPr/>
        </p:nvPicPr>
        <p:blipFill>
          <a:blip r:embed="rId1"/>
          <a:stretch/>
        </p:blipFill>
        <p:spPr>
          <a:xfrm>
            <a:off x="5364000" y="1989000"/>
            <a:ext cx="31417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фия Раевск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ебе - но голос музы темной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оснется ль уха твоего?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ймешь ли ты душою скромной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тремленье сердца моего?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ль посвящение поэта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к некогда его любовь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еред тобою без ответа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ройдет, непризнанное вновь?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знай, по крайней мере, звуки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ывало, милые тебе -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думай, что во дни разлуки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моей изменчивой судьбе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воя печальная пустыня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следний звук твоих речей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дно сокровище, святыня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дна любовь в душе мо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8" descr="Е.Н.Раевская. Неизвестный художник. 1820-е гг."/>
          <p:cNvPicPr/>
          <p:nvPr/>
        </p:nvPicPr>
        <p:blipFill>
          <a:blip r:embed="rId1"/>
          <a:stretch/>
        </p:blipFill>
        <p:spPr>
          <a:xfrm>
            <a:off x="5364000" y="1916280"/>
            <a:ext cx="32371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83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Амалия Ризни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5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Явись, возлюбленная тень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Как ты была перед разлукой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Бледна, хладна, как зимний день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скажена последней мукой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Приди, как дальная звезда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Как легкой звук иль дуновенье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ль как ужасное виденье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не все равно, сюда! сюда!..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364000" y="836640"/>
            <a:ext cx="33847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Амалия Ризнич (ок. 1803-1825)"/>
          <p:cNvPicPr/>
          <p:nvPr/>
        </p:nvPicPr>
        <p:blipFill>
          <a:blip r:embed="rId1"/>
          <a:stretch/>
        </p:blipFill>
        <p:spPr>
          <a:xfrm>
            <a:off x="5651640" y="1052640"/>
            <a:ext cx="2554200" cy="5013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131904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16360" y="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0" y="291960"/>
            <a:ext cx="411480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лизавет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саверьев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Воронц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360" y="2349360"/>
            <a:ext cx="433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, мой талисман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 во дни гоненья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о дни раскаянья, волненья: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ы в день печали был мне дан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гда подымет океан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округ меня валы ревучи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гда грозою грянут тучи -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, мой талисман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уединеньи чуждых стран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а лоне скучного покоя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тревоге пламенного боя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, мой талисман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Воронцова Елизавета Ксаверьевна. Ж.Э.Тельчер. 1830 (?)"/>
          <p:cNvPicPr/>
          <p:nvPr/>
        </p:nvPicPr>
        <p:blipFill>
          <a:blip r:embed="rId1"/>
          <a:stretch/>
        </p:blipFill>
        <p:spPr>
          <a:xfrm>
            <a:off x="611280" y="220500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6"/>
          <p:cNvSpPr/>
          <p:nvPr/>
        </p:nvSpPr>
        <p:spPr>
          <a:xfrm>
            <a:off x="179280" y="404640"/>
            <a:ext cx="1584360" cy="108144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4259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арол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обаньска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50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Что в имени тебе моем?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но умрет, как шум печальны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лны, плеснувшей в берег дальный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Как звук ночной в лесу глухом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но на памятном листк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ставит мертвый след, подобны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зору надписи надгроб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 непонятном языке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Что в нем? Забытое давно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 волненьях новых и мятежных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воей душе не даст оно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споминаний чистых, нежных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о в день печали, в тишине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роизнеси его тоскуя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кажи: есть память обо мне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Есть в мире сердце, где живу я...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Каролина Собаньская (1794-1885)"/>
          <p:cNvPicPr/>
          <p:nvPr/>
        </p:nvPicPr>
        <p:blipFill>
          <a:blip r:embed="rId1"/>
          <a:stretch/>
        </p:blipFill>
        <p:spPr>
          <a:xfrm>
            <a:off x="5099040" y="1125360"/>
            <a:ext cx="3139920" cy="38163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/>
          <p:cNvSpPr/>
          <p:nvPr/>
        </p:nvSpPr>
        <p:spPr>
          <a:xfrm>
            <a:off x="4643280" y="515772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59280" y="291960"/>
            <a:ext cx="3827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ушк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офья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Федоров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2707920"/>
            <a:ext cx="4392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т, не черкешенка она;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о в долы Грузии от века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акая дева не сошла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 высот угрюмого Казбека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т, не агат в глазах у ней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о все сокровища Востока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 стоят сладостных лучей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Ее полуденного ок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Пушкина Софья Федоровна (1806-1862)"/>
          <p:cNvPicPr/>
          <p:nvPr/>
        </p:nvPicPr>
        <p:blipFill>
          <a:blip r:embed="rId1"/>
          <a:stretch/>
        </p:blipFill>
        <p:spPr>
          <a:xfrm>
            <a:off x="395280" y="404640"/>
            <a:ext cx="4332240" cy="53294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4067280" y="544500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64000" y="291960"/>
            <a:ext cx="5122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Ушаков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катер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иколаев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51280" y="2349360"/>
            <a:ext cx="483552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я вижу пред собо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й профиль и глаза, и кудри золотые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я слышу голос тво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ечи резвые, живые -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очарован, я горю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одрогаюсь пред тобою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ердцу, полному мечтою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“Аминь, аминь, рассыпься!” - говор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Ушакова Е.Н. Неизв. худ. (Е.Н.Азанчевская ?)"/>
          <p:cNvPicPr/>
          <p:nvPr/>
        </p:nvPicPr>
        <p:blipFill>
          <a:blip r:embed="rId1"/>
          <a:stretch/>
        </p:blipFill>
        <p:spPr>
          <a:xfrm>
            <a:off x="163440" y="765000"/>
            <a:ext cx="3897360" cy="52419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>
            <a:off x="3059280" y="5516640"/>
            <a:ext cx="158400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мирнова-Россет Александра Осипов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а мила - скажу меж нами -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идворных витязей гроза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можно с южными звездами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равнить, особенно стихами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Ее черкесские глаза.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а владеет ими смело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и горят огня живей;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о, сам признайся, то ли дело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лаза Олениной моей!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акой задумчивый в них гений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сколько детской простоты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сколько томных выражений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сколько неги и мечты! ...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тупит их с улыбкой Леля -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 них скромных граций торжество;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днимет - ангел Рафаэля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ак созерцает божеств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Смирнова-Россет Александра Осиповна"/>
          <p:cNvPicPr/>
          <p:nvPr/>
        </p:nvPicPr>
        <p:blipFill>
          <a:blip r:embed="rId1"/>
          <a:stretch/>
        </p:blipFill>
        <p:spPr>
          <a:xfrm>
            <a:off x="4994280" y="1125360"/>
            <a:ext cx="3376440" cy="4248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7"/>
          <p:cNvSpPr/>
          <p:nvPr/>
        </p:nvSpPr>
        <p:spPr>
          <a:xfrm>
            <a:off x="4427640" y="522936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92720" y="291960"/>
            <a:ext cx="3394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аталья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иколаев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ончар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8000" y="2708280"/>
            <a:ext cx="3538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влюбле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очарован, слово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огончаров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pushkina_n_n"/>
          <p:cNvPicPr/>
          <p:nvPr/>
        </p:nvPicPr>
        <p:blipFill>
          <a:blip r:embed="rId1"/>
          <a:stretch/>
        </p:blipFill>
        <p:spPr>
          <a:xfrm>
            <a:off x="395280" y="692280"/>
            <a:ext cx="4638600" cy="57006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6"/>
          <p:cNvSpPr/>
          <p:nvPr/>
        </p:nvSpPr>
        <p:spPr>
          <a:xfrm>
            <a:off x="4427640" y="522936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353844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аталья Викторовна Кочубе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3178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дце, ты в воле!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позабудь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овой сей доле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астливо будь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весною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фир младою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зой пленен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юности страстно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 я прекрасно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еть увлечен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т, я не буду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редь воздыхать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асть позабуду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но страдать!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ро печал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речу конец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Кочубей Наталья Викторовна (1800-1854). худ. О.А.Кипренский. 1813"/>
          <p:cNvPicPr/>
          <p:nvPr/>
        </p:nvPicPr>
        <p:blipFill>
          <a:blip r:embed="rId1"/>
          <a:stretch/>
        </p:blipFill>
        <p:spPr>
          <a:xfrm>
            <a:off x="4500720" y="1197000"/>
            <a:ext cx="376704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3995640" y="26028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3780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нились мои желанья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ворец Тебя мне ниспослал, тебя, моя Мадонна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тейший прелести чистейший образец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49103206"/>
          <p:cNvPicPr/>
          <p:nvPr/>
        </p:nvPicPr>
        <p:blipFill>
          <a:blip r:embed="rId1"/>
          <a:stretch/>
        </p:blipFill>
        <p:spPr>
          <a:xfrm>
            <a:off x="3767040" y="260280"/>
            <a:ext cx="4945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683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катерина Бакун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4500720" cy="28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Блеснет ли день за синею горою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Взойдет ли ночь с осеннею луною -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Я все тебя, прелестный друг ищу;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Засну ли я, лишь о тебе мечтаю, -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дну тебя в неверном вижу сне;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Задумаюсь - невольно призываю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Заслушаюсь - твой гол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лышен мне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Бакунина Екатерина Павловна (1795-1869), Автопортрет, 1816"/>
          <p:cNvPicPr/>
          <p:nvPr/>
        </p:nvPicPr>
        <p:blipFill>
          <a:blip r:embed="rId1"/>
          <a:stretch/>
        </p:blipFill>
        <p:spPr>
          <a:xfrm>
            <a:off x="4572000" y="1125360"/>
            <a:ext cx="3854520" cy="51850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/>
          <p:cNvSpPr/>
          <p:nvPr/>
        </p:nvSpPr>
        <p:spPr>
          <a:xfrm>
            <a:off x="3995640" y="26028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720" y="291600"/>
            <a:ext cx="5410080" cy="15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Истомин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Авдотья Ильинич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Евдокия Ильинична Истомина (1799-1848)"/>
          <p:cNvPicPr/>
          <p:nvPr/>
        </p:nvPicPr>
        <p:blipFill>
          <a:blip r:embed="rId1"/>
          <a:stretch/>
        </p:blipFill>
        <p:spPr>
          <a:xfrm>
            <a:off x="5508720" y="2349360"/>
            <a:ext cx="3008160" cy="379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v"/>
          <p:cNvPicPr/>
          <p:nvPr/>
        </p:nvPicPr>
        <p:blipFill>
          <a:blip r:embed="rId2"/>
          <a:stretch/>
        </p:blipFill>
        <p:spPr>
          <a:xfrm>
            <a:off x="1003320" y="5665680"/>
            <a:ext cx="276120" cy="1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Истомина А.И."/>
          <p:cNvPicPr/>
          <p:nvPr/>
        </p:nvPicPr>
        <p:blipFill>
          <a:blip r:embed="rId3"/>
          <a:stretch/>
        </p:blipFill>
        <p:spPr>
          <a:xfrm>
            <a:off x="539640" y="907920"/>
            <a:ext cx="2003400" cy="280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0"/>
          <p:cNvSpPr/>
          <p:nvPr/>
        </p:nvSpPr>
        <p:spPr>
          <a:xfrm>
            <a:off x="179280" y="4797360"/>
            <a:ext cx="5040360" cy="172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Терпсихора –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–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 древнегреческой мифологии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дна из девяти муз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кровительница танцев и хорового пени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4356000" y="177336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08720" y="291600"/>
            <a:ext cx="3178080" cy="19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вдокия Ивановна Голицы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73200" y="2637000"/>
            <a:ext cx="3970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Простой воспитанник Природы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Так я бывало воспевал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Мечту прекрасную Свободы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И ею сладостно дышал.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Но вас я вижу, вам внимаю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И что же? ... слабый человек!..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Свободу потеряв навек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Неволю сердцем обожаю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Евдокия Ивановна Голицына (1780-1850)"/>
          <p:cNvPicPr/>
          <p:nvPr/>
        </p:nvPicPr>
        <p:blipFill>
          <a:blip r:embed="rId1"/>
          <a:stretch/>
        </p:blipFill>
        <p:spPr>
          <a:xfrm>
            <a:off x="684360" y="1557360"/>
            <a:ext cx="3898800" cy="49687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324000" y="549360"/>
            <a:ext cx="158400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5267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асковья Александровна Осип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577044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Цветы последние милей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Роскошных первенцев полей.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Они унылые мечтанья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Живее пробуждают в нас.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Так иногда разлуки час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Живее сладкого свиданья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Осипова Прасковья Александровна (1781-1859)"/>
          <p:cNvPicPr/>
          <p:nvPr/>
        </p:nvPicPr>
        <p:blipFill>
          <a:blip r:embed="rId1"/>
          <a:stretch/>
        </p:blipFill>
        <p:spPr>
          <a:xfrm>
            <a:off x="5940360" y="1341360"/>
            <a:ext cx="2616120" cy="287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/>
          <p:cNvSpPr/>
          <p:nvPr/>
        </p:nvSpPr>
        <p:spPr>
          <a:xfrm>
            <a:off x="6516720" y="494172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8000" y="476280"/>
            <a:ext cx="35384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мператрица  Елизавета Алексеев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360" y="2133360"/>
            <a:ext cx="4176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 лире скромной, благород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Земных богов я не хвалил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силе в гордости свобод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Кадилом лести не кадил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вободу лишь учася славить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тихами жертвуя лишь ей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 не рожден царей забавить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тыдливой музою моей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о, признаюсь, под Геликоном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Где Кастилийский ток шумел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, вдохновленный Аполлоном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Елисавету втайне пел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бесного земной свидетель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спламененною душ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 пел на троне добродетель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 ее приветною красой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Любовь и тайная свобода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нушали сердцу гимн простой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неподкупный голос м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ыл эхо русского народ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Елизавета Алексеевна,  урожд. Принцесса Луиза-Мария-Августа, русская императрица (1779-1826)"/>
          <p:cNvPicPr/>
          <p:nvPr/>
        </p:nvPicPr>
        <p:blipFill>
          <a:blip r:embed="rId1"/>
          <a:stretch/>
        </p:blipFill>
        <p:spPr>
          <a:xfrm>
            <a:off x="1116000" y="1557360"/>
            <a:ext cx="3398760" cy="45370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324000" y="5516640"/>
            <a:ext cx="158400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63640" y="291960"/>
            <a:ext cx="352908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Анна Петровна Кер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Анна Петровна Керн. Миниатюра, 1820-30-е гг."/>
          <p:cNvPicPr/>
          <p:nvPr/>
        </p:nvPicPr>
        <p:blipFill>
          <a:blip r:embed="rId1"/>
          <a:stretch/>
        </p:blipFill>
        <p:spPr>
          <a:xfrm>
            <a:off x="611280" y="981000"/>
            <a:ext cx="3957480" cy="489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ushkin36-2"/>
          <p:cNvPicPr/>
          <p:nvPr/>
        </p:nvPicPr>
        <p:blipFill>
          <a:blip r:embed="rId2"/>
          <a:stretch/>
        </p:blipFill>
        <p:spPr>
          <a:xfrm>
            <a:off x="5580000" y="2708280"/>
            <a:ext cx="2936880" cy="3097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25200" y="6093000"/>
            <a:ext cx="6418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Bookman Old Style"/>
              </a:rPr>
              <a:t>…</a:t>
            </a:r>
            <a:r>
              <a:rPr b="0" i="1" lang="ru-RU" sz="2800" spc="-1" strike="noStrike">
                <a:solidFill>
                  <a:srgbClr val="ff6600"/>
                </a:solidFill>
                <a:latin typeface="Bookman Old Style"/>
              </a:rPr>
              <a:t>и жизнь, и слёзы, и любов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3322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катер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аев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вы! Зачем она блистает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Минутной нежной красотой?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на приметно увядает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 цвете юности живой..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вянет! Жизнью молод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долго наслаждаться ей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долго радовать соб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частливый круг семьи своей,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еспечной, милой острот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еседы наши оживлять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тихой ясною душ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традальца душу услаждать...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пешу в волненьи дум тяжелых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окрыв уныние мое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слушаться речей веселых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наглядеться на нее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мотрю на все ее движенья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нимаю каждый звук речей -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миг единый разлученья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жасен для души моей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М.Н.Раевская. Неизвестный художник. 1821 г."/>
          <p:cNvPicPr/>
          <p:nvPr/>
        </p:nvPicPr>
        <p:blipFill>
          <a:blip r:embed="rId1"/>
          <a:stretch/>
        </p:blipFill>
        <p:spPr>
          <a:xfrm>
            <a:off x="4789440" y="1197000"/>
            <a:ext cx="3818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6:03:49Z</dcterms:created>
  <dc:creator>***</dc:creator>
  <dc:description/>
  <dc:language>en-US</dc:language>
  <cp:lastModifiedBy>Я</cp:lastModifiedBy>
  <dcterms:modified xsi:type="dcterms:W3CDTF">2011-07-18T11:25:03Z</dcterms:modified>
  <cp:revision>19</cp:revision>
  <dc:subject/>
  <dc:title>Тема любви в лирик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