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B25-E40B-4F34-81E7-0C9B6A52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C25-3660-4647-8A6B-511ECFE0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AE6-FB87-4230-83B1-BE26BF44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0F9-E3E3-437C-B5F9-C355E73B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FA1A-38A2-4F85-87D2-2FF53D15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E2DF-9C5C-489B-945D-62BEEC1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3F9F0-88D4-490D-816F-F1EA163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F38EB-4CB5-4499-8586-483C65EC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CA719-CBEA-4742-951F-F99194E3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579F6-AD41-4F81-AAAB-AA8BDE7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D15C-94F5-47EE-B63E-F89F2DB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0D3-F3BD-4C02-86B6-4C9DDF82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CE7BD-3F71-49DA-82C5-F8D8872C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9AFAA-D423-4EDA-90C7-B17AC52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29AC7-4250-4A81-82F3-58F158E1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7A272-029D-4E92-BC09-A60C397A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7504F-7B2C-4441-A9B8-1FAD4F2A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5E5-BFDA-4F9C-BB1E-F76DB2B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8FD-79BA-42F8-9727-016588A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68A-5816-4DDB-8E90-044C5E1B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847-F9D3-40E2-AA3E-8B5C5DE7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838-082B-4E61-9286-CEE7C0D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54A-0079-4519-AD6E-1E19AD4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756-0246-433F-8B68-15B28FE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E723-957F-4022-AD3B-B7D24559E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8F7E-E18E-41F2-AC1A-7F1A7CCA61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07280" cy="359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Любовь в жизни </a:t>
            </a:r>
            <a:br>
              <a:rPr sz="6600"/>
            </a:b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и творчестве </a:t>
            </a:r>
            <a:br>
              <a:rPr sz="6600"/>
            </a:b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Александра Сергеевича Пушки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5121360"/>
            <a:ext cx="75214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83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ле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53640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деет облаков летучая гряда;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везда печальная, вечерняя звезда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вой луч осеребрил увядшие равнины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ремлющий залив, и черных скал вершины;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Люблю твой слабый свет в небесной вышине: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н думы разбудил, уснувшие во мне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Я помню твой восход, знакомое светило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д мирною страной, где все для сердца мило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де стройны тополи в долинах вознеслись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де дремлет нежный мирт и темный кипарис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сладостно шумят полуденные волны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ам некогда в горах, сердечной думы полный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д морем я влачил задумчивую лень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гда на хижины сходила ночи тень -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ева юная во мгле тебя искала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именем своим подругам называла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359080" y="2770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2359080" y="2770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line"/>
          <p:cNvPicPr/>
          <p:nvPr/>
        </p:nvPicPr>
        <p:blipFill>
          <a:blip r:embed="rId1"/>
          <a:stretch/>
        </p:blipFill>
        <p:spPr>
          <a:xfrm>
            <a:off x="2535120" y="28162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line"/>
          <p:cNvPicPr/>
          <p:nvPr/>
        </p:nvPicPr>
        <p:blipFill>
          <a:blip r:embed="rId2"/>
          <a:stretch/>
        </p:blipFill>
        <p:spPr>
          <a:xfrm>
            <a:off x="2543040" y="413532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7" descr="Е.Н.Раевская. Неизвестный художник. 1820-е гг."/>
          <p:cNvPicPr/>
          <p:nvPr/>
        </p:nvPicPr>
        <p:blipFill>
          <a:blip r:embed="rId3"/>
          <a:stretch/>
        </p:blipFill>
        <p:spPr>
          <a:xfrm>
            <a:off x="5710320" y="2276640"/>
            <a:ext cx="2903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47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ари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пой, красавица, при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ы песен Грузии печальной: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поминают мне о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ругую жизнь и берег дальный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ы! Напоминают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и жестокие напевы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степь, и ночь - и при лу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ерты далекой бедной девы...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призрак милый, роков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ебя увидев, забываю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 ты поешь - и предо м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го я вновь воображаю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пой, красавица при м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ы песен Грузии печальной: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поминают мне он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ругую жизнь и берег даль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8" descr="С.Н.Раевская. Неизвестный художник. 1820-е гг."/>
          <p:cNvPicPr/>
          <p:nvPr/>
        </p:nvPicPr>
        <p:blipFill>
          <a:blip r:embed="rId1"/>
          <a:stretch/>
        </p:blipFill>
        <p:spPr>
          <a:xfrm>
            <a:off x="5364000" y="1989000"/>
            <a:ext cx="3141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фия Раевс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ебе - но голос музы темно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снется ль уха твоего?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ймешь ли ты душою скромно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тремленье сердца моего?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ль посвящение поэт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к некогда его любовь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еред тобою без ответа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ройдет, непризнанное вновь?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знай, по крайней мере, звуки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ывало, милые тебе -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думай, что во дни разлуки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оей изменчивой судьбе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воя печальная пустыня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следний звук твоих речей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о сокровище, святыня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а любовь в душе мо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Е.Н.Раевская. Неизвестный художник. 1820-е гг."/>
          <p:cNvPicPr/>
          <p:nvPr/>
        </p:nvPicPr>
        <p:blipFill>
          <a:blip r:embed="rId1"/>
          <a:stretch/>
        </p:blipFill>
        <p:spPr>
          <a:xfrm>
            <a:off x="5364000" y="1916280"/>
            <a:ext cx="3237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83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малия Ризни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5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Явись, возлюбленная те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ак ты была перед разлуко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Бледна, хладна, как зимний де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скажена последней мукой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Приди, как дальная звезда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ак легкой звук иль дуновенье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ль как ужасное виденье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не все равно, сюда! сюда!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64000" y="836640"/>
            <a:ext cx="3384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Амалия Ризнич (ок. 1803-1825)"/>
          <p:cNvPicPr/>
          <p:nvPr/>
        </p:nvPicPr>
        <p:blipFill>
          <a:blip r:embed="rId1"/>
          <a:stretch/>
        </p:blipFill>
        <p:spPr>
          <a:xfrm>
            <a:off x="5651640" y="1052640"/>
            <a:ext cx="255420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131904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16360" y="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0" y="291960"/>
            <a:ext cx="411480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лизавет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саверьев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оронц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360" y="2349360"/>
            <a:ext cx="433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 во дни гоненья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 дни раскаянья, волненья: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ы в день печали был мне дан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подымет океан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округ меня валы ревуч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грозою грянут тучи -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уединеньи чуждых стран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лоне скучного покоя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тревоге пламенного боя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ани меня, мой талисман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Воронцова Елизавета Ксаверьевна. Ж.Э.Тельчер. 1830 (?)"/>
          <p:cNvPicPr/>
          <p:nvPr/>
        </p:nvPicPr>
        <p:blipFill>
          <a:blip r:embed="rId1"/>
          <a:stretch/>
        </p:blipFill>
        <p:spPr>
          <a:xfrm>
            <a:off x="611280" y="220500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/>
          <p:cNvSpPr/>
          <p:nvPr/>
        </p:nvSpPr>
        <p:spPr>
          <a:xfrm>
            <a:off x="179280" y="404640"/>
            <a:ext cx="1584360" cy="10814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25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ол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баньска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то в имени тебе моем?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о умрет, как шум печальны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лны, плеснувшей в берег дальны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ак звук ночной в лесу глухом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о на памятном листке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ставит мертвый след, подобны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зору надписи надгроб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непонятном языке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Что в нем? Забытое давно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волненьях новых и мятежных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воей душе не даст оно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споминаний чистых, нежных.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 в день печали, в тишин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роизнеси его тоскуя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кажи: есть память обо мн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сть в мире сердце, где живу я...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Каролина Собаньская (1794-1885)"/>
          <p:cNvPicPr/>
          <p:nvPr/>
        </p:nvPicPr>
        <p:blipFill>
          <a:blip r:embed="rId1"/>
          <a:stretch/>
        </p:blipFill>
        <p:spPr>
          <a:xfrm>
            <a:off x="5099040" y="1125360"/>
            <a:ext cx="3139920" cy="38163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4643280" y="515772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59280" y="291960"/>
            <a:ext cx="3827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ушк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фь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Федоро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2707920"/>
            <a:ext cx="4392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т, не черкешенка она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о в долы Грузии от век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акая дева не сошл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 высот угрюмого Казбека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т, не агат в глазах у ней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о все сокровища Восток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стоят сладостных лучей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Ее полуденного ок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Пушкина Софья Федоровна (1806-1862)"/>
          <p:cNvPicPr/>
          <p:nvPr/>
        </p:nvPicPr>
        <p:blipFill>
          <a:blip r:embed="rId1"/>
          <a:stretch/>
        </p:blipFill>
        <p:spPr>
          <a:xfrm>
            <a:off x="395280" y="404640"/>
            <a:ext cx="4332240" cy="53294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4067280" y="544500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4000" y="291960"/>
            <a:ext cx="512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Ушаков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иколае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1280" y="2349360"/>
            <a:ext cx="483552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вижу пред соб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й профиль и глаза, и кудри золоты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слышу голос тв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ечи резвые, живые -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очарован, я гор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одрогаюсь пред тобою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ердцу, полному мечтою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“Аминь, аминь, рассыпься!” - говор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Ушакова Е.Н. Неизв. худ. (Е.Н.Азанчевская ?)"/>
          <p:cNvPicPr/>
          <p:nvPr/>
        </p:nvPicPr>
        <p:blipFill>
          <a:blip r:embed="rId1"/>
          <a:stretch/>
        </p:blipFill>
        <p:spPr>
          <a:xfrm>
            <a:off x="163440" y="765000"/>
            <a:ext cx="3897360" cy="5241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>
            <a:off x="3059280" y="551664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мирнова-Россет Александра Осипов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а мила - скажу меж нами -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идворных витязей гроза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можно с южными звездами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равнить, особенно стихами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е черкесские глаза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а владеет ими смело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и горят огня живей;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о, сам признайся, то ли дело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лаза Олениной моей!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акой задумчивый в них гений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детской простоты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томных выражений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 сколько неги и мечты! ..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тупит их с улыбкой Леля -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них скромных граций торжество;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днимет - ангел Рафаэля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к созерцает божеств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Смирнова-Россет Александра Осиповна"/>
          <p:cNvPicPr/>
          <p:nvPr/>
        </p:nvPicPr>
        <p:blipFill>
          <a:blip r:embed="rId1"/>
          <a:stretch/>
        </p:blipFill>
        <p:spPr>
          <a:xfrm>
            <a:off x="4994280" y="1125360"/>
            <a:ext cx="3376440" cy="4248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/>
          <p:cNvSpPr/>
          <p:nvPr/>
        </p:nvSpPr>
        <p:spPr>
          <a:xfrm>
            <a:off x="4427640" y="5229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92720" y="291960"/>
            <a:ext cx="3394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талья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иколаев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ончар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8000" y="2708280"/>
            <a:ext cx="3538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любле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чарован, слов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огончаро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pushkina_n_n"/>
          <p:cNvPicPr/>
          <p:nvPr/>
        </p:nvPicPr>
        <p:blipFill>
          <a:blip r:embed="rId1"/>
          <a:stretch/>
        </p:blipFill>
        <p:spPr>
          <a:xfrm>
            <a:off x="395280" y="692280"/>
            <a:ext cx="4638600" cy="5700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4427640" y="5229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538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талья Викторовна Кочубе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3178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дце, ты в воле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позабудь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овой сей дол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астливо будь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весною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фир младою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ой пленен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юности страстн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я прекрасно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еть увлечен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, я не буду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редь воздыхать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асть позабуду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но страдать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ро печал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речу конец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Кочубей Наталья Викторовна (1800-1854). худ. О.А.Кипренский. 1813"/>
          <p:cNvPicPr/>
          <p:nvPr/>
        </p:nvPicPr>
        <p:blipFill>
          <a:blip r:embed="rId1"/>
          <a:stretch/>
        </p:blipFill>
        <p:spPr>
          <a:xfrm>
            <a:off x="4500720" y="1197000"/>
            <a:ext cx="37670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3995640" y="26028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3780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ились мои желань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орец Тебя мне ниспослал, тебя, моя Мадонн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тейший прелести чистейший образец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49103206"/>
          <p:cNvPicPr/>
          <p:nvPr/>
        </p:nvPicPr>
        <p:blipFill>
          <a:blip r:embed="rId1"/>
          <a:stretch/>
        </p:blipFill>
        <p:spPr>
          <a:xfrm>
            <a:off x="3767040" y="260280"/>
            <a:ext cx="4945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6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Бакун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450072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Блеснет ли день за синею горою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Взойдет ли ночь с осеннею луною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Я все тебя, прелестный друг ищу;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сну ли я, лишь о тебе мечтаю, -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дну тебя в неверном вижу сне;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думаюсь - невольно призываю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Заслушаюсь - твой гол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лышен мне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Бакунина Екатерина Павловна (1795-1869), Автопортрет, 1816"/>
          <p:cNvPicPr/>
          <p:nvPr/>
        </p:nvPicPr>
        <p:blipFill>
          <a:blip r:embed="rId1"/>
          <a:stretch/>
        </p:blipFill>
        <p:spPr>
          <a:xfrm>
            <a:off x="4572000" y="1125360"/>
            <a:ext cx="3854520" cy="51850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3995640" y="26028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91600"/>
            <a:ext cx="541008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стомин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вдотья Ильинич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Евдокия Ильинична Истомина (1799-1848)"/>
          <p:cNvPicPr/>
          <p:nvPr/>
        </p:nvPicPr>
        <p:blipFill>
          <a:blip r:embed="rId1"/>
          <a:stretch/>
        </p:blipFill>
        <p:spPr>
          <a:xfrm>
            <a:off x="5508720" y="2349360"/>
            <a:ext cx="3008160" cy="379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v"/>
          <p:cNvPicPr/>
          <p:nvPr/>
        </p:nvPicPr>
        <p:blipFill>
          <a:blip r:embed="rId2"/>
          <a:stretch/>
        </p:blipFill>
        <p:spPr>
          <a:xfrm>
            <a:off x="1003320" y="5665680"/>
            <a:ext cx="276120" cy="1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Истомина А.И."/>
          <p:cNvPicPr/>
          <p:nvPr/>
        </p:nvPicPr>
        <p:blipFill>
          <a:blip r:embed="rId3"/>
          <a:stretch/>
        </p:blipFill>
        <p:spPr>
          <a:xfrm>
            <a:off x="539640" y="907920"/>
            <a:ext cx="2003400" cy="280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0"/>
          <p:cNvSpPr/>
          <p:nvPr/>
        </p:nvSpPr>
        <p:spPr>
          <a:xfrm>
            <a:off x="179280" y="4797360"/>
            <a:ext cx="5040360" cy="172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ерпсихора –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древнегреческой мифологии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дна из девяти муз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ровительница танцев и хорового пени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4356000" y="177336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08720" y="291600"/>
            <a:ext cx="3178080" cy="19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вдокия Ивановна Голицы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73200" y="2637000"/>
            <a:ext cx="39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Простой воспитанник Природы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Так я бывало воспевал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Мечту прекрасную Свободы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И ею сладостно дышал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Но вас я вижу, вам внимаю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И что же? ... слабый человек!..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Свободу потеряв навек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Неволю сердцем обожаю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Евдокия Ивановна Голицына (1780-1850)"/>
          <p:cNvPicPr/>
          <p:nvPr/>
        </p:nvPicPr>
        <p:blipFill>
          <a:blip r:embed="rId1"/>
          <a:stretch/>
        </p:blipFill>
        <p:spPr>
          <a:xfrm>
            <a:off x="684360" y="1557360"/>
            <a:ext cx="3898800" cy="4968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324000" y="54936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5267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асковья Александровна Осип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852640"/>
            <a:ext cx="57704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Цветы последние милей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оскошных первенцев полей.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Они унылые мечтанья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Живее пробуждают в нас.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Так иногда разлуки час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Живее сладкого свиданья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Осипова Прасковья Александровна (1781-1859)"/>
          <p:cNvPicPr/>
          <p:nvPr/>
        </p:nvPicPr>
        <p:blipFill>
          <a:blip r:embed="rId1"/>
          <a:stretch/>
        </p:blipFill>
        <p:spPr>
          <a:xfrm>
            <a:off x="5940360" y="1341360"/>
            <a:ext cx="2616120" cy="287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6516720" y="4941720"/>
            <a:ext cx="158436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8000" y="476280"/>
            <a:ext cx="3538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мператрица  Елизавета Алексеевн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360" y="2133360"/>
            <a:ext cx="4176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лире скромной, благород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Земных богов я не хвалил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силе в гордости свободн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адилом лести не кадил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вободу лишь учася славить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ихами жертвуя лишь е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не рожден царей забавит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ыдливой музою моей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о, признаюсь, под Геликоном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Где Кастилийский ток шумел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, вдохновленный Аполлоном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Елисавету втайне пел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бесного земной свидетель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спламененною душ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Я пел на троне добродетел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 ее приветною красой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Любовь и тайная свобода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нушали сердцу гимн простой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неподкупный голос мой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ыл эхо русского наро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Елизавета Алексеевна,  урожд. Принцесса Луиза-Мария-Августа, русская императрица (1779-1826)"/>
          <p:cNvPicPr/>
          <p:nvPr/>
        </p:nvPicPr>
        <p:blipFill>
          <a:blip r:embed="rId1"/>
          <a:stretch/>
        </p:blipFill>
        <p:spPr>
          <a:xfrm>
            <a:off x="1116000" y="1557360"/>
            <a:ext cx="3398760" cy="4537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324000" y="5516640"/>
            <a:ext cx="1584000" cy="108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81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63640" y="291960"/>
            <a:ext cx="352908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Анна Петровна Кер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Анна Петровна Керн. Миниатюра, 1820-30-е гг."/>
          <p:cNvPicPr/>
          <p:nvPr/>
        </p:nvPicPr>
        <p:blipFill>
          <a:blip r:embed="rId1"/>
          <a:stretch/>
        </p:blipFill>
        <p:spPr>
          <a:xfrm>
            <a:off x="611280" y="981000"/>
            <a:ext cx="3957480" cy="489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ushkin36-2"/>
          <p:cNvPicPr/>
          <p:nvPr/>
        </p:nvPicPr>
        <p:blipFill>
          <a:blip r:embed="rId2"/>
          <a:stretch/>
        </p:blipFill>
        <p:spPr>
          <a:xfrm>
            <a:off x="5580000" y="270828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25200" y="6093000"/>
            <a:ext cx="6418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Bookman Old Style"/>
              </a:rPr>
              <a:t>…</a:t>
            </a:r>
            <a:r>
              <a:rPr b="0" i="1" lang="ru-RU" sz="2800" spc="-1" strike="noStrike">
                <a:solidFill>
                  <a:srgbClr val="ff6600"/>
                </a:solidFill>
                <a:latin typeface="Bookman Old Style"/>
              </a:rPr>
              <a:t>и жизнь, и слёзы, и любов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332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Екатерин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аев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ы! Зачем она блистае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инутной нежной красотой?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Она приметно увядает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о цвете юности живой..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вянет! Жизнью молод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долго наслаждаться ей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долго радовать соб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частливый круг семьи своей,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еспечной, милой острот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Беседы наши оживлять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тихой ясною душою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традальца душу услаждать...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пешу в волненьи дум тяжелых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окрыв уныние мое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слушаться речей веселых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наглядеться на нее;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мотрю на все ее движенья,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нимаю каждый звук речей -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И миг единый разлученья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жасен для души моей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М.Н.Раевская. Неизвестный художник. 1821 г."/>
          <p:cNvPicPr/>
          <p:nvPr/>
        </p:nvPicPr>
        <p:blipFill>
          <a:blip r:embed="rId1"/>
          <a:stretch/>
        </p:blipFill>
        <p:spPr>
          <a:xfrm>
            <a:off x="4789440" y="1197000"/>
            <a:ext cx="3818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6:03:49Z</dcterms:created>
  <dc:creator>***</dc:creator>
  <dc:description/>
  <dc:language>en-US</dc:language>
  <cp:lastModifiedBy>Я</cp:lastModifiedBy>
  <dcterms:modified xsi:type="dcterms:W3CDTF">2011-07-18T11:25:03Z</dcterms:modified>
  <cp:revision>19</cp:revision>
  <dc:subject/>
  <dc:title>Тема любви в лирик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