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618-7E57-43FE-86E1-9AD624C8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E19-0744-456B-B0FF-056C34F2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E9E-9685-44B4-8FDA-D185809A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D12-2558-4272-8402-495A51DB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FFE8A-F8CF-4AC3-8107-2F67321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539AE-1FC3-4128-B5F9-AAD14D9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F0CD-8770-490E-AD05-5941259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EA6A-F566-48AE-8662-4ADC327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79CB3-54B4-4365-8214-00DBFF9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1E9CA-2A93-4FBE-A675-5E9EB0C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C288-74AB-4835-9422-9E7F609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557-4020-4A2E-A3D0-866443DD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E5F33-F708-4374-9489-39E25F3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C7C3-2655-4415-808B-2ED5DA3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1A74E-8EEE-47E9-AF09-FE61F369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5CBDA-CD20-4691-8CBA-C69AE768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B611F-8BA0-4E1D-9856-71B49D3F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488-1E5F-4431-82FA-19A7F0F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A71-0DEE-43A4-ADD0-3EECF44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F05-883B-4B3F-B261-083F85B3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5B8-9DEB-4D7A-8EDF-F169240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B2C-ACA4-4AF5-9163-2F6F655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F56-13F2-47A0-9D97-A7FED0C7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38C-35C0-4018-AAB6-47C8204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6B9D-D3CE-42D9-97B2-2BA616CDC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F851-091B-4591-8EC4-05DC002851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07280" cy="359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Любовь в жизни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и творчестве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Александра Сергеевича Пушки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5121360"/>
            <a:ext cx="75214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е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5364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деет облаков летучая гряда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везда печальная, вечерняя звезда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вой луч осеребрил увядшие равнины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ремлющий залив, и черных скал вершины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Люблю твой слабый свет в небесной вышине: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н думы разбудил, уснувшие во мне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Я помню твой восход, знакомое свет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ирною страной, где все для сердца м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стройны тополи в долинах вознеслис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дремлет нежный мирт и темный кипарис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сладостно шумят полуденные волны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 некогда в горах, сердечной думы полный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орем я влачил задумчивую лен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гда на хижины сходила ночи тень -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ева юная во мгле тебя искала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именем своим подругам называла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line"/>
          <p:cNvPicPr/>
          <p:nvPr/>
        </p:nvPicPr>
        <p:blipFill>
          <a:blip r:embed="rId1"/>
          <a:stretch/>
        </p:blipFill>
        <p:spPr>
          <a:xfrm>
            <a:off x="2535120" y="28162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line"/>
          <p:cNvPicPr/>
          <p:nvPr/>
        </p:nvPicPr>
        <p:blipFill>
          <a:blip r:embed="rId2"/>
          <a:stretch/>
        </p:blipFill>
        <p:spPr>
          <a:xfrm>
            <a:off x="2543040" y="4135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Е.Н.Раевская. Неизвестный художник. 1820-е гг."/>
          <p:cNvPicPr/>
          <p:nvPr/>
        </p:nvPicPr>
        <p:blipFill>
          <a:blip r:embed="rId3"/>
          <a:stretch/>
        </p:blipFill>
        <p:spPr>
          <a:xfrm>
            <a:off x="5710320" y="2276640"/>
            <a:ext cx="2903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47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ари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,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Напоминают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и жестокие напевы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тепь, и ночь - и при лу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ерты далекой бедной девы...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ризрак милый, роков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ебя увидев, забываю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ты поешь - и предо м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го я вновь воображаю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С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89000"/>
            <a:ext cx="3141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фия Раевс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ебе - но голос музы те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снется ль уха тв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ймешь ли ты душою скро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ремленье сердца м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ль посвящение поэт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к некогда его любовь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еред тобою без ответа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ойдет, непризнанное вновь?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знай, по крайней мере, зв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ывало, милые тебе -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думай, что во дни разл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оей изменчивой судьбе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воя печальная пус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следний звук твоих рече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о сокровище, свя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а любовь в душе мо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Е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16280"/>
            <a:ext cx="3237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малия Ризн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Явись, возлюбленная т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ты была перед разлуко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Бледна, хладна, как зимний д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скажена последней муко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риди, как дальная звезда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легкой звук иль дунов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ль как ужасное вид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не все равно, сюда! сюда!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64000" y="836640"/>
            <a:ext cx="3384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Амалия Ризнич (ок. 1803-1825)"/>
          <p:cNvPicPr/>
          <p:nvPr/>
        </p:nvPicPr>
        <p:blipFill>
          <a:blip r:embed="rId1"/>
          <a:stretch/>
        </p:blipFill>
        <p:spPr>
          <a:xfrm>
            <a:off x="5651640" y="1052640"/>
            <a:ext cx="255420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13190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16360" y="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0" y="291960"/>
            <a:ext cx="411480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изавет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саверь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оронц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360" y="2349360"/>
            <a:ext cx="433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 во дни гонень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 дни раскаянья, волненья: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ы в день печали был мне д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подымет океан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круг меня валы ревуч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грозою грянут тучи -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уединеньи чуждых стр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лоне скучного поко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тревоге пламенного боя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Воронцова Елизавета Ксаверьевна. Ж.Э.Тельчер. 1830 (?)"/>
          <p:cNvPicPr/>
          <p:nvPr/>
        </p:nvPicPr>
        <p:blipFill>
          <a:blip r:embed="rId1"/>
          <a:stretch/>
        </p:blipFill>
        <p:spPr>
          <a:xfrm>
            <a:off x="611280" y="220500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/>
          <p:cNvSpPr/>
          <p:nvPr/>
        </p:nvSpPr>
        <p:spPr>
          <a:xfrm>
            <a:off x="179280" y="404640"/>
            <a:ext cx="1584360" cy="1081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25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ол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баньска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имени тебе моем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умрет, как шум печаль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лны, плеснувшей в берег дальны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к звук ночной в лесу глухом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на памятном листк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ставит мертвый след, подоб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зору надписи надгроб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непонятном языке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нем? Забытое дав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волненьях новых и мятежн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ей душе не даст о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оминаний чистых, нежных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в день печали, в тиши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изнеси его тоскуя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кажи: есть память обо м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сть в мире сердце, где живу я..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Каролина Собаньская (1794-1885)"/>
          <p:cNvPicPr/>
          <p:nvPr/>
        </p:nvPicPr>
        <p:blipFill>
          <a:blip r:embed="rId1"/>
          <a:stretch/>
        </p:blipFill>
        <p:spPr>
          <a:xfrm>
            <a:off x="5099040" y="1125360"/>
            <a:ext cx="313992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4643280" y="5157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59280" y="291960"/>
            <a:ext cx="382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ушк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ф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Федоро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70792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черкешенка она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 долы Грузии от ве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акая дева не сошл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 высот угрюмого Казбека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агат в глазах у ней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се сокровища Восто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стоят сладостных лучей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Ее полуденного ок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Пушкина Софья Федоровна (1806-1862)"/>
          <p:cNvPicPr/>
          <p:nvPr/>
        </p:nvPicPr>
        <p:blipFill>
          <a:blip r:embed="rId1"/>
          <a:stretch/>
        </p:blipFill>
        <p:spPr>
          <a:xfrm>
            <a:off x="395280" y="404640"/>
            <a:ext cx="4332240" cy="53294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4067280" y="544500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4000" y="291960"/>
            <a:ext cx="51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Ушаков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1280" y="2349360"/>
            <a:ext cx="483552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вижу пред соб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й профиль и глаза, и кудри золоты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слышу голос тв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и резвые, живые -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очарован, я гор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одрогаюсь пред тоб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ердцу, полному мечт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“Аминь, аминь, рассыпься!” - говор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Ушакова Е.Н. Неизв. худ. (Е.Н.Азанчевская ?)"/>
          <p:cNvPicPr/>
          <p:nvPr/>
        </p:nvPicPr>
        <p:blipFill>
          <a:blip r:embed="rId1"/>
          <a:stretch/>
        </p:blipFill>
        <p:spPr>
          <a:xfrm>
            <a:off x="163440" y="765000"/>
            <a:ext cx="3897360" cy="5241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305928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мирнова-Россет Александра Осипов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мила - скажу меж нами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дворных витязей гроза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можно с южными звездами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равнить, особенно стихами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е черкесские глаза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владеет ими смело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и горят огня живей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о, сам признайся, то ли дело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лаза Олениной моей!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кой задумчивый в них г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детской простоты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томных выраж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неги и мечты! ..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тупит их с улыбкой Леля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них скромных граций торжество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днимет - ангел Рафаэля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к созерцает божеств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Смирнова-Россет Александра Осиповна"/>
          <p:cNvPicPr/>
          <p:nvPr/>
        </p:nvPicPr>
        <p:blipFill>
          <a:blip r:embed="rId1"/>
          <a:stretch/>
        </p:blipFill>
        <p:spPr>
          <a:xfrm>
            <a:off x="4994280" y="1125360"/>
            <a:ext cx="3376440" cy="4248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92720" y="291960"/>
            <a:ext cx="3394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ончар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8000" y="2708280"/>
            <a:ext cx="3538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любле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чарован, слов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гончаро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pushkina_n_n"/>
          <p:cNvPicPr/>
          <p:nvPr/>
        </p:nvPicPr>
        <p:blipFill>
          <a:blip r:embed="rId1"/>
          <a:stretch/>
        </p:blipFill>
        <p:spPr>
          <a:xfrm>
            <a:off x="395280" y="692280"/>
            <a:ext cx="4638600" cy="5700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53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Викторовна Кочубе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3178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дце, ты в воле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позабудь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овой сей дол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астливо будь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весн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фир млад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ой пленен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юности страст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я прекрас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еть увлечен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, я не буд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редь воздыхать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сть позабуду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но страдать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 печал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ечу конец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Кочубей Наталья Викторовна (1800-1854). худ. О.А.Кипренский. 1813"/>
          <p:cNvPicPr/>
          <p:nvPr/>
        </p:nvPicPr>
        <p:blipFill>
          <a:blip r:embed="rId1"/>
          <a:stretch/>
        </p:blipFill>
        <p:spPr>
          <a:xfrm>
            <a:off x="4500720" y="1197000"/>
            <a:ext cx="37670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378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ились мои желань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орец Тебя мне ниспослал, тебя, моя Мадонн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тейший прелести чистейший образе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49103206"/>
          <p:cNvPicPr/>
          <p:nvPr/>
        </p:nvPicPr>
        <p:blipFill>
          <a:blip r:embed="rId1"/>
          <a:stretch/>
        </p:blipFill>
        <p:spPr>
          <a:xfrm>
            <a:off x="3767040" y="260280"/>
            <a:ext cx="4945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6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Бакун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50072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Блеснет ли день за синею горо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зойдет ли ночь с осеннею луною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Я все тебя, прелестный друг ищу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ну ли я, лишь о тебе мечтаю,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дну тебя в неверном вижу сне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думаюсь - невольно призыва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лушаюсь - твой гол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лышен мне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Бакунина Екатерина Павловна (1795-1869), Автопортрет, 1816"/>
          <p:cNvPicPr/>
          <p:nvPr/>
        </p:nvPicPr>
        <p:blipFill>
          <a:blip r:embed="rId1"/>
          <a:stretch/>
        </p:blipFill>
        <p:spPr>
          <a:xfrm>
            <a:off x="4572000" y="1125360"/>
            <a:ext cx="3854520" cy="51850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91600"/>
            <a:ext cx="541008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мин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вдотья Ильинич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Евдокия Ильинична Истомина (1799-1848)"/>
          <p:cNvPicPr/>
          <p:nvPr/>
        </p:nvPicPr>
        <p:blipFill>
          <a:blip r:embed="rId1"/>
          <a:stretch/>
        </p:blipFill>
        <p:spPr>
          <a:xfrm>
            <a:off x="5508720" y="2349360"/>
            <a:ext cx="3008160" cy="379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v"/>
          <p:cNvPicPr/>
          <p:nvPr/>
        </p:nvPicPr>
        <p:blipFill>
          <a:blip r:embed="rId2"/>
          <a:stretch/>
        </p:blipFill>
        <p:spPr>
          <a:xfrm>
            <a:off x="1003320" y="5665680"/>
            <a:ext cx="276120" cy="1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Истомина А.И."/>
          <p:cNvPicPr/>
          <p:nvPr/>
        </p:nvPicPr>
        <p:blipFill>
          <a:blip r:embed="rId3"/>
          <a:stretch/>
        </p:blipFill>
        <p:spPr>
          <a:xfrm>
            <a:off x="539640" y="907920"/>
            <a:ext cx="2003400" cy="280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0"/>
          <p:cNvSpPr/>
          <p:nvPr/>
        </p:nvSpPr>
        <p:spPr>
          <a:xfrm>
            <a:off x="179280" y="4797360"/>
            <a:ext cx="5040360" cy="172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ерпсихора 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древнегреческой мифологии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дна из девяти муз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ровительница танцев и хорового пени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356000" y="1773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08720" y="291600"/>
            <a:ext cx="3178080" cy="19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вдокия Ивановна Голицы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73200" y="2637000"/>
            <a:ext cx="39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Простой воспитанник Природы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Так я бывало воспевал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Мечту прекрасную Свободы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ею сладостно дышал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о вас я вижу, вам внимаю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что же? ... слабый человек!.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Свободу потеряв навек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еволю сердцем обожаю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Евдокия Ивановна Голицына (1780-1850)"/>
          <p:cNvPicPr/>
          <p:nvPr/>
        </p:nvPicPr>
        <p:blipFill>
          <a:blip r:embed="rId1"/>
          <a:stretch/>
        </p:blipFill>
        <p:spPr>
          <a:xfrm>
            <a:off x="684360" y="1557360"/>
            <a:ext cx="3898800" cy="4968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324000" y="54936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5267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сковья Александровна Осип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7704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Цветы последние милей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оскошных первенцев полей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ни унылые мечтанья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пробуждают в нас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Так иногда разлуки час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сладкого свиданья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Осипова Прасковья Александровна (1781-1859)"/>
          <p:cNvPicPr/>
          <p:nvPr/>
        </p:nvPicPr>
        <p:blipFill>
          <a:blip r:embed="rId1"/>
          <a:stretch/>
        </p:blipFill>
        <p:spPr>
          <a:xfrm>
            <a:off x="5940360" y="1341360"/>
            <a:ext cx="2616120" cy="287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6516720" y="4941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8000" y="476280"/>
            <a:ext cx="3538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мператрица  Елизавета Алексе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360" y="2133360"/>
            <a:ext cx="4176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лире скромной, благор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Земных богов я не хвалил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иле в гордости своб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дилом лести не кади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вободу лишь учася славит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ихами жертвуя лишь е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не рожден царей забави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ыдливой музою мое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, признаюсь, под Гелик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Где Кастилийский ток шумел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, вдохновленный Аполл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лисавету втайне пе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бесного земной свидетел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ламененною душ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ел на троне добродетел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 ее приветною красо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юбовь и тайная свобода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ушали сердцу гимн просто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еподкупный голос м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ыл эхо русского нар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Елизавета Алексеевна,  урожд. Принцесса Луиза-Мария-Августа, русская императрица (1779-1826)"/>
          <p:cNvPicPr/>
          <p:nvPr/>
        </p:nvPicPr>
        <p:blipFill>
          <a:blip r:embed="rId1"/>
          <a:stretch/>
        </p:blipFill>
        <p:spPr>
          <a:xfrm>
            <a:off x="1116000" y="1557360"/>
            <a:ext cx="339876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32400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63640" y="291960"/>
            <a:ext cx="352908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нна Петровна Кер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Анна Петровна Керн. Миниатюра, 1820-30-е гг."/>
          <p:cNvPicPr/>
          <p:nvPr/>
        </p:nvPicPr>
        <p:blipFill>
          <a:blip r:embed="rId1"/>
          <a:stretch/>
        </p:blipFill>
        <p:spPr>
          <a:xfrm>
            <a:off x="611280" y="981000"/>
            <a:ext cx="3957480" cy="489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ushkin36-2"/>
          <p:cNvPicPr/>
          <p:nvPr/>
        </p:nvPicPr>
        <p:blipFill>
          <a:blip r:embed="rId2"/>
          <a:stretch/>
        </p:blipFill>
        <p:spPr>
          <a:xfrm>
            <a:off x="5580000" y="270828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25200" y="6093000"/>
            <a:ext cx="6418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…</a:t>
            </a: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и жизнь, и слёзы, и любов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33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Зачем она блист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инутной нежной красотой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а приметно увяд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 цвете юности живой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янет! Жизнью молод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наслаждаться ей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радовать соб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частливый круг семьи своей,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печной, милой острот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еды наши оживля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тихой ясною душ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радальца душу услаждать.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ешу в волненьи дум тяжел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окрыв уныние мо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слушаться речей веселых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аглядеться на нее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мотрю на все ее движенья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имаю каждый звук речей -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миг единый разлученья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жасен для души моей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М.Н.Раевская. Неизвестный художник. 1821 г."/>
          <p:cNvPicPr/>
          <p:nvPr/>
        </p:nvPicPr>
        <p:blipFill>
          <a:blip r:embed="rId1"/>
          <a:stretch/>
        </p:blipFill>
        <p:spPr>
          <a:xfrm>
            <a:off x="4789440" y="1197000"/>
            <a:ext cx="3818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6:03:49Z</dcterms:created>
  <dc:creator>***</dc:creator>
  <dc:description/>
  <dc:language>en-US</dc:language>
  <cp:lastModifiedBy>Я</cp:lastModifiedBy>
  <dcterms:modified xsi:type="dcterms:W3CDTF">2011-07-18T11:25:03Z</dcterms:modified>
  <cp:revision>19</cp:revision>
  <dc:subject/>
  <dc:title>Тема любви в лирик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