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B835-96C1-4C80-955E-E77E09B2D0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85B1-5A93-475A-B207-CE11F73D909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583-F319-42D7-8ABE-366A11D4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D6F-05B1-4888-B6FE-CE5E7CCE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A18-714F-4B7C-B62F-DB10D030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57B-1F60-40BF-91DE-02717D82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5991A-DD3B-4E8D-B681-92C784C4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8DD83-9B12-4A26-914E-C7F873D1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23382-F6F8-49EB-BCE8-FE3A7F2C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FD8C6-28B8-4A01-B368-CD810C4E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2A132-FACB-438E-B734-F162AC52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3F019-464F-4193-A04D-492C4789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3C607-21C3-40CA-9602-459A10CC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DAB-EBDA-4511-A2CD-A8E7B08D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23CA4-4A9B-4DD3-8846-93EEE38A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580A8-FC85-4733-8623-75B909AE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2CCF6-0F9C-4D15-9EAD-E6481CCD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78541-0710-4091-841E-E66BFF66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8AC03-66D5-46DF-934B-6FB723D1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6B9C-3A2A-490E-86BA-BE907435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7EF9-814D-44BE-BA9E-ABF0BB1B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E7B91-A479-438E-A959-8E741790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CB08-BE7C-4CDA-B8F3-01941D69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97251-7FF3-41FE-95D4-CE605313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B14-7AF1-4FF1-B33F-A64C244F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BF5A-5814-44CF-B371-8F54B3BD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6AB1-A729-4921-9494-EFFCE72C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00FED-0564-40CA-8485-1BCEA431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4BC4E-2DEA-4071-9BFD-CB291073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2DCD-E1D8-4312-87F5-EB4BED86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F0CA-3E6E-4993-9971-1B955543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4E64-C753-4C89-BC31-A28363A1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6B83C9-888F-4564-9FC0-F3FC9DE6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5F0F7-0EF6-4AE1-9E7C-781EB2E8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99F61-3D03-4706-A03A-969F8492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556-87C8-484E-9805-48824723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6592E-C2A3-4D5F-8E4C-D0689993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8337D-A35A-438E-B08D-97978AC7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6B283-E889-4E4C-AB49-DD67982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964496-B52F-47EC-A14F-7680B5BF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80925-90FE-47B2-B253-41B04293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F79CB-42E9-4978-8A3E-960CBC8C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107C9-F6F3-4ADB-9CD0-B5ABD579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CF0F1-9948-42FE-B186-D9177441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29B2F9-078A-4746-A3C6-744EBA44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CD0-42C8-41C6-B606-8AEA1D52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483-33DE-4EF8-A46C-8C7C3E63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2B8-8E88-445D-8178-B4708B88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F38-52A2-48E9-803D-E0D868B0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65E-C90D-44B3-B05D-99EDF530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CEBC-C4D3-4D2B-BA9B-8066715AEE2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26F5-0D61-4BB6-96B6-DD2EC7348A2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360A-70C2-4B8E-9CAF-CA757A97051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E37A-B7A2-47B1-8307-E195DE066C7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396720" y="1487520"/>
            <a:ext cx="8313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395280" y="1413000"/>
            <a:ext cx="80755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df69c"/>
                </a:solidFill>
                <a:latin typeface="Constantia"/>
              </a:rPr>
              <a:t>В деревне, в небольшой избушк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Содержимое 7" descr="2567.jpg"/>
          <p:cNvPicPr/>
          <p:nvPr/>
        </p:nvPicPr>
        <p:blipFill>
          <a:blip r:embed="rId2"/>
          <a:stretch/>
        </p:blipFill>
        <p:spPr>
          <a:xfrm>
            <a:off x="684360" y="2060640"/>
            <a:ext cx="324000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d7e0e"/>
                </a:solidFill>
                <a:latin typeface="Constantia"/>
              </a:rPr>
              <a:t>В Питер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13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23880"/>
            <a:ext cx="82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3c5da"/>
                </a:solidFill>
                <a:latin typeface="Constantia"/>
              </a:rPr>
              <a:t>Через два дн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fcf04"/>
                </a:solidFill>
                <a:latin typeface="Constantia"/>
              </a:rPr>
              <a:t>Антипка- это кучер, служащий у бары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19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eb160"/>
                </a:solidFill>
                <a:latin typeface="Constantia"/>
              </a:rPr>
              <a:t>Степа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000" y="2637000"/>
            <a:ext cx="821844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Татья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2206440"/>
          </a:xfrm>
          <a:prstGeom prst="rect">
            <a:avLst/>
          </a:prstGeom>
          <a:ln w="0">
            <a:noFill/>
          </a:ln>
        </p:spPr>
      </p:pic>
      <p:sp>
        <p:nvSpPr>
          <p:cNvPr id="225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df69c"/>
                </a:solidFill>
                <a:latin typeface="Constantia"/>
              </a:rPr>
              <a:t>Капитон Клим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Заголовок 2" descr=""/>
          <p:cNvPicPr/>
          <p:nvPr/>
        </p:nvPicPr>
        <p:blipFill>
          <a:blip r:embed="rId1"/>
          <a:stretch/>
        </p:blipFill>
        <p:spPr>
          <a:xfrm>
            <a:off x="268200" y="-23760"/>
            <a:ext cx="8363160" cy="1438200"/>
          </a:xfrm>
          <a:prstGeom prst="rect">
            <a:avLst/>
          </a:prstGeom>
          <a:ln w="0">
            <a:noFill/>
          </a:ln>
        </p:spPr>
      </p:pic>
      <p:sp>
        <p:nvSpPr>
          <p:cNvPr id="228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c376b"/>
                </a:solidFill>
                <a:latin typeface="Constantia"/>
              </a:rPr>
              <a:t>Домашний лекар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31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69c"/>
                </a:solidFill>
                <a:latin typeface="Constantia"/>
              </a:rPr>
              <a:t>Молодцы, надеемся теперь вы знаете лучше рассказ Тургенева « Муму»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457200" y="1523880"/>
          <a:ext cx="8291520" cy="4788000"/>
        </p:xfrm>
        <a:graphic>
          <a:graphicData uri="http://schemas.openxmlformats.org/drawingml/2006/table">
            <a:tbl>
              <a:tblPr/>
              <a:tblGrid>
                <a:gridCol w="1679400"/>
                <a:gridCol w="1084320"/>
                <a:gridCol w="1381320"/>
                <a:gridCol w="1382760"/>
                <a:gridCol w="1380960"/>
                <a:gridCol w="13827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алл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зовут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1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2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гда и гд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2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15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то это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cf059"/>
                </a:solidFill>
                <a:latin typeface="Constantia"/>
              </a:rPr>
              <a:t>Гераси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Содержимое 13" descr="0016-011-Rasskaz-I.S.Turgeneva-Mumu.jpg"/>
          <p:cNvPicPr/>
          <p:nvPr/>
        </p:nvPicPr>
        <p:blipFill>
          <a:blip r:embed="rId2"/>
          <a:stretch/>
        </p:blipFill>
        <p:spPr>
          <a:xfrm>
            <a:off x="2050920" y="1989000"/>
            <a:ext cx="2737080" cy="420696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домой 3"/>
          <p:cNvSpPr/>
          <p:nvPr/>
        </p:nvSpPr>
        <p:spPr>
          <a:xfrm>
            <a:off x="7020000" y="479736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10800" y="4552"/>
                </a:moveTo>
                <a:lnTo>
                  <a:pt x="13376" y="7164"/>
                </a:lnTo>
                <a:lnTo>
                  <a:pt x="13376" y="5423"/>
                </a:lnTo>
                <a:lnTo>
                  <a:pt x="15152" y="5423"/>
                </a:lnTo>
                <a:lnTo>
                  <a:pt x="15152" y="8939"/>
                </a:lnTo>
                <a:lnTo>
                  <a:pt x="17763" y="11515"/>
                </a:lnTo>
                <a:lnTo>
                  <a:pt x="16109" y="11515"/>
                </a:lnTo>
                <a:lnTo>
                  <a:pt x="16109" y="18705"/>
                </a:lnTo>
                <a:lnTo>
                  <a:pt x="5491" y="18705"/>
                </a:lnTo>
                <a:lnTo>
                  <a:pt x="5491" y="11515"/>
                </a:lnTo>
                <a:lnTo>
                  <a:pt x="3837" y="11515"/>
                </a:lnTo>
                <a:close/>
              </a:path>
              <a:path fill="darkenLess" w="21600" h="23031">
                <a:moveTo>
                  <a:pt x="13376" y="7164"/>
                </a:moveTo>
                <a:lnTo>
                  <a:pt x="13376" y="5423"/>
                </a:lnTo>
                <a:lnTo>
                  <a:pt x="15152" y="5423"/>
                </a:lnTo>
                <a:lnTo>
                  <a:pt x="15152" y="8939"/>
                </a:lnTo>
                <a:close/>
              </a:path>
              <a:path fill="darkenLess" w="21600" h="23031">
                <a:moveTo>
                  <a:pt x="9877" y="15014"/>
                </a:moveTo>
                <a:lnTo>
                  <a:pt x="11723" y="15014"/>
                </a:lnTo>
                <a:lnTo>
                  <a:pt x="11723" y="18705"/>
                </a:lnTo>
                <a:lnTo>
                  <a:pt x="16109" y="18705"/>
                </a:lnTo>
                <a:lnTo>
                  <a:pt x="16109" y="11515"/>
                </a:lnTo>
                <a:lnTo>
                  <a:pt x="5491" y="11515"/>
                </a:lnTo>
                <a:lnTo>
                  <a:pt x="5491" y="18705"/>
                </a:lnTo>
                <a:lnTo>
                  <a:pt x="9877" y="18705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729640" cy="13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Капитон Клим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Содержимое 5" descr="c0bae8b5bca3a20d9f4941b3406183e9.jpg"/>
          <p:cNvPicPr/>
          <p:nvPr/>
        </p:nvPicPr>
        <p:blipFill>
          <a:blip r:embed="rId2"/>
          <a:stretch/>
        </p:blipFill>
        <p:spPr>
          <a:xfrm>
            <a:off x="900000" y="2205000"/>
            <a:ext cx="2951280" cy="3743280"/>
          </a:xfrm>
          <a:prstGeom prst="rect">
            <a:avLst/>
          </a:prstGeom>
          <a:ln w="0">
            <a:noFill/>
          </a:ln>
        </p:spPr>
      </p:pic>
      <p:sp>
        <p:nvSpPr>
          <p:cNvPr id="186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7380360" y="5157720"/>
            <a:ext cx="1224000" cy="1224000"/>
          </a:xfrm>
          <a:custGeom>
            <a:avLst/>
            <a:gdLst>
              <a:gd name="textAreaLeft" fmla="*/ 79200 w 1224000"/>
              <a:gd name="textAreaRight" fmla="*/ 1144800 w 1224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2" descr=""/>
          <p:cNvPicPr/>
          <p:nvPr/>
        </p:nvPicPr>
        <p:blipFill>
          <a:blip r:embed="rId1"/>
          <a:stretch/>
        </p:blipFill>
        <p:spPr>
          <a:xfrm>
            <a:off x="328680" y="-55440"/>
            <a:ext cx="8364600" cy="1433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2613"/>
                </a:solidFill>
                <a:latin typeface="Constantia"/>
              </a:rPr>
              <a:t>Гаврил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5e4a9"/>
                </a:solidFill>
                <a:latin typeface="Constantia"/>
              </a:rPr>
              <a:t>Татья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68360" y="1523520"/>
            <a:ext cx="64389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Управляющая кнопка: домой 3"/>
          <p:cNvSpPr/>
          <p:nvPr/>
        </p:nvSpPr>
        <p:spPr>
          <a:xfrm>
            <a:off x="7164360" y="4724280"/>
            <a:ext cx="1295280" cy="15130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513080"/>
              <a:gd name="textAreaBottom" fmla="*/ 1429200 h 1513080"/>
            </a:gdLst>
            <a:ahLst/>
            <a:rect l="textAreaLeft" t="textAreaTop" r="textAreaRight" b="textAreaBottom"/>
            <a:pathLst>
              <a:path w="21600" h="25231">
                <a:moveTo>
                  <a:pt x="0" y="0"/>
                </a:moveTo>
                <a:lnTo>
                  <a:pt x="21600" y="0"/>
                </a:lnTo>
                <a:lnTo>
                  <a:pt x="21600" y="25231"/>
                </a:lnTo>
                <a:lnTo>
                  <a:pt x="0" y="25231"/>
                </a:lnTo>
                <a:close/>
              </a:path>
              <a:path fill="lightenLess" w="21600" h="252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31">
                <a:moveTo>
                  <a:pt x="21600" y="0"/>
                </a:moveTo>
                <a:lnTo>
                  <a:pt x="21600" y="25231"/>
                </a:lnTo>
                <a:lnTo>
                  <a:pt x="20200" y="23831"/>
                </a:lnTo>
                <a:lnTo>
                  <a:pt x="20200" y="1400"/>
                </a:lnTo>
                <a:close/>
              </a:path>
              <a:path fill="darkenLess" w="21600" h="25231">
                <a:moveTo>
                  <a:pt x="21600" y="25231"/>
                </a:moveTo>
                <a:lnTo>
                  <a:pt x="0" y="25231"/>
                </a:lnTo>
                <a:lnTo>
                  <a:pt x="1400" y="23831"/>
                </a:lnTo>
                <a:lnTo>
                  <a:pt x="20200" y="23831"/>
                </a:lnTo>
                <a:close/>
              </a:path>
              <a:path fill="lighten" w="21600" h="25231">
                <a:moveTo>
                  <a:pt x="0" y="252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31"/>
                </a:lnTo>
                <a:close/>
              </a:path>
              <a:path fill="darken" w="21600" h="25231">
                <a:moveTo>
                  <a:pt x="10800" y="5653"/>
                </a:moveTo>
                <a:lnTo>
                  <a:pt x="13376" y="8264"/>
                </a:lnTo>
                <a:lnTo>
                  <a:pt x="13376" y="6523"/>
                </a:lnTo>
                <a:lnTo>
                  <a:pt x="15152" y="6523"/>
                </a:lnTo>
                <a:lnTo>
                  <a:pt x="15152" y="10039"/>
                </a:lnTo>
                <a:lnTo>
                  <a:pt x="17763" y="12616"/>
                </a:lnTo>
                <a:lnTo>
                  <a:pt x="16109" y="12616"/>
                </a:lnTo>
                <a:lnTo>
                  <a:pt x="16109" y="19805"/>
                </a:lnTo>
                <a:lnTo>
                  <a:pt x="5491" y="19805"/>
                </a:lnTo>
                <a:lnTo>
                  <a:pt x="5491" y="12616"/>
                </a:lnTo>
                <a:lnTo>
                  <a:pt x="3837" y="12616"/>
                </a:lnTo>
                <a:close/>
              </a:path>
              <a:path fill="darkenLess" w="21600" h="25231">
                <a:moveTo>
                  <a:pt x="13376" y="8264"/>
                </a:moveTo>
                <a:lnTo>
                  <a:pt x="13376" y="6523"/>
                </a:lnTo>
                <a:lnTo>
                  <a:pt x="15152" y="6523"/>
                </a:lnTo>
                <a:lnTo>
                  <a:pt x="15152" y="10039"/>
                </a:lnTo>
                <a:close/>
              </a:path>
              <a:path fill="darkenLess" w="21600" h="25231">
                <a:moveTo>
                  <a:pt x="9877" y="16114"/>
                </a:moveTo>
                <a:lnTo>
                  <a:pt x="11723" y="16114"/>
                </a:lnTo>
                <a:lnTo>
                  <a:pt x="11723" y="19805"/>
                </a:lnTo>
                <a:lnTo>
                  <a:pt x="16109" y="19805"/>
                </a:lnTo>
                <a:lnTo>
                  <a:pt x="16109" y="12616"/>
                </a:lnTo>
                <a:lnTo>
                  <a:pt x="5491" y="12616"/>
                </a:lnTo>
                <a:lnTo>
                  <a:pt x="5491" y="19805"/>
                </a:lnTo>
                <a:lnTo>
                  <a:pt x="9877" y="19805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9eb160"/>
                </a:solidFill>
                <a:latin typeface="Constantia"/>
              </a:rPr>
              <a:t>Устинья Федоров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Содержимое 5" descr="эскиз.jpg"/>
          <p:cNvPicPr/>
          <p:nvPr/>
        </p:nvPicPr>
        <p:blipFill>
          <a:blip r:embed="rId2"/>
          <a:stretch/>
        </p:blipFill>
        <p:spPr>
          <a:xfrm>
            <a:off x="3203640" y="2133720"/>
            <a:ext cx="3168720" cy="3835440"/>
          </a:xfrm>
          <a:prstGeom prst="rect">
            <a:avLst/>
          </a:prstGeom>
          <a:ln w="0">
            <a:noFill/>
          </a:ln>
        </p:spPr>
      </p:pic>
      <p:sp>
        <p:nvSpPr>
          <p:cNvPr id="198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cd3dc"/>
                </a:solidFill>
                <a:latin typeface="Constantia"/>
              </a:rPr>
              <a:t>Весной, вечер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Содержимое 5" descr="эскиз-2.jpg"/>
          <p:cNvPicPr/>
          <p:nvPr/>
        </p:nvPicPr>
        <p:blipFill>
          <a:blip r:embed="rId2"/>
          <a:stretch/>
        </p:blipFill>
        <p:spPr>
          <a:xfrm>
            <a:off x="539640" y="1989000"/>
            <a:ext cx="3425760" cy="4353120"/>
          </a:xfrm>
          <a:prstGeom prst="rect">
            <a:avLst/>
          </a:prstGeom>
          <a:ln w="0">
            <a:noFill/>
          </a:ln>
        </p:spPr>
      </p:pic>
      <p:sp>
        <p:nvSpPr>
          <p:cNvPr id="202" name="Управляющая кнопка: домой 3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57200" y="1413000"/>
            <a:ext cx="68515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7cee6"/>
                </a:solidFill>
                <a:latin typeface="Constantia"/>
              </a:rPr>
              <a:t>В одной из отдаленных улиц Москвы, в доме старой барын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Управляющая кнопка: домой 4"/>
          <p:cNvSpPr/>
          <p:nvPr/>
        </p:nvSpPr>
        <p:spPr>
          <a:xfrm>
            <a:off x="7236000" y="5013360"/>
            <a:ext cx="1296720" cy="1511280"/>
          </a:xfrm>
          <a:custGeom>
            <a:avLst/>
            <a:gdLst>
              <a:gd name="textAreaLeft" fmla="*/ 83880 w 1296720"/>
              <a:gd name="textAreaRight" fmla="*/ 1212840 w 1296720"/>
              <a:gd name="textAreaTop" fmla="*/ 83880 h 1511280"/>
              <a:gd name="textAreaBottom" fmla="*/ 1427400 h 1511280"/>
            </a:gdLst>
            <a:ahLst/>
            <a:rect l="textAreaLeft" t="textAreaTop" r="textAreaRight" b="textAreaBottom"/>
            <a:pathLst>
              <a:path w="21600" h="25173">
                <a:moveTo>
                  <a:pt x="0" y="0"/>
                </a:moveTo>
                <a:lnTo>
                  <a:pt x="21600" y="0"/>
                </a:lnTo>
                <a:lnTo>
                  <a:pt x="21600" y="25173"/>
                </a:lnTo>
                <a:lnTo>
                  <a:pt x="0" y="25173"/>
                </a:lnTo>
                <a:close/>
              </a:path>
              <a:path fill="lightenLess" w="21600" h="251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73">
                <a:moveTo>
                  <a:pt x="21600" y="0"/>
                </a:moveTo>
                <a:lnTo>
                  <a:pt x="21600" y="25173"/>
                </a:lnTo>
                <a:lnTo>
                  <a:pt x="20200" y="23773"/>
                </a:lnTo>
                <a:lnTo>
                  <a:pt x="20200" y="1400"/>
                </a:lnTo>
                <a:close/>
              </a:path>
              <a:path fill="darkenLess" w="21600" h="25173">
                <a:moveTo>
                  <a:pt x="21600" y="25173"/>
                </a:moveTo>
                <a:lnTo>
                  <a:pt x="0" y="25173"/>
                </a:lnTo>
                <a:lnTo>
                  <a:pt x="1400" y="23773"/>
                </a:lnTo>
                <a:lnTo>
                  <a:pt x="20200" y="23773"/>
                </a:lnTo>
                <a:close/>
              </a:path>
              <a:path fill="lighten" w="21600" h="25173">
                <a:moveTo>
                  <a:pt x="0" y="251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73"/>
                </a:lnTo>
                <a:close/>
              </a:path>
              <a:path fill="darken" w="21600" h="25173">
                <a:moveTo>
                  <a:pt x="10800" y="5624"/>
                </a:moveTo>
                <a:lnTo>
                  <a:pt x="13376" y="8235"/>
                </a:ln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lnTo>
                  <a:pt x="17763" y="12587"/>
                </a:lnTo>
                <a:lnTo>
                  <a:pt x="16109" y="12587"/>
                </a:lnTo>
                <a:lnTo>
                  <a:pt x="16109" y="19776"/>
                </a:lnTo>
                <a:lnTo>
                  <a:pt x="5491" y="19776"/>
                </a:lnTo>
                <a:lnTo>
                  <a:pt x="5491" y="12587"/>
                </a:lnTo>
                <a:lnTo>
                  <a:pt x="3837" y="12587"/>
                </a:lnTo>
                <a:close/>
              </a:path>
              <a:path fill="darkenLess" w="21600" h="25173">
                <a:moveTo>
                  <a:pt x="13376" y="8235"/>
                </a:moveTo>
                <a:lnTo>
                  <a:pt x="13376" y="6494"/>
                </a:lnTo>
                <a:lnTo>
                  <a:pt x="15152" y="6494"/>
                </a:lnTo>
                <a:lnTo>
                  <a:pt x="15152" y="10010"/>
                </a:lnTo>
                <a:close/>
              </a:path>
              <a:path fill="darkenLess" w="21600" h="25173">
                <a:moveTo>
                  <a:pt x="9877" y="16085"/>
                </a:moveTo>
                <a:lnTo>
                  <a:pt x="11723" y="16085"/>
                </a:lnTo>
                <a:lnTo>
                  <a:pt x="11723" y="19776"/>
                </a:lnTo>
                <a:lnTo>
                  <a:pt x="16109" y="19776"/>
                </a:lnTo>
                <a:lnTo>
                  <a:pt x="16109" y="12587"/>
                </a:lnTo>
                <a:lnTo>
                  <a:pt x="5491" y="12587"/>
                </a:lnTo>
                <a:lnTo>
                  <a:pt x="5491" y="19776"/>
                </a:lnTo>
                <a:lnTo>
                  <a:pt x="9877" y="19776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280836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9:43:59Z</dcterms:created>
  <dc:creator>Иванова</dc:creator>
  <dc:description/>
  <dc:language>en-US</dc:language>
  <cp:lastModifiedBy>Admin</cp:lastModifiedBy>
  <dcterms:modified xsi:type="dcterms:W3CDTF">2012-03-21T17:41:57Z</dcterms:modified>
  <cp:revision>27</cp:revision>
  <dc:subject/>
  <dc:title>Игра по теме: И. С. Тургенев «Муму»</dc:title>
</cp:coreProperties>
</file>