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CF5D-2DBA-4C9B-B4F1-1056262424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589A-41CA-4545-9A22-2932C16FCF7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7EE-114A-44E3-B2DA-A1DD0512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D3E-EEF5-41FE-8518-370CE38D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2B80-D850-479F-AB62-326D466F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329B-2502-459D-8FF8-DE0A9D1E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8FB32-5272-460B-9951-89C1FB02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2855F-E3CE-49DB-B334-93A03D16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54B8B-180D-480F-8182-656EC645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A5C61-15F7-495B-A0A9-CF4007CD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545B8-8726-4D37-85B5-6FF9B5B3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D762D-0422-47A8-8548-20E55D2E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B4BC7-9794-443B-915C-CFBF5142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8CF-B332-4CB5-B343-3274B14A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A3050-137C-4C9E-B719-4CDD1158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97146-3321-4E14-BB83-AD7D7EF2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DC110-EE63-427C-88C8-31FA5845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E9D3A-A526-4DF5-AB10-9188B459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926AE-B719-4213-A967-56E34DBD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C6A75-5DA4-489B-965D-147A993A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90629-8B43-436E-8D6D-0DA73463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3EED2-578D-44B4-9130-8BE5052E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518DF-0628-41C6-8253-B0269F0C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CEEE1-D9AE-44C4-A92F-D85B6371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F44B-8F6F-4F70-AD1F-F280C072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982A7-0F88-49CD-8A09-3E0D6F76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40869-F5F9-468F-9BB6-074441A2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89491-9E71-44A3-82D0-E900CD21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C272E-AEC6-4844-A7E2-87ED9A8F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F41C2-AE59-4818-BEF5-6E983FD7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93334-6FB6-4CCF-840B-D8C5A700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3678E-667F-44A9-A0C6-3CA3BFCA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77F773-91C9-488B-9334-3B9C3318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864D66-EACC-4592-B464-013FB8C2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AD2347-DFC2-40EE-B50E-2886FF8A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BED3-217D-4E98-992B-CA52954B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2FFC24-9B21-462B-A75C-AD850B79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6FBCF8-D966-47F6-9B9C-6039C110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25E37B-915F-495D-A0C0-5827688F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DBA52C-7CE3-4EAF-AC10-1DD6A2AC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183CAF-A994-4C87-91B4-992C2F85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1BF9A1-4655-4209-966D-AB21DAB1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C978E0-6D98-4C90-8175-49FFDC27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5C03AA-14CB-4714-9867-CD5000D8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B616B8-83A5-4EFC-B001-94D6F73A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4BBE-BFDE-44C7-AAD4-8F06B971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1A5-3C37-4ECE-B68F-0DD65740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0A6-9A16-4139-82FE-6985B2D6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953-BCB0-492B-9BA4-6D06E4D8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426-9ABE-48E4-935B-9E78D124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8A70-0A71-4E0B-B18A-3E49FD7FCDD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8A94-D1B8-4F3F-AF14-8E0EF891D09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B139-6B56-42F1-9587-4F99571C6FC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463A-38A9-45F3-974C-0BF3E87C2A3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Заголовок 1" descr=""/>
          <p:cNvPicPr/>
          <p:nvPr/>
        </p:nvPicPr>
        <p:blipFill>
          <a:blip r:embed="rId1"/>
          <a:stretch/>
        </p:blipFill>
        <p:spPr>
          <a:xfrm>
            <a:off x="396720" y="1487520"/>
            <a:ext cx="83138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395280" y="1413000"/>
            <a:ext cx="80755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df69c"/>
                </a:solidFill>
                <a:latin typeface="Constantia"/>
              </a:rPr>
              <a:t>В деревне, в небольшой избушк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Содержимое 7" descr="2567.jpg"/>
          <p:cNvPicPr/>
          <p:nvPr/>
        </p:nvPicPr>
        <p:blipFill>
          <a:blip r:embed="rId2"/>
          <a:stretch/>
        </p:blipFill>
        <p:spPr>
          <a:xfrm>
            <a:off x="684360" y="2060640"/>
            <a:ext cx="324000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d7e0e"/>
                </a:solidFill>
                <a:latin typeface="Constantia"/>
              </a:rPr>
              <a:t>В Питер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13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523880"/>
            <a:ext cx="82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3c5da"/>
                </a:solidFill>
                <a:latin typeface="Constantia"/>
              </a:rPr>
              <a:t>Через два дн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16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fcf04"/>
                </a:solidFill>
                <a:latin typeface="Constantia"/>
              </a:rPr>
              <a:t>Антипка- это кучер, служащий у барын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19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eb160"/>
                </a:solidFill>
                <a:latin typeface="Constantia"/>
              </a:rPr>
              <a:t>Степа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22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68000" y="2637000"/>
            <a:ext cx="821844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c891"/>
                </a:solidFill>
                <a:latin typeface="Constantia"/>
              </a:rPr>
              <a:t>Татья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4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2206440"/>
          </a:xfrm>
          <a:prstGeom prst="rect">
            <a:avLst/>
          </a:prstGeom>
          <a:ln w="0">
            <a:noFill/>
          </a:ln>
        </p:spPr>
      </p:pic>
      <p:sp>
        <p:nvSpPr>
          <p:cNvPr id="225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df69c"/>
                </a:solidFill>
                <a:latin typeface="Constantia"/>
              </a:rPr>
              <a:t>Капитон Клим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7" name="Заголовок 2" descr=""/>
          <p:cNvPicPr/>
          <p:nvPr/>
        </p:nvPicPr>
        <p:blipFill>
          <a:blip r:embed="rId1"/>
          <a:stretch/>
        </p:blipFill>
        <p:spPr>
          <a:xfrm>
            <a:off x="268200" y="-23760"/>
            <a:ext cx="8363160" cy="1438200"/>
          </a:xfrm>
          <a:prstGeom prst="rect">
            <a:avLst/>
          </a:prstGeom>
          <a:ln w="0">
            <a:noFill/>
          </a:ln>
        </p:spPr>
      </p:pic>
      <p:sp>
        <p:nvSpPr>
          <p:cNvPr id="228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c376b"/>
                </a:solidFill>
                <a:latin typeface="Constantia"/>
              </a:rPr>
              <a:t>Домашний лекар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0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31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f69c"/>
                </a:solidFill>
                <a:latin typeface="Constantia"/>
              </a:rPr>
              <a:t>Молодцы, надеемся теперь вы знаете лучше рассказ Тургенева « Муму»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457200" y="1523880"/>
          <a:ext cx="8291520" cy="4788000"/>
        </p:xfrm>
        <a:graphic>
          <a:graphicData uri="http://schemas.openxmlformats.org/drawingml/2006/table">
            <a:tbl>
              <a:tblPr/>
              <a:tblGrid>
                <a:gridCol w="1679400"/>
                <a:gridCol w="1084320"/>
                <a:gridCol w="1381320"/>
                <a:gridCol w="1382760"/>
                <a:gridCol w="1380960"/>
                <a:gridCol w="13827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ем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Балл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зовут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1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" action="ppaction://hlinksldjump"/>
                        </a:rPr>
                        <a:t>1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3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4" action="ppaction://hlinksldjump"/>
                        </a:rPr>
                        <a:t>2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1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гда и где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5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6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7" action="ppaction://hlinksldjump"/>
                        </a:rPr>
                        <a:t>1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9" action="ppaction://hlinksldjump"/>
                        </a:rPr>
                        <a:t>2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15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то это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cf059"/>
                </a:solidFill>
                <a:latin typeface="Constantia"/>
              </a:rPr>
              <a:t>Гераси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Содержимое 13" descr="0016-011-Rasskaz-I.S.Turgeneva-Mumu.jpg"/>
          <p:cNvPicPr/>
          <p:nvPr/>
        </p:nvPicPr>
        <p:blipFill>
          <a:blip r:embed="rId2"/>
          <a:stretch/>
        </p:blipFill>
        <p:spPr>
          <a:xfrm>
            <a:off x="2050920" y="1989000"/>
            <a:ext cx="2737080" cy="4206960"/>
          </a:xfrm>
          <a:prstGeom prst="rect">
            <a:avLst/>
          </a:prstGeom>
          <a:ln w="0">
            <a:noFill/>
          </a:ln>
        </p:spPr>
      </p:pic>
      <p:sp>
        <p:nvSpPr>
          <p:cNvPr id="182" name="Управляющая кнопка: домой 3"/>
          <p:cNvSpPr/>
          <p:nvPr/>
        </p:nvSpPr>
        <p:spPr>
          <a:xfrm>
            <a:off x="7020000" y="479736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10800" y="4552"/>
                </a:moveTo>
                <a:lnTo>
                  <a:pt x="13376" y="7164"/>
                </a:lnTo>
                <a:lnTo>
                  <a:pt x="13376" y="5423"/>
                </a:lnTo>
                <a:lnTo>
                  <a:pt x="15152" y="5423"/>
                </a:lnTo>
                <a:lnTo>
                  <a:pt x="15152" y="8939"/>
                </a:lnTo>
                <a:lnTo>
                  <a:pt x="17763" y="11515"/>
                </a:lnTo>
                <a:lnTo>
                  <a:pt x="16109" y="11515"/>
                </a:lnTo>
                <a:lnTo>
                  <a:pt x="16109" y="18705"/>
                </a:lnTo>
                <a:lnTo>
                  <a:pt x="5491" y="18705"/>
                </a:lnTo>
                <a:lnTo>
                  <a:pt x="5491" y="11515"/>
                </a:lnTo>
                <a:lnTo>
                  <a:pt x="3837" y="11515"/>
                </a:lnTo>
                <a:close/>
              </a:path>
              <a:path fill="darkenLess" w="21600" h="23031">
                <a:moveTo>
                  <a:pt x="13376" y="7164"/>
                </a:moveTo>
                <a:lnTo>
                  <a:pt x="13376" y="5423"/>
                </a:lnTo>
                <a:lnTo>
                  <a:pt x="15152" y="5423"/>
                </a:lnTo>
                <a:lnTo>
                  <a:pt x="15152" y="8939"/>
                </a:lnTo>
                <a:close/>
              </a:path>
              <a:path fill="darkenLess" w="21600" h="23031">
                <a:moveTo>
                  <a:pt x="9877" y="15014"/>
                </a:moveTo>
                <a:lnTo>
                  <a:pt x="11723" y="15014"/>
                </a:lnTo>
                <a:lnTo>
                  <a:pt x="11723" y="18705"/>
                </a:lnTo>
                <a:lnTo>
                  <a:pt x="16109" y="18705"/>
                </a:lnTo>
                <a:lnTo>
                  <a:pt x="16109" y="11515"/>
                </a:lnTo>
                <a:lnTo>
                  <a:pt x="5491" y="11515"/>
                </a:lnTo>
                <a:lnTo>
                  <a:pt x="5491" y="18705"/>
                </a:lnTo>
                <a:lnTo>
                  <a:pt x="9877" y="18705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729640" cy="13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c891"/>
                </a:solidFill>
                <a:latin typeface="Constantia"/>
              </a:rPr>
              <a:t>Капитон Клим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Содержимое 5" descr="c0bae8b5bca3a20d9f4941b3406183e9.jpg"/>
          <p:cNvPicPr/>
          <p:nvPr/>
        </p:nvPicPr>
        <p:blipFill>
          <a:blip r:embed="rId2"/>
          <a:stretch/>
        </p:blipFill>
        <p:spPr>
          <a:xfrm>
            <a:off x="900000" y="2205000"/>
            <a:ext cx="2951280" cy="3743280"/>
          </a:xfrm>
          <a:prstGeom prst="rect">
            <a:avLst/>
          </a:prstGeom>
          <a:ln w="0">
            <a:noFill/>
          </a:ln>
        </p:spPr>
      </p:pic>
      <p:sp>
        <p:nvSpPr>
          <p:cNvPr id="186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7380360" y="5157720"/>
            <a:ext cx="1224000" cy="1224000"/>
          </a:xfrm>
          <a:custGeom>
            <a:avLst/>
            <a:gdLst>
              <a:gd name="textAreaLeft" fmla="*/ 79200 w 1224000"/>
              <a:gd name="textAreaRight" fmla="*/ 1144800 w 1224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Заголовок 2" descr=""/>
          <p:cNvPicPr/>
          <p:nvPr/>
        </p:nvPicPr>
        <p:blipFill>
          <a:blip r:embed="rId1"/>
          <a:stretch/>
        </p:blipFill>
        <p:spPr>
          <a:xfrm>
            <a:off x="328680" y="-55440"/>
            <a:ext cx="8364600" cy="1433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2613"/>
                </a:solidFill>
                <a:latin typeface="Constantia"/>
              </a:rPr>
              <a:t>Гаврил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5e4a9"/>
                </a:solidFill>
                <a:latin typeface="Constantia"/>
              </a:rPr>
              <a:t>Татья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68360" y="1523520"/>
            <a:ext cx="64389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Управляющая кнопка: домой 3"/>
          <p:cNvSpPr/>
          <p:nvPr/>
        </p:nvSpPr>
        <p:spPr>
          <a:xfrm>
            <a:off x="7164360" y="4724280"/>
            <a:ext cx="1295280" cy="151308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513080"/>
              <a:gd name="textAreaBottom" fmla="*/ 1429200 h 1513080"/>
            </a:gdLst>
            <a:ahLst/>
            <a:rect l="textAreaLeft" t="textAreaTop" r="textAreaRight" b="textAreaBottom"/>
            <a:pathLst>
              <a:path w="21600" h="25231">
                <a:moveTo>
                  <a:pt x="0" y="0"/>
                </a:moveTo>
                <a:lnTo>
                  <a:pt x="21600" y="0"/>
                </a:lnTo>
                <a:lnTo>
                  <a:pt x="21600" y="25231"/>
                </a:lnTo>
                <a:lnTo>
                  <a:pt x="0" y="25231"/>
                </a:lnTo>
                <a:close/>
              </a:path>
              <a:path fill="lightenLess" w="21600" h="252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31">
                <a:moveTo>
                  <a:pt x="21600" y="0"/>
                </a:moveTo>
                <a:lnTo>
                  <a:pt x="21600" y="25231"/>
                </a:lnTo>
                <a:lnTo>
                  <a:pt x="20200" y="23831"/>
                </a:lnTo>
                <a:lnTo>
                  <a:pt x="20200" y="1400"/>
                </a:lnTo>
                <a:close/>
              </a:path>
              <a:path fill="darkenLess" w="21600" h="25231">
                <a:moveTo>
                  <a:pt x="21600" y="25231"/>
                </a:moveTo>
                <a:lnTo>
                  <a:pt x="0" y="25231"/>
                </a:lnTo>
                <a:lnTo>
                  <a:pt x="1400" y="23831"/>
                </a:lnTo>
                <a:lnTo>
                  <a:pt x="20200" y="23831"/>
                </a:lnTo>
                <a:close/>
              </a:path>
              <a:path fill="lighten" w="21600" h="25231">
                <a:moveTo>
                  <a:pt x="0" y="252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31"/>
                </a:lnTo>
                <a:close/>
              </a:path>
              <a:path fill="darken" w="21600" h="25231">
                <a:moveTo>
                  <a:pt x="10800" y="5653"/>
                </a:moveTo>
                <a:lnTo>
                  <a:pt x="13376" y="8264"/>
                </a:lnTo>
                <a:lnTo>
                  <a:pt x="13376" y="6523"/>
                </a:lnTo>
                <a:lnTo>
                  <a:pt x="15152" y="6523"/>
                </a:lnTo>
                <a:lnTo>
                  <a:pt x="15152" y="10039"/>
                </a:lnTo>
                <a:lnTo>
                  <a:pt x="17763" y="12616"/>
                </a:lnTo>
                <a:lnTo>
                  <a:pt x="16109" y="12616"/>
                </a:lnTo>
                <a:lnTo>
                  <a:pt x="16109" y="19805"/>
                </a:lnTo>
                <a:lnTo>
                  <a:pt x="5491" y="19805"/>
                </a:lnTo>
                <a:lnTo>
                  <a:pt x="5491" y="12616"/>
                </a:lnTo>
                <a:lnTo>
                  <a:pt x="3837" y="12616"/>
                </a:lnTo>
                <a:close/>
              </a:path>
              <a:path fill="darkenLess" w="21600" h="25231">
                <a:moveTo>
                  <a:pt x="13376" y="8264"/>
                </a:moveTo>
                <a:lnTo>
                  <a:pt x="13376" y="6523"/>
                </a:lnTo>
                <a:lnTo>
                  <a:pt x="15152" y="6523"/>
                </a:lnTo>
                <a:lnTo>
                  <a:pt x="15152" y="10039"/>
                </a:lnTo>
                <a:close/>
              </a:path>
              <a:path fill="darkenLess" w="21600" h="25231">
                <a:moveTo>
                  <a:pt x="9877" y="16114"/>
                </a:moveTo>
                <a:lnTo>
                  <a:pt x="11723" y="16114"/>
                </a:lnTo>
                <a:lnTo>
                  <a:pt x="11723" y="19805"/>
                </a:lnTo>
                <a:lnTo>
                  <a:pt x="16109" y="19805"/>
                </a:lnTo>
                <a:lnTo>
                  <a:pt x="16109" y="12616"/>
                </a:lnTo>
                <a:lnTo>
                  <a:pt x="5491" y="12616"/>
                </a:lnTo>
                <a:lnTo>
                  <a:pt x="5491" y="19805"/>
                </a:lnTo>
                <a:lnTo>
                  <a:pt x="9877" y="19805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9eb160"/>
                </a:solidFill>
                <a:latin typeface="Constantia"/>
              </a:rPr>
              <a:t>Устинья Федоров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Содержимое 5" descr="эскиз.jpg"/>
          <p:cNvPicPr/>
          <p:nvPr/>
        </p:nvPicPr>
        <p:blipFill>
          <a:blip r:embed="rId2"/>
          <a:stretch/>
        </p:blipFill>
        <p:spPr>
          <a:xfrm>
            <a:off x="3203640" y="2133720"/>
            <a:ext cx="3168720" cy="3835440"/>
          </a:xfrm>
          <a:prstGeom prst="rect">
            <a:avLst/>
          </a:prstGeom>
          <a:ln w="0">
            <a:noFill/>
          </a:ln>
        </p:spPr>
      </p:pic>
      <p:sp>
        <p:nvSpPr>
          <p:cNvPr id="198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cd3dc"/>
                </a:solidFill>
                <a:latin typeface="Constantia"/>
              </a:rPr>
              <a:t>Весной, вечеро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Содержимое 5" descr="эскиз-2.jpg"/>
          <p:cNvPicPr/>
          <p:nvPr/>
        </p:nvPicPr>
        <p:blipFill>
          <a:blip r:embed="rId2"/>
          <a:stretch/>
        </p:blipFill>
        <p:spPr>
          <a:xfrm>
            <a:off x="539640" y="1989000"/>
            <a:ext cx="3425760" cy="4353120"/>
          </a:xfrm>
          <a:prstGeom prst="rect">
            <a:avLst/>
          </a:prstGeom>
          <a:ln w="0">
            <a:noFill/>
          </a:ln>
        </p:spPr>
      </p:pic>
      <p:sp>
        <p:nvSpPr>
          <p:cNvPr id="202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457200" y="1413000"/>
            <a:ext cx="685152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7cee6"/>
                </a:solidFill>
                <a:latin typeface="Constantia"/>
              </a:rPr>
              <a:t>В одной из отдаленных улиц Москвы, в доме старой барын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Управляющая кнопка: домой 4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826920" y="2565360"/>
            <a:ext cx="280836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09:43:59Z</dcterms:created>
  <dc:creator>Иванова</dc:creator>
  <dc:description/>
  <dc:language>en-US</dc:language>
  <cp:lastModifiedBy>Admin</cp:lastModifiedBy>
  <dcterms:modified xsi:type="dcterms:W3CDTF">2012-03-21T17:41:57Z</dcterms:modified>
  <cp:revision>27</cp:revision>
  <dc:subject/>
  <dc:title>Игра по теме: И. С. Тургенев «Муму»</dc:title>
</cp:coreProperties>
</file>