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211C-5494-47EC-A515-92AF62B7EB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2882-57C9-43A7-AF5C-050E1E1244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ECD-F8FE-4A10-9B10-4FF92299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1EE-298D-49D4-8F22-A33674F5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545-B0DC-4CAF-908B-814D2B0E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B68-70AF-4141-8E9F-381B076D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D9B34-3CC5-4F37-9156-EDA85061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B7F24-C002-422B-B550-90C97609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B20A2-D669-47E1-A033-33A69D71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520C4-86B0-49EF-B2BF-708B216B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E5825-C572-4E64-9165-A7276E08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39EFB-2C97-4927-BA41-67C07055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49344-0847-4910-8BBC-EF2254A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F9D-98D2-4BE0-B6FA-B4A377EF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54036-A602-4B5F-AA80-B5F2B972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85768-21D3-4657-AF2D-9570821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69643-A926-447B-9CA2-B1D5C697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1B530-96B1-44E3-B0E9-090B34FE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9C2EE-F482-4BFC-89BB-3A1EE591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C1AD-1831-47D8-BE38-609FC61B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F2D8-55AA-4728-9C3B-5552FF79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EC4F-442D-4501-A935-D5081210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B7F2-602D-49A5-B54D-A98D89B5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BEB4-E992-4560-8F46-5EADF571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2C9-46FB-4839-8D3C-10754B13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1AF6-A363-4B05-9F21-B2D0CE67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AEDD-89B4-430C-A05B-D52C20E3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718CC-EC8A-4FAF-B0E0-3896652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E2CF-2978-4C85-8315-6B72382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CBB4-19F5-430C-8D68-8C802914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496D-C0ED-46E4-AA43-A59CC7B7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2993-224E-47B5-ABDD-11382BDF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C82D2-5D49-4C9B-908A-DB366DE0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8488B-D1A2-49AA-8115-905AA35C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41580-8E5D-4465-8137-16DF1110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51C-5A90-4E2C-85FF-D37A4B8E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8CE1C-1C13-4017-90A4-A0D860FB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2CA6A-73A7-43A1-840C-33420594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3A3F4-A19B-4E3B-AE8F-639C45C4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F4584-9D68-4504-822C-69D6489B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9EAB0-6A09-4219-BA06-E169C625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C4999-5DDF-4C6C-9CAE-0AB585FF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4457D-3507-49DB-95CC-C58A04E6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5E582-8214-42C2-826D-5A9AD7D3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5163A-01A3-468C-8EC8-9450955E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79F-3000-4202-9261-41655364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4D0-99C9-42AC-AFED-9CF6C86A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C0F-FF18-4F04-8E84-6B00A2EE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7B5-554F-42EE-8E30-E58CA37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5B5-EF6A-4112-ABC9-96A68F9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1A12-E5D6-4993-B98D-7BB9626104A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D7DB-32A9-4826-BF0C-34E05AFDD79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FAF9-8B5B-49A0-88B4-AEADB19802F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07E5-DC8C-4ED9-87A2-F997654234A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396720" y="1487520"/>
            <a:ext cx="8313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395280" y="1413000"/>
            <a:ext cx="8075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df69c"/>
                </a:solidFill>
                <a:latin typeface="Constantia"/>
              </a:rPr>
              <a:t>В деревне, в небольшой избушк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Содержимое 7" descr="2567.jpg"/>
          <p:cNvPicPr/>
          <p:nvPr/>
        </p:nvPicPr>
        <p:blipFill>
          <a:blip r:embed="rId2"/>
          <a:stretch/>
        </p:blipFill>
        <p:spPr>
          <a:xfrm>
            <a:off x="684360" y="2060640"/>
            <a:ext cx="324000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d7e0e"/>
                </a:solidFill>
                <a:latin typeface="Constantia"/>
              </a:rPr>
              <a:t>В Питер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3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3c5da"/>
                </a:solidFill>
                <a:latin typeface="Constantia"/>
              </a:rPr>
              <a:t>Через два дн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fcf04"/>
                </a:solidFill>
                <a:latin typeface="Constantia"/>
              </a:rPr>
              <a:t>Антипка- это кучер, служащий у бары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19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eb160"/>
                </a:solidFill>
                <a:latin typeface="Constantia"/>
              </a:rPr>
              <a:t>Степа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000" y="2637000"/>
            <a:ext cx="821844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Татья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2206440"/>
          </a:xfrm>
          <a:prstGeom prst="rect">
            <a:avLst/>
          </a:prstGeom>
          <a:ln w="0">
            <a:noFill/>
          </a:ln>
        </p:spPr>
      </p:pic>
      <p:sp>
        <p:nvSpPr>
          <p:cNvPr id="225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df69c"/>
                </a:solidFill>
                <a:latin typeface="Constantia"/>
              </a:rPr>
              <a:t>Капитон Клим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Заголовок 2" descr=""/>
          <p:cNvPicPr/>
          <p:nvPr/>
        </p:nvPicPr>
        <p:blipFill>
          <a:blip r:embed="rId1"/>
          <a:stretch/>
        </p:blipFill>
        <p:spPr>
          <a:xfrm>
            <a:off x="268200" y="-23760"/>
            <a:ext cx="8363160" cy="1438200"/>
          </a:xfrm>
          <a:prstGeom prst="rect">
            <a:avLst/>
          </a:prstGeom>
          <a:ln w="0">
            <a:noFill/>
          </a:ln>
        </p:spPr>
      </p:pic>
      <p:sp>
        <p:nvSpPr>
          <p:cNvPr id="228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c376b"/>
                </a:solidFill>
                <a:latin typeface="Constantia"/>
              </a:rPr>
              <a:t>Домашний лекар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31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69c"/>
                </a:solidFill>
                <a:latin typeface="Constantia"/>
              </a:rPr>
              <a:t>Молодцы, надеемся теперь вы знаете лучше рассказ Тургенева « Муму»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57200" y="1523880"/>
          <a:ext cx="8291520" cy="4788000"/>
        </p:xfrm>
        <a:graphic>
          <a:graphicData uri="http://schemas.openxmlformats.org/drawingml/2006/table">
            <a:tbl>
              <a:tblPr/>
              <a:tblGrid>
                <a:gridCol w="1679400"/>
                <a:gridCol w="1084320"/>
                <a:gridCol w="1381320"/>
                <a:gridCol w="1382760"/>
                <a:gridCol w="1380960"/>
                <a:gridCol w="13827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лл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зовут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1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гда и гд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5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то это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cf059"/>
                </a:solidFill>
                <a:latin typeface="Constantia"/>
              </a:rPr>
              <a:t>Гераси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Содержимое 13" descr="0016-011-Rasskaz-I.S.Turgeneva-Mumu.jpg"/>
          <p:cNvPicPr/>
          <p:nvPr/>
        </p:nvPicPr>
        <p:blipFill>
          <a:blip r:embed="rId2"/>
          <a:stretch/>
        </p:blipFill>
        <p:spPr>
          <a:xfrm>
            <a:off x="2050920" y="1989000"/>
            <a:ext cx="2737080" cy="420696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домой 3"/>
          <p:cNvSpPr/>
          <p:nvPr/>
        </p:nvSpPr>
        <p:spPr>
          <a:xfrm>
            <a:off x="7020000" y="479736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10800" y="4552"/>
                </a:moveTo>
                <a:lnTo>
                  <a:pt x="13376" y="7164"/>
                </a:lnTo>
                <a:lnTo>
                  <a:pt x="13376" y="5423"/>
                </a:lnTo>
                <a:lnTo>
                  <a:pt x="15152" y="5423"/>
                </a:lnTo>
                <a:lnTo>
                  <a:pt x="15152" y="8939"/>
                </a:lnTo>
                <a:lnTo>
                  <a:pt x="17763" y="11515"/>
                </a:lnTo>
                <a:lnTo>
                  <a:pt x="16109" y="11515"/>
                </a:lnTo>
                <a:lnTo>
                  <a:pt x="16109" y="18705"/>
                </a:lnTo>
                <a:lnTo>
                  <a:pt x="5491" y="18705"/>
                </a:lnTo>
                <a:lnTo>
                  <a:pt x="5491" y="11515"/>
                </a:lnTo>
                <a:lnTo>
                  <a:pt x="3837" y="11515"/>
                </a:lnTo>
                <a:close/>
              </a:path>
              <a:path fill="darkenLess" w="21600" h="23031">
                <a:moveTo>
                  <a:pt x="13376" y="7164"/>
                </a:moveTo>
                <a:lnTo>
                  <a:pt x="13376" y="5423"/>
                </a:lnTo>
                <a:lnTo>
                  <a:pt x="15152" y="5423"/>
                </a:lnTo>
                <a:lnTo>
                  <a:pt x="15152" y="8939"/>
                </a:lnTo>
                <a:close/>
              </a:path>
              <a:path fill="darkenLess" w="21600" h="23031">
                <a:moveTo>
                  <a:pt x="9877" y="15014"/>
                </a:moveTo>
                <a:lnTo>
                  <a:pt x="11723" y="15014"/>
                </a:lnTo>
                <a:lnTo>
                  <a:pt x="11723" y="18705"/>
                </a:lnTo>
                <a:lnTo>
                  <a:pt x="16109" y="18705"/>
                </a:lnTo>
                <a:lnTo>
                  <a:pt x="16109" y="11515"/>
                </a:lnTo>
                <a:lnTo>
                  <a:pt x="5491" y="11515"/>
                </a:lnTo>
                <a:lnTo>
                  <a:pt x="5491" y="18705"/>
                </a:lnTo>
                <a:lnTo>
                  <a:pt x="9877" y="18705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729640" cy="13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Капитон Клим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Содержимое 5" descr="c0bae8b5bca3a20d9f4941b3406183e9.jpg"/>
          <p:cNvPicPr/>
          <p:nvPr/>
        </p:nvPicPr>
        <p:blipFill>
          <a:blip r:embed="rId2"/>
          <a:stretch/>
        </p:blipFill>
        <p:spPr>
          <a:xfrm>
            <a:off x="900000" y="2205000"/>
            <a:ext cx="2951280" cy="374328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7380360" y="5157720"/>
            <a:ext cx="1224000" cy="1224000"/>
          </a:xfrm>
          <a:custGeom>
            <a:avLst/>
            <a:gdLst>
              <a:gd name="textAreaLeft" fmla="*/ 79200 w 1224000"/>
              <a:gd name="textAreaRight" fmla="*/ 1144800 w 1224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2" descr=""/>
          <p:cNvPicPr/>
          <p:nvPr/>
        </p:nvPicPr>
        <p:blipFill>
          <a:blip r:embed="rId1"/>
          <a:stretch/>
        </p:blipFill>
        <p:spPr>
          <a:xfrm>
            <a:off x="328680" y="-55440"/>
            <a:ext cx="8364600" cy="1433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2613"/>
                </a:solidFill>
                <a:latin typeface="Constantia"/>
              </a:rPr>
              <a:t>Гаврил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5e4a9"/>
                </a:solidFill>
                <a:latin typeface="Constantia"/>
              </a:rPr>
              <a:t>Татья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68360" y="1523520"/>
            <a:ext cx="64389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Управляющая кнопка: домой 3"/>
          <p:cNvSpPr/>
          <p:nvPr/>
        </p:nvSpPr>
        <p:spPr>
          <a:xfrm>
            <a:off x="7164360" y="4724280"/>
            <a:ext cx="1295280" cy="15130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513080"/>
              <a:gd name="textAreaBottom" fmla="*/ 1429200 h 1513080"/>
            </a:gdLst>
            <a:ahLst/>
            <a:rect l="textAreaLeft" t="textAreaTop" r="textAreaRight" b="textAreaBottom"/>
            <a:pathLst>
              <a:path w="21600" h="25231">
                <a:moveTo>
                  <a:pt x="0" y="0"/>
                </a:moveTo>
                <a:lnTo>
                  <a:pt x="21600" y="0"/>
                </a:lnTo>
                <a:lnTo>
                  <a:pt x="21600" y="25231"/>
                </a:lnTo>
                <a:lnTo>
                  <a:pt x="0" y="25231"/>
                </a:lnTo>
                <a:close/>
              </a:path>
              <a:path fill="lightenLess" w="21600" h="252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1">
                <a:moveTo>
                  <a:pt x="21600" y="0"/>
                </a:moveTo>
                <a:lnTo>
                  <a:pt x="21600" y="25231"/>
                </a:lnTo>
                <a:lnTo>
                  <a:pt x="20200" y="23831"/>
                </a:lnTo>
                <a:lnTo>
                  <a:pt x="20200" y="1400"/>
                </a:lnTo>
                <a:close/>
              </a:path>
              <a:path fill="darkenLess" w="21600" h="25231">
                <a:moveTo>
                  <a:pt x="21600" y="25231"/>
                </a:moveTo>
                <a:lnTo>
                  <a:pt x="0" y="25231"/>
                </a:lnTo>
                <a:lnTo>
                  <a:pt x="1400" y="23831"/>
                </a:lnTo>
                <a:lnTo>
                  <a:pt x="20200" y="23831"/>
                </a:lnTo>
                <a:close/>
              </a:path>
              <a:path fill="lighten" w="21600" h="25231">
                <a:moveTo>
                  <a:pt x="0" y="252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1"/>
                </a:lnTo>
                <a:close/>
              </a:path>
              <a:path fill="darken" w="21600" h="25231">
                <a:moveTo>
                  <a:pt x="10800" y="5653"/>
                </a:moveTo>
                <a:lnTo>
                  <a:pt x="13376" y="8264"/>
                </a:lnTo>
                <a:lnTo>
                  <a:pt x="13376" y="6523"/>
                </a:lnTo>
                <a:lnTo>
                  <a:pt x="15152" y="6523"/>
                </a:lnTo>
                <a:lnTo>
                  <a:pt x="15152" y="10039"/>
                </a:lnTo>
                <a:lnTo>
                  <a:pt x="17763" y="12616"/>
                </a:lnTo>
                <a:lnTo>
                  <a:pt x="16109" y="12616"/>
                </a:lnTo>
                <a:lnTo>
                  <a:pt x="16109" y="19805"/>
                </a:lnTo>
                <a:lnTo>
                  <a:pt x="5491" y="19805"/>
                </a:lnTo>
                <a:lnTo>
                  <a:pt x="5491" y="12616"/>
                </a:lnTo>
                <a:lnTo>
                  <a:pt x="3837" y="12616"/>
                </a:lnTo>
                <a:close/>
              </a:path>
              <a:path fill="darkenLess" w="21600" h="25231">
                <a:moveTo>
                  <a:pt x="13376" y="8264"/>
                </a:moveTo>
                <a:lnTo>
                  <a:pt x="13376" y="6523"/>
                </a:lnTo>
                <a:lnTo>
                  <a:pt x="15152" y="6523"/>
                </a:lnTo>
                <a:lnTo>
                  <a:pt x="15152" y="10039"/>
                </a:lnTo>
                <a:close/>
              </a:path>
              <a:path fill="darkenLess" w="21600" h="25231">
                <a:moveTo>
                  <a:pt x="9877" y="16114"/>
                </a:moveTo>
                <a:lnTo>
                  <a:pt x="11723" y="16114"/>
                </a:lnTo>
                <a:lnTo>
                  <a:pt x="11723" y="19805"/>
                </a:lnTo>
                <a:lnTo>
                  <a:pt x="16109" y="19805"/>
                </a:lnTo>
                <a:lnTo>
                  <a:pt x="16109" y="12616"/>
                </a:lnTo>
                <a:lnTo>
                  <a:pt x="5491" y="12616"/>
                </a:lnTo>
                <a:lnTo>
                  <a:pt x="5491" y="19805"/>
                </a:lnTo>
                <a:lnTo>
                  <a:pt x="9877" y="19805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9eb160"/>
                </a:solidFill>
                <a:latin typeface="Constantia"/>
              </a:rPr>
              <a:t>Устинья Федоров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Содержимое 5" descr="эскиз.jpg"/>
          <p:cNvPicPr/>
          <p:nvPr/>
        </p:nvPicPr>
        <p:blipFill>
          <a:blip r:embed="rId2"/>
          <a:stretch/>
        </p:blipFill>
        <p:spPr>
          <a:xfrm>
            <a:off x="3203640" y="2133720"/>
            <a:ext cx="3168720" cy="3835440"/>
          </a:xfrm>
          <a:prstGeom prst="rect">
            <a:avLst/>
          </a:prstGeom>
          <a:ln w="0">
            <a:noFill/>
          </a:ln>
        </p:spPr>
      </p:pic>
      <p:sp>
        <p:nvSpPr>
          <p:cNvPr id="198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cd3dc"/>
                </a:solidFill>
                <a:latin typeface="Constantia"/>
              </a:rPr>
              <a:t>Весной, вечер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Содержимое 5" descr="эскиз-2.jpg"/>
          <p:cNvPicPr/>
          <p:nvPr/>
        </p:nvPicPr>
        <p:blipFill>
          <a:blip r:embed="rId2"/>
          <a:stretch/>
        </p:blipFill>
        <p:spPr>
          <a:xfrm>
            <a:off x="539640" y="1989000"/>
            <a:ext cx="3425760" cy="435312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57200" y="1413000"/>
            <a:ext cx="68515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7cee6"/>
                </a:solidFill>
                <a:latin typeface="Constantia"/>
              </a:rPr>
              <a:t>В одной из отдаленных улиц Москвы, в доме старой барын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Управляющая кнопка: домой 4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28083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9:43:59Z</dcterms:created>
  <dc:creator>Иванова</dc:creator>
  <dc:description/>
  <dc:language>en-US</dc:language>
  <cp:lastModifiedBy>Admin</cp:lastModifiedBy>
  <dcterms:modified xsi:type="dcterms:W3CDTF">2012-03-21T17:41:57Z</dcterms:modified>
  <cp:revision>27</cp:revision>
  <dc:subject/>
  <dc:title>Игра по теме: И. С. Тургенев «Муму»</dc:title>
</cp:coreProperties>
</file>