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2CB-16F7-409C-ABCE-3B9EA6B6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FC1-B542-4C36-9773-9C223CD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9DF-EF44-4ACA-AAB7-B038C1EF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E36-5F76-4BB8-9D33-D7200318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5AB-FF56-4A7F-A0C0-2E01549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2D1-28FF-4DE2-8609-1806ED0B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E76-BACF-4EA7-AEAC-CD600C9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8C6-DCF2-4B90-8C65-3A69A404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D4C-ECC3-4E99-9CD5-28211E3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A70-A25F-4EE9-B6D3-2E1CA1C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4C5-8837-4EE4-9229-7BE7033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529-5498-4AE1-9D3C-CB6D603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541-70AE-4B4C-A3AA-0C3A4807D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briola"/>
              </a:rPr>
              <a:t>Литература русского зарубежь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ой из главных заслуг «второй волны» в литературе были мемуарный жанр и  художественная  проза, запечатлевшая опыт недавнего прошлого, поскольку  трагедия  народа не была объективно отражена в советской литературе, а вывести рукописи из СССР до войны было нелегко. Следует отметить такие книги, как «Соловецкие острова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Геннадия Андрее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Неугасимая лампада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Бориса Ширяе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Враг народа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Владимира Юрасо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Укрощение искусств» и «Темный гений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Юрия Елаги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Настя\Desktop\B68C5622-D2B0-4C8A-A99B-C2DB11691BE3_mw800_s.jpg"/>
          <p:cNvPicPr/>
          <p:nvPr/>
        </p:nvPicPr>
        <p:blipFill>
          <a:blip r:embed="rId2"/>
          <a:stretch/>
        </p:blipFill>
        <p:spPr>
          <a:xfrm>
            <a:off x="0" y="620640"/>
            <a:ext cx="3745080" cy="3144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19800" y="386064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ладимир Юр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59280" y="0"/>
            <a:ext cx="56275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мигрировав на Запад,  русские  писатели «третьей волны» не прекращали активной творческой работы. По отношению к «непослушным» писателям советские власти применяли новую тактику - лишение гражданства. Первым писателем, которого лишили гражданства, был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Валерий Тарси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епортированный на Запад в 1966 г. Позднее были лишены советского гражданства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лександр Солженицын, Владимир Максимов, Александр Зиновьев, Василий Аксенов, Георгий Владимов, Владимир Войнович, Эдуард Кузнец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В 70-80 годы родину вынуждены были покинуть такие талантливые писатели и поэты,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как Юз Алешковский, Иосиф Бродский, Наталья Горбаневская, Сергей Довлатов, Наум Коржавин, Эдуард Лимоно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ругие. Двое из писателей-эмигрантов «третьей волны» были удостоены Нобелевской премии по литературе: в 1970 г. </a:t>
            </a:r>
            <a:r>
              <a:rPr b="1" i="1" lang="ru-RU" sz="2200" spc="-1" strike="noStrike">
                <a:solidFill>
                  <a:srgbClr val="1205bb"/>
                </a:solidFill>
                <a:latin typeface="Calibri"/>
              </a:rPr>
              <a:t>- А. Солженицын,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987 г. </a:t>
            </a:r>
            <a:r>
              <a:rPr b="1" i="1" lang="ru-RU" sz="2200" spc="-1" strike="noStrike">
                <a:solidFill>
                  <a:srgbClr val="1205bb"/>
                </a:solidFill>
                <a:latin typeface="Calibri"/>
              </a:rPr>
              <a:t>- И. Бродск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Настя\Desktop\Tarsis.jpg"/>
          <p:cNvPicPr/>
          <p:nvPr/>
        </p:nvPicPr>
        <p:blipFill>
          <a:blip r:embed="rId2"/>
          <a:stretch/>
        </p:blipFill>
        <p:spPr>
          <a:xfrm>
            <a:off x="468360" y="0"/>
            <a:ext cx="216216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50920" y="2852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алерий Тарс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Настя\Desktop\110213.jpg"/>
          <p:cNvPicPr/>
          <p:nvPr/>
        </p:nvPicPr>
        <p:blipFill>
          <a:blip r:embed="rId3"/>
          <a:stretch/>
        </p:blipFill>
        <p:spPr>
          <a:xfrm>
            <a:off x="395280" y="3284640"/>
            <a:ext cx="2305080" cy="2913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0960" y="6237360"/>
            <a:ext cx="34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пектр литературных направлений писателей «третьей волны» представляется следующим образ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. Солженицын и В. Максим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охранили великие традиции реализма XIX в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. В. Некрасов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 также писатель традиционной реалистической школы, использовавший в творчестве «эзопов язык», чтобы обходить советского цензора - на Западе был обескуражен отсутствием привычных для него рамок.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Э. Лимонов (Савенко)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существил свою литературную месть в использовании реалистического метода для изображения мира сексуальных извращений, что можно рассматривать как своего рода преднамеренный акт богохульства против властьимущи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Настя\Desktop\3699.jpg"/>
          <p:cNvPicPr/>
          <p:nvPr/>
        </p:nvPicPr>
        <p:blipFill>
          <a:blip r:embed="rId2"/>
          <a:stretch/>
        </p:blipFill>
        <p:spPr>
          <a:xfrm>
            <a:off x="250920" y="115920"/>
            <a:ext cx="3816360" cy="4321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280440" y="479736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. Лимонов (Сав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В. Аксенов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Остров Крым»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ы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В. Вой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Москва 2042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Жизнь и необычайные приключения солдата Ивана Чонкина»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А. Зиновьев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Зияющие высоты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гут быть отнесены к облеченной в фантастику политической сатир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А. Синявский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м творчестве, выражая протест против реализма, обращался к жанру фантастики. Его ироничная автобиографи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Спокойной ночи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ыла написана в модернистском дух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Настя\Desktop\3-282-01.jpg"/>
          <p:cNvPicPr/>
          <p:nvPr/>
        </p:nvPicPr>
        <p:blipFill>
          <a:blip r:embed="rId2"/>
          <a:stretch/>
        </p:blipFill>
        <p:spPr>
          <a:xfrm>
            <a:off x="324000" y="115920"/>
            <a:ext cx="2663640" cy="4016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45040" y="429264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Синя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им из самых наблюдательных и остроумных мастеров юмористического рассказа был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Сергей Довла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умевший талантливо и иронично передавать мелкие детали эмигрантской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адиционные жанры и приемы в поэзии представлены в творчестве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Н. Коржавина и Н. Горбаневског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Авангардистское направление прослеживается в поэзии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Алексея Хвостенк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Виктора Тупицына, Генриха Худякова, Константина Кузьминског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отметить, что политизация искусства является причиной крупного раскола в среде эмигрантских писателей: с одной стороны - лагерь сторонников искусства для искусства, с другою - их непримиримые противники, политические моралисты. Но в целом и те и другие вносят неоценимый вклад в общерусскую литератур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Настя\Desktop\dov6.jpg"/>
          <p:cNvPicPr/>
          <p:nvPr/>
        </p:nvPicPr>
        <p:blipFill>
          <a:blip r:embed="rId2"/>
          <a:stretch/>
        </p:blipFill>
        <p:spPr>
          <a:xfrm>
            <a:off x="179280" y="404640"/>
            <a:ext cx="2820960" cy="3816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13680" y="422100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ергей Довл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0"/>
            <a:ext cx="71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более сложной ситуации, п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равнению с научн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интеллигенцией, оказали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едставители  художественной 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ультуры 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поскольку  художественное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творчество определяется в перву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чередь эмоциональны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строением и вдохновение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этому для многих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ечественных писателей, поэтов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омпозиторов  эмиграция  обернула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стоящей  трагедией 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Настя\Desktop\almanlar-ulkelerini-terk-ediyor.jpg"/>
          <p:cNvPicPr/>
          <p:nvPr/>
        </p:nvPicPr>
        <p:blipFill>
          <a:blip r:embed="rId2"/>
          <a:stretch/>
        </p:blipFill>
        <p:spPr>
          <a:xfrm>
            <a:off x="6372360" y="2781360"/>
            <a:ext cx="2771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95640" y="475920"/>
            <a:ext cx="514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редставители исполнительского мастерства: художники, скульпторы, архитекторы еще могли каким-то образом адаптироваться к жизни в  эмиграции , то для художников слова процесс привыкания к чужой среде проходил более мучительно. Нужно сказать, что были и такие  русские  писатели, которые успешно писали и на иностранных языках. Особенно те, кто попал в  эмиграцию  в молодом возрасте: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ртур Адамов, Владимир Волков, Яков Горбов, Зоя Ольденбург, Ирина Немиров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е. Наибольшую известность и признание из таких писателей получил Владимир Набоков, перешедший на английский язык уже в зрелом возрасте. Популярны были такж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ев Тара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исавший под псевдонимом Анри Труайя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осиф Кесс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нягиня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. Шахов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севдоним - Жак Круазе)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абавну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Эммануэль Бова). Об их творчестве следует говорить как о вкладе  русских  в мировую  культуру  более чем в отечественн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Настя\Desktop\arthur_adamov.jpg"/>
          <p:cNvPicPr/>
          <p:nvPr/>
        </p:nvPicPr>
        <p:blipFill>
          <a:blip r:embed="rId2"/>
          <a:stretch/>
        </p:blipFill>
        <p:spPr>
          <a:xfrm>
            <a:off x="108000" y="189000"/>
            <a:ext cx="2303280" cy="2376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61720" y="26370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тур Ад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Настя\Desktop\Irene_Nemirovsky_25yo.jpg"/>
          <p:cNvPicPr/>
          <p:nvPr/>
        </p:nvPicPr>
        <p:blipFill>
          <a:blip r:embed="rId3"/>
          <a:stretch/>
        </p:blipFill>
        <p:spPr>
          <a:xfrm>
            <a:off x="324000" y="3284640"/>
            <a:ext cx="1938240" cy="2930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86840" y="630864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рина Немир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Настя\Desktop\9947b4920ec4.jpg"/>
          <p:cNvPicPr/>
          <p:nvPr/>
        </p:nvPicPr>
        <p:blipFill>
          <a:blip r:embed="rId4"/>
          <a:stretch/>
        </p:blipFill>
        <p:spPr>
          <a:xfrm>
            <a:off x="7316640" y="0"/>
            <a:ext cx="1827360" cy="2602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9"/>
          <p:cNvSpPr/>
          <p:nvPr/>
        </p:nvSpPr>
        <p:spPr>
          <a:xfrm>
            <a:off x="7246080" y="26370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димир Наб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Настя\Desktop\75824463_411362058_e0e597c577.jpg"/>
          <p:cNvPicPr/>
          <p:nvPr/>
        </p:nvPicPr>
        <p:blipFill>
          <a:blip r:embed="rId5"/>
          <a:stretch/>
        </p:blipFill>
        <p:spPr>
          <a:xfrm>
            <a:off x="7101000" y="3213000"/>
            <a:ext cx="2043000" cy="3095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7234920" y="63961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 Та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11280" y="0"/>
            <a:ext cx="482472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сатели старшего поколения, особенно те, кто ста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мигрантом уже в зрелом возрасте, переживали отрыв 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ины очень болезненно. Большинство их произведени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ных за рубежом, посвящены ностальгическо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исанию  русского  быта и нравов Ро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Октября и гражданской вой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 эмиграции  оказались почти в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вестные  русские  писатели и поэты. Больш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них продолжали свои деятельность, создав цел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ст литературы. Всего в Зарубежной России с 19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1970 г. на  русском  языке вышло около деся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ысяч книг. Более семи книг романов и нове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иса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И. Бун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олучивший за свое литератур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ворчество в 1933 г. Нобелевскую премию. 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режковский издал 10 томов исторической пр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ы. Ряд пьес опубликова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Б. Зайц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Три боль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мана и шесть сборников рассказов выпусти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Шмел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Увидели свет более десяти книг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Осорги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осемь романов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 Алдан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А. Купр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же в пожилом возрасте написал в  эмиграции  д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ести и несколько рассказов. Почти в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и  художественные  произ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революционной поры написал в  эмиграции 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 Горьк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Активно публиковали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 русской  эмигрантской периодике со свои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хами, юмористическими и сатирически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черками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А. Аверченко, С. Черный, Дон Аминад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Надежда Тэфф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Настя\Desktop\bunin.jpg"/>
          <p:cNvPicPr/>
          <p:nvPr/>
        </p:nvPicPr>
        <p:blipFill>
          <a:blip r:embed="rId2"/>
          <a:stretch/>
        </p:blipFill>
        <p:spPr>
          <a:xfrm>
            <a:off x="250920" y="189000"/>
            <a:ext cx="2160360" cy="3168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261360" y="32846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Настя\Desktop\32018_1.jpg"/>
          <p:cNvPicPr/>
          <p:nvPr/>
        </p:nvPicPr>
        <p:blipFill>
          <a:blip r:embed="rId3"/>
          <a:stretch/>
        </p:blipFill>
        <p:spPr>
          <a:xfrm>
            <a:off x="324000" y="3860640"/>
            <a:ext cx="201600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Настя\Desktop\cover_399.jpg"/>
          <p:cNvPicPr/>
          <p:nvPr/>
        </p:nvPicPr>
        <p:blipFill>
          <a:blip r:embed="rId4"/>
          <a:stretch/>
        </p:blipFill>
        <p:spPr>
          <a:xfrm>
            <a:off x="7164360" y="115920"/>
            <a:ext cx="1979640" cy="2955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7236000" y="30686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Настя\Desktop\teffi_.jpg"/>
          <p:cNvPicPr/>
          <p:nvPr/>
        </p:nvPicPr>
        <p:blipFill>
          <a:blip r:embed="rId5"/>
          <a:stretch/>
        </p:blipFill>
        <p:spPr>
          <a:xfrm>
            <a:off x="7236000" y="3500280"/>
            <a:ext cx="1728720" cy="2521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9"/>
          <p:cNvSpPr/>
          <p:nvPr/>
        </p:nvSpPr>
        <p:spPr>
          <a:xfrm>
            <a:off x="7236360" y="61657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дежда Тэфф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тивно создавалась за рубежом и  русская  поэзия. К середине 20-х годов в Париже собрались почти все виднейшие  русские  поэты как старшего поколения, прославившиеся еще в период серебряного века, так и более молодые, выпустившие до  эмиграции  только первые свои кни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Эмигрантских поэтов в период между двумя войнами можно разделить делить на четыре основные группы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-первых, это поздние символисты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лавными наследниками символистов в  эмиграции  был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Константин Бальмонт, Вячеслав Иванов, Андрей Белый, Зинаида Гиппиус, Дмитрий Мережковс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Настя\Desktop\74901411_large_balmont.jpg"/>
          <p:cNvPicPr/>
          <p:nvPr/>
        </p:nvPicPr>
        <p:blipFill>
          <a:blip r:embed="rId2"/>
          <a:stretch/>
        </p:blipFill>
        <p:spPr>
          <a:xfrm>
            <a:off x="250920" y="0"/>
            <a:ext cx="2592360" cy="3240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3320" y="3141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стантин Баль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Настя\Desktop\Viacheslav_ivanov.jpg"/>
          <p:cNvPicPr/>
          <p:nvPr/>
        </p:nvPicPr>
        <p:blipFill>
          <a:blip r:embed="rId3"/>
          <a:stretch/>
        </p:blipFill>
        <p:spPr>
          <a:xfrm>
            <a:off x="539640" y="3573360"/>
            <a:ext cx="1800360" cy="2735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263880" y="63961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ячеслав 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0000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торую группу поэтов составляли последователи так называемой «парижской ноты» - периода абсолютной свободы и индивидуального своеобразия поэтического творчества. Среди поэтов, следовавших этим настроениям, были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Георгий Адамович, Лидия Червинская, Ирина Одоевцева, Борис Поплавский, Игорь Чиннов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другие. Среди эмигрантских поэтов особое место занимал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Марина Цветае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резвычайно индивидуальная, уникальна в своем мироощущении и в стиле Цветаева не вписывалась даже в «парижскую ноту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Настя\Desktop\i0005310_1.jpg"/>
          <p:cNvPicPr/>
          <p:nvPr/>
        </p:nvPicPr>
        <p:blipFill>
          <a:blip r:embed="rId2"/>
          <a:stretch/>
        </p:blipFill>
        <p:spPr>
          <a:xfrm>
            <a:off x="179280" y="0"/>
            <a:ext cx="2232000" cy="3141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-720" y="3213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й Адам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Настя\Desktop\7907p.jpg"/>
          <p:cNvPicPr/>
          <p:nvPr/>
        </p:nvPicPr>
        <p:blipFill>
          <a:blip r:embed="rId3"/>
          <a:stretch/>
        </p:blipFill>
        <p:spPr>
          <a:xfrm>
            <a:off x="179280" y="3645000"/>
            <a:ext cx="230508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"/>
          <p:cNvSpPr/>
          <p:nvPr/>
        </p:nvSpPr>
        <p:spPr>
          <a:xfrm>
            <a:off x="108000" y="616572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орис Попл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Calibri"/>
              </a:rPr>
              <a:t>К третьей группе следует отнести поэтов-экспериментаторов, пытавшихся соперничать с дадаизмом и сюрреализмом, Александра Гингера, Анну Присманову, Виктора Мамченко, Юрия 0дарченк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824360" y="0"/>
            <a:ext cx="43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етвертую группу поэтов можно представить, как поэтов, следовавших совету Ходасевича просто писать хорошие стихи, не подражая определенному течению, но все же склонявшихся к акмеизму - например, Георгий Ив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32000" y="0"/>
            <a:ext cx="6012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торая мировая война смыла литературную жизнь «первой волны». Некоторые писатели к тому времени уехали в Америку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- Набоков, Алданов Цетлин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Другие -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Шмелев, Ремизов, Осоргин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казались в оккупированных немцами зонах. Третьи же вернулись в зоны оккупации до того, как немцы заняли Францию -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Мережковский, Гиппиус, Тэффи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т рук фашистов погибло несколько писателей: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Юрий Фельзен, Юрий Мандельштам, Игорь Воинов, Анатолий Левицкий, Илья Фондаминский, Илья Коровин-Пиотровский, Михаил Горлин, Раиса Блох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нахиня и поэтесса Мать Мария. Среди  русских  эмигрантов, собравшихся в Берлине для борьбы с большевизмом, оказался романист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Николай Брешко-Брешковски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Настя\Desktop\641319427_tonnel.gif.jpg"/>
          <p:cNvPicPr/>
          <p:nvPr/>
        </p:nvPicPr>
        <p:blipFill>
          <a:blip r:embed="rId2"/>
          <a:stretch/>
        </p:blipFill>
        <p:spPr>
          <a:xfrm>
            <a:off x="324000" y="189000"/>
            <a:ext cx="2447640" cy="3024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2400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б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Настя\Desktop\fraskuelo.jpg"/>
          <p:cNvPicPr/>
          <p:nvPr/>
        </p:nvPicPr>
        <p:blipFill>
          <a:blip r:embed="rId3"/>
          <a:stretch/>
        </p:blipFill>
        <p:spPr>
          <a:xfrm>
            <a:off x="468360" y="3645000"/>
            <a:ext cx="228132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110880" y="645804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иколай Брешко-Бреш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 послевоенный период поэтическое творчество в  эмиграции  получило новые импульсы, породившие новые поиски стиля, формы. Их разнообразие свидетельствует об абсолютной внутренней творческой свободе. Уже после войны вышли антологии и поэтические сборники, охватившие все течения в литературе Зарубежной Росс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 эти годы литературное творчество за рубежом продолжало активно развиваться. На смену старшему поколению пришли как молодые  русские  писатели, родившиеся уже вне родины, так и новые эмигранты из числа так называемых «перемещенных лиц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ужно сказать, что хотя во «второй волне» были представители интеллигенции, она, в целом не обладала «критической массой», необходимой для сохранения культурной традиции за рубежом. В 50-х и начале 60-х годов представители «первой волны» по-прежнему занимали главное место в литературной жизни  эмиграции 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1:04:36Z</dcterms:created>
  <dc:creator>Настя</dc:creator>
  <dc:description/>
  <dc:language>en-US</dc:language>
  <cp:lastModifiedBy>RWT</cp:lastModifiedBy>
  <dcterms:modified xsi:type="dcterms:W3CDTF">2011-12-18T17:27:44Z</dcterms:modified>
  <cp:revision>44</cp:revision>
  <dc:subject/>
  <dc:title>Слайд 1</dc:title>
</cp:coreProperties>
</file>