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902-C7D9-4893-B110-78A09966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853-4395-4366-9A60-08C5803F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4A9-3B08-4FB6-A787-3A5C6A19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F4E-A1D7-44E4-B4F8-7B66E458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1329-8E24-4A6D-A078-57F1C869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7F79-F3B2-4C59-AD75-DB982A31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EA4-C2F6-4648-92C1-0D98B594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C294-5BB2-4E1E-BFC6-42152884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4FB-B765-40E6-9C1C-C15703F1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5B2D-DC00-4510-940A-D43E6FB5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418-2DDC-43DD-AB97-2F86A41B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1304-64F5-4EB7-88A2-5DBE8C02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D4DF-F487-4E0D-979C-5BABAE62E0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91440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Gabriola"/>
              </a:rPr>
              <a:t>Литература русского зарубежь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564000" y="0"/>
            <a:ext cx="558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дной из главных заслуг «второй волны» в литературе были мемуарный жанр и  художественная  проза, запечатлевшая опыт недавнего прошлого, поскольку  трагедия  народа не была объективно отражена в советской литературе, а вывести рукописи из СССР до войны было нелегко. Следует отметить такие книги, как «Соловецкие острова»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Геннадия Андреев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«Неугасимая лампада»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Бориса Ширяев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«Враг народа»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Владимира Юрасов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«Укрощение искусств» и «Темный гений»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Юрия Елагин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Настя\Desktop\B68C5622-D2B0-4C8A-A99B-C2DB11691BE3_mw800_s.jpg"/>
          <p:cNvPicPr/>
          <p:nvPr/>
        </p:nvPicPr>
        <p:blipFill>
          <a:blip r:embed="rId2"/>
          <a:stretch/>
        </p:blipFill>
        <p:spPr>
          <a:xfrm>
            <a:off x="0" y="620640"/>
            <a:ext cx="3745080" cy="31449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4"/>
          <p:cNvSpPr/>
          <p:nvPr/>
        </p:nvSpPr>
        <p:spPr>
          <a:xfrm>
            <a:off x="19800" y="3860640"/>
            <a:ext cx="38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ладимир Юра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059280" y="0"/>
            <a:ext cx="56275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мигрировав на Запад,  русские  писатели «третьей волны» не прекращали активной творческой работы. По отношению к «непослушным» писателям советские власти применяли новую тактику - лишение гражданства. Первым писателем, которого лишили гражданства, был 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Валерий Тарсис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депортированный на Запад в 1966 г. Позднее были лишены советского гражданства 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Александр Солженицын, Владимир Максимов, Александр Зиновьев, Василий Аксенов, Георгий Владимов, Владимир Войнович, Эдуард Кузнецов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В 70-80 годы родину вынуждены были покинуть такие талантливые писатели и поэты, 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как Юз Алешковский, Иосиф Бродский, Наталья Горбаневская, Сергей Довлатов, Наум Коржавин, Эдуард Лимонов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другие. Двое из писателей-эмигрантов «третьей волны» были удостоены Нобелевской премии по литературе: в 1970 г. </a:t>
            </a:r>
            <a:r>
              <a:rPr b="1" i="1" lang="ru-RU" sz="2200" spc="-1" strike="noStrike">
                <a:solidFill>
                  <a:srgbClr val="1205bb"/>
                </a:solidFill>
                <a:latin typeface="Calibri"/>
              </a:rPr>
              <a:t>- А. Солженицын,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1987 г. </a:t>
            </a:r>
            <a:r>
              <a:rPr b="1" i="1" lang="ru-RU" sz="2200" spc="-1" strike="noStrike">
                <a:solidFill>
                  <a:srgbClr val="1205bb"/>
                </a:solidFill>
                <a:latin typeface="Calibri"/>
              </a:rPr>
              <a:t>- И. Бродски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Настя\Desktop\Tarsis.jpg"/>
          <p:cNvPicPr/>
          <p:nvPr/>
        </p:nvPicPr>
        <p:blipFill>
          <a:blip r:embed="rId2"/>
          <a:stretch/>
        </p:blipFill>
        <p:spPr>
          <a:xfrm>
            <a:off x="468360" y="0"/>
            <a:ext cx="2162160" cy="28796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250920" y="285264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алерий Тарс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Users\Настя\Desktop\110213.jpg"/>
          <p:cNvPicPr/>
          <p:nvPr/>
        </p:nvPicPr>
        <p:blipFill>
          <a:blip r:embed="rId3"/>
          <a:stretch/>
        </p:blipFill>
        <p:spPr>
          <a:xfrm>
            <a:off x="395280" y="3284640"/>
            <a:ext cx="2305080" cy="29131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120960" y="6237360"/>
            <a:ext cx="34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лександр Солжениц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5128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Спектр литературных направлений писателей «третьей волны» представляется следующим образ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А. Солженицын и В. Максимов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сохранили великие традиции реализма XIX в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. В. Некрасов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- также писатель традиционной реалистической школы, использовавший в творчестве «эзопов язык», чтобы обходить советского цензора - на Западе был обескуражен отсутствием привычных для него рамок. 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Э. Лимонов (Савенко)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осуществил свою литературную месть в использовании реалистического метода для изображения мира сексуальных извращений, что можно рассматривать как своего рода преднамеренный акт богохульства против властьимущи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Настя\Desktop\3699.jpg"/>
          <p:cNvPicPr/>
          <p:nvPr/>
        </p:nvPicPr>
        <p:blipFill>
          <a:blip r:embed="rId2"/>
          <a:stretch/>
        </p:blipFill>
        <p:spPr>
          <a:xfrm>
            <a:off x="250920" y="115920"/>
            <a:ext cx="3816360" cy="43210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280440" y="4797360"/>
            <a:ext cx="39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. Лимонов (Савенк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оман </a:t>
            </a: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В. Аксенова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Остров Крым»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оманы </a:t>
            </a: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В. Войнович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Москва 2042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Жизнь и необычайные приключения солдата Ивана Чонкина»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нига </a:t>
            </a: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А. Зиновьева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Зияющие высоты»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могут быть отнесены к облеченной в фантастику политической сатир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А. Синявский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воем творчестве, выражая протест против реализма, обращался к жанру фантастики. Его ироничная автобиография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Спокойной ночи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ыла написана в модернистском дух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Настя\Desktop\3-282-01.jpg"/>
          <p:cNvPicPr/>
          <p:nvPr/>
        </p:nvPicPr>
        <p:blipFill>
          <a:blip r:embed="rId2"/>
          <a:stretch/>
        </p:blipFill>
        <p:spPr>
          <a:xfrm>
            <a:off x="324000" y="115920"/>
            <a:ext cx="2663640" cy="40165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545040" y="4292640"/>
            <a:ext cx="21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. Синя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843280" y="0"/>
            <a:ext cx="63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дним из самых наблюдательных и остроумных мастеров юмористического рассказа был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Сергей Довлатов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умевший талантливо и иронично передавать мелкие детали эмигрантской жизн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радиционные жанры и приемы в поэзии представлены в творчестве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Н. Коржавина и Н. Горбаневского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Авангардистское направление прослеживается в поэзии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Алексея Хвостенко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Виктора Тупицына, Генриха Худякова, Константина Кузьминског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едует отметить, что политизация искусства является причиной крупного раскола в среде эмигрантских писателей: с одной стороны - лагерь сторонников искусства для искусства, с другою - их непримиримые противники, политические моралисты. Но в целом и те и другие вносят неоценимый вклад в общерусскую литератур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Настя\Desktop\dov6.jpg"/>
          <p:cNvPicPr/>
          <p:nvPr/>
        </p:nvPicPr>
        <p:blipFill>
          <a:blip r:embed="rId2"/>
          <a:stretch/>
        </p:blipFill>
        <p:spPr>
          <a:xfrm>
            <a:off x="179280" y="404640"/>
            <a:ext cx="2820960" cy="38163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13680" y="4221000"/>
            <a:ext cx="33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ергей Довл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-360" y="0"/>
            <a:ext cx="716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 более сложной ситуации, по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Сравнению с научной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интеллигенцией, оказались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представители  художественной 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культуры 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,поскольку  художественное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творчество определяется в первую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очередь эмоциональным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настроением и вдохновением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оэтому для многих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отечественных писателей, поэтов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композиторов  эмиграция  обернулась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настоящей  трагедией 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Настя\Desktop\almanlar-ulkelerini-terk-ediyor.jpg"/>
          <p:cNvPicPr/>
          <p:nvPr/>
        </p:nvPicPr>
        <p:blipFill>
          <a:blip r:embed="rId2"/>
          <a:stretch/>
        </p:blipFill>
        <p:spPr>
          <a:xfrm>
            <a:off x="6372360" y="2781360"/>
            <a:ext cx="27716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195640" y="475920"/>
            <a:ext cx="5148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представители исполнительского мастерства: художники, скульпторы, архитекторы еще могли каким-то образом адаптироваться к жизни в  эмиграции , то для художников слова процесс привыкания к чужой среде проходил более мучительно. Нужно сказать, что были и такие  русские  писатели, которые успешно писали и на иностранных языках. Особенно те, кто попал в  эмиграцию  в молодом возрасте: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Артур Адамов, Владимир Волков, Яков Горбов, Зоя Ольденбург, Ирина Немировска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другие. Наибольшую известность и признание из таких писателей получил Владимир Набоков, перешедший на английский язык уже в зрелом возрасте. Популярны были также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Лев Тарас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исавший под псевдонимом Анри Труайя,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Иосиф Кессел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княгиня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З. Шаховска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псевдоним - Жак Круазе),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Бабавнук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Эммануэль Бова). Об их творчестве следует говорить как о вкладе  русских  в мировую  культуру  более чем в отечественну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Users\Настя\Desktop\arthur_adamov.jpg"/>
          <p:cNvPicPr/>
          <p:nvPr/>
        </p:nvPicPr>
        <p:blipFill>
          <a:blip r:embed="rId2"/>
          <a:stretch/>
        </p:blipFill>
        <p:spPr>
          <a:xfrm>
            <a:off x="108000" y="189000"/>
            <a:ext cx="2303280" cy="23763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261720" y="263700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ртур Ада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:\Users\Настя\Desktop\Irene_Nemirovsky_25yo.jpg"/>
          <p:cNvPicPr/>
          <p:nvPr/>
        </p:nvPicPr>
        <p:blipFill>
          <a:blip r:embed="rId3"/>
          <a:stretch/>
        </p:blipFill>
        <p:spPr>
          <a:xfrm>
            <a:off x="324000" y="3284640"/>
            <a:ext cx="1938240" cy="29304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7"/>
          <p:cNvSpPr/>
          <p:nvPr/>
        </p:nvSpPr>
        <p:spPr>
          <a:xfrm>
            <a:off x="186840" y="630864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рина Немиров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Настя\Desktop\9947b4920ec4.jpg"/>
          <p:cNvPicPr/>
          <p:nvPr/>
        </p:nvPicPr>
        <p:blipFill>
          <a:blip r:embed="rId4"/>
          <a:stretch/>
        </p:blipFill>
        <p:spPr>
          <a:xfrm>
            <a:off x="7316640" y="0"/>
            <a:ext cx="1827360" cy="2602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9"/>
          <p:cNvSpPr/>
          <p:nvPr/>
        </p:nvSpPr>
        <p:spPr>
          <a:xfrm>
            <a:off x="7246080" y="263700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димир Наб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Users\Настя\Desktop\75824463_411362058_e0e597c577.jpg"/>
          <p:cNvPicPr/>
          <p:nvPr/>
        </p:nvPicPr>
        <p:blipFill>
          <a:blip r:embed="rId5"/>
          <a:stretch/>
        </p:blipFill>
        <p:spPr>
          <a:xfrm>
            <a:off x="7101000" y="3213000"/>
            <a:ext cx="2043000" cy="30956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1"/>
          <p:cNvSpPr/>
          <p:nvPr/>
        </p:nvSpPr>
        <p:spPr>
          <a:xfrm>
            <a:off x="7234920" y="639612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в Тар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411280" y="0"/>
            <a:ext cx="482472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исатели старшего поколения, особенно те, кто ста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мигрантом уже в зрелом возрасте, переживали отрыв о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одины очень болезненно. Большинство их произведений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зданных за рубежом, посвящены ностальгическо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исанию  русского  быта и нравов Ро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ле Октября и гражданской войн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 эмиграции  оказались почти вс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вестные  русские  писатели и поэты. Большин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 них продолжали свои деятельность, создав цел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ласт литературы. Всего в Зарубежной России с 19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1970 г. на  русском  языке вышло около деся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ысяч книг. Более семи книг романов и нове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исал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И. Бун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получивший за свое литературно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ворчество в 1933 г. Нобелевскую премию. 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режковский издал 10 томов исторической проз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зы. Ряд пьес опубликовал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Б. Зайце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Три больши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мана и шесть сборников рассказов выпустил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Шмеле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Увидели свет более десяти книг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Осоргин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восемь романов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М. Алдано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А. Купр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же в пожилом возрасте написал в  эмиграции  дв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ести и несколько рассказов. Почти вс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вои  художественные  произве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лереволюционной поры написал в  эмиграции 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М. Горьких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Активно публиковалис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 русской  эмигрантской периодике со свои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ихами, юмористическими и сатирически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черками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А. Аверченко, С. Черный, Дон Аминадо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Надежда Тэфф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Настя\Desktop\bunin.jpg"/>
          <p:cNvPicPr/>
          <p:nvPr/>
        </p:nvPicPr>
        <p:blipFill>
          <a:blip r:embed="rId2"/>
          <a:stretch/>
        </p:blipFill>
        <p:spPr>
          <a:xfrm>
            <a:off x="250920" y="189000"/>
            <a:ext cx="2160360" cy="31687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261360" y="3284640"/>
            <a:ext cx="21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ван Бу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Users\Настя\Desktop\32018_1.jpg"/>
          <p:cNvPicPr/>
          <p:nvPr/>
        </p:nvPicPr>
        <p:blipFill>
          <a:blip r:embed="rId3"/>
          <a:stretch/>
        </p:blipFill>
        <p:spPr>
          <a:xfrm>
            <a:off x="324000" y="3860640"/>
            <a:ext cx="2016000" cy="2513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Настя\Desktop\cover_399.jpg"/>
          <p:cNvPicPr/>
          <p:nvPr/>
        </p:nvPicPr>
        <p:blipFill>
          <a:blip r:embed="rId4"/>
          <a:stretch/>
        </p:blipFill>
        <p:spPr>
          <a:xfrm>
            <a:off x="7164360" y="115920"/>
            <a:ext cx="1979640" cy="29559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7"/>
          <p:cNvSpPr/>
          <p:nvPr/>
        </p:nvSpPr>
        <p:spPr>
          <a:xfrm>
            <a:off x="7236000" y="306864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. Куп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Настя\Desktop\teffi_.jpg"/>
          <p:cNvPicPr/>
          <p:nvPr/>
        </p:nvPicPr>
        <p:blipFill>
          <a:blip r:embed="rId5"/>
          <a:stretch/>
        </p:blipFill>
        <p:spPr>
          <a:xfrm>
            <a:off x="7236000" y="3500280"/>
            <a:ext cx="1728720" cy="25210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9"/>
          <p:cNvSpPr/>
          <p:nvPr/>
        </p:nvSpPr>
        <p:spPr>
          <a:xfrm>
            <a:off x="7236360" y="616572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дежда Тэфф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843280" y="0"/>
            <a:ext cx="63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ктивно создавалась за рубежом и  русская  поэзия. К середине 20-х годов в Париже собрались почти все виднейшие  русские  поэты как старшего поколения, прославившиеся еще в период серебряного века, так и более молодые, выпустившие до  эмиграции  только первые свои книг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Эмигрантских поэтов в период между двумя войнами можно разделить делить на четыре основные группы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-первых, это поздние символисты.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Главными наследниками символистов в  эмиграции  были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Константин Бальмонт, Вячеслав Иванов, Андрей Белый, Зинаида Гиппиус, Дмитрий Мережковский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Настя\Desktop\74901411_large_balmont.jpg"/>
          <p:cNvPicPr/>
          <p:nvPr/>
        </p:nvPicPr>
        <p:blipFill>
          <a:blip r:embed="rId2"/>
          <a:stretch/>
        </p:blipFill>
        <p:spPr>
          <a:xfrm>
            <a:off x="250920" y="0"/>
            <a:ext cx="2592360" cy="3240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13320" y="314172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стантин Бальмо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:\Users\Настя\Desktop\Viacheslav_ivanov.jpg"/>
          <p:cNvPicPr/>
          <p:nvPr/>
        </p:nvPicPr>
        <p:blipFill>
          <a:blip r:embed="rId3"/>
          <a:stretch/>
        </p:blipFill>
        <p:spPr>
          <a:xfrm>
            <a:off x="539640" y="3573360"/>
            <a:ext cx="1800360" cy="27352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6"/>
          <p:cNvSpPr/>
          <p:nvPr/>
        </p:nvSpPr>
        <p:spPr>
          <a:xfrm>
            <a:off x="263880" y="6396120"/>
            <a:ext cx="24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ячеслав 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700000" y="0"/>
            <a:ext cx="6443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торую группу поэтов составляли последователи так называемой «парижской ноты» - периода абсолютной свободы и индивидуального своеобразия поэтического творчества. Среди поэтов, следовавших этим настроениям, были </a:t>
            </a: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Георгий Адамович, Лидия Червинская, Ирина Одоевцева, Борис Поплавский, Игорь Чиннов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другие. Среди эмигрантских поэтов особое место занимала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Марина Цветаев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резвычайно индивидуальная, уникальна в своем мироощущении и в стиле Цветаева не вписывалась даже в «парижскую ноту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Настя\Desktop\i0005310_1.jpg"/>
          <p:cNvPicPr/>
          <p:nvPr/>
        </p:nvPicPr>
        <p:blipFill>
          <a:blip r:embed="rId2"/>
          <a:stretch/>
        </p:blipFill>
        <p:spPr>
          <a:xfrm>
            <a:off x="179280" y="0"/>
            <a:ext cx="2232000" cy="31417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-720" y="321300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еоргий Адам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Users\Настя\Desktop\7907p.jpg"/>
          <p:cNvPicPr/>
          <p:nvPr/>
        </p:nvPicPr>
        <p:blipFill>
          <a:blip r:embed="rId3"/>
          <a:stretch/>
        </p:blipFill>
        <p:spPr>
          <a:xfrm>
            <a:off x="179280" y="3645000"/>
            <a:ext cx="2305080" cy="244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6"/>
          <p:cNvSpPr/>
          <p:nvPr/>
        </p:nvSpPr>
        <p:spPr>
          <a:xfrm>
            <a:off x="108000" y="6165720"/>
            <a:ext cx="24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Борис Попла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-360" y="0"/>
            <a:ext cx="4211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Calibri"/>
              </a:rPr>
              <a:t>К третьей группе следует отнести поэтов-экспериментаторов, пытавшихся соперничать с дадаизмом и сюрреализмом, Александра Гингера, Анну Присманову, Виктора Мамченко, Юрия 0дарченко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4824360" y="0"/>
            <a:ext cx="43196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Четвертую группу поэтов можно представить, как поэтов, следовавших совету Ходасевича просто писать хорошие стихи, не подражая определенному течению, но все же склонявшихся к акмеизму - например, Георгий Ива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32000" y="0"/>
            <a:ext cx="6012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торая мировая война смыла литературную жизнь «первой волны». Некоторые писатели к тому времени уехали в Америку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- Набоков, Алданов Цетлин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Другие -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Шмелев, Ремизов, Осоргин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оказались в оккупированных немцами зонах. Третьи же вернулись в зоны оккупации до того, как немцы заняли Францию -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Мережковский, Гиппиус, Тэффи.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От рук фашистов погибло несколько писателей: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Юрий Фельзен, Юрий Мандельштам, Игорь Воинов, Анатолий Левицкий, Илья Фондаминский, Илья Коровин-Пиотровский, Михаил Горлин, Раиса Блох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нахиня и поэтесса Мать Мария. Среди  русских  эмигрантов, собравшихся в Берлине для борьбы с большевизмом, оказался романист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Николай Брешко-Брешковский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Настя\Desktop\641319427_tonnel.gif.jpg"/>
          <p:cNvPicPr/>
          <p:nvPr/>
        </p:nvPicPr>
        <p:blipFill>
          <a:blip r:embed="rId2"/>
          <a:stretch/>
        </p:blipFill>
        <p:spPr>
          <a:xfrm>
            <a:off x="324000" y="189000"/>
            <a:ext cx="2447640" cy="3024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324000" y="3141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аб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C:\Users\Настя\Desktop\fraskuelo.jpg"/>
          <p:cNvPicPr/>
          <p:nvPr/>
        </p:nvPicPr>
        <p:blipFill>
          <a:blip r:embed="rId3"/>
          <a:stretch/>
        </p:blipFill>
        <p:spPr>
          <a:xfrm>
            <a:off x="468360" y="3645000"/>
            <a:ext cx="2281320" cy="27367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6"/>
          <p:cNvSpPr/>
          <p:nvPr/>
        </p:nvSpPr>
        <p:spPr>
          <a:xfrm>
            <a:off x="110880" y="6458040"/>
            <a:ext cx="36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иколай Брешко-Брешк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В послевоенный период поэтическое творчество в  эмиграции  получило новые импульсы, породившие новые поиски стиля, формы. Их разнообразие свидетельствует об абсолютной внутренней творческой свободе. Уже после войны вышли антологии и поэтические сборники, охватившие все течения в литературе Зарубежной Росс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В эти годы литературное творчество за рубежом продолжало активно развиваться. На смену старшему поколению пришли как молодые  русские  писатели, родившиеся уже вне родины, так и новые эмигранты из числа так называемых «перемещенных лиц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Нужно сказать, что хотя во «второй волне» были представители интеллигенции, она, в целом не обладала «критической массой», необходимой для сохранения культурной традиции за рубежом. В 50-х и начале 60-х годов представители «первой волны» по-прежнему занимали главное место в литературной жизни  эмиграции 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1:04:36Z</dcterms:created>
  <dc:creator>Настя</dc:creator>
  <dc:description/>
  <dc:language>en-US</dc:language>
  <cp:lastModifiedBy>RWT</cp:lastModifiedBy>
  <dcterms:modified xsi:type="dcterms:W3CDTF">2011-12-18T17:27:44Z</dcterms:modified>
  <cp:revision>44</cp:revision>
  <dc:subject/>
  <dc:title>Слайд 1</dc:title>
</cp:coreProperties>
</file>