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4FC7-5B7F-4164-9FF5-72F761BCC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A93-112F-4AC0-A46A-D7D9717C8D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023-1DA4-4B1E-B707-D8FF6154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AB2-A130-486B-9D1D-2086AC30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5CF-D0C0-4678-B025-20EDB488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2BF-48D3-4F94-B9D3-BD7CB0EC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10A9-B3ED-4D61-A0DB-A98798A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F7E-9550-4D14-A62C-12E2FA9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4BC-923F-4740-8097-548625D8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658-704B-4E02-BE7F-A4868517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2A8C-4E12-4F72-B155-71D76C7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0538-DCE3-4563-8D96-F029E8D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A3F-F5C5-4541-99BA-09786A8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764-C412-4559-A165-B77D85D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F71-9604-4837-A9FB-295EE8DC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7D87-94A0-49B0-83CC-4840DCF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FADD-6B4C-4095-BF03-F07C5832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0AFF-8BB1-41D0-90FE-3ABF66D1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BDA-C593-4819-928E-4B66B48B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37AE-54C3-4030-B334-0666144E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463C-CC80-44A9-8DBB-A3C82001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884C-E507-4598-9ED5-8B878A9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ECA8-F597-4F67-AC2B-120E71C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9255-690C-49AA-BADA-E8F76A01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F44-7998-4C2E-817C-7DAB804A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B900-77AA-4B1A-B27B-A3AEDD1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C136-859C-4639-981C-2A392C9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3EDE-CDD1-4871-A32B-014E7E3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F8F9-59F7-4E73-96A4-6159371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8095-63E7-4432-95D2-FDD40496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E29F-9371-4E9B-B54B-D1F3BACA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EFFC-FD8D-46B0-A8FB-744ABD98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99F2-5585-4CCC-8EFA-A97E2745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E9B5-D3A4-419E-91E2-7E4F11A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7EC38-5CA8-4D8D-B895-1E39642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EEF-22A1-4BB5-A300-03BF355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C4B32-DF48-4C42-8200-C4185DC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F6BB-1612-4A4E-A905-F6BD8018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45D8-FD21-4EA3-9C17-D1E94111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4CAD-985F-48FF-9FCD-C718186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6D7C-3767-4E02-AB31-984F728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6DFF6-3E0D-43E7-915F-F1D6357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C191-4003-4C7A-9CE7-32AD0035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089A-3359-4B8F-A9DC-275FDB70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1A5D-ACD9-4EF5-A812-9BB2339E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279C4-102D-4DC6-9A8C-1E4BE780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DE3-1CF2-4A97-BCB3-74D284E6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11C7-3145-41BD-8C7D-7F767DCD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9DE20-6DD1-4B7D-BAA0-78C00866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C41B-1CEF-4708-85AC-05C017F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97DB5-91E2-49BD-82A3-925692DE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DE3E-E493-41D2-AAA8-835C9C3E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547A-4F06-49C2-AF36-51C46FA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CEB5-5622-42F4-A049-ABBCEF3E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431E-0929-4E7C-B25E-16606CD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27411-0106-4EE1-94A6-CBE8B72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4D8E-5780-4802-8A43-8494281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870-925F-4662-A616-80B11FF4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45EE0-D8D4-4B33-9F2B-76C8E3C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4FC10-7A76-450D-BFA8-D5FEA3BD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DA62-A6F5-4ACC-A90E-B3A83062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3C84-F359-4B1B-A7B3-AC6B72A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80293-6894-4212-9287-8BF7544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9AF15-0FA5-4646-B685-BFB24FB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FE41E-FD22-416B-8121-1CBCBD5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B72DD-E9C3-45BE-8224-053D4433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443B-2E9F-4CD2-A65F-497E3AC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7C44D-D679-44F8-ADC9-404FD74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E28-192A-48AE-91AF-D3173EF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8AEA-1973-4CFD-A8F6-CD76DB7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FE9A-286A-477B-AD43-A740324D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B1BBB-42D8-4D4A-8C2D-5742BF71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A6D0-C5D1-4666-8B9A-8C916A6B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F87F-F44D-45DC-9560-28BC2A9E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6085-F450-4F5E-AD67-2F31790E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23CD-E720-41DA-AB4C-7F02B094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1F2C4-3F00-4BF3-ADA7-623A5C87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8529E-94C5-4B30-98A7-4E770E4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2BF8A-5EFB-4646-BA21-221601A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91-347B-42FD-A02A-EF9624EC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3FD4-5412-4A54-A449-C5E62D20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3D6BB-D5D5-4AFE-A03B-5D0C2B1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6552-D1C5-44F4-9434-5A465E34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92CB-949D-4811-AF9F-3495F210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E635-21A2-4DFA-AEB7-3067A071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58601-B200-4F78-BF37-65B916C7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A667-25B0-49D0-A5AE-6011DBA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210B-E653-47AF-A7A5-8861392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3FE91-CB22-410A-95BF-4E25A06A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B57D-2E47-4F1C-B140-317C5296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FFE-983C-47DD-AC59-240407D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03DC-8CC7-40FC-B33D-7CE955EB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AD5E-D552-4188-8CE4-704ECE97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38846-CB7D-45A0-84E8-43343A8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40FF5-FC8A-4A8D-87FA-0BE1484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BC29-798A-4E42-B70D-83CC59AB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B407-B13D-4F11-8742-4D9B7B65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DCB9-7511-46EF-84A2-3871EAD7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6F5-734C-48AB-9503-A9A299D8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B42-021A-4588-A766-40D3EB9EAB1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078B-69AF-49B6-BD33-9C37040C6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A941-956C-4C1D-AA7E-CD438BB659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AA7-761B-49FF-BA66-A80BF312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52B-F698-4AEA-9D65-DBF8693E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C37-BF19-425E-B6F1-83642509FE0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270-93B5-4311-9979-5C0D1D37D49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d:\Мои документы\Новая папка\Изображение 015.jpg"/>
          <p:cNvPicPr/>
          <p:nvPr/>
        </p:nvPicPr>
        <p:blipFill>
          <a:blip r:embed="rId2"/>
          <a:stretch/>
        </p:blipFill>
        <p:spPr>
          <a:xfrm rot="21277200">
            <a:off x="785880" y="2571480"/>
            <a:ext cx="3724200" cy="3968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5072040" y="264312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Рубцо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МБОУ Михайловской СОШ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428760" y="35712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А вообще все правила личной безопасности сводятся к одному короткому слову НЕ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 задерживайся на улице по дороге из школ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играй на улице с наступлением темнот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впускай незнакомца в д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ходи никуда с незнакомым человек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садись в машину с незнакомц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2" descr="d:\Мои документы\Новая папка\Изображение 021.jpg"/>
          <p:cNvPicPr/>
          <p:nvPr/>
        </p:nvPicPr>
        <p:blipFill>
          <a:blip r:embed="rId1"/>
          <a:stretch/>
        </p:blipFill>
        <p:spPr>
          <a:xfrm>
            <a:off x="2214720" y="3500280"/>
            <a:ext cx="5715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428760" y="85716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ЕРЕГИТЕ СЕБЯ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УДЬТЕ ЗДОРОВЫ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Используемая литература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сачёв А.А., Березин А.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Школа безопасности: Учебник для 1 класса начальной школы по курсу ОБЖ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.: «Фирма «Издательство АСТ», 1999 г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и в коем случае не открывай дверь, если звонит незнакомый человек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а все вопросы и просьбы незнакомца отвечай: «Нет»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в дверь звонит почтальон, монтёр, врач или даже милиционер, всё равно не открывай, если не знаешь людей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d:\Мои документы\Новая папка\Изображение 016.jpg"/>
          <p:cNvPicPr/>
          <p:nvPr/>
        </p:nvPicPr>
        <p:blipFill>
          <a:blip r:embed="rId1"/>
          <a:stretch/>
        </p:blipFill>
        <p:spPr>
          <a:xfrm>
            <a:off x="5143680" y="2147760"/>
            <a:ext cx="3429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е пускайте дядю в дом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дядя не знаком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 не открывайте тёте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мама на рабо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едь преступник, он хитёр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Притворится, что монтё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даже скажет он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Что пришёл к вам почтальон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d:\Мои документы\Новая папка\Изображение 018.jpg"/>
          <p:cNvPicPr/>
          <p:nvPr/>
        </p:nvPicPr>
        <p:blipFill>
          <a:blip r:embed="rId1"/>
          <a:stretch/>
        </p:blipFill>
        <p:spPr>
          <a:xfrm>
            <a:off x="457200" y="192888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Он покажет вам пак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А под мышкой  -  пистолет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он надел халат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под ним  штук пять грана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за ним спешит «старушка»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У неё в авоське пуш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 жизни всякое быва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 тем, кто двери открывае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d:\Мои документы\Новая папка\Изображение 0.jpg"/>
          <p:cNvPicPr/>
          <p:nvPr/>
        </p:nvPicPr>
        <p:blipFill>
          <a:blip r:embed="rId1"/>
          <a:stretch/>
        </p:blipFill>
        <p:spPr>
          <a:xfrm>
            <a:off x="4500720" y="2000160"/>
            <a:ext cx="4186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Если кто-то лезет в дом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робивая двери лбом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Двери держатся едва –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оскорей звони 02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d:\Мои документы\Новая папка\Изображение 017.jpg"/>
          <p:cNvPicPr/>
          <p:nvPr/>
        </p:nvPicPr>
        <p:blipFill>
          <a:blip r:embed="rId1"/>
          <a:stretch/>
        </p:blipFill>
        <p:spPr>
          <a:xfrm>
            <a:off x="714240" y="1643040"/>
            <a:ext cx="3143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500040" y="142884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Запиши на отдельном листке номера рабочих телефонов родителей и соседей, повесь его над телефонным аппарато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2" descr="d:\Мои документы\Новая папка\Изображение 1.jpg"/>
          <p:cNvPicPr/>
          <p:nvPr/>
        </p:nvPicPr>
        <p:blipFill>
          <a:blip r:embed="rId2"/>
          <a:stretch/>
        </p:blipFill>
        <p:spPr>
          <a:xfrm>
            <a:off x="4572000" y="2428920"/>
            <a:ext cx="34606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571680" y="150012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потерял родителей в незнакомом месте, стой там, где ты потерялся. Если их долго нет, обратись  за помощью: на улице -  к милиционеру, в магазине – к продавцу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ходи гулять без спросу. Родители всегда должны знать, где ты находишься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играй на улице поздно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соглашайся идти с незнакомыми ребятами или взрослыми в чужой подъезд, подвал, на пустырь или другие безлюдные места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заговаривай на улице с незнакомыми людьми и пьяными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принимай от незнакомых взрослых угощение. Даже если родители никогда не покупали тебе таких вкусных вещей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увидишь на улице, автобусе, метро какой – нибудь предмет: коробку, свёрток, пакет – не трогай его. В нём может быть бомб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Мои документы\Новая папка\Изображение 019.jpg"/>
          <p:cNvPicPr/>
          <p:nvPr/>
        </p:nvPicPr>
        <p:blipFill>
          <a:blip r:embed="rId1"/>
          <a:stretch/>
        </p:blipFill>
        <p:spPr>
          <a:xfrm>
            <a:off x="500040" y="714240"/>
            <a:ext cx="3772080" cy="5226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5072040" y="785880"/>
            <a:ext cx="3857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Из сказок ты знаешь, что злодеи очень изобретательны и знают тысячу и один способ, как обмануть свою жертву. В жизни преступники не менее изобретательны. Поэтому, чтобы с тобой не случилось ничего плохого, запомни следующие правил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Мои документы\Новая папка\Изображение 020.jpg"/>
          <p:cNvPicPr/>
          <p:nvPr/>
        </p:nvPicPr>
        <p:blipFill>
          <a:blip r:embed="rId1"/>
          <a:stretch/>
        </p:blipFill>
        <p:spPr>
          <a:xfrm>
            <a:off x="5143680" y="2514600"/>
            <a:ext cx="3827160" cy="43434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428760" y="642960"/>
            <a:ext cx="792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а улице кто-то идёт или бежит за тобой, а до дома далеко, беги в ближайшее людное место: к магазину, автобусной остановк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езнакомые взрослые пытаются увести тебя силой, сопротивляйся, кричи, зови на помощь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соглашайся ни на какие предложения взрослых. Даже сняться в кин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уда не ходи с незнакомым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ми и не садись с ними в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машину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огда не хвастай тем, что у твои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одителей много денег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приглашай в дом незнакомы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ебят, если дома нет никого из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х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54:31Z</dcterms:created>
  <dc:creator>Admin</dc:creator>
  <dc:description/>
  <dc:language>en-US</dc:language>
  <cp:lastModifiedBy>МОУ Ужанихинская СОШ</cp:lastModifiedBy>
  <dcterms:modified xsi:type="dcterms:W3CDTF">2010-11-12T06:32:44Z</dcterms:modified>
  <cp:revision>11</cp:revision>
  <dc:subject/>
  <dc:title>Личная безопасность на улице и дома</dc:title>
</cp:coreProperties>
</file>