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7F9B-1118-4EFE-83E1-BD959C489D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A2AE-6B72-4EB5-B63F-04A2E00E8B5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2A0-E6C7-4EFB-AA61-0AB598F3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604F-30F1-4E47-80A7-73BE991F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B24C-7588-42F7-A1F5-3243547E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E64-EBCA-4AA0-BD9F-12BB6545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B13A-D3F5-4E52-A4AF-43AFA0E0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AF70-FB10-4529-89A4-2CC13B8D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4722-0A23-4FFE-97BD-3CE58074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E794-03B2-43C5-97CF-A86D637A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33E3-6A5D-4B16-AC39-4F9E471C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0584-1DFB-4E6F-929D-20360963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0412-3CE1-4515-BF09-9308C780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3A46-F463-4DE2-91B1-B265D1A0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67C2-01F1-4FAC-9537-3879EF5F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3BAB-8E23-4F87-AE2A-B602C23F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D654-7E32-4C5A-AF79-0E789423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A49F-AB9D-4C8B-AE3C-9246A3EF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99B0-6AC3-4EA0-BE71-618420B9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3B4A8-2C14-430C-8B9C-C8C35708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9F58C-C8F7-4D5B-9A26-68862045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42F74-2D84-4487-B810-855A3F5A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0DFA2-AA22-4ADE-AFDB-31B09E6F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C750A-ABCC-4831-A871-AFB07682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260C-4A5D-44F1-B9D7-F843C797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D7646-31B1-4639-9561-8F68E5C4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C7F4-CEAF-480A-BD0D-DAAE05D3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85DA0-B855-4B62-A905-98521363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FA392-2688-4188-B448-CCF411FF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6004D-02B8-41DB-AF4D-6C503E49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B286E-A357-447F-ACC3-DACF12C2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38570-851F-4C28-A8DB-E2B7C879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7034A-2D86-4E1F-A185-7A5247DB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1EA2B-DBA6-4FFD-9AB6-91115BF8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1FD5F-E67D-45D1-A3EC-D581912B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4B9-D4B1-4728-9CD0-8A1C1C38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2787D-F7DD-4AFB-9D2B-84992AAE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C351E-343C-4240-AD65-C35CCCC7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CD7C3-584E-468E-811B-E4AAC343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47D9F-8B6E-4ECC-AD63-C99AB66A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E6187-FB9A-4AEC-9656-9017D507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EE6BA-2471-44F3-82DB-2ACEA23A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83784-EB70-4CAD-AC2F-C708DC85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351C0-1BE1-4B96-B01A-8A0B3980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6B71A-96F5-4737-BFC2-8D66E2D7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6C9CB-2E3E-408D-A6D8-461D0180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F57-56E9-4013-8AD8-5752C73E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1AEBD-FF90-424F-A9AB-28574BB5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967B3-07FC-4257-B915-B2B28F70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E4B58-F089-4419-9165-88BA7CBF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C92BA-9F20-409F-BCAD-16FE04EA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86834-B095-4353-8AE5-81C47208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4832B-23A3-44F0-B847-234966D4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F0F17-589D-45B4-9A06-A9C44DB6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25ADC-3D80-4214-A65D-4068BDCC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E48A3-46B4-406C-93AE-04848409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791E0-6738-4E94-A532-4CBE1B83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F17E-903F-45EF-9293-04295DF2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A74A6-924C-4D59-92B0-6B362E11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56268-CD29-4709-9405-48CC3C84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A30AE-118B-47B5-95DA-429693F7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FD7BD-C51B-46FE-BF11-F3E8E23C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66C08-6E63-4338-BD50-C4E230C0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D9ABD-1076-4A61-A35C-73B713EF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BC3CF-D2D2-41EA-BB66-830DDDC8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F6D24-B92D-4ECE-B723-FBF79E76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A40C8-B009-4288-9674-9F872399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E1FFC-DBA1-44A5-8956-2485C012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B15-3248-4016-B207-D539F633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6A210-E8C0-448B-BA0A-CD41094B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AD105-6841-495B-AF49-37A839AC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AF643-1E49-4145-948E-0BD63E6E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1975C-E567-4B08-836C-84992718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54672-1DAA-480E-98FC-D24CF0EA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47B75-B943-4720-AAAA-9BC2C7C2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989E1-80EF-4C4D-823D-63A8C272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72653-BE77-49E6-9F5E-590F1276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0BBB1-599A-4B70-B004-739F972A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3391B-5E8E-4811-B3FF-FBBC1489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60B-9AD2-4204-A5F1-E603F81D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F5013-00C2-4BC5-8448-008F8C15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BA6B6-E272-4CBA-8871-83D628F0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FEC90-DB66-4F60-AA88-1A79D16A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4720C-EBE6-4897-9562-8D88E3C9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73C04-DD11-472E-97E9-EEA711C7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37D83-21D0-4B66-B406-27F08F3D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E397F-A570-4963-8AD6-48F174DF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D3600-DD96-48E6-BEE5-F8F19503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64BAE-BF1F-4137-B97C-82BD00CB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4E586-81E8-4A32-B7A2-79632906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81F3-8375-4D9D-BDD8-DB679806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F9944-EA62-4B20-A423-DC2E927A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231E7-B8BA-4A11-9996-AF7ECC8E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CE04E-D10A-4191-897A-F1884C33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B3660-3EF3-4F5D-B375-F93AA7A2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574FE-76C7-4CA4-9159-31026A21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C0859-FB5F-4B06-A71B-A4059228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A8960-8D5C-4BA0-8014-ED0093FF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33C6-284F-401A-BA89-19E6468A4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8342-1291-4180-AD65-647E2DB10FC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B9B9-6D19-480D-9FFF-8F1CB3999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2673-67E8-4D76-8114-B87E239F52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034B-82A5-4B28-91DA-BAD0D8CB4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81E2-948F-4124-B95A-0C2347384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5A0C-5E91-4006-A279-6AA7B3C1461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3447-7008-4534-85B9-D928587AAA9C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242560" cy="15973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2" descr="d:\Мои документы\Новая папка\Изображение 015.jpg"/>
          <p:cNvPicPr/>
          <p:nvPr/>
        </p:nvPicPr>
        <p:blipFill>
          <a:blip r:embed="rId2"/>
          <a:stretch/>
        </p:blipFill>
        <p:spPr>
          <a:xfrm rot="21277200">
            <a:off x="785880" y="2571480"/>
            <a:ext cx="3724200" cy="39686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4"/>
          <p:cNvSpPr/>
          <p:nvPr/>
        </p:nvSpPr>
        <p:spPr>
          <a:xfrm>
            <a:off x="5072040" y="2643120"/>
            <a:ext cx="36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Рубцова Людмила Васильевн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1 квалификационной категори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МБОУ Михайловской СОШ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1"/>
          <p:cNvSpPr/>
          <p:nvPr/>
        </p:nvSpPr>
        <p:spPr>
          <a:xfrm>
            <a:off x="428760" y="357120"/>
            <a:ext cx="8072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А вообще все правила личной безопасности сводятся к одному короткому слову НЕ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НЕ  задерживайся на улице по дороге из школы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НЕ играй на улице с наступлением темноты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НЕ впускай незнакомца в до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НЕ ходи никуда с незнакомым человеко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НЕ садись в машину с незнакомце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8" name="Picture 2" descr="d:\Мои документы\Новая папка\Изображение 021.jpg"/>
          <p:cNvPicPr/>
          <p:nvPr/>
        </p:nvPicPr>
        <p:blipFill>
          <a:blip r:embed="rId1"/>
          <a:stretch/>
        </p:blipFill>
        <p:spPr>
          <a:xfrm>
            <a:off x="2214720" y="3500280"/>
            <a:ext cx="57150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1"/>
          <p:cNvSpPr/>
          <p:nvPr/>
        </p:nvSpPr>
        <p:spPr>
          <a:xfrm>
            <a:off x="428760" y="857160"/>
            <a:ext cx="8001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d0d0d"/>
                </a:solidFill>
                <a:latin typeface="Century Gothic"/>
              </a:rPr>
              <a:t>БЕРЕГИТЕ СЕБЯ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d0d0d"/>
                </a:solidFill>
                <a:latin typeface="Century Gothic"/>
              </a:rPr>
              <a:t>БУДЬТЕ ЗДОРОВЫ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Arial"/>
              </a:rPr>
              <a:t>Используемая литература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Усачёв А.А., Березин А.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Школа безопасности: Учебник для 1 класса начальной школы по курсу ОБЖ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.: «Фирма «Издательство АСТ», 1999 г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Ни в коем случае не открывай дверь, если звонит незнакомый человек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На все вопросы и просьбы незнакомца отвечай: «Нет»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Если в дверь звонит почтальон, монтёр, врач или даже милиционер, всё равно не открывай, если не знаешь людей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8" name="Picture 2" descr="d:\Мои документы\Новая папка\Изображение 016.jpg"/>
          <p:cNvPicPr/>
          <p:nvPr/>
        </p:nvPicPr>
        <p:blipFill>
          <a:blip r:embed="rId1"/>
          <a:stretch/>
        </p:blipFill>
        <p:spPr>
          <a:xfrm>
            <a:off x="5143680" y="2147760"/>
            <a:ext cx="342900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Не пускайте дядю в дом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Если дядя не знаком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И не открывайте тёте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Если мама на работе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Ведь преступник, он хитёр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Притворится, что монтёр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Или даже скажет он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Что пришёл к вам почтальон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Picture 2" descr="d:\Мои документы\Новая папка\Изображение 018.jpg"/>
          <p:cNvPicPr/>
          <p:nvPr/>
        </p:nvPicPr>
        <p:blipFill>
          <a:blip r:embed="rId1"/>
          <a:stretch/>
        </p:blipFill>
        <p:spPr>
          <a:xfrm>
            <a:off x="457200" y="1928880"/>
            <a:ext cx="40384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Он покажет вам пакет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А под мышкой  -  пистолет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Или он надел халат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А под ним  штук пять гранат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А за ним спешит «старушка»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У неё в авоське пушк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В жизни всякое бывает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С тем, кто двери открывает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4" name="Picture 2" descr="d:\Мои документы\Новая папка\Изображение 0.jpg"/>
          <p:cNvPicPr/>
          <p:nvPr/>
        </p:nvPicPr>
        <p:blipFill>
          <a:blip r:embed="rId1"/>
          <a:stretch/>
        </p:blipFill>
        <p:spPr>
          <a:xfrm>
            <a:off x="4500720" y="2000160"/>
            <a:ext cx="41860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Если кто-то лезет в дом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Пробивая двери лбом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Двери держатся едва –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Поскорей звони 02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2" descr="d:\Мои документы\Новая папка\Изображение 017.jpg"/>
          <p:cNvPicPr/>
          <p:nvPr/>
        </p:nvPicPr>
        <p:blipFill>
          <a:blip r:embed="rId1"/>
          <a:stretch/>
        </p:blipFill>
        <p:spPr>
          <a:xfrm>
            <a:off x="714240" y="1643040"/>
            <a:ext cx="3143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"/>
          <p:cNvSpPr/>
          <p:nvPr/>
        </p:nvSpPr>
        <p:spPr>
          <a:xfrm>
            <a:off x="500040" y="1428840"/>
            <a:ext cx="3857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Запиши на отдельном листке номера рабочих телефонов родителей и соседей, повесь его над телефонным аппарато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Picture 2" descr="d:\Мои документы\Новая папка\Изображение 1.jpg"/>
          <p:cNvPicPr/>
          <p:nvPr/>
        </p:nvPicPr>
        <p:blipFill>
          <a:blip r:embed="rId2"/>
          <a:stretch/>
        </p:blipFill>
        <p:spPr>
          <a:xfrm>
            <a:off x="4572000" y="2428920"/>
            <a:ext cx="34606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2" name="TextBox 2"/>
          <p:cNvSpPr/>
          <p:nvPr/>
        </p:nvSpPr>
        <p:spPr>
          <a:xfrm>
            <a:off x="571680" y="150012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Если ты потерял родителей в незнакомом месте, стой там, где ты потерялся. Если их долго нет, обратись  за помощью: на улице -  к милиционеру, в магазине – к продавцу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Никогда не ходи гулять без спросу. Родители всегда должны знать, где ты находишься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Не играй на улице поздно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Не соглашайся идти с незнакомыми ребятами или взрослыми в чужой подъезд, подвал, на пустырь или другие безлюдные места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Никогда не заговаривай на улице с незнакомыми людьми и пьяными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Не принимай от незнакомых взрослых угощение. Даже если родители никогда не покупали тебе таких вкусных вещей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Если ты увидишь на улице, автобусе, метро какой – нибудь предмет: коробку, свёрток, пакет – не трогай его. В нём может быть бомба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d:\Мои документы\Новая папка\Изображение 019.jpg"/>
          <p:cNvPicPr/>
          <p:nvPr/>
        </p:nvPicPr>
        <p:blipFill>
          <a:blip r:embed="rId1"/>
          <a:stretch/>
        </p:blipFill>
        <p:spPr>
          <a:xfrm>
            <a:off x="500040" y="714240"/>
            <a:ext cx="3772080" cy="5226120"/>
          </a:xfrm>
          <a:prstGeom prst="rect">
            <a:avLst/>
          </a:prstGeom>
          <a:ln w="0">
            <a:noFill/>
          </a:ln>
        </p:spPr>
      </p:pic>
      <p:sp>
        <p:nvSpPr>
          <p:cNvPr id="374" name="TextBox 2"/>
          <p:cNvSpPr/>
          <p:nvPr/>
        </p:nvSpPr>
        <p:spPr>
          <a:xfrm>
            <a:off x="5072040" y="785880"/>
            <a:ext cx="3857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ury Gothic"/>
              </a:rPr>
              <a:t>Из сказок ты знаешь, что злодеи очень изобретательны и знают тысячу и один способ, как обмануть свою жертву. В жизни преступники не менее изобретательны. Поэтому, чтобы с тобой не случилось ничего плохого, запомни следующие правила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d:\Мои документы\Новая папка\Изображение 020.jpg"/>
          <p:cNvPicPr/>
          <p:nvPr/>
        </p:nvPicPr>
        <p:blipFill>
          <a:blip r:embed="rId1"/>
          <a:stretch/>
        </p:blipFill>
        <p:spPr>
          <a:xfrm>
            <a:off x="5143680" y="2514600"/>
            <a:ext cx="3827160" cy="43434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2"/>
          <p:cNvSpPr/>
          <p:nvPr/>
        </p:nvSpPr>
        <p:spPr>
          <a:xfrm>
            <a:off x="428760" y="642960"/>
            <a:ext cx="7929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Если на улице кто-то идёт или бежит за тобой, а до дома далеко, беги в ближайшее людное место: к магазину, автобусной остановке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Если незнакомые взрослые пытаются увести тебя силой, сопротивляйся, кричи, зови на помощь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Не соглашайся ни на какие предложения взрослых. Даже сняться в кино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Никуда не ходи с незнакомыми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Взрослыми и не садись с ними в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машину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Никогда не хвастай тем, что у твоих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Родителей много денег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Не приглашай в дом незнакомых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ребят, если дома нет никого из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entury Gothic"/>
              </a:rPr>
              <a:t>взрослых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4:54:31Z</dcterms:created>
  <dc:creator>Admin</dc:creator>
  <dc:description/>
  <dc:language>en-US</dc:language>
  <cp:lastModifiedBy>МОУ Ужанихинская СОШ</cp:lastModifiedBy>
  <dcterms:modified xsi:type="dcterms:W3CDTF">2010-11-12T06:32:44Z</dcterms:modified>
  <cp:revision>11</cp:revision>
  <dc:subject/>
  <dc:title>Личная безопасность на улице и дома</dc:title>
</cp:coreProperties>
</file>