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A5BB-6A72-44BA-86EA-E183C0763A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1DAF-5D72-49DB-B493-09677A722C6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2591-2CEB-4E63-A351-9B7F66A7F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1BAF-341E-47CB-AD36-0214B01B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03BF-BCB3-4606-9A11-3A9D05939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195E-32E7-4CB4-A4FA-D5140D4B9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F722-7818-4B9E-B10E-E5C3F1614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ECEE-0A8F-42E9-BA9B-F4008313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7EA9-8357-46EE-9523-1200639C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F112-47C4-4ADF-A11D-5CD68DBC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AF5C-5FD1-46D1-BEF9-F07C9F5F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418DD-C5FB-4391-B49F-58EB650A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9ED8B-0952-41D4-8953-E599363C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1CEE-7654-498D-82A6-910C2674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A744-BDD1-4F76-8400-76440A1C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9D19-2BC7-4A0A-83E1-7DA8A427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CA23-B72A-4EDA-9CDC-3E97C4A9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4602-A4AC-4B70-BA8A-FBA14093D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D0DBD-857E-4318-9732-008E3A477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EE280-2E6E-4EA2-B328-6066198B5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2098A-F069-477F-837C-BB5CF322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B72EA-6E42-4504-97A6-003DF6F5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F264B-366C-4C93-8C85-183F5DE6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1F1FF-011B-46AF-B157-9095E305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5F84-7C7B-4C49-9941-528AE26E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FE26C-5F99-44B2-9217-731EB46B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59D75-65AA-4934-92BB-1BD89D04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90601-2D32-4B0C-A35E-BA554690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0547E-8847-4910-90B8-67296BC5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D12CF-9031-40C3-B084-BBC07784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A321B-E5B5-4A68-AF8D-65139EF5C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0D362-A963-4B75-B553-5C539C8F7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3C925-93EF-49A3-8BDD-F89253961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B7E62-2671-4200-B5B1-393B94B1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3E7B6-E09D-4A25-B4EA-25A6C7DA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19B5-1970-4F43-A20D-17EC3A98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32547-D0F9-44B0-B1E4-6AA17093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FABDE-E0D6-4701-B404-F756E6B9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D9012-6561-4B49-8875-38E66A95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A2C97-C34B-4A54-A0CA-140F5D58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CD1F9-4688-491B-AEE6-0547917C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3E20B-A6CA-4985-983B-41B8C3CE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D3166-D728-4815-8AD0-1340289E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C6BC4-9DBD-4340-A28C-5731A3AAB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475F0-EA01-447F-B203-4A29AD66A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62830-D86C-4419-8284-852082167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89F7-9E6B-453A-A542-25A9047A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4E078-C9C2-4408-8DFF-F642AD88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D5DD4-8D3A-4331-9D66-6E873DCD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37400-9CFA-46EB-98C1-A74A63B7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F6001-3EFF-4487-B505-E84D2CF2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38A5B-F718-4E35-AB46-A0EE51AC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7745B-298F-411D-83C0-F83C32D3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43DEA-C794-4177-B089-0F60CDF6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A373C-B3DF-4CBA-99A8-B17A6086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7ED22-4C4A-4AED-ABD1-B10BFCD1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DF6B5-F83D-487E-8701-0B317004E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AFC5-FD9E-4BF4-B66B-DA37D59E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E6CF1-D60D-42D4-A722-115AB43CD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4DCE1-2D38-41F4-AC26-2703B04BF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3DBBB-9B41-4E93-B53F-1F581592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679F2-0068-4C23-B3E4-21E654CF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1BFAC-DB08-4B85-B276-7413733D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06CF5-6E7E-4F00-8ECB-0A070D07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96040-0C64-41FE-B8FE-48271889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BFA5D-DEC0-4188-9223-1E60B064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D6A6E-7D40-4058-AE8C-7EE5B2CD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67C5F-1953-470B-ABD6-348B87E8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E561-2169-45E7-90E8-0EA38160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B0847-2F91-4D76-8E6F-9149EE00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77ECC-C95B-4C5C-8F55-C9F2A9366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5947E-712B-43E5-8176-B7BADF67D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B32DC-6905-4CCD-9ECD-F1AB57EA5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F7175-3D16-49B7-AB7A-C827B32B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06679-95FE-4880-B2D2-0A5EFC60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4914D-2EF1-4A7B-A4E4-11F0A31B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EE12D-71AE-44E6-8544-DAFDEC36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6C536-8A9D-4298-A005-F6DA133C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8F06D-E7FF-4980-86AD-5D8378E5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08F9-901B-435E-BE18-61B01CAD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DE981-4EC1-4FF3-807D-4DADF5C8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B9E61-E4D5-472B-AB37-26BE8199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C3617-4BAF-4284-A9FF-A31A2E88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B9756-B794-4014-A5E1-96E2EAB6A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C3216-E656-4771-A48E-F8B8E11EA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058D9-4BEC-49FD-9C6A-12DE30D7A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6A889-89D7-4339-AD74-E5CE4CFF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0B217-7BE7-4792-B28B-E50C875A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3AE9D-F042-4C63-BEF0-B4803E94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C1FB0-A16A-47AC-B24A-DA0B79C7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85D7-1C98-4C14-AB34-DF877317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E24E0-2443-49ED-854C-92EB3057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E007B-1717-4019-80B8-0E439498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AAF38-3D68-40BC-AB32-FF0AC0A9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4E683-D9D8-4E91-A17A-458A35EF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3C86F-53C0-490A-ADE9-8DDD48F0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55C20-C481-4BA2-A8F6-809E6751D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DCB47-04E8-4316-BC8D-A85275770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FF89-7912-4DA9-BC7D-6064D49F7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DB35-6A48-479D-AEC3-2EE914BBB4E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BE0F-4018-4547-B673-2281B53D1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CBAC-887F-4A54-85EB-5AB801A73E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3BA1-157B-4488-BEC9-9C73524F8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D614-9A28-43F0-B76F-1BEFBC74F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EAD6-D762-45F3-83BA-53D80B4E2465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1734-2574-437A-9468-270EB32764BD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Заголовок 1" descr=""/>
          <p:cNvPicPr/>
          <p:nvPr/>
        </p:nvPicPr>
        <p:blipFill>
          <a:blip r:embed="rId1"/>
          <a:stretch/>
        </p:blipFill>
        <p:spPr>
          <a:xfrm>
            <a:off x="536400" y="652320"/>
            <a:ext cx="8242560" cy="159732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4" name="Picture 2" descr="d:\Мои документы\Новая папка\Изображение 015.jpg"/>
          <p:cNvPicPr/>
          <p:nvPr/>
        </p:nvPicPr>
        <p:blipFill>
          <a:blip r:embed="rId2"/>
          <a:stretch/>
        </p:blipFill>
        <p:spPr>
          <a:xfrm rot="21277200">
            <a:off x="785880" y="2571480"/>
            <a:ext cx="3724200" cy="3968640"/>
          </a:xfrm>
          <a:prstGeom prst="rect">
            <a:avLst/>
          </a:prstGeom>
          <a:ln w="0">
            <a:noFill/>
          </a:ln>
        </p:spPr>
      </p:pic>
      <p:sp>
        <p:nvSpPr>
          <p:cNvPr id="355" name="TextBox 4"/>
          <p:cNvSpPr/>
          <p:nvPr/>
        </p:nvSpPr>
        <p:spPr>
          <a:xfrm>
            <a:off x="5072040" y="2643120"/>
            <a:ext cx="3643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Рубцова Людмила Васильевн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1 квалификационной категории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МБОУ Михайловской СОШ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Box 1"/>
          <p:cNvSpPr/>
          <p:nvPr/>
        </p:nvSpPr>
        <p:spPr>
          <a:xfrm>
            <a:off x="428760" y="357120"/>
            <a:ext cx="8072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entury Gothic"/>
              </a:rPr>
              <a:t>А вообще все правила личной безопасности сводятся к одному короткому слову НЕ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entury Gothic"/>
              </a:rPr>
              <a:t>НЕ  задерживайся на улице по дороге из школы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entury Gothic"/>
              </a:rPr>
              <a:t>НЕ играй на улице с наступлением темноты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entury Gothic"/>
              </a:rPr>
              <a:t>НЕ впускай незнакомца в дом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entury Gothic"/>
              </a:rPr>
              <a:t>НЕ ходи никуда с незнакомым человеком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entury Gothic"/>
              </a:rPr>
              <a:t>НЕ садись в машину с незнакомцем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8" name="Picture 2" descr="d:\Мои документы\Новая папка\Изображение 021.jpg"/>
          <p:cNvPicPr/>
          <p:nvPr/>
        </p:nvPicPr>
        <p:blipFill>
          <a:blip r:embed="rId1"/>
          <a:stretch/>
        </p:blipFill>
        <p:spPr>
          <a:xfrm>
            <a:off x="2214720" y="3500280"/>
            <a:ext cx="571500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Box 1"/>
          <p:cNvSpPr/>
          <p:nvPr/>
        </p:nvSpPr>
        <p:spPr>
          <a:xfrm>
            <a:off x="428760" y="857160"/>
            <a:ext cx="8001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d0d0d"/>
                </a:solidFill>
                <a:latin typeface="Century Gothic"/>
              </a:rPr>
              <a:t>БЕРЕГИТЕ СЕБЯ!</a:t>
            </a:r>
            <a:endParaRPr b="0" lang="en-US" sz="66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d0d0d"/>
                </a:solidFill>
                <a:latin typeface="Century Gothic"/>
              </a:rPr>
              <a:t>БУДЬТЕ ЗДОРОВЫ!</a:t>
            </a:r>
            <a:endParaRPr b="0" lang="en-US" sz="6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Arial"/>
              </a:rPr>
              <a:t>Используемая литература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Усачёв А.А., Березин А.И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Школа безопасности: Учебник для 1 класса начальной школы по курсу ОБЖ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М.: «Фирма «Издательство АСТ», 1999 г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Ни в коем случае не открывай дверь, если звонит незнакомый человек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На все вопросы и просьбы незнакомца отвечай: «Нет»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Если в дверь звонит почтальон, монтёр, врач или даже милиционер, всё равно не открывай, если не знаешь людей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;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8" name="Picture 2" descr="d:\Мои документы\Новая папка\Изображение 016.jpg"/>
          <p:cNvPicPr/>
          <p:nvPr/>
        </p:nvPicPr>
        <p:blipFill>
          <a:blip r:embed="rId1"/>
          <a:stretch/>
        </p:blipFill>
        <p:spPr>
          <a:xfrm>
            <a:off x="5143680" y="2147760"/>
            <a:ext cx="3429000" cy="41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Не пускайте дядю в дом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Если дядя не знаком!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И не открывайте тёте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Если мама на работе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Ведь преступник, он хитёр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Притворится, что монтёр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Или даже скажет он,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Что пришёл к вам почтальон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1" name="Picture 2" descr="d:\Мои документы\Новая папка\Изображение 018.jpg"/>
          <p:cNvPicPr/>
          <p:nvPr/>
        </p:nvPicPr>
        <p:blipFill>
          <a:blip r:embed="rId1"/>
          <a:stretch/>
        </p:blipFill>
        <p:spPr>
          <a:xfrm>
            <a:off x="457200" y="1928880"/>
            <a:ext cx="40384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Он покажет вам пакет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(А под мышкой  -  пистолет)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Или он надел халат,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А под ним  штук пять гранат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А за ним спешит «старушка»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У неё в авоське пушка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В жизни всякое бывает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С тем, кто двери открывает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4" name="Picture 2" descr="d:\Мои документы\Новая папка\Изображение 0.jpg"/>
          <p:cNvPicPr/>
          <p:nvPr/>
        </p:nvPicPr>
        <p:blipFill>
          <a:blip r:embed="rId1"/>
          <a:stretch/>
        </p:blipFill>
        <p:spPr>
          <a:xfrm>
            <a:off x="4500720" y="2000160"/>
            <a:ext cx="418608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Если кто-то лезет в дом,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Пробивая двери лбом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Двери держатся едва –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Поскорей звони 02!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7" name="Picture 2" descr="d:\Мои документы\Новая папка\Изображение 017.jpg"/>
          <p:cNvPicPr/>
          <p:nvPr/>
        </p:nvPicPr>
        <p:blipFill>
          <a:blip r:embed="rId1"/>
          <a:stretch/>
        </p:blipFill>
        <p:spPr>
          <a:xfrm>
            <a:off x="714240" y="1643040"/>
            <a:ext cx="31435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9" name="TextBox 3"/>
          <p:cNvSpPr/>
          <p:nvPr/>
        </p:nvSpPr>
        <p:spPr>
          <a:xfrm>
            <a:off x="500040" y="1428840"/>
            <a:ext cx="38577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Запиши на отдельном листке номера рабочих телефонов родителей и соседей, повесь его над телефонным аппаратом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0" name="Picture 2" descr="d:\Мои документы\Новая папка\Изображение 1.jpg"/>
          <p:cNvPicPr/>
          <p:nvPr/>
        </p:nvPicPr>
        <p:blipFill>
          <a:blip r:embed="rId2"/>
          <a:stretch/>
        </p:blipFill>
        <p:spPr>
          <a:xfrm>
            <a:off x="4572000" y="2428920"/>
            <a:ext cx="346068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72" name="TextBox 2"/>
          <p:cNvSpPr/>
          <p:nvPr/>
        </p:nvSpPr>
        <p:spPr>
          <a:xfrm>
            <a:off x="571680" y="1500120"/>
            <a:ext cx="8215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entury Gothic"/>
              </a:rPr>
              <a:t>Если ты потерял родителей в незнакомом месте, стой там, где ты потерялся. Если их долго нет, обратись  за помощью: на улице -  к милиционеру, в магазине – к продавцу;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entury Gothic"/>
              </a:rPr>
              <a:t>Никогда не ходи гулять без спросу. Родители всегда должны знать, где ты находишься;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entury Gothic"/>
              </a:rPr>
              <a:t>Не играй на улице поздно;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entury Gothic"/>
              </a:rPr>
              <a:t>Не соглашайся идти с незнакомыми ребятами или взрослыми в чужой подъезд, подвал, на пустырь или другие безлюдные места;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entury Gothic"/>
              </a:rPr>
              <a:t>Никогда не заговаривай на улице с незнакомыми людьми и пьяными;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entury Gothic"/>
              </a:rPr>
              <a:t>Не принимай от незнакомых взрослых угощение. Даже если родители никогда не покупали тебе таких вкусных вещей;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entury Gothic"/>
              </a:rPr>
              <a:t>Если ты увидишь на улице, автобусе, метро какой – нибудь предмет: коробку, свёрток, пакет – не трогай его. В нём может быть бомба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d:\Мои документы\Новая папка\Изображение 019.jpg"/>
          <p:cNvPicPr/>
          <p:nvPr/>
        </p:nvPicPr>
        <p:blipFill>
          <a:blip r:embed="rId1"/>
          <a:stretch/>
        </p:blipFill>
        <p:spPr>
          <a:xfrm>
            <a:off x="500040" y="714240"/>
            <a:ext cx="3772080" cy="5226120"/>
          </a:xfrm>
          <a:prstGeom prst="rect">
            <a:avLst/>
          </a:prstGeom>
          <a:ln w="0">
            <a:noFill/>
          </a:ln>
        </p:spPr>
      </p:pic>
      <p:sp>
        <p:nvSpPr>
          <p:cNvPr id="374" name="TextBox 2"/>
          <p:cNvSpPr/>
          <p:nvPr/>
        </p:nvSpPr>
        <p:spPr>
          <a:xfrm>
            <a:off x="5072040" y="785880"/>
            <a:ext cx="3857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entury Gothic"/>
              </a:rPr>
              <a:t>Из сказок ты знаешь, что злодеи очень изобретательны и знают тысячу и один способ, как обмануть свою жертву. В жизни преступники не менее изобретательны. Поэтому, чтобы с тобой не случилось ничего плохого, запомни следующие правила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d:\Мои документы\Новая папка\Изображение 020.jpg"/>
          <p:cNvPicPr/>
          <p:nvPr/>
        </p:nvPicPr>
        <p:blipFill>
          <a:blip r:embed="rId1"/>
          <a:stretch/>
        </p:blipFill>
        <p:spPr>
          <a:xfrm>
            <a:off x="5143680" y="2514600"/>
            <a:ext cx="3827160" cy="4343400"/>
          </a:xfrm>
          <a:prstGeom prst="rect">
            <a:avLst/>
          </a:prstGeom>
          <a:ln w="0">
            <a:noFill/>
          </a:ln>
        </p:spPr>
      </p:pic>
      <p:sp>
        <p:nvSpPr>
          <p:cNvPr id="376" name="TextBox 2"/>
          <p:cNvSpPr/>
          <p:nvPr/>
        </p:nvSpPr>
        <p:spPr>
          <a:xfrm>
            <a:off x="428760" y="642960"/>
            <a:ext cx="7929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Century Gothic"/>
              </a:rPr>
              <a:t>Если на улице кто-то идёт или бежит за тобой, а до дома далеко, беги в ближайшее людное место: к магазину, автобусной остановке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Century Gothic"/>
              </a:rPr>
              <a:t>Если незнакомые взрослые пытаются увести тебя силой, сопротивляйся, кричи, зови на помощь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Century Gothic"/>
              </a:rPr>
              <a:t>Не соглашайся ни на какие предложения взрослых. Даже сняться в кино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Century Gothic"/>
              </a:rPr>
              <a:t>Никуда не ходи с незнакомыми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Century Gothic"/>
              </a:rPr>
              <a:t>Взрослыми и не садись с ними в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Century Gothic"/>
              </a:rPr>
              <a:t>машину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Century Gothic"/>
              </a:rPr>
              <a:t>Никогда не хвастай тем, что у твоих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Century Gothic"/>
              </a:rPr>
              <a:t>Родителей много денег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Century Gothic"/>
              </a:rPr>
              <a:t>Не приглашай в дом незнакомых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Century Gothic"/>
              </a:rPr>
              <a:t>ребят, если дома нет никого из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Century Gothic"/>
              </a:rPr>
              <a:t>взрослых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4:54:31Z</dcterms:created>
  <dc:creator>Admin</dc:creator>
  <dc:description/>
  <dc:language>en-US</dc:language>
  <cp:lastModifiedBy>МОУ Ужанихинская СОШ</cp:lastModifiedBy>
  <dcterms:modified xsi:type="dcterms:W3CDTF">2010-11-12T06:32:44Z</dcterms:modified>
  <cp:revision>11</cp:revision>
  <dc:subject/>
  <dc:title>Личная безопасность на улице и дома</dc:title>
</cp:coreProperties>
</file>