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0E0-BFAD-401E-B660-A7D05E9F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8B7-D6AF-4E7D-87DE-25B4054F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C16-875A-4560-B52B-F2E5A2B6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714-C0ED-44E9-B319-F6500D7C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15C2-0265-42C0-95EC-B5A226F3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9136-015A-4CA5-94EA-8E6A586D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828A-51B3-4321-B49F-B627FBAA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0B5F-DB82-49B5-9DB8-5BBDCDAC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FCE6-372F-4B98-B3F5-C8BB4EE5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332F-D98A-44DA-A9C3-E6ED6BC0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E82B-D383-4A7E-8815-FDBE699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E51-B9F5-4F1C-BEFA-E150D948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6680-6C09-4EFF-BB27-D1C87FB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54AA-DE4F-43E3-9AB6-8422B6A6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EF9A-5A49-4CAC-95AD-F3413225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F35-B50D-4E5F-B9D5-274A484C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9153-9F8C-4885-974B-665BA64F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A1D-0BDF-49E9-B805-7DAE93E3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701-2CBC-4E66-8212-21C1485A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AB8-D178-4543-AA86-27EA3BFD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EB2-A06B-4033-A812-F251D822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1BF-24ED-47FA-A651-0029687E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C52-596E-4FF4-9813-4CF191FE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5A5-0F0E-4E6E-986F-41A892CA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F7E2-2415-4D98-8CD2-7077CE8072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C592-D849-46C8-AC03-F8D6E51E72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рок литературного чтения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 4 классе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ев Николаевич Толсто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корабле с нами было два мальчика. Мальчики первые попрыгали в воду, но им было тесно в парусе, и  они вздумали плавать наперегонки в открытом мор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дин корабль обошел вокруг света и возвращался домой. Была тихая погода, весь народ был на палубе. Посреди народа вертелась большая обезьяна и забавляла всех. Обезьяна эта корчилась, прыгала, делала смешные рожи, передразнивала людей, и видно было – она знала, что ею забавляю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Лондоне показывали диких зверей и за просмотр брали деньгами или собаками и кошками на корм диким зверям. Одному человеку захотелось поглядеть зверей: он ухватил на улице собачонку и принес ее в зверинец. Его пустили смотреть, а собачонку взяли и бросили в клетку ко льву на съедени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ерь себ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рый дед и внуче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мальчик рассказывал про то, как его в лесу застала гро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мужик убрал камен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те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илипп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ку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ыж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ев и собач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еликий писат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.Н.Толстой родился в 1828 го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Его книги переведены на многие языки, их читают во всем мир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учал историю, музыку, рисование, медицин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2985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изведения для дет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4720" y="2576520"/>
            <a:ext cx="2095560" cy="329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97640" y="2557440"/>
            <a:ext cx="20955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исатель с деть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7440" y="2362320"/>
            <a:ext cx="3211560" cy="372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3105000" cy="309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1477800" y="6216480"/>
            <a:ext cx="24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н любил дет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573408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ткрыл школу для бедных детей в Ясной Полян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л дед очень стар. Ноги у него не ходили, глаза не видели, уши не слышали, зубов не было. И когда он ел, у него текло назад изо рта. Сын и невестка перестали его за стол сажать, а давали ему обедать за печкой. Снесли ему раз обедать в чашке. Он хотел ее подвинуть, да уронил и разбил. Невестка стала бранить старика за то, что он все в доме портит и чашки бьет, и сказала, что теперь она ему будет давать обедать в лоханке. Старик только вздохнул и ничего не сказа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гда я был маленький, меня послали в лес за грибами. Я дошел до лесу, набрал грибов и хотел идти домой. Вдруг стало темно, пошел дождь и загремело. Я испугался и сел под большой дуб. Блеснула молния, такая светлая, что мне глазам больно стало, и я зажмурился. Над моей головой что – то затрещало и загремело; потом что – то ударило меня в голову. Я лежал до тех пор, пока перестал дожд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30000"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 площади в одном городе лежал огромный камень. Камень занимал много места и мешал езде по городу. Призвали инженеров и спросили их, как убрать камень и сколько это будет стоить. Один инженер сказал, что камень надо разбивать на куски порохом и потом по частям свезти его и что это будет стоить восемь тысяч рублей; другой сказал, что под камень надо подвезти большой каток и на катке свезти его и что это будет стоить шесть тысяч рублей. А один мужик сказал: «А я уберу этот камень и возьму за это сто рублей!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ыли брат и сестра – Вася и Катя; у них была кошка. Весной кошка пропала. Дети искали ее везде, но не могли найти. Один раз они играли подле амбара и услыхали – над головой кто –то  мяучит тонкими голосами. Вася влез по лестнице под крышу амбара. А Катя стояла внизу и спрашивала: «Нашел? Нашел?»Но Вася не отвечал ей. Наконец Вася закричал ей: «Нашел! Наша кошка…И у нее котята; такие чудесные; иди сюда скоре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стовые задания</a:t>
            </a:r>
            <a:br>
              <a:rPr sz="32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узнай и запиши названия произведений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Школа была за селом у церкви. Когда этот мальчик шел по своей слободе, собаки не трогали его, они его знали. Но когда он вышел к чужим дворам, выскочила Жучка, залаяла, а за Жучкой большая собака Волчок. Мальчик бросился бежать, собаки за ним. Мальчик стал кричать, споткнулся и упал. Вышел мужик, отогнал собак и сказал: «Куда ты, постреленок, один бежишь?» Мальчик ничего не сказал, подобрал полы и пустился бежать во весь ду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3840" y="2781360"/>
            <a:ext cx="61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8748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9:46:22Z</dcterms:created>
  <dc:creator>a</dc:creator>
  <dc:description/>
  <dc:language>en-US</dc:language>
  <cp:lastModifiedBy>chla</cp:lastModifiedBy>
  <dcterms:modified xsi:type="dcterms:W3CDTF">2007-06-08T11:03:17Z</dcterms:modified>
  <cp:revision>12</cp:revision>
  <dc:subject/>
  <dc:title>Урок литературного чтения в 4 классе</dc:title>
</cp:coreProperties>
</file>