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3E1-6DBD-4AB0-B80C-11EA2AB3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E5E-C6C9-461C-B81E-99BDBF1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CE4-4D20-444E-8A78-2D136E60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D0D-7689-4CCE-8D87-21EF3EF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0227-D674-4080-B818-41F38A6D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45D-8B8B-4A89-BCA0-164B919E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DF9-1F78-45A5-913C-D594F98E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58FD-B5FC-4234-963F-5161AE5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1C4F-1052-41D8-8FB9-5EB9869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961D-913F-4259-8190-F574DE6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537-98B4-4B17-857E-B9FFE09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D69-A1B1-4914-8073-72E631E3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E62-BBA2-4B2E-AC0D-2821EECD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2CE4-6FD6-4650-9EB2-DC237799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64A-8148-4E64-8BE0-11D52C3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088-1B00-492E-86FA-25695565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9BB3-06A7-40ED-B9BF-B9F84E14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297-E103-43B2-9419-A147B94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9A4-0709-4429-AFCC-A87D1FC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C9C-C537-4472-8B54-D8C6EFCF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420-38DC-411F-AA1A-8F485FA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D2A-351B-4CCB-80CC-0C97C42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2BF-24B7-442D-8968-65EAA58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22C-6AB8-4A02-863E-5548C87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6F88-DEF3-4257-8B82-D5A494CB8B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5E75-F717-4729-944F-087B1F342D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рок литературного чтения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 4 класс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в Николаевич Толсто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корабле с нами было два мальчика. Мальчики первые попрыгали в воду, но им было тесно в парусе, и  они вздумали плавать наперегонки в открытом мор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ин корабль обошел вокруг света и возвращался домой. Была тихая погода, весь народ был на палубе. Посреди народа вертелась большая обезьяна и забавляла всех. Обезьяна эта корчилась, прыгала, делала смешные рожи, передразнивала людей, и видно было – она знала, что ею забавляю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Лондоне показывали диких зверей и за просмотр брали деньгами или собаками и кошками на корм диким зверям. Одному человеку захотелось поглядеть зверей: он ухватил на улице собачонку и принес ее в зверинец. Его пустили смотреть, а собачонку взяли и бросили в клетку ко льву на съедени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себ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рый дед и вну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альчик рассказывал про то, как его в лесу застала гр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ужик убрал кам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те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липп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у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ыж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в и соба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еликий писат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.Н.Толстой родился в 1828 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го книги переведены на многие языки, их читают во всем мир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учал историю, музыку, рисование, медиц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2985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изведения для де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4720" y="2576520"/>
            <a:ext cx="2095560" cy="329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97640" y="255744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исатель с деть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7440" y="2362320"/>
            <a:ext cx="321156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1050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1477800" y="6216480"/>
            <a:ext cx="24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н любил дет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57340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ткрыл школу для бедных детей в Ясной Поля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л дед очень стар. Ноги у него не ходили, глаза не видели, уши не слышали, зубов не было. И когда он ел, у него текло назад изо рта. Сын и невестка перестали его за стол сажать, а давали ему обедать за печкой. Снесли ему раз обедать в чашке. Он хотел ее подвинуть, да уронил и разбил. Невестка стала бранить старика за то, что он все в доме портит и чашки бьет, и сказала, что теперь она ему будет давать обедать в лоханке. Старик только вздохнул и ничего не сказ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гда я был маленький, меня послали в лес за грибами. Я дошел до лесу, набрал грибов и хотел идти домой. Вдруг стало темно, пошел дождь и загремело. Я испугался и сел под большой дуб. Блеснула молния, такая светлая, что мне глазам больно стало, и я зажмурился. Над моей головой что – то затрещало и загремело; потом что – то ударило меня в голову. Я лежал до тех пор, пока перестал дож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30000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площади в одном городе лежал огромный камень. Камень занимал много места и мешал езде по городу. Призвали инженеров и спросили их, как убрать камень и сколько это будет стоить. Один инженер сказал, что камень надо разбивать на куски порохом и потом по частям свезти его и что это будет стоить восемь тысяч рублей; другой сказал, что под камень надо подвезти большой каток и на катке свезти его и что это будет стоить шесть тысяч рублей. А один мужик сказал: «А я уберу этот камень и возьму за это сто рублей!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ыли брат и сестра – Вася и Катя; у них была кошка. Весной кошка пропала. Дети искали ее везде, но не могли найти. Один раз они играли подле амбара и услыхали – над головой кто –то  мяучит тонкими голосами. Вася влез по лестнице под крышу амбара. А Катя стояла внизу и спрашивала: «Нашел? Нашел?»Но Вася не отвечал ей. Наконец Вася закричал ей: «Нашел! Наша кошка…И у нее котята; такие чудесные; иди сюда скоре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кола была за селом у церкви. Когда этот мальчик шел по своей слободе, собаки не трогали его, они его знали. Но когда он вышел к чужим дворам, выскочила Жучка, залаяла, а за Жучкой большая собака Волчок. Мальчик бросился бежать, собаки за ним. Мальчик стал кричать, споткнулся и упал. Вышел мужик, отогнал собак и сказал: «Куда ты, постреленок, один бежишь?» Мальчик ничего не сказал, подобрал полы и пустился бежать во весь ду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9:46:22Z</dcterms:created>
  <dc:creator>a</dc:creator>
  <dc:description/>
  <dc:language>en-US</dc:language>
  <cp:lastModifiedBy>chla</cp:lastModifiedBy>
  <dcterms:modified xsi:type="dcterms:W3CDTF">2007-06-08T11:03:17Z</dcterms:modified>
  <cp:revision>12</cp:revision>
  <dc:subject/>
  <dc:title>Урок литературного чтения в 4 классе</dc:title>
</cp:coreProperties>
</file>