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A55-DDA5-4836-8B72-D548CAD6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E29-2E1B-4748-BC69-BF56ED14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8F8-2623-4F46-8DDD-1F82D72F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7D6-9EE3-43C4-A873-2DE75F7A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67FC-1E77-4B16-9607-C27E757D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91A8-FB37-43DA-B461-109EEB2C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4769-3B1D-499F-A1AE-8A2A7449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2843-D5F9-4E13-8456-9CAE0C8A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0751-04F5-4365-90EC-50B8AF28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22E5-939F-4D4B-84BA-F27D003E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6A94-A66E-42CC-B3FE-A86B9F8F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A60-A36E-4004-BFE3-AA741507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B204-8492-4384-807D-0BAE633C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9CDE-BBD7-40BB-950A-470F7830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7C53-C5E6-48D3-8574-76043EB7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0978-D811-4157-8CE1-75593244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CA2D-7294-4B69-9D6C-E9966A5B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C6D-2CBF-47F5-8CAF-D13C3BF4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228-6296-45DC-947D-F765A896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885-E527-4F51-9569-32697E14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8B1-3B0E-4DC8-8016-A9BF61DF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679-B888-471E-BCF2-207142D5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21F-3AFE-4193-88EA-627269D2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B68-9ED4-4231-B2F7-1DE7B9B5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1C39-7C08-4227-B116-4CAC400909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9937-013E-41A9-BCAD-B705D34328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Урок литературного чтения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 4 классе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ев Николаевич Толсто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корабле с нами было два мальчика. Мальчики первые попрыгали в воду, но им было тесно в парусе, и  они вздумали плавать наперегонки в открытом мор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дин корабль обошел вокруг света и возвращался домой. Была тихая погода, весь народ был на палубе. Посреди народа вертелась большая обезьяна и забавляла всех. Обезьяна эта корчилась, прыгала, делала смешные рожи, передразнивала людей, и видно было – она знала, что ею забавляю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Лондоне показывали диких зверей и за просмотр брали деньгами или собаками и кошками на корм диким зверям. Одному человеку захотелось поглядеть зверей: он ухватил на улице собачонку и принес ее в зверинец. Его пустили смотреть, а собачонку взяли и бросили в клетку ко льву на съедени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верь себ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тарый дед и внуче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мальчик рассказывал про то, как его в лесу застала гроз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мужик убрал камен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те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илипп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ку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ыж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ев и собач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еликий писат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.Н.Толстой родился в 1828 го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Его книги переведены на многие языки, их читают во всем мир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зучал историю, музыку, рисование, медицин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29858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изведения для дет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4720" y="2576520"/>
            <a:ext cx="2095560" cy="329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97640" y="2557440"/>
            <a:ext cx="20955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исатель с деть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7440" y="2362320"/>
            <a:ext cx="3211560" cy="3724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2492280"/>
            <a:ext cx="3105000" cy="309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1477800" y="6216480"/>
            <a:ext cx="24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н любил дет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5636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573408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ткрыл школу для бедных детей в Ясной Полян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тал дед очень стар. Ноги у него не ходили, глаза не видели, уши не слышали, зубов не было. И когда он ел, у него текло назад изо рта. Сын и невестка перестали его за стол сажать, а давали ему обедать за печкой. Снесли ему раз обедать в чашке. Он хотел ее подвинуть, да уронил и разбил. Невестка стала бранить старика за то, что он все в доме портит и чашки бьет, и сказала, что теперь она ему будет давать обедать в лоханке. Старик только вздохнул и ничего не сказа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гда я был маленький, меня послали в лес за грибами. Я дошел до лесу, набрал грибов и хотел идти домой. Вдруг стало темно, пошел дождь и загремело. Я испугался и сел под большой дуб. Блеснула молния, такая светлая, что мне глазам больно стало, и я зажмурился. Над моей головой что – то затрещало и загремело; потом что – то ударило меня в голову. Я лежал до тех пор, пока перестал дожд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30000"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 площади в одном городе лежал огромный камень. Камень занимал много места и мешал езде по городу. Призвали инженеров и спросили их, как убрать камень и сколько это будет стоить. Один инженер сказал, что камень надо разбивать на куски порохом и потом по частям свезти его и что это будет стоить восемь тысяч рублей; другой сказал, что под камень надо подвезти большой каток и на катке свезти его и что это будет стоить шесть тысяч рублей. А один мужик сказал: «А я уберу этот камень и возьму за это сто рублей!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ыли брат и сестра – Вася и Катя; у них была кошка. Весной кошка пропала. Дети искали ее везде, но не могли найти. Один раз они играли подле амбара и услыхали – над головой кто –то  мяучит тонкими голосами. Вася влез по лестнице под крышу амбара. А Катя стояла внизу и спрашивала: «Нашел? Нашел?»Но Вася не отвечал ей. Наконец Вася закричал ей: «Нашел! Наша кошка…И у нее котята; такие чудесные; иди сюда скорее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Школа была за селом у церкви. Когда этот мальчик шел по своей слободе, собаки не трогали его, они его знали. Но когда он вышел к чужим дворам, выскочила Жучка, залаяла, а за Жучкой большая собака Волчок. Мальчик бросился бежать, собаки за ним. Мальчик стал кричать, споткнулся и упал. Вышел мужик, отогнал собак и сказал: «Куда ты, постреленок, один бежишь?» Мальчик ничего не сказал, подобрал полы и пустился бежать во весь ду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9:46:22Z</dcterms:created>
  <dc:creator>a</dc:creator>
  <dc:description/>
  <dc:language>en-US</dc:language>
  <cp:lastModifiedBy>chla</cp:lastModifiedBy>
  <dcterms:modified xsi:type="dcterms:W3CDTF">2007-06-08T11:03:17Z</dcterms:modified>
  <cp:revision>12</cp:revision>
  <dc:subject/>
  <dc:title>Урок литературного чтения в 4 классе</dc:title>
</cp:coreProperties>
</file>