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85A-C769-447C-AC42-9D41110C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844-CD1A-452C-98B0-482137E2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C8CEE-4C5C-4DEC-8C40-5F3CDA0B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018FC-0238-47FC-B8DF-CC4206FE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A6AE2-1634-4C8A-824B-9C952FE1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98ADE-629C-4DC2-8D90-092C5C08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6389E-E831-4099-89DC-3D377751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73166-23A6-418E-AC77-3D6A1C1D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FF272-1740-4F15-9999-DD4895DF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F2C44-8331-4FFC-A52D-6E359F2E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7F030-3BA4-4876-9F75-43467E75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F08-190C-4558-9D5C-2BA3C9CD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66E-59C0-4C05-B20C-712759D0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2828-6915-4DD8-B228-663E80C8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F1C5-992D-4BA4-8B49-9E0A662A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E943-D7ED-42F0-93AC-343B24B0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D5BB-4CB4-428E-B12F-B13549C9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789F-83D4-497C-8DE0-01AB7801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284D-1CC2-4BC0-9343-2E4BFD52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B436-2166-4212-B110-9CDB45D6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976-0388-42ED-A218-AA57D8C3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F80B-B2A5-450F-A830-65D76D84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8CC6-6682-4496-B95D-7B830078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BE0F-C3DE-45A9-997D-64120CB5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3A37-0D25-4B57-9F0A-C66CCEF4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332F-C67D-43AD-A670-D11C2F07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EC68-5C73-49C6-AE0C-3809E91C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26E4E-CEBD-48AB-8626-E31DC678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1CFB7-698E-4BA8-B201-F3D1E5B3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1D88F-0201-4472-96EC-2A953592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CB1E-D713-4F3E-BF45-58F8CFDE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2B3-6088-4749-B6F1-669B35BD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AAF5-6EF6-48D2-9948-92F6F6F8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CEB8-9ACB-4F01-9D9B-C8EF2B01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7E64-AAFD-429C-8F40-B294820D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2DC8D-26E9-49A7-8A81-8A14176A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127A0-A284-404F-B42D-C5966016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3D97C-D6C9-4A75-B5D1-673906AF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50605-FDD8-4D62-8CC6-A7BAA73F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0F0A3-03E0-46FD-9D8A-FF317F7F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448F4-D2FF-408B-884C-017A590F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204CA-35FB-4C86-9F3B-1B1CB7C1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6E9-0C0E-4191-868E-425260CF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98484-1C89-432A-A377-52F7893E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014FD-50C3-4571-8F96-5CC223CD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1CCE5-A381-4DFB-B40A-005F88EA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2D46D-8237-466B-BB8B-394DB803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92E1-4B7B-4D7D-BF3B-742869BD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9B114-5548-48EF-BA60-644E8756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511E7-0A34-477F-8442-357DC6F3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4547C-90D8-4946-8388-DD47DAC5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B4506-1F22-4830-AB9D-F2A24864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9B014-EFC6-4D50-8398-DE77D116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643-645A-4710-B06D-676C25F0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03A76-A5DA-44D5-96EB-741DC90B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C5137-6FFC-44A9-AC94-826423F8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3C409-F60B-4323-89C0-828F591D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F80B7-F8F1-4F33-9591-745FB420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685D1-431B-4B14-99D5-79FD261F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71F4E-8C94-45F4-812A-23BE7093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C014F-B6A4-4BAC-A139-6955FE23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B6C67-896C-4443-BF70-23F6D634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55B27-A1C9-4621-A306-B6FA2DC6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76EAF-0175-45E2-85FD-FA0464CA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D13-7DDB-474E-B36D-C7FE6E35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C02ED-6E8C-40B6-A602-B611E284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3CB55-9708-4045-B527-53832519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15E35-1913-4E86-B817-E47028DA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B4D2F-EEBD-4B03-9AF7-413810AF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E78C6-9CCC-4DA4-B08D-6DA39E62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2F4E5-300E-4D2E-BABC-8BE09407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6C9D3-FA3F-41DA-8242-D9AFF659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BD7AD-14A8-4459-B66A-2758BB5A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06AA5-976D-444D-A39E-D03C809C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C7082-744A-4511-8113-DE9DCD1B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641-EB14-4BA4-9DC2-2E28113A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150EB-BFF6-4350-86E3-8135C077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A2412-1178-437C-9DF5-3BF5480E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8FCB5-9069-4A42-871A-45548F5B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5EF39-79C2-49CD-BA37-A3261965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7B74B-FFAB-4700-9610-0A90CF8A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BEAC4-38EC-45F2-A8F5-5265272A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B8CE3-8675-4D1A-95CE-74C2F685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1FB39-2691-4C52-89DD-8CEDFE5F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6B8C9-08AE-4B47-8D61-EF6B5CBF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16268-4826-4DDE-BEEA-FA74D3BD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389-9C1B-4BA6-9EC4-70D80F01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F101A-3FDB-4981-90F5-4630CE4F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BBE94-ADD9-4D7E-AECB-10FBED8A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8BB6B-2B7B-493A-8D08-ADE1BB5B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5486A-9842-4C23-A8DE-6B033737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56D04-E76B-437C-81D7-6DAA55C7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139F3-6062-4616-A63F-F87ACCF0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E73BD-D015-4285-A411-B3AE3DA1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B3DC6-3ABC-4FA7-9720-08214D8D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FCEF1-8C31-4592-ABCB-ECF25FA4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201D8-BA08-4D4C-824A-15ED3513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4D4-FAED-4251-B4C3-7AAD24D5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98A2F-E5AC-49C5-BAB0-CF5E05C6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80C7D-5B30-4380-9CB2-C8BD7F76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CC858-CEBA-4285-805C-959323D6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1C7F6-35A5-4E51-95C9-2E4609CC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F5026-B002-4AF4-B0E7-44DAB44F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1D59A-D9BB-421F-852D-C8392EF4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80F37-946A-479F-84DA-B83B2291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34936-71B0-4D05-A722-D78040E2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3B0F1-307C-48F0-ADC6-3F56C489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2F7DC-51CC-4084-89D7-E8F7BB51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F303-B9A3-419D-ADF1-6DF063D31F2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650C-9E54-42DF-A985-490E3E4530D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9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16A9-1AFD-429B-B698-90965778732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0C67-4161-40BD-ADE0-87670BB79AE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32" name="Group 7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8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9696-B7D1-43F6-826F-87E8F1C0324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89" name="Group 9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0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F32E-1F3F-48F3-9C77-08CB64AD0006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346" name="Group 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48" name="Rectangle 7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F680-155E-444E-B13C-C6D78EFF23D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5DA5-9B67-48F9-ABB2-87EEF69AF29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457" name="Group 6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7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59" name="Rectangle 8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7035-1B47-474C-826A-801512FA86F2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3" Type="http://schemas.openxmlformats.org/officeDocument/2006/relationships/hyperlink" Target="http://ru.wikipedia.org/wiki/&#1044;&#1088;&#1077;&#1074;&#1085;&#1077;&#1075;&#1088;&#1077;&#1095;&#1077;&#1089;&#1082;&#1072;&#1103;_&#1084;&#1080;&#1092;&#1086;&#1083;&#1086;&#1075;&#1080;&#1103;" TargetMode="External"/><Relationship Id="rId4" Type="http://schemas.openxmlformats.org/officeDocument/2006/relationships/hyperlink" Target="http://ru.wikipedia.org/wiki/&#1055;&#1086;&#1083;&#1080;&#1090;&#1077;&#1080;&#1079;&#1084;" TargetMode="External"/><Relationship Id="rId5" Type="http://schemas.openxmlformats.org/officeDocument/2006/relationships/hyperlink" Target="http://ru.wikipedia.org/wiki/&#1059;&#1088;&#1072;&#1085;_(&#1084;&#1080;&#1092;&#1086;&#1083;&#1086;&#1075;&#1080;&#1103;)" TargetMode="External"/><Relationship Id="rId6" Type="http://schemas.openxmlformats.org/officeDocument/2006/relationships/hyperlink" Target="http://ru.wikipedia.org/wiki/&#1043;&#1077;&#1103;" TargetMode="External"/><Relationship Id="rId7" Type="http://schemas.openxmlformats.org/officeDocument/2006/relationships/hyperlink" Target="http://ru.wikipedia.org/wiki/&#1055;&#1088;&#1086;&#1084;&#1077;&#1090;&#1077;&#1081;" TargetMode="External"/><Relationship Id="rId8" Type="http://schemas.openxmlformats.org/officeDocument/2006/relationships/hyperlink" Target="http://ru.wikipedia.org/wiki/&#1043;&#1077;&#1083;&#1080;&#1086;&#1089;" TargetMode="External"/><Relationship Id="rId9" Type="http://schemas.openxmlformats.org/officeDocument/2006/relationships/hyperlink" Target="http://ru.wikipedia.org/wiki/&#1052;&#1091;&#1079;&#1099;" TargetMode="External"/><Relationship Id="rId10" Type="http://schemas.openxmlformats.org/officeDocument/2006/relationships/hyperlink" Target="http://ru.wikipedia.org/wiki/&#1051;&#1077;&#1090;&#1086;_(&#1084;&#1080;&#1092;&#1086;&#1083;&#1086;&#1075;&#1080;&#1103;)" TargetMode="Externa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43;&#1088;&#1077;&#1095;&#1077;&#1089;&#1082;&#1080;&#1081;_&#1103;&#1079;&#1099;&#1082;" TargetMode="External"/><Relationship Id="rId3" Type="http://schemas.openxmlformats.org/officeDocument/2006/relationships/hyperlink" Target="http://ru.wikipedia.org/wiki/&#1043;&#1088;&#1077;&#1095;&#1077;&#1089;&#1082;&#1072;&#1103;_&#1084;&#1080;&#1092;&#1086;&#1083;&#1086;&#1075;&#1080;&#1103;" TargetMode="External"/><Relationship Id="rId4" Type="http://schemas.openxmlformats.org/officeDocument/2006/relationships/hyperlink" Target="http://ru.wikipedia.org/wiki/&#1043;&#1077;&#1088;&#1084;&#1077;&#1089;" TargetMode="External"/><Relationship Id="rId5" Type="http://schemas.openxmlformats.org/officeDocument/2006/relationships/hyperlink" Target="http://ru.wikipedia.org/wiki/&#1055;&#1072;&#1089;&#1090;&#1091;&#1093;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mythology.sgu.ru/mythology/linc_geography/lidiya.htm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Заголовок 1" descr=""/>
          <p:cNvPicPr/>
          <p:nvPr/>
        </p:nvPicPr>
        <p:blipFill>
          <a:blip r:embed="rId1"/>
          <a:stretch/>
        </p:blipFill>
        <p:spPr>
          <a:xfrm>
            <a:off x="633240" y="493560"/>
            <a:ext cx="8083800" cy="10861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371600" y="2786040"/>
            <a:ext cx="677232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mbria"/>
              </a:rPr>
              <a:t>Презентация к уроку литературы в 6 класс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mbria"/>
              </a:rPr>
              <a:t>Автор Черкасова Лариса Александровна, учитель русского языка и литературы МОУ СОШ №4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mbria"/>
              </a:rPr>
              <a:t>г. Болотного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Заголовок 1" descr=""/>
          <p:cNvPicPr/>
          <p:nvPr/>
        </p:nvPicPr>
        <p:blipFill>
          <a:blip r:embed="rId1"/>
          <a:stretch/>
        </p:blipFill>
        <p:spPr>
          <a:xfrm>
            <a:off x="4645080" y="133200"/>
            <a:ext cx="4267080" cy="12938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285480" y="356760"/>
            <a:ext cx="47862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Arno Pro Smbd Caption"/>
              </a:rPr>
              <a:t>Его преступление было раскрыто, и возмездие было страшным. В царстве мертвых Тантал вечно стоит по горло в воде прозрачного озера. Прямо над его головой свисают гроздья сочных плодов. Но стоит ему наклонить­ся  -  вода уходит вниз; стоит поднять руку  -  ветер вскиды­вает ветки. Терзаемый вечным голодом и жаждой, тщетно кусает свои руки несчастный Тантал; а </a:t>
            </a:r>
            <a:r>
              <a:rPr b="1" i="1" lang="ru-RU" sz="2400" spc="-1" strike="noStrike">
                <a:solidFill>
                  <a:srgbClr val="ff0000"/>
                </a:solidFill>
                <a:latin typeface="Arno Pro Smbd Caption"/>
              </a:rPr>
              <a:t>танталовыми муками </a:t>
            </a:r>
            <a:r>
              <a:rPr b="1" i="1" lang="ru-RU" sz="2400" spc="-1" strike="noStrike">
                <a:solidFill>
                  <a:srgbClr val="000000"/>
                </a:solidFill>
                <a:latin typeface="Arno Pro Smbd Caption"/>
              </a:rPr>
              <a:t>люди называют </a:t>
            </a:r>
            <a:r>
              <a:rPr b="1" i="1" lang="ru-RU" sz="2400" spc="-1" strike="noStrike">
                <a:solidFill>
                  <a:srgbClr val="c00000"/>
                </a:solidFill>
                <a:latin typeface="Arno Pro Smbd Caption"/>
              </a:rPr>
              <a:t>страдания, причиняемые близостью чего-либо крайне необходимого, желанного, что находится рядом, под руками, и все же недоступно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2"/>
          <a:stretch/>
        </p:blipFill>
        <p:spPr>
          <a:xfrm>
            <a:off x="5143680" y="1214280"/>
            <a:ext cx="33001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Заголовок 1" descr=""/>
          <p:cNvPicPr/>
          <p:nvPr/>
        </p:nvPicPr>
        <p:blipFill>
          <a:blip r:embed="rId1"/>
          <a:stretch/>
        </p:blipFill>
        <p:spPr>
          <a:xfrm>
            <a:off x="450720" y="19080"/>
            <a:ext cx="8242560" cy="8524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213840" y="785520"/>
            <a:ext cx="86439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Коринфский царь Сизиф, рассказывали греки, был великим хитрецом. Непокорный гордец, он все время обманывал богов и издавался над ними. Он выдал людям тайны  богов, ставшие ему известными. Зевс послал к нему Смерть, но он и Смерть заковал в цепи, и люди стали бессмертным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81160" indent="-281160">
              <a:spcBef>
                <a:spcPts val="700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бедив в конце концов Сизифа, боги назначили ему суровую казнь. Он был обречен все время катить в гору огромный  камень. Едва камень достигал вершины, он срывался и обрушивался к подножию холма. Дело надо было начинать вновь и вновь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524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285480" y="999720"/>
            <a:ext cx="864396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аказание Сизифа было страшно не столько трудностью, сколько </a:t>
            </a: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бессмысленностью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его работы. Понятно, что из этого рассказа и возник навеки запоминающийся образ </a:t>
            </a: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нелепого труда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2"/>
          <a:stretch/>
        </p:blipFill>
        <p:spPr>
          <a:xfrm>
            <a:off x="2262240" y="3286080"/>
            <a:ext cx="45244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Заголовок 1" descr=""/>
          <p:cNvPicPr/>
          <p:nvPr/>
        </p:nvPicPr>
        <p:blipFill>
          <a:blip r:embed="rId1"/>
          <a:stretch/>
        </p:blipFill>
        <p:spPr>
          <a:xfrm>
            <a:off x="414360" y="60480"/>
            <a:ext cx="8474040" cy="14634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тение определения слова «легенда», запись в тетрадь. Обсуждение: что общего, чем различаются мифы и легенды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Геродот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— древнегреческий историк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Арио́н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— греческий лирический поэт и певец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2"/>
          <a:stretch/>
        </p:blipFill>
        <p:spPr>
          <a:xfrm>
            <a:off x="5500800" y="1571760"/>
            <a:ext cx="333216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Заголовок 1" descr=""/>
          <p:cNvPicPr/>
          <p:nvPr/>
        </p:nvPicPr>
        <p:blipFill>
          <a:blip r:embed="rId1"/>
          <a:stretch/>
        </p:blipFill>
        <p:spPr>
          <a:xfrm>
            <a:off x="450720" y="-19080"/>
            <a:ext cx="8242560" cy="8542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 txBox="1"/>
          <p:nvPr/>
        </p:nvSpPr>
        <p:spPr>
          <a:xfrm>
            <a:off x="213840" y="3929040"/>
            <a:ext cx="3429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Иногда Ариона изображали на морском коне или на морском зме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7" name="Picture 3" descr=""/>
          <p:cNvPicPr/>
          <p:nvPr/>
        </p:nvPicPr>
        <p:blipFill>
          <a:blip r:embed="rId2"/>
          <a:stretch/>
        </p:blipFill>
        <p:spPr>
          <a:xfrm>
            <a:off x="4071960" y="3763800"/>
            <a:ext cx="4881600" cy="30942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5576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634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Когда и где происходит действие легенды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Почему Арион оказался именно на этом корабле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Как изображены эти мореходы? Почему они пытались убить Ариона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Каким показан Периандр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Что в образе Ариона особенно привлекает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Почему это произведение называется легендой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Что главное узнали из легенды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634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1928880" y="1571760"/>
            <a:ext cx="5857920" cy="49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ас было много на челне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ные парус напрягали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Другие дружно упирал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В глубь мощны веслы. В тишин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а руль склонясь, наш кормщик умны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В молчанье правил грузный чёлн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 я — беспечной веры полн, —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ловцам я пел... Вдруг лоно волн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змял с налету вихорь шумный..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огиб и кормщик и пловец! —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Лишь я, таинственный певец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а берег выброшен грозою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Я гимны прежние по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 ризу влажную мо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Сушу на солнце под скалою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Как использует Пушкин сюжет древней легенды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1643040" y="1785960"/>
            <a:ext cx="5792760" cy="3857760"/>
          </a:xfrm>
          <a:prstGeom prst="rect">
            <a:avLst/>
          </a:prstGeom>
          <a:ln w="0">
            <a:noFill/>
          </a:ln>
        </p:spPr>
      </p:pic>
      <p:sp>
        <p:nvSpPr>
          <p:cNvPr id="545" name="Овал 5"/>
          <p:cNvSpPr/>
          <p:nvPr/>
        </p:nvSpPr>
        <p:spPr>
          <a:xfrm>
            <a:off x="1714680" y="5572080"/>
            <a:ext cx="5929200" cy="857160"/>
          </a:xfrm>
          <a:prstGeom prst="ellipse">
            <a:avLst/>
          </a:prstGeom>
          <a:solidFill>
            <a:srgbClr val="0064ff"/>
          </a:solidFill>
          <a:ln w="25560">
            <a:solidFill>
              <a:srgbClr val="004c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ушкин и декабристы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очитать статью учебника о Гомер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8680" cy="27370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1. Проверка домашнего задания (объяснение значения выражений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1. Яндекс. Картинки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http://ru.wikipedia.org/wik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3. Егорова Н. В. Поурочные разработки по зарубежной литературе. 5-9 классы. – М.: ВАКО, 2004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208080" y="-219240"/>
            <a:ext cx="5443560" cy="14623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142920" y="1143000"/>
            <a:ext cx="52149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Титаны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2"/>
              </a:rPr>
              <a:t>др.-греч.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Τιτάν) — в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3"/>
              </a:rPr>
              <a:t>древнегреческой мифологии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4"/>
              </a:rPr>
              <a:t>боги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второго поколения, дети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5"/>
              </a:rPr>
              <a:t>Урана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(неба) и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6"/>
              </a:rPr>
              <a:t>Геи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(земли). Их шесть братьев и шесть сестёр-титанид, вступивших в брак между собой и породивших новое поколение богов: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7"/>
              </a:rPr>
              <a:t>Прометея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8"/>
              </a:rPr>
              <a:t>Гелиоса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9"/>
              </a:rPr>
              <a:t>муз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10"/>
              </a:rPr>
              <a:t>Лето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и других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1"/>
          <a:srcRect l="7039" t="0" r="8122" b="0"/>
          <a:stretch/>
        </p:blipFill>
        <p:spPr>
          <a:xfrm>
            <a:off x="5429160" y="214200"/>
            <a:ext cx="3465720" cy="4786560"/>
          </a:xfrm>
          <a:prstGeom prst="rect">
            <a:avLst/>
          </a:prstGeom>
          <a:ln w="0">
            <a:noFill/>
          </a:ln>
        </p:spPr>
      </p:pic>
      <p:sp>
        <p:nvSpPr>
          <p:cNvPr id="508" name="Овал 4"/>
          <p:cNvSpPr/>
          <p:nvPr/>
        </p:nvSpPr>
        <p:spPr>
          <a:xfrm>
            <a:off x="5429160" y="5000760"/>
            <a:ext cx="3429000" cy="928440"/>
          </a:xfrm>
          <a:prstGeom prst="ellipse">
            <a:avLst/>
          </a:prstGeom>
          <a:solidFill>
            <a:srgbClr val="0064ff"/>
          </a:solidFill>
          <a:ln w="25560">
            <a:solidFill>
              <a:srgbClr val="004c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Атлан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57120" y="928440"/>
            <a:ext cx="3571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Титаническая борьба – изнурительная, тяжелая, требующая многих усили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4390920" y="1000080"/>
            <a:ext cx="4275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0432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6840" y="1500120"/>
            <a:ext cx="811548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ан - (</a:t>
            </a:r>
            <a:r>
              <a:rPr b="0" lang="ru-RU" sz="3200" spc="-1" strike="noStrike" u="sng">
                <a:solidFill>
                  <a:srgbClr val="e78707"/>
                </a:solidFill>
                <a:uFillTx/>
                <a:latin typeface="Cambria"/>
                <a:hlinkClick r:id="rId2"/>
              </a:rPr>
              <a:t>греч.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Πάν) — в </a:t>
            </a:r>
            <a:r>
              <a:rPr b="0" lang="ru-RU" sz="3200" spc="-1" strike="noStrike" u="sng">
                <a:solidFill>
                  <a:srgbClr val="e78707"/>
                </a:solidFill>
                <a:uFillTx/>
                <a:latin typeface="Cambria"/>
                <a:hlinkClick r:id="rId3"/>
              </a:rPr>
              <a:t>греческой мифологии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сын бога </a:t>
            </a:r>
            <a:r>
              <a:rPr b="0" lang="ru-RU" sz="3200" spc="-1" strike="noStrike" u="sng">
                <a:solidFill>
                  <a:srgbClr val="e78707"/>
                </a:solidFill>
                <a:uFillTx/>
                <a:latin typeface="Cambria"/>
                <a:hlinkClick r:id="rId4"/>
              </a:rPr>
              <a:t>Гермеса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, первоначально почитался как покровитель </a:t>
            </a:r>
            <a:r>
              <a:rPr b="0" lang="ru-RU" sz="3200" spc="-1" strike="noStrike" u="sng">
                <a:solidFill>
                  <a:srgbClr val="e78707"/>
                </a:solidFill>
                <a:uFillTx/>
                <a:latin typeface="Cambria"/>
                <a:hlinkClick r:id="rId5"/>
              </a:rPr>
              <a:t>пастухов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, бог стад; впоследствии (ко II веку до н. э.) — как покровитель всей природы. Изображался в виде человека с рогами, козлиными ногами и козлиной бородой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6"/>
          <a:stretch/>
        </p:blipFill>
        <p:spPr>
          <a:xfrm>
            <a:off x="2286000" y="1071720"/>
            <a:ext cx="45291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Когда родился бог природы Пан, покровитель лесов и их обитателей, даже мать ужаснулась его безобразному виду: ребенок явился на свет рогатым, с копытцами, с расплющенным носом и козлиной бородкой… Едва родившись, он сразу же начал прыгать и хохотать, чем еще больше напугал свою родительницу. Но ведь дитя было маленьким богом, и боги на Олимпе встретили его с радостью: Пан оказался добродушным, веселым божеством, он изобрел флейту и превосходно на ней играл.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Cambria"/>
              </a:rPr>
              <a:t>А откуда же пошло выражение панический страх?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  Когда пастух или зверолов слышали в дебрях дикие звуки, смутный шум, чей-то хохот и свист, то были уверены, что это Пан. Бедные люди пугались, испытывали панический страх, среди них возникала паника.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Заголовок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8680" cy="9637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213840" y="999720"/>
            <a:ext cx="8472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Обителью древнегреческих богов считалась гора Олимп, высящаяся на 2917 метров над нынешним Салоникским заливом. Ее вершина почти всегда закрыта облаками; именно поэтому ее таинственные высоты и стали в воображении эллинов местом пребывания небожителей.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2"/>
          <a:stretch/>
        </p:blipFill>
        <p:spPr>
          <a:xfrm>
            <a:off x="2143080" y="3500280"/>
            <a:ext cx="50626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 связи с этим греческие боги получили прозвание «олимпийцев» — жителей Олимпа, а присущие им величие, спокойствие и другие качества стали именоваться «олимпийскими». Скоро слово это стало означать просто превосходную степень; в этом смысле употребляем его и мы. У нас «олимпийское спокойствие» или «величие» — невозмутимое, предельное, как у древнего бог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928800" y="571680"/>
            <a:ext cx="74581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357120" y="1600200"/>
            <a:ext cx="832968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Тантал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— царь Коринфа (вариант: </a:t>
            </a:r>
            <a:r>
              <a:rPr b="0" lang="ru-RU" sz="2700" spc="-1" strike="noStrike" u="sng">
                <a:solidFill>
                  <a:srgbClr val="e78707"/>
                </a:solidFill>
                <a:uFillTx/>
                <a:latin typeface="Cambria"/>
                <a:hlinkClick r:id="rId2"/>
              </a:rPr>
              <a:t>Лидии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Аргос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или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Сипил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во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Фригии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), и сын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Зевс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(или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Тмол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), отец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Пелоп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Ниобы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. Был любимцем богов, посещал пиры и собрания на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Олимпе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. Возгордившись, он оскорбил богов и был ими низвергнут в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Аид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. Мифы по-разному объясняют вину Тантала: а) он разгласил людям тайные решения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Зевс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; б) похитил со стола богов нектар и амброзию, которые давали бессмертие, и угощал ими людей; в) желая узнать, всеведущи ли боги, пытался накормить их мясом своего сына Пелопа.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12T10:15:11Z</dcterms:modified>
  <cp:revision>10</cp:revision>
  <dc:subject/>
  <dc:title>Легенда об Арионе</dc:title>
</cp:coreProperties>
</file>