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2D4-F9A6-4847-BF00-2CACE3C1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4C9-BC25-469C-B975-B152032A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AA44F-FFCE-4F8C-B560-68C7AC3F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51AE1-54F1-4AB7-A82B-8F7D63FF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A92D7-5BCA-4F21-BD4B-2DAA79A6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DD6AA-B137-4442-917A-CC04A27C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BB78D-D1D8-4238-B219-2A50FC57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339C7-1B03-480F-9242-DE6ADA94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11BD2-8339-4AF8-836F-C19C0484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A07E3-9D02-4DA1-8578-158B95FE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170AF-8240-4621-94B0-0638A168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F9F-BBB3-40AA-AB5E-EF4C90B9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73E-72DD-432A-A448-22648BA1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5FB0-35C4-42AB-8D30-23983750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6B47-9D1A-4763-8E73-20A60F8B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FB7B-D789-49F8-86F6-0C4C2602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D368-5250-498A-8CD2-560AE949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E472-09C9-468E-8A59-FE9C4B22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79A6-AF43-4946-85DC-ACF4009D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B8A6-6688-4D8F-9709-BC4016F5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5DE-AEED-45D5-8552-58507A19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FBE3-7553-479D-9898-EB4DD39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52CB-8DFC-45C9-9625-083BC45A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F6D0-7533-4A7B-A0A6-F4B2A129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150A-3558-49C9-B254-B33D182B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EE00-8131-4B0E-8073-C5375E93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4BBD-77DB-4402-91B9-761049EA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6AC8-43E9-40C7-A16F-1C011803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1D6B-AD2B-4103-AE5B-CEB9EFD1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F7ABD-6185-4E9E-B874-0284B7F4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1929E-C997-419F-A0E9-9AB6191C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0F3-5F40-4349-8B5E-11771566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BBCC3-650F-44B5-A7C4-8B3415C2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04CD-1285-40B1-9AB9-EC30A440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142E-A205-43DF-B0CA-56B6CBB6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028C-25FC-4E89-9CEC-53996028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A0D19-E278-4B83-A7C4-C771E728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22AC-C5F0-4C84-900F-1E863EED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A6AC-A785-4BA9-ACF9-F4FD0D33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11334-1EB7-40D6-8006-0DC3BF98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109E-EE6F-4BDD-B9C4-FCDC6993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1960A-80BE-4ABD-9178-D8CDEC50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025-326B-454E-A720-8D8CEB14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522D2-9E92-4357-9D64-9B377C8A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230E-54B1-4ED3-BCE1-FAAB4B34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C4D66-D3DA-4807-9296-8993A7BB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1A55-296D-4C53-B437-45831CF8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0780D-B31B-4F91-916C-194100C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58AA-7F69-4BB9-90A5-D5A3A294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74F3-E073-4C45-8A70-9F977AD7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FE788-87AD-4B0F-A0C8-C2B2B8B5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23DBE-FB25-4777-AC3C-C617DAC6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923E2-0940-40E0-8189-FF3355F9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441-60DC-4DC6-92DF-DED9B64C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6D839-CDA6-4C94-A872-D9A08ED3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3EDF7-7D12-4E1B-916A-F3235A59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EEEE2-9A32-4C0F-9E07-4B8CE041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7460-607E-4210-BB45-C8A41C17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CE303-1F29-4FC0-A64F-6BD2269B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FF849-4EFE-4265-A263-E1B63E83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3B766-5F98-4B1F-8381-DB190457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8FAE2-C047-4869-B6F8-3ADD867B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C1192-BBFE-4F65-82D1-698DC49E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06777-88E2-4738-86F0-DB7C06EC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DA5-5188-437E-8207-B20CD684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15CF3-16D3-4165-92EC-0C9269BA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D7B63-776D-44C5-83BD-84514BF8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23F48-F05A-4621-9F81-716877C4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6D3C5-5F76-4411-B267-037452FB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92FA6-A82F-4859-B433-C84CFE31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4B83E-348E-41DF-B498-C3ED339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B42BE-BCA3-4B1F-8843-4550D0E4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BC4DA-659D-47B5-9FB9-311493C0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A6D2B-5607-4DBA-BC5B-F7B961D8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E297D-D73C-422A-8332-64742D36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D1C-B998-4B71-B0DF-F940E075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A1588-92A5-460D-B3CE-C827179D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47495-2BE5-4C24-8358-83125DED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015F-AD9B-4311-AE54-DA878F37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E8C6E-A409-4F5B-AC6D-900AA3D1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C07FC-3368-4402-A09E-1EB16B72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1FE91-513A-48DA-8DC2-8B02957F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F7912-B868-48DC-AC98-886E6F87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0BE17-36E3-4CEB-9AA1-7D19299B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8A627-9031-4992-A784-5FD865D1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93AE6-0C05-4C28-A18E-00E6F705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B10-308F-4E5C-B85D-53B4323F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F5721-14C5-496C-8CC4-E8AD5D55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33780-20B7-48DF-85A5-38362617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B9A1F-9B48-451E-9D64-0B94F268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BEF5E-50D2-4396-B5CD-8450BC9D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3E290-894A-4E55-9296-E5BC7875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1B44F-F56F-41F4-8D24-F8D54748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0D227-8275-4EE5-81FE-9F77BAD3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F862F-B798-4808-B446-CF5BE353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705C7-D091-4302-A492-45579523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A4DAF-FAE8-49AD-87C5-1431E2CC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015-A9E6-4473-8ED4-EC5659EA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842AD-5520-416D-B2A6-1D143305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C27AA-F66E-44E5-96D7-6ACAAFE2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BB5E1-A275-4FCB-B450-02415D2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8EEB0-CA4E-4B05-AEA7-65BFDCEE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9EF49-2D69-49B6-AEEE-E9F77EF4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E4ABE-444A-47D0-8190-D99A7CF0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2962A-B1B9-40A7-9F1C-18BD4431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5BFB6-805C-4A14-A8F8-3D3E8931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9DB16-4F31-4776-974C-7F9165A1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A7421-EF6B-492E-B0E7-B3366541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3A6C-9EC1-49F9-95B3-94C0E17D3C0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C93D-150A-48DF-8E62-11072437F94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9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6387-5F2D-4D3E-A605-D478603A620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2003-AA73-4D24-A062-A77A1303779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32" name="Group 7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8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1A67-F643-4B39-80A4-A0E3B7A16F1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89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3558-4EF7-48F6-9A5F-1E304400362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346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01EE-226E-437C-9E82-E32FA78711E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55BA-E3B1-42B3-A60F-50EEC08B7B2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457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59" name="Rectangle 8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98F4-B0FD-49DF-954C-607456B6F73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3" Type="http://schemas.openxmlformats.org/officeDocument/2006/relationships/hyperlink" Target="http://ru.wikipedia.org/wiki/&#1044;&#1088;&#1077;&#1074;&#1085;&#1077;&#1075;&#1088;&#1077;&#1095;&#1077;&#1089;&#1082;&#1072;&#1103;_&#1084;&#1080;&#1092;&#1086;&#1083;&#1086;&#1075;&#1080;&#1103;" TargetMode="External"/><Relationship Id="rId4" Type="http://schemas.openxmlformats.org/officeDocument/2006/relationships/hyperlink" Target="http://ru.wikipedia.org/wiki/&#1055;&#1086;&#1083;&#1080;&#1090;&#1077;&#1080;&#1079;&#1084;" TargetMode="External"/><Relationship Id="rId5" Type="http://schemas.openxmlformats.org/officeDocument/2006/relationships/hyperlink" Target="http://ru.wikipedia.org/wiki/&#1059;&#1088;&#1072;&#1085;_(&#1084;&#1080;&#1092;&#1086;&#1083;&#1086;&#1075;&#1080;&#1103;)" TargetMode="External"/><Relationship Id="rId6" Type="http://schemas.openxmlformats.org/officeDocument/2006/relationships/hyperlink" Target="http://ru.wikipedia.org/wiki/&#1043;&#1077;&#1103;" TargetMode="External"/><Relationship Id="rId7" Type="http://schemas.openxmlformats.org/officeDocument/2006/relationships/hyperlink" Target="http://ru.wikipedia.org/wiki/&#1055;&#1088;&#1086;&#1084;&#1077;&#1090;&#1077;&#1081;" TargetMode="External"/><Relationship Id="rId8" Type="http://schemas.openxmlformats.org/officeDocument/2006/relationships/hyperlink" Target="http://ru.wikipedia.org/wiki/&#1043;&#1077;&#1083;&#1080;&#1086;&#1089;" TargetMode="External"/><Relationship Id="rId9" Type="http://schemas.openxmlformats.org/officeDocument/2006/relationships/hyperlink" Target="http://ru.wikipedia.org/wiki/&#1052;&#1091;&#1079;&#1099;" TargetMode="External"/><Relationship Id="rId10" Type="http://schemas.openxmlformats.org/officeDocument/2006/relationships/hyperlink" Target="http://ru.wikipedia.org/wiki/&#1051;&#1077;&#1090;&#1086;_(&#1084;&#1080;&#1092;&#1086;&#1083;&#1086;&#1075;&#1080;&#1103;)" TargetMode="Externa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43;&#1088;&#1077;&#1095;&#1077;&#1089;&#1082;&#1080;&#1081;_&#1103;&#1079;&#1099;&#1082;" TargetMode="External"/><Relationship Id="rId3" Type="http://schemas.openxmlformats.org/officeDocument/2006/relationships/hyperlink" Target="http://ru.wikipedia.org/wiki/&#1043;&#1088;&#1077;&#1095;&#1077;&#1089;&#1082;&#1072;&#1103;_&#1084;&#1080;&#1092;&#1086;&#1083;&#1086;&#1075;&#1080;&#1103;" TargetMode="External"/><Relationship Id="rId4" Type="http://schemas.openxmlformats.org/officeDocument/2006/relationships/hyperlink" Target="http://ru.wikipedia.org/wiki/&#1043;&#1077;&#1088;&#1084;&#1077;&#1089;" TargetMode="External"/><Relationship Id="rId5" Type="http://schemas.openxmlformats.org/officeDocument/2006/relationships/hyperlink" Target="http://ru.wikipedia.org/wiki/&#1055;&#1072;&#1089;&#1090;&#1091;&#1093;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mythology.sgu.ru/mythology/linc_geography/lidiya.ht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Заголовок 1" descr=""/>
          <p:cNvPicPr/>
          <p:nvPr/>
        </p:nvPicPr>
        <p:blipFill>
          <a:blip r:embed="rId1"/>
          <a:stretch/>
        </p:blipFill>
        <p:spPr>
          <a:xfrm>
            <a:off x="633240" y="493560"/>
            <a:ext cx="8083800" cy="10861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77232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mbria"/>
              </a:rPr>
              <a:t>Презентация к уроку литературы в 6 класс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mbria"/>
              </a:rPr>
              <a:t>Автор Черкасова Лариса Александровна, учитель русского языка и литературы МОУ СОШ №4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mbria"/>
              </a:rPr>
              <a:t>г. Болотног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Заголовок 1" descr=""/>
          <p:cNvPicPr/>
          <p:nvPr/>
        </p:nvPicPr>
        <p:blipFill>
          <a:blip r:embed="rId1"/>
          <a:stretch/>
        </p:blipFill>
        <p:spPr>
          <a:xfrm>
            <a:off x="4645080" y="133200"/>
            <a:ext cx="4267080" cy="1293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285480" y="356760"/>
            <a:ext cx="47862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no Pro Smbd Caption"/>
              </a:rPr>
              <a:t>Его преступление было раскрыто, и возмездие было страшным. В царстве мертвых Тантал вечно стоит по горло в воде прозрачного озера. Прямо над его головой свисают гроздья сочных плодов. Но стоит ему наклонить­ся  -  вода уходит вниз; стоит поднять руку  -  ветер вскиды­вает ветки. Терзаемый вечным голодом и жаждой, тщетно кусает свои руки несчастный Тантал; а </a:t>
            </a:r>
            <a:r>
              <a:rPr b="1" i="1" lang="ru-RU" sz="2400" spc="-1" strike="noStrike">
                <a:solidFill>
                  <a:srgbClr val="ff0000"/>
                </a:solidFill>
                <a:latin typeface="Arno Pro Smbd Caption"/>
              </a:rPr>
              <a:t>танталовыми муками </a:t>
            </a:r>
            <a:r>
              <a:rPr b="1" i="1" lang="ru-RU" sz="2400" spc="-1" strike="noStrike">
                <a:solidFill>
                  <a:srgbClr val="000000"/>
                </a:solidFill>
                <a:latin typeface="Arno Pro Smbd Caption"/>
              </a:rPr>
              <a:t>люди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Arno Pro Smbd Caption"/>
              </a:rPr>
              <a:t>страдания, причиняемые близостью чего-либо крайне необходимого, желанного, что находится рядом, под руками, и все же недоступн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2"/>
          <a:stretch/>
        </p:blipFill>
        <p:spPr>
          <a:xfrm>
            <a:off x="5143680" y="1214280"/>
            <a:ext cx="33001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8524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213840" y="78552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оринфский царь Сизиф, рассказывали греки, был великим хитрецом. Непокорный гордец, он все время обманывал богов и издавался над ними. Он выдал людям тайны  богов, ставшие ему известными. Зевс послал к нему Смерть, но он и Смерть заковал в цепи, и люди стали бессмертным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81160" indent="-281160">
              <a:spcBef>
                <a:spcPts val="700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бедив в конце концов Сизифа, боги назначили ему суровую казнь. Он был обречен все время катить в гору огромный  камень. Едва камень достигал вершины, он срывался и обрушивался к подножию холма. Дело надо было начинать вновь и вновь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524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285480" y="999720"/>
            <a:ext cx="864396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аказание Сизифа было страшно не столько трудностью, сколько 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бессмысленностью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его работы. Понятно, что из этого рассказа и возник навеки запоминающийся образ 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нелепого труда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2"/>
          <a:stretch/>
        </p:blipFill>
        <p:spPr>
          <a:xfrm>
            <a:off x="2262240" y="328608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Заголовок 1" descr=""/>
          <p:cNvPicPr/>
          <p:nvPr/>
        </p:nvPicPr>
        <p:blipFill>
          <a:blip r:embed="rId1"/>
          <a:stretch/>
        </p:blipFill>
        <p:spPr>
          <a:xfrm>
            <a:off x="414360" y="60480"/>
            <a:ext cx="8474040" cy="14634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ение определения слова «легенда», запись в тетрадь. Обсуждение: что общего, чем различаются мифы и легенды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Геродот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— древнегреческий историк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Арио́н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— греческий лирический поэт и певец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5500800" y="1571760"/>
            <a:ext cx="333216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Заголовок 1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242560" cy="8542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213840" y="3929040"/>
            <a:ext cx="3429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Иногда Ариона изображали на морском коне или на морском зме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2"/>
          <a:stretch/>
        </p:blipFill>
        <p:spPr>
          <a:xfrm>
            <a:off x="4071960" y="3763800"/>
            <a:ext cx="4881600" cy="3094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5576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634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Когда и где происходит действие легенды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Почему Арион оказался именно на этом корабле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Как изображены эти мореходы? Почему они пытались убить Ариона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Каким показан Периандр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Что в образе Ариона особенно привлекает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Почему это произведение называется легендой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Что главное узнали из легенды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634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1928880" y="1571760"/>
            <a:ext cx="5857920" cy="49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с было много на челне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ные парус напрягал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Другие дружно упирал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 глубь мощны веслы. В тишин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 руль склонясь, наш кормщик умны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 молчанье правил грузный чёлн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 я — беспечной веры полн, —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ловцам я пел... Вдруг лоно волн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змял с налету вихорь шумный..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огиб и кормщик и пловец! —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Лишь я, таинственный певец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 берег выброшен грозою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Я гимны прежние по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 ризу влажную мо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Сушу на солнце под скалою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ак использует Пушкин сюжет древней легенды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643040" y="1785960"/>
            <a:ext cx="5792760" cy="3857760"/>
          </a:xfrm>
          <a:prstGeom prst="rect">
            <a:avLst/>
          </a:prstGeom>
          <a:ln w="0">
            <a:noFill/>
          </a:ln>
        </p:spPr>
      </p:pic>
      <p:sp>
        <p:nvSpPr>
          <p:cNvPr id="545" name="Овал 5"/>
          <p:cNvSpPr/>
          <p:nvPr/>
        </p:nvSpPr>
        <p:spPr>
          <a:xfrm>
            <a:off x="1714680" y="5572080"/>
            <a:ext cx="5929200" cy="857160"/>
          </a:xfrm>
          <a:prstGeom prst="ellipse">
            <a:avLst/>
          </a:prstGeom>
          <a:solidFill>
            <a:srgbClr val="0064ff"/>
          </a:solidFill>
          <a:ln w="25560">
            <a:solidFill>
              <a:srgbClr val="004c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ушкин и декабристы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очитать статью учебника о Гомер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8680" cy="27370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1. Проверка домашнего задания (объяснение значения выражений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1. Яндекс. Картинк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http://ru.wikipedia.org/wik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. Егорова Н. В. Поурочные разработки по зарубежной литературе. 5-9 классы. – М.: ВАКО, 2004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208080" y="-219240"/>
            <a:ext cx="5443560" cy="14623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142920" y="1143000"/>
            <a:ext cx="52149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Титаны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2"/>
              </a:rPr>
              <a:t>др.-греч.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Τιτάν) — в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3"/>
              </a:rPr>
              <a:t>древнегреческой мифологии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4"/>
              </a:rPr>
              <a:t>боги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второго поколения, дети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5"/>
              </a:rPr>
              <a:t>Урана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(неба) и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6"/>
              </a:rPr>
              <a:t>Геи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(земли). Их шесть братьев и шесть сестёр-титанид, вступивших в брак между собой и породивших новое поколение богов: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7"/>
              </a:rPr>
              <a:t>Прометея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8"/>
              </a:rPr>
              <a:t>Гелиоса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9"/>
              </a:rPr>
              <a:t>муз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10"/>
              </a:rPr>
              <a:t>Лето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и других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1"/>
          <a:srcRect l="7039" t="0" r="8122" b="0"/>
          <a:stretch/>
        </p:blipFill>
        <p:spPr>
          <a:xfrm>
            <a:off x="5429160" y="214200"/>
            <a:ext cx="3465720" cy="4786560"/>
          </a:xfrm>
          <a:prstGeom prst="rect">
            <a:avLst/>
          </a:prstGeom>
          <a:ln w="0">
            <a:noFill/>
          </a:ln>
        </p:spPr>
      </p:pic>
      <p:sp>
        <p:nvSpPr>
          <p:cNvPr id="508" name="Овал 4"/>
          <p:cNvSpPr/>
          <p:nvPr/>
        </p:nvSpPr>
        <p:spPr>
          <a:xfrm>
            <a:off x="5429160" y="5000760"/>
            <a:ext cx="3429000" cy="928440"/>
          </a:xfrm>
          <a:prstGeom prst="ellipse">
            <a:avLst/>
          </a:prstGeom>
          <a:solidFill>
            <a:srgbClr val="0064ff"/>
          </a:solidFill>
          <a:ln w="25560">
            <a:solidFill>
              <a:srgbClr val="004c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Атлан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57120" y="928440"/>
            <a:ext cx="3571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Титаническая борьба – изнурительная, тяжелая, требующая многих усили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4390920" y="1000080"/>
            <a:ext cx="4275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0432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6840" y="1500120"/>
            <a:ext cx="81154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ан - (</a:t>
            </a:r>
            <a:r>
              <a:rPr b="0" lang="ru-RU" sz="3200" spc="-1" strike="noStrike" u="sng">
                <a:solidFill>
                  <a:srgbClr val="e78707"/>
                </a:solidFill>
                <a:uFillTx/>
                <a:latin typeface="Cambria"/>
                <a:hlinkClick r:id="rId2"/>
              </a:rPr>
              <a:t>греч.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Πάν) — в </a:t>
            </a:r>
            <a:r>
              <a:rPr b="0" lang="ru-RU" sz="3200" spc="-1" strike="noStrike" u="sng">
                <a:solidFill>
                  <a:srgbClr val="e78707"/>
                </a:solidFill>
                <a:uFillTx/>
                <a:latin typeface="Cambria"/>
                <a:hlinkClick r:id="rId3"/>
              </a:rPr>
              <a:t>греческой мифологии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сын бога </a:t>
            </a:r>
            <a:r>
              <a:rPr b="0" lang="ru-RU" sz="3200" spc="-1" strike="noStrike" u="sng">
                <a:solidFill>
                  <a:srgbClr val="e78707"/>
                </a:solidFill>
                <a:uFillTx/>
                <a:latin typeface="Cambria"/>
                <a:hlinkClick r:id="rId4"/>
              </a:rPr>
              <a:t>Гермеса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, первоначально почитался как покровитель </a:t>
            </a:r>
            <a:r>
              <a:rPr b="0" lang="ru-RU" sz="3200" spc="-1" strike="noStrike" u="sng">
                <a:solidFill>
                  <a:srgbClr val="e78707"/>
                </a:solidFill>
                <a:uFillTx/>
                <a:latin typeface="Cambria"/>
                <a:hlinkClick r:id="rId5"/>
              </a:rPr>
              <a:t>пастухов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, бог стад; впоследствии (ко II веку до н. э.) — как покровитель всей природы. Изображался в виде человека с рогами, козлиными ногами и козлиной бородой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6"/>
          <a:stretch/>
        </p:blipFill>
        <p:spPr>
          <a:xfrm>
            <a:off x="2286000" y="1071720"/>
            <a:ext cx="4529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Когда родился бог природы Пан, покровитель лесов и их обитателей, даже мать ужаснулась его безобразному виду: ребенок явился на свет рогатым, с копытцами, с расплющенным носом и козлиной бородкой… Едва родившись, он сразу же начал прыгать и хохотать, чем еще больше напугал свою родительницу. Но ведь дитя было маленьким богом, и боги на Олимпе встретили его с радостью: Пан оказался добродушным, веселым божеством, он изобрел флейту и превосходно на ней играл.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Cambria"/>
              </a:rPr>
              <a:t>А откуда же пошло выражение панический страх?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 Когда пастух или зверолов слышали в дебрях дикие звуки, смутный шум, чей-то хохот и свист, то были уверены, что это Пан. Бедные люди пугались, испытывали панический страх, среди них возникала паника.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8680" cy="9637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213840" y="999720"/>
            <a:ext cx="8472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Обителью древнегреческих богов считалась гора Олимп, высящаяся на 2917 метров над нынешним Салоникским заливом. Ее вершина почти всегда закрыта облаками; именно поэтому ее таинственные высоты и стали в воображении эллинов местом пребывания небожителей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2"/>
          <a:stretch/>
        </p:blipFill>
        <p:spPr>
          <a:xfrm>
            <a:off x="2143080" y="3500280"/>
            <a:ext cx="50626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связи с этим греческие боги получили прозвание «олимпийцев» — жителей Олимпа, а присущие им величие, спокойствие и другие качества стали именоваться «олимпийскими». Скоро слово это стало означать просто превосходную степень; в этом смысле употребляем его и мы. У нас «олимпийское спокойствие» или «величие» — невозмутимое, предельное, как у древнего бог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928800" y="571680"/>
            <a:ext cx="74581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357120" y="1600200"/>
            <a:ext cx="832968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Тантал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— царь Коринфа (вариант: </a:t>
            </a:r>
            <a:r>
              <a:rPr b="0" lang="ru-RU" sz="2700" spc="-1" strike="noStrike" u="sng">
                <a:solidFill>
                  <a:srgbClr val="e78707"/>
                </a:solidFill>
                <a:uFillTx/>
                <a:latin typeface="Cambria"/>
                <a:hlinkClick r:id="rId2"/>
              </a:rPr>
              <a:t>Лидии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Аргос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или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Сипил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во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Фригии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), и сын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Зевс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(или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Тмол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), отец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Пелоп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Ниобы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. Был любимцем богов, посещал пиры и собрания на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Олимпе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. Возгордившись, он оскорбил богов и был ими низвергнут в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Аид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. Мифы по-разному объясняют вину Тантала: а) он разгласил людям тайные решения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Зевс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; б) похитил со стола богов нектар и амброзию, которые давали бессмертие, и угощал ими людей; в) желая узнать, всеведущи ли боги, пытался накормить их мясом своего сына Пелопа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12T10:15:11Z</dcterms:modified>
  <cp:revision>10</cp:revision>
  <dc:subject/>
  <dc:title>Легенда об Арионе</dc:title>
</cp:coreProperties>
</file>