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A0A-5A25-462B-B2F0-E96BA074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50E-F050-4215-90FC-EFB15131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CB560-802A-4663-8C5C-AD05089E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A0257-99FF-4486-B4B3-3D64FC49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046AC-9B6F-40B1-A60D-D591AC98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B9D97-B86B-4E08-B6FC-32B5939C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0300E-D681-463B-910E-FFF822AA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572E8-CA68-42ED-AE9C-7B02D3B0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C4B92-D8C0-47A0-9E1D-CBD7858C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6BC93-0A9F-48A5-827C-370C2621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EEAC2-7B80-43FC-BFBE-6292E770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0A9-49E3-4F05-99E8-55C94A16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7FE-A6BE-4DB2-833B-B18F54E8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3C54-D8EB-4739-B7B4-B9108E5A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646B-8225-4E34-87A1-60DC745B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C74E-F83E-4616-B156-70549805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FA4D-12EF-4A8B-8CFA-DEDBE487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F3B2-AD7C-4C5E-819F-FBEBEAC4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ECE9-D1D8-4CC6-8255-7CBD3834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3B00-AA50-4E44-A335-0BC96884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CF81-EC02-4C00-8709-311D2A4E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9DEA-19DB-4158-A7F3-CAC6A803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F86E-205D-4A30-A1FB-17875F51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8149-1386-4E89-BE44-CC49D991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E9A0-7903-48DF-BFCF-A9BD3676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D4F2-12F7-4CF5-8E33-3A880A05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E98ED-4DCA-4C55-8A99-3C0F6390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E47AC-A59E-4E18-B4AF-45077D0B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68060-73E5-468B-A73B-9479358B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037A9-B8F9-4B2D-A54E-551C7054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B16E-CB3D-4C92-B0AD-01C05962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9B5-BE63-410D-B52F-C29C5AEC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0C386-8B31-43EA-A5E5-8F50CC8C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000D3-A3A5-497B-8EAC-BC7D0929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2523B-73B3-4E96-AA5C-862070D0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60710-8145-40D6-B149-6AB9422D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101F3-C643-4413-9ADB-3D218505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B392-F544-4BA6-9F00-8C0E17A8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BED2B-5BF5-4C66-B870-5518B99D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E0DF1-DD24-4E69-9B21-0F774A93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9308D-A59C-4D4F-86F5-CC6CFAFA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EF568-B463-4275-A315-5862F7CE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ECA-DA26-4181-8466-36A4643D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3FE1B-01EE-4524-B2BA-662FA2A3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A4A66-4D3F-472A-9E5F-5248704B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37DFB-6B3B-4FA6-8A58-E103EC6C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91996-E580-4AA8-9E17-DC873E98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13B8C-FA76-48BE-B6CC-E45CBC3A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71B1D-1B4D-401A-B72D-AECB5D36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D4F0D-729F-48FF-9E17-7CFB072F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D0DD5-551F-46EE-B7F7-37F81190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3CD8E-FE86-4332-B6C7-3F94D14C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C5D54-6E2D-4846-8BA9-08065400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E35-EA14-49CF-9A4C-08B2544E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B2401-3E64-4121-8C1A-B7A2FF78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FE6A8-8059-4FB6-9C56-91B05810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714E6-7DDC-4B9D-B921-19FF0E63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88B1B-90F4-421A-9A2C-63F6EC08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68FA7-5D30-4BDE-9B55-4F78CFB3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7105F-0A46-4D9E-9762-F7F999AC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69309-C5FA-4392-BE2F-B326B3A1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AB0CE-0B6C-46B7-8E94-BB5AF806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A8897-294B-445E-8988-4762E959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9BA84-20C7-4710-BFFA-2F30EBFC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BBC-FAD1-4676-8196-004252F4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563D2-040F-4F21-B60B-DC4A561B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64330-1434-46B3-BDA1-141CEC50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4611B-B9F5-44B5-9918-AB414F19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BC096-AE19-4B87-B709-FD406FCA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3BA87-890D-4B30-9B91-E2F44534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6E8E1-DA50-46C5-8094-2109C337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3A2AF-D9C1-4AFF-ADD0-C6169AD9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013F2-F6C8-4E22-9DD1-54D640B4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6769A-C3ED-414A-A8E6-2211A726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3090C-DF7C-4BB2-A79D-A2530520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23C-A14A-4BCE-8846-428B7682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D1716-1A62-43A1-AD02-D50BB54D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ADF5F-0627-463C-ADA0-705387AF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F85A4-EE5A-4774-A6B5-BECB36C3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9B16C-762F-4C87-AF18-A17ACFB1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DA5A2-63C4-4E46-B2C3-FDD4E00C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7BFC6-8827-4714-B7D3-4E36AB3C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1CDCB-A78F-4C0E-9FA3-7B6A83CE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62B34-6523-4727-A58A-1E34FA45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10E29-FF03-4DFA-9164-1F52E44A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CDE9F-2E9A-4D33-A8E2-2C4AE305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016-0BAA-4B23-8F7A-91F953F0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53D69-2B69-4DA5-B3E0-183D0D6D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EFBEF-0B35-4364-BBA2-AB5288E0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FE04B-60C9-4F42-83FD-5B02655C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7577D-939B-4B3C-8011-C2548A83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3AB38-A3AA-4966-A457-41D210D2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B528F-D42F-4E7A-943E-58B07DFE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D5386-B6D1-40E6-8918-3C90C6DC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8A1DB-8CF7-46DC-A2BF-CA987920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73EC8-3919-4B09-B2A7-4C748B15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06BAD-9C92-4A43-B70A-7DBB8A6B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A9F-4B42-456E-80D6-942CF3D6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249F6-F2F9-4536-8E83-F07F2488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ABA84-0B26-4343-AB4D-29EB9F18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B4DB1-DE5A-4DE5-850C-2335A44A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C50AC-D959-4E5A-A072-0F4BD14D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0BDFF-DA24-43F8-861F-D8F10694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C2497-04B5-4FC2-92A8-6C642AD1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FB1A3-8E8C-4C1F-B53A-4251EAF1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443AD-2A80-4682-AE1D-2CF361C0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C98E4-EB57-47B6-B2D7-F43275E5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6AC8F-22CC-478A-95E7-978F881A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BD7E-3DC8-4B3F-8001-A230DBB1FDF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4E93-5C98-448C-A36F-162D1534F0FD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9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23" name="Rectangle 22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56CE-7F7A-4FD3-98DE-1B24700AA0A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3B91-FC97-42C5-B03E-4E4F12AD825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32" name="Group 7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8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EFFC-6AAE-4269-83B4-019CE0D9E50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89" name="Group 9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0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92DD-8EFD-41BB-A113-62E8BE5F49C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346" name="Group 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348" name="Rectangle 7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A58F-9919-421A-906E-745E78575F76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44E8-D0C5-4D28-89FF-3DA45C72C3E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2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080" y="657180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160" y="6571440"/>
                <a:ext cx="249840" cy="28620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457" name="Group 6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7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59" name="Rectangle 8"/>
            <p:cNvSpPr/>
            <p:nvPr/>
          </p:nvSpPr>
          <p:spPr>
            <a:xfrm>
              <a:off x="2208240" y="1395360"/>
              <a:ext cx="6428880" cy="1800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A778-9B57-4215-9A7C-E23880C7BCE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3" Type="http://schemas.openxmlformats.org/officeDocument/2006/relationships/hyperlink" Target="http://ru.wikipedia.org/wiki/&#1044;&#1088;&#1077;&#1074;&#1085;&#1077;&#1075;&#1088;&#1077;&#1095;&#1077;&#1089;&#1082;&#1072;&#1103;_&#1084;&#1080;&#1092;&#1086;&#1083;&#1086;&#1075;&#1080;&#1103;" TargetMode="External"/><Relationship Id="rId4" Type="http://schemas.openxmlformats.org/officeDocument/2006/relationships/hyperlink" Target="http://ru.wikipedia.org/wiki/&#1055;&#1086;&#1083;&#1080;&#1090;&#1077;&#1080;&#1079;&#1084;" TargetMode="External"/><Relationship Id="rId5" Type="http://schemas.openxmlformats.org/officeDocument/2006/relationships/hyperlink" Target="http://ru.wikipedia.org/wiki/&#1059;&#1088;&#1072;&#1085;_(&#1084;&#1080;&#1092;&#1086;&#1083;&#1086;&#1075;&#1080;&#1103;)" TargetMode="External"/><Relationship Id="rId6" Type="http://schemas.openxmlformats.org/officeDocument/2006/relationships/hyperlink" Target="http://ru.wikipedia.org/wiki/&#1043;&#1077;&#1103;" TargetMode="External"/><Relationship Id="rId7" Type="http://schemas.openxmlformats.org/officeDocument/2006/relationships/hyperlink" Target="http://ru.wikipedia.org/wiki/&#1055;&#1088;&#1086;&#1084;&#1077;&#1090;&#1077;&#1081;" TargetMode="External"/><Relationship Id="rId8" Type="http://schemas.openxmlformats.org/officeDocument/2006/relationships/hyperlink" Target="http://ru.wikipedia.org/wiki/&#1043;&#1077;&#1083;&#1080;&#1086;&#1089;" TargetMode="External"/><Relationship Id="rId9" Type="http://schemas.openxmlformats.org/officeDocument/2006/relationships/hyperlink" Target="http://ru.wikipedia.org/wiki/&#1052;&#1091;&#1079;&#1099;" TargetMode="External"/><Relationship Id="rId10" Type="http://schemas.openxmlformats.org/officeDocument/2006/relationships/hyperlink" Target="http://ru.wikipedia.org/wiki/&#1051;&#1077;&#1090;&#1086;_(&#1084;&#1080;&#1092;&#1086;&#1083;&#1086;&#1075;&#1080;&#1103;)" TargetMode="Externa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43;&#1088;&#1077;&#1095;&#1077;&#1089;&#1082;&#1080;&#1081;_&#1103;&#1079;&#1099;&#1082;" TargetMode="External"/><Relationship Id="rId3" Type="http://schemas.openxmlformats.org/officeDocument/2006/relationships/hyperlink" Target="http://ru.wikipedia.org/wiki/&#1043;&#1088;&#1077;&#1095;&#1077;&#1089;&#1082;&#1072;&#1103;_&#1084;&#1080;&#1092;&#1086;&#1083;&#1086;&#1075;&#1080;&#1103;" TargetMode="External"/><Relationship Id="rId4" Type="http://schemas.openxmlformats.org/officeDocument/2006/relationships/hyperlink" Target="http://ru.wikipedia.org/wiki/&#1043;&#1077;&#1088;&#1084;&#1077;&#1089;" TargetMode="External"/><Relationship Id="rId5" Type="http://schemas.openxmlformats.org/officeDocument/2006/relationships/hyperlink" Target="http://ru.wikipedia.org/wiki/&#1055;&#1072;&#1089;&#1090;&#1091;&#1093;" TargetMode="Externa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mythology.sgu.ru/mythology/linc_geography/lidiya.htm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Заголовок 1" descr=""/>
          <p:cNvPicPr/>
          <p:nvPr/>
        </p:nvPicPr>
        <p:blipFill>
          <a:blip r:embed="rId1"/>
          <a:stretch/>
        </p:blipFill>
        <p:spPr>
          <a:xfrm>
            <a:off x="633240" y="493560"/>
            <a:ext cx="8083800" cy="10861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371600" y="2786040"/>
            <a:ext cx="677232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mbria"/>
              </a:rPr>
              <a:t>Презентация к уроку литературы в 6 класс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mbria"/>
              </a:rPr>
              <a:t>Автор Черкасова Лариса Александровна, учитель русского языка и литературы МОУ СОШ №4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mbria"/>
              </a:rPr>
              <a:t>г. Болотного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Заголовок 1" descr=""/>
          <p:cNvPicPr/>
          <p:nvPr/>
        </p:nvPicPr>
        <p:blipFill>
          <a:blip r:embed="rId1"/>
          <a:stretch/>
        </p:blipFill>
        <p:spPr>
          <a:xfrm>
            <a:off x="4645080" y="133200"/>
            <a:ext cx="4267080" cy="12938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285480" y="356760"/>
            <a:ext cx="47862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Arno Pro Smbd Caption"/>
              </a:rPr>
              <a:t>Его преступление было раскрыто, и возмездие было страшным. В царстве мертвых Тантал вечно стоит по горло в воде прозрачного озера. Прямо над его головой свисают гроздья сочных плодов. Но стоит ему наклонить­ся  -  вода уходит вниз; стоит поднять руку  -  ветер вскиды­вает ветки. Терзаемый вечным голодом и жаждой, тщетно кусает свои руки несчастный Тантал; а </a:t>
            </a:r>
            <a:r>
              <a:rPr b="1" i="1" lang="ru-RU" sz="2400" spc="-1" strike="noStrike">
                <a:solidFill>
                  <a:srgbClr val="ff0000"/>
                </a:solidFill>
                <a:latin typeface="Arno Pro Smbd Caption"/>
              </a:rPr>
              <a:t>танталовыми муками </a:t>
            </a:r>
            <a:r>
              <a:rPr b="1" i="1" lang="ru-RU" sz="2400" spc="-1" strike="noStrike">
                <a:solidFill>
                  <a:srgbClr val="000000"/>
                </a:solidFill>
                <a:latin typeface="Arno Pro Smbd Caption"/>
              </a:rPr>
              <a:t>люди называют </a:t>
            </a:r>
            <a:r>
              <a:rPr b="1" i="1" lang="ru-RU" sz="2400" spc="-1" strike="noStrike">
                <a:solidFill>
                  <a:srgbClr val="c00000"/>
                </a:solidFill>
                <a:latin typeface="Arno Pro Smbd Caption"/>
              </a:rPr>
              <a:t>страдания, причиняемые близостью чего-либо крайне необходимого, желанного, что находится рядом, под руками, и все же недоступно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2"/>
          <a:stretch/>
        </p:blipFill>
        <p:spPr>
          <a:xfrm>
            <a:off x="5143680" y="1214280"/>
            <a:ext cx="33001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Заголовок 1" descr=""/>
          <p:cNvPicPr/>
          <p:nvPr/>
        </p:nvPicPr>
        <p:blipFill>
          <a:blip r:embed="rId1"/>
          <a:stretch/>
        </p:blipFill>
        <p:spPr>
          <a:xfrm>
            <a:off x="450720" y="19080"/>
            <a:ext cx="8242560" cy="8524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213840" y="785520"/>
            <a:ext cx="86439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Коринфский царь Сизиф, рассказывали греки, был великим хитрецом. Непокорный гордец, он все время обманывал богов и издавался над ними. Он выдал людям тайны  богов, ставшие ему известными. Зевс послал к нему Смерть, но он и Смерть заковал в цепи, и люди стали бессмертным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81160" indent="-281160">
              <a:spcBef>
                <a:spcPts val="700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бедив в конце концов Сизифа, боги назначили ему суровую казнь. Он был обречен все время катить в гору огромный  камень. Едва камень достигал вершины, он срывался и обрушивался к подножию холма. Дело надо было начинать вновь и вновь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524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285480" y="999720"/>
            <a:ext cx="864396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Наказание Сизифа было страшно не столько трудностью, сколько </a:t>
            </a: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бессмысленностью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его работы. Понятно, что из этого рассказа и возник навеки запоминающийся образ </a:t>
            </a: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нелепого труда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2"/>
          <a:stretch/>
        </p:blipFill>
        <p:spPr>
          <a:xfrm>
            <a:off x="2262240" y="3286080"/>
            <a:ext cx="45244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Заголовок 1" descr=""/>
          <p:cNvPicPr/>
          <p:nvPr/>
        </p:nvPicPr>
        <p:blipFill>
          <a:blip r:embed="rId1"/>
          <a:stretch/>
        </p:blipFill>
        <p:spPr>
          <a:xfrm>
            <a:off x="414360" y="60480"/>
            <a:ext cx="8474040" cy="14634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тение определения слова «легенда», запись в тетрадь. Обсуждение: что общего, чем различаются мифы и легенды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Геродот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— древнегреческий историк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Арио́н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— греческий лирический поэт и певец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2"/>
          <a:stretch/>
        </p:blipFill>
        <p:spPr>
          <a:xfrm>
            <a:off x="5500800" y="1571760"/>
            <a:ext cx="333216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Заголовок 1" descr=""/>
          <p:cNvPicPr/>
          <p:nvPr/>
        </p:nvPicPr>
        <p:blipFill>
          <a:blip r:embed="rId1"/>
          <a:stretch/>
        </p:blipFill>
        <p:spPr>
          <a:xfrm>
            <a:off x="450720" y="-19080"/>
            <a:ext cx="8242560" cy="8542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 txBox="1"/>
          <p:nvPr/>
        </p:nvSpPr>
        <p:spPr>
          <a:xfrm>
            <a:off x="213840" y="3929040"/>
            <a:ext cx="3429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Иногда Ариона изображали на морском коне или на морском зме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7" name="Picture 3" descr=""/>
          <p:cNvPicPr/>
          <p:nvPr/>
        </p:nvPicPr>
        <p:blipFill>
          <a:blip r:embed="rId2"/>
          <a:stretch/>
        </p:blipFill>
        <p:spPr>
          <a:xfrm>
            <a:off x="4071960" y="3763800"/>
            <a:ext cx="4881600" cy="30942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5576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634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Когда и где происходит действие легенды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Почему Арион оказался именно на этом корабле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Как изображены эти мореходы? Почему они пытались убить Ариона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Каким показан Периандр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Что в образе Ариона особенно привлекает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Почему это произведение называется легендой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Что главное узнали из легенды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634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1928880" y="1571760"/>
            <a:ext cx="5857920" cy="49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ас было много на челне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Иные парус напрягали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Другие дружно упирал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В глубь мощны веслы. В тишин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а руль склонясь, наш кормщик умны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В молчанье правил грузный чёлн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А я — беспечной веры полн, —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ловцам я пел... Вдруг лоно волн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Измял с налету вихорь шумный..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огиб и кормщик и пловец! —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Лишь я, таинственный певец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а берег выброшен грозою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Я гимны прежние пою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И ризу влажную мою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Сушу на солнце под скалою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Как использует Пушкин сюжет древней легенды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1643040" y="1785960"/>
            <a:ext cx="5792760" cy="3857760"/>
          </a:xfrm>
          <a:prstGeom prst="rect">
            <a:avLst/>
          </a:prstGeom>
          <a:ln w="0">
            <a:noFill/>
          </a:ln>
        </p:spPr>
      </p:pic>
      <p:sp>
        <p:nvSpPr>
          <p:cNvPr id="545" name="Овал 5"/>
          <p:cNvSpPr/>
          <p:nvPr/>
        </p:nvSpPr>
        <p:spPr>
          <a:xfrm>
            <a:off x="1714680" y="5572080"/>
            <a:ext cx="5929200" cy="857160"/>
          </a:xfrm>
          <a:prstGeom prst="ellipse">
            <a:avLst/>
          </a:prstGeom>
          <a:solidFill>
            <a:srgbClr val="0064ff"/>
          </a:solidFill>
          <a:ln w="25560">
            <a:solidFill>
              <a:srgbClr val="004c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ушкин и декабристы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очитать статью учебника о Гомере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8680" cy="27370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1. Проверка домашнего задания (объяснение значения выражений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1. Яндекс. Картинки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http://ru.wikipedia.org/wik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3. Егорова Н. В. Поурочные разработки по зарубежной литературе. 5-9 классы. – М.: ВАКО, 2004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1"/>
          <a:stretch/>
        </p:blipFill>
        <p:spPr>
          <a:xfrm>
            <a:off x="208080" y="-219240"/>
            <a:ext cx="5443560" cy="14623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142920" y="1143000"/>
            <a:ext cx="52149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Титаны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2"/>
              </a:rPr>
              <a:t>др.-греч.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Τιτάν) — в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3"/>
              </a:rPr>
              <a:t>древнегреческой мифологии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4"/>
              </a:rPr>
              <a:t>боги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второго поколения, дети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5"/>
              </a:rPr>
              <a:t>Урана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(неба) и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6"/>
              </a:rPr>
              <a:t>Геи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(земли). Их шесть братьев и шесть сестёр-титанид, вступивших в брак между собой и породивших новое поколение богов: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7"/>
              </a:rPr>
              <a:t>Прометея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8"/>
              </a:rPr>
              <a:t>Гелиоса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9"/>
              </a:rPr>
              <a:t>муз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ru-RU" sz="3000" spc="-1" strike="noStrike" u="sng">
                <a:solidFill>
                  <a:srgbClr val="e78707"/>
                </a:solidFill>
                <a:uFillTx/>
                <a:latin typeface="Cambria"/>
                <a:hlinkClick r:id="rId10"/>
              </a:rPr>
              <a:t>Лето</a:t>
            </a: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 и других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1"/>
          <a:srcRect l="7039" t="0" r="8122" b="0"/>
          <a:stretch/>
        </p:blipFill>
        <p:spPr>
          <a:xfrm>
            <a:off x="5429160" y="214200"/>
            <a:ext cx="3465720" cy="4786560"/>
          </a:xfrm>
          <a:prstGeom prst="rect">
            <a:avLst/>
          </a:prstGeom>
          <a:ln w="0">
            <a:noFill/>
          </a:ln>
        </p:spPr>
      </p:pic>
      <p:sp>
        <p:nvSpPr>
          <p:cNvPr id="508" name="Овал 4"/>
          <p:cNvSpPr/>
          <p:nvPr/>
        </p:nvSpPr>
        <p:spPr>
          <a:xfrm>
            <a:off x="5429160" y="5000760"/>
            <a:ext cx="3429000" cy="928440"/>
          </a:xfrm>
          <a:prstGeom prst="ellipse">
            <a:avLst/>
          </a:prstGeom>
          <a:solidFill>
            <a:srgbClr val="0064ff"/>
          </a:solidFill>
          <a:ln w="25560">
            <a:solidFill>
              <a:srgbClr val="004c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Атлан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357120" y="928440"/>
            <a:ext cx="3571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Титаническая борьба – изнурительная, тяжелая, требующая многих усилий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4390920" y="1000080"/>
            <a:ext cx="4275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0432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6840" y="1500120"/>
            <a:ext cx="811548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ан - (</a:t>
            </a:r>
            <a:r>
              <a:rPr b="0" lang="ru-RU" sz="3200" spc="-1" strike="noStrike" u="sng">
                <a:solidFill>
                  <a:srgbClr val="e78707"/>
                </a:solidFill>
                <a:uFillTx/>
                <a:latin typeface="Cambria"/>
                <a:hlinkClick r:id="rId2"/>
              </a:rPr>
              <a:t>греч.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Πάν) — в </a:t>
            </a:r>
            <a:r>
              <a:rPr b="0" lang="ru-RU" sz="3200" spc="-1" strike="noStrike" u="sng">
                <a:solidFill>
                  <a:srgbClr val="e78707"/>
                </a:solidFill>
                <a:uFillTx/>
                <a:latin typeface="Cambria"/>
                <a:hlinkClick r:id="rId3"/>
              </a:rPr>
              <a:t>греческой мифологии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сын бога </a:t>
            </a:r>
            <a:r>
              <a:rPr b="0" lang="ru-RU" sz="3200" spc="-1" strike="noStrike" u="sng">
                <a:solidFill>
                  <a:srgbClr val="e78707"/>
                </a:solidFill>
                <a:uFillTx/>
                <a:latin typeface="Cambria"/>
                <a:hlinkClick r:id="rId4"/>
              </a:rPr>
              <a:t>Гермеса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, первоначально почитался как покровитель </a:t>
            </a:r>
            <a:r>
              <a:rPr b="0" lang="ru-RU" sz="3200" spc="-1" strike="noStrike" u="sng">
                <a:solidFill>
                  <a:srgbClr val="e78707"/>
                </a:solidFill>
                <a:uFillTx/>
                <a:latin typeface="Cambria"/>
                <a:hlinkClick r:id="rId5"/>
              </a:rPr>
              <a:t>пастухов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, бог стад; впоследствии (ко II веку до н. э.) — как покровитель всей природы. Изображался в виде человека с рогами, козлиными ногами и козлиной бородой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6"/>
          <a:stretch/>
        </p:blipFill>
        <p:spPr>
          <a:xfrm>
            <a:off x="2286000" y="1071720"/>
            <a:ext cx="45291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Когда родился бог природы Пан, покровитель лесов и их обитателей, даже мать ужаснулась его безобразному виду: ребенок явился на свет рогатым, с копытцами, с расплющенным носом и козлиной бородкой… Едва родившись, он сразу же начал прыгать и хохотать, чем еще больше напугал свою родительницу. Но ведь дитя было маленьким богом, и боги на Олимпе встретили его с радостью: Пан оказался добродушным, веселым божеством, он изобрел флейту и превосходно на ней играл.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Cambria"/>
              </a:rPr>
              <a:t>А откуда же пошло выражение панический страх?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  Когда пастух или зверолов слышали в дебрях дикие звуки, смутный шум, чей-то хохот и свист, то были уверены, что это Пан. Бедные люди пугались, испытывали панический страх, среди них возникала паника.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Заголовок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8680" cy="9637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213840" y="999720"/>
            <a:ext cx="84726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Обителью древнегреческих богов считалась гора Олимп, высящаяся на 2917 метров над нынешним Салоникским заливом. Ее вершина почти всегда закрыта облаками; именно поэтому ее таинственные высоты и стали в воображении эллинов местом пребывания небожителей.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2"/>
          <a:stretch/>
        </p:blipFill>
        <p:spPr>
          <a:xfrm>
            <a:off x="2143080" y="3500280"/>
            <a:ext cx="50626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 связи с этим греческие боги получили прозвание «олимпийцев» — жителей Олимпа, а присущие им величие, спокойствие и другие качества стали именоваться «олимпийскими». Скоро слово это стало означать просто превосходную степень; в этом смысле употребляем его и мы. У нас «олимпийское спокойствие» или «величие» — невозмутимое, предельное, как у древнего бога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928800" y="571680"/>
            <a:ext cx="74581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357120" y="1600200"/>
            <a:ext cx="832968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Тантал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 — царь Коринфа (вариант: </a:t>
            </a:r>
            <a:r>
              <a:rPr b="0" lang="ru-RU" sz="2700" spc="-1" strike="noStrike" u="sng">
                <a:solidFill>
                  <a:srgbClr val="e78707"/>
                </a:solidFill>
                <a:uFillTx/>
                <a:latin typeface="Cambria"/>
                <a:hlinkClick r:id="rId2"/>
              </a:rPr>
              <a:t>Лидии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Аргоса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 или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Сипила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 во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Фригии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), и сын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Зевса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(или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Тмола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), отец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Пелопа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Ниобы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. Был любимцем богов, посещал пиры и собрания на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Олимпе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. Возгордившись, он оскорбил богов и был ими низвергнут в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Аид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. Мифы по-разному объясняют вину Тантала: а) он разгласил людям тайные решения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Зевса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; б) похитил со стола богов нектар и амброзию, которые давали бессмертие, и угощал ими людей; в) желая узнать, всеведущи ли боги, пытался накормить их мясом своего сына Пелопа.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12T10:15:11Z</dcterms:modified>
  <cp:revision>10</cp:revision>
  <dc:subject/>
  <dc:title>Легенда об Арионе</dc:title>
</cp:coreProperties>
</file>