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F56-E5A3-4DF6-A1CB-5AB35259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7FA-7C25-4D45-BFDD-F919FA30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40A-BF4E-4E5D-9842-8B4784F8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474-1912-4B14-B980-94906C9F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854-9C74-4CE7-A607-4F7DE788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693-02F7-4B50-B08A-68C4A28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332-5C75-4726-800C-37CE448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70E-96EE-411D-B1C7-76B9740E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D67-49EF-423B-B7F3-8CE6F9C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91E-2CF7-4909-A1CB-8A779A55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B9A-47A3-444A-B69D-CB0C0A5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BB4-AAFF-4FF2-B824-676ED22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F49-624E-4D38-B541-3CE0B0D34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836280"/>
            <a:ext cx="48196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математик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278136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Квад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43280" y="4572000"/>
            <a:ext cx="359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огинова Гали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БУ СОШ № 1 р. п. Чу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. 34, № 5 (1 строка), № 6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ПО с.31, № 81, №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езентация на тему «Квадрат» (сказки, стихи, ребусы, загадки о квадр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1"/>
          <p:cNvSpPr txBox="1"/>
          <p:nvPr/>
        </p:nvSpPr>
        <p:spPr>
          <a:xfrm>
            <a:off x="2340000" y="981000"/>
            <a:ext cx="432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Интернет ресурсы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grpSp>
        <p:nvGrpSpPr>
          <p:cNvPr id="141" name="TextBox 9"/>
          <p:cNvGrpSpPr/>
          <p:nvPr/>
        </p:nvGrpSpPr>
        <p:grpSpPr>
          <a:xfrm>
            <a:off x="665280" y="2011320"/>
            <a:ext cx="7777080" cy="1695600"/>
            <a:chOff x="665280" y="2011320"/>
            <a:chExt cx="7777080" cy="1695600"/>
          </a:xfrm>
        </p:grpSpPr>
        <p:pic>
          <p:nvPicPr>
            <p:cNvPr id="142" name="TextBox 9" descr=""/>
            <p:cNvPicPr/>
            <p:nvPr/>
          </p:nvPicPr>
          <p:blipFill>
            <a:blip r:embed="rId2"/>
            <a:stretch/>
          </p:blipFill>
          <p:spPr>
            <a:xfrm>
              <a:off x="665280" y="2011320"/>
              <a:ext cx="77770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5640" y="2060640"/>
              <a:ext cx="763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cms-files.bazagmin.pl/sites/12/wiadomosci/27535/fotos/orign/obraz1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ttp://www.dmitrieva.iagodnaia.edusite.ru/images/karandash2.png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http://cs10036.vkontakte.ru/u25191554/-14/x_8bc90844.jp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 rot="5400000">
            <a:off x="528120" y="2471760"/>
            <a:ext cx="2857320" cy="13431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857760" y="1785960"/>
            <a:ext cx="1428480" cy="151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214800" y="3929040"/>
            <a:ext cx="300024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 rot="7192800">
            <a:off x="6278760" y="2421720"/>
            <a:ext cx="1800360" cy="861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Тема: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Квадра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2736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429000" y="1428840"/>
            <a:ext cx="49291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узнаю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научу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Я с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2811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56800" y="1500120"/>
            <a:ext cx="664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знаем, какой прямоугольник называют квадр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знакомимся со свойствами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учимся строить квадрат на клетчатой бума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овторим и закрепим ранее полученн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7000920" y="5572080"/>
            <a:ext cx="576360" cy="162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7786800" y="5500800"/>
            <a:ext cx="57600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карандаш"/>
          <p:cNvPicPr/>
          <p:nvPr/>
        </p:nvPicPr>
        <p:blipFill>
          <a:blip r:embed="rId2"/>
          <a:stretch/>
        </p:blipFill>
        <p:spPr>
          <a:xfrm rot="20292600">
            <a:off x="899640" y="6165720"/>
            <a:ext cx="1440000" cy="26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476280"/>
            <a:ext cx="8642160" cy="532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885080" y="476280"/>
            <a:ext cx="0" cy="53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1008000" y="5079960"/>
            <a:ext cx="108000" cy="1033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линейка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Line 12"/>
          <p:cNvSpPr/>
          <p:nvPr/>
        </p:nvSpPr>
        <p:spPr>
          <a:xfrm>
            <a:off x="1042920" y="51577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1042920" y="907920"/>
            <a:ext cx="0" cy="41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модель угла"/>
          <p:cNvPicPr/>
          <p:nvPr/>
        </p:nvPicPr>
        <p:blipFill>
          <a:blip r:embed="rId5"/>
          <a:stretch/>
        </p:blipFill>
        <p:spPr>
          <a:xfrm>
            <a:off x="2411280" y="587700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линейка"/>
          <p:cNvPicPr/>
          <p:nvPr/>
        </p:nvPicPr>
        <p:blipFill>
          <a:blip r:embed="rId6"/>
          <a:stretch/>
        </p:blipFill>
        <p:spPr>
          <a:xfrm>
            <a:off x="3635280" y="6021360"/>
            <a:ext cx="5257800" cy="5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28" descr="линейка"/>
          <p:cNvPicPr/>
          <p:nvPr/>
        </p:nvPicPr>
        <p:blipFill>
          <a:blip r:embed="rId7"/>
          <a:stretch/>
        </p:blipFill>
        <p:spPr>
          <a:xfrm>
            <a:off x="1116000" y="404640"/>
            <a:ext cx="50328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29" descr="модель угла"/>
          <p:cNvPicPr/>
          <p:nvPr/>
        </p:nvPicPr>
        <p:blipFill>
          <a:blip r:embed="rId8"/>
          <a:stretch/>
        </p:blipFill>
        <p:spPr>
          <a:xfrm>
            <a:off x="1042920" y="4284720"/>
            <a:ext cx="852480" cy="87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модель угла"/>
          <p:cNvPicPr/>
          <p:nvPr/>
        </p:nvPicPr>
        <p:blipFill>
          <a:blip r:embed="rId9"/>
          <a:stretch/>
        </p:blipFill>
        <p:spPr>
          <a:xfrm>
            <a:off x="1042920" y="920880"/>
            <a:ext cx="873360" cy="85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1" descr="линейка"/>
          <p:cNvPicPr/>
          <p:nvPr/>
        </p:nvPicPr>
        <p:blipFill>
          <a:blip r:embed="rId10"/>
          <a:stretch/>
        </p:blipFill>
        <p:spPr>
          <a:xfrm>
            <a:off x="826920" y="907920"/>
            <a:ext cx="5257800" cy="4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Line 32"/>
          <p:cNvSpPr/>
          <p:nvPr/>
        </p:nvSpPr>
        <p:spPr>
          <a:xfrm>
            <a:off x="1042920" y="90792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модель угла"/>
          <p:cNvPicPr/>
          <p:nvPr/>
        </p:nvPicPr>
        <p:blipFill>
          <a:blip r:embed="rId11"/>
          <a:stretch/>
        </p:blipFill>
        <p:spPr>
          <a:xfrm>
            <a:off x="4500720" y="900000"/>
            <a:ext cx="852480" cy="8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линейка"/>
          <p:cNvPicPr/>
          <p:nvPr/>
        </p:nvPicPr>
        <p:blipFill>
          <a:blip r:embed="rId12"/>
          <a:stretch/>
        </p:blipFill>
        <p:spPr>
          <a:xfrm>
            <a:off x="4861080" y="692280"/>
            <a:ext cx="502920" cy="51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Line 35"/>
          <p:cNvSpPr/>
          <p:nvPr/>
        </p:nvSpPr>
        <p:spPr>
          <a:xfrm flipV="1">
            <a:off x="5364000" y="907560"/>
            <a:ext cx="0" cy="4249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0" descr="карандаш"/>
          <p:cNvPicPr/>
          <p:nvPr/>
        </p:nvPicPr>
        <p:blipFill>
          <a:blip r:embed="rId13"/>
          <a:stretch/>
        </p:blipFill>
        <p:spPr>
          <a:xfrm rot="3265800">
            <a:off x="773280" y="132300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0" name="Line 41"/>
          <p:cNvSpPr/>
          <p:nvPr/>
        </p:nvSpPr>
        <p:spPr>
          <a:xfrm>
            <a:off x="1042920" y="9079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6" descr="карандаш"/>
          <p:cNvPicPr/>
          <p:nvPr/>
        </p:nvPicPr>
        <p:blipFill>
          <a:blip r:embed="rId14"/>
          <a:stretch/>
        </p:blipFill>
        <p:spPr>
          <a:xfrm rot="8663400">
            <a:off x="4139640" y="1196640"/>
            <a:ext cx="1368360" cy="252360"/>
          </a:xfrm>
          <a:prstGeom prst="rect">
            <a:avLst/>
          </a:prstGeom>
          <a:ln w="0">
            <a:noFill/>
          </a:ln>
        </p:spPr>
      </p:pic>
      <p:sp>
        <p:nvSpPr>
          <p:cNvPr id="82" name="Line 49"/>
          <p:cNvSpPr/>
          <p:nvPr/>
        </p:nvSpPr>
        <p:spPr>
          <a:xfrm flipV="1">
            <a:off x="1042920" y="465264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0" descr="карандаш"/>
          <p:cNvPicPr/>
          <p:nvPr/>
        </p:nvPicPr>
        <p:blipFill>
          <a:blip r:embed="rId15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карандаш"/>
          <p:cNvPicPr/>
          <p:nvPr/>
        </p:nvPicPr>
        <p:blipFill>
          <a:blip r:embed="rId16"/>
          <a:stretch/>
        </p:blipFill>
        <p:spPr>
          <a:xfrm rot="19609200">
            <a:off x="899640" y="465264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3" descr="карандаш"/>
          <p:cNvPicPr/>
          <p:nvPr/>
        </p:nvPicPr>
        <p:blipFill>
          <a:blip r:embed="rId17"/>
          <a:stretch/>
        </p:blipFill>
        <p:spPr>
          <a:xfrm rot="19719000">
            <a:off x="899640" y="4653000"/>
            <a:ext cx="1368360" cy="25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карандаш"/>
          <p:cNvPicPr/>
          <p:nvPr/>
        </p:nvPicPr>
        <p:blipFill>
          <a:blip r:embed="rId18"/>
          <a:stretch/>
        </p:blipFill>
        <p:spPr>
          <a:xfrm rot="3178200">
            <a:off x="773640" y="1323360"/>
            <a:ext cx="1368720" cy="252360"/>
          </a:xfrm>
          <a:prstGeom prst="rect">
            <a:avLst/>
          </a:prstGeom>
          <a:ln w="0">
            <a:noFill/>
          </a:ln>
        </p:spPr>
      </p:pic>
      <p:sp>
        <p:nvSpPr>
          <p:cNvPr id="87" name="Line 54"/>
          <p:cNvSpPr/>
          <p:nvPr/>
        </p:nvSpPr>
        <p:spPr>
          <a:xfrm flipV="1">
            <a:off x="5364000" y="90756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5" descr="карандаш"/>
          <p:cNvPicPr/>
          <p:nvPr/>
        </p:nvPicPr>
        <p:blipFill>
          <a:blip r:embed="rId19"/>
          <a:stretch/>
        </p:blipFill>
        <p:spPr>
          <a:xfrm rot="8663400">
            <a:off x="4066920" y="1268280"/>
            <a:ext cx="1368360" cy="252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7"/>
          <p:cNvSpPr txBox="1"/>
          <p:nvPr/>
        </p:nvSpPr>
        <p:spPr>
          <a:xfrm>
            <a:off x="900000" y="5373720"/>
            <a:ext cx="34560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+ 9 + 9 + 9 = 36 (см)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0" name="WordArt 58"/>
          <p:cNvSpPr txBox="1"/>
          <p:nvPr/>
        </p:nvSpPr>
        <p:spPr>
          <a:xfrm>
            <a:off x="826920" y="5300640"/>
            <a:ext cx="79236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 = ?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1" name="WordArt 59"/>
          <p:cNvSpPr txBox="1"/>
          <p:nvPr/>
        </p:nvSpPr>
        <p:spPr>
          <a:xfrm>
            <a:off x="395280" y="189000"/>
            <a:ext cx="842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Shelman"/>
              </a:rPr>
              <a:t>Начертить квадрат со стороной 9 см. Найти его периметр.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Shelman"/>
              <a:ea typeface="Shelman"/>
            </a:endParaRPr>
          </a:p>
        </p:txBody>
      </p:sp>
      <p:sp>
        <p:nvSpPr>
          <p:cNvPr id="92" name="WordArt 61"/>
          <p:cNvSpPr txBox="1"/>
          <p:nvPr/>
        </p:nvSpPr>
        <p:spPr>
          <a:xfrm>
            <a:off x="5651640" y="3141720"/>
            <a:ext cx="79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 см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46857 0.00255 E">
                                      <p:cBhvr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C 0.00069 -0.02709 0.0014 -0.05394 0.0014 -0.06482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00399 -0.63773 E">
                                      <p:cBhvr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6494 0.0051 E">
                                      <p:cBhvr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4981 0.0051 E">
                                      <p:cBhvr>
                                        <p:cTn id="11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8.14815E-006 C -0.00069 0.04005 -0.00121 0.08033 -0.00138 0.0963 E">
                                      <p:cBhvr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0399 0.61181 E">
                                      <p:cBhvr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оставьте задачу по выражению и решите её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94" name="WordArt 20"/>
          <p:cNvSpPr txBox="1"/>
          <p:nvPr/>
        </p:nvSpPr>
        <p:spPr>
          <a:xfrm>
            <a:off x="2987640" y="134136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258920" y="2997360"/>
            <a:ext cx="6842160" cy="14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1258920" y="285264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320364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3"/>
          <p:cNvSpPr/>
          <p:nvPr/>
        </p:nvSpPr>
        <p:spPr>
          <a:xfrm>
            <a:off x="8101080" y="2924280"/>
            <a:ext cx="0" cy="1368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6516720" y="2852640"/>
            <a:ext cx="0" cy="7923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1258920" y="3500280"/>
            <a:ext cx="194472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3203640" y="3500280"/>
            <a:ext cx="331308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6"/>
          <p:cNvSpPr/>
          <p:nvPr/>
        </p:nvSpPr>
        <p:spPr>
          <a:xfrm>
            <a:off x="6516720" y="3500280"/>
            <a:ext cx="15843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7"/>
          <p:cNvSpPr/>
          <p:nvPr/>
        </p:nvSpPr>
        <p:spPr>
          <a:xfrm>
            <a:off x="1258920" y="3933720"/>
            <a:ext cx="6842160" cy="0"/>
          </a:xfrm>
          <a:prstGeom prst="line">
            <a:avLst/>
          </a:prstGeom>
          <a:ln w="28440">
            <a:solidFill>
              <a:srgbClr val="ff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183708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6950160" y="31417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4069440" y="357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48610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2"/>
          <p:cNvSpPr txBox="1"/>
          <p:nvPr/>
        </p:nvSpPr>
        <p:spPr>
          <a:xfrm>
            <a:off x="1403280" y="4365720"/>
            <a:ext cx="3011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0 - (25 + 15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53"/>
          <p:cNvSpPr txBox="1"/>
          <p:nvPr/>
        </p:nvSpPr>
        <p:spPr>
          <a:xfrm>
            <a:off x="4572000" y="4365720"/>
            <a:ext cx="1655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 65 (м)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54"/>
          <p:cNvSpPr txBox="1"/>
          <p:nvPr/>
        </p:nvSpPr>
        <p:spPr>
          <a:xfrm>
            <a:off x="1332000" y="4869000"/>
            <a:ext cx="540072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65 м между детьми.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1" name="Picture 32" descr="D:\Я-УЧИТЕЛЬ\x_8bc90844.jpg"/>
          <p:cNvPicPr/>
          <p:nvPr/>
        </p:nvPicPr>
        <p:blipFill>
          <a:blip r:embed="rId3"/>
          <a:stretch/>
        </p:blipFill>
        <p:spPr>
          <a:xfrm>
            <a:off x="2484360" y="1844640"/>
            <a:ext cx="62856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D:\Я-УЧИТЕЛЬ\Копия x_8bc90844.jpg"/>
          <p:cNvPicPr/>
          <p:nvPr/>
        </p:nvPicPr>
        <p:blipFill>
          <a:blip r:embed="rId4"/>
          <a:stretch/>
        </p:blipFill>
        <p:spPr>
          <a:xfrm>
            <a:off x="6516720" y="1916280"/>
            <a:ext cx="576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1"/>
          <p:cNvSpPr txBox="1"/>
          <p:nvPr/>
        </p:nvSpPr>
        <p:spPr>
          <a:xfrm>
            <a:off x="826920" y="836640"/>
            <a:ext cx="747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helman"/>
              </a:rPr>
              <a:t>Сколько квадратов изображено на рисунке?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helman"/>
              <a:ea typeface="Shel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419640" y="141300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3716280"/>
            <a:ext cx="161892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26836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4572000" y="2565360"/>
            <a:ext cx="1619280" cy="16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3419640" y="141300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457200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3419640" y="3716280"/>
            <a:ext cx="158400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2268360" y="2565360"/>
            <a:ext cx="1584360" cy="158436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41964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4572000" y="256536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457200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3419640" y="3716280"/>
            <a:ext cx="431640" cy="43200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924360" y="3068640"/>
            <a:ext cx="647640" cy="64764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0"/>
          <p:cNvSpPr txBox="1"/>
          <p:nvPr/>
        </p:nvSpPr>
        <p:spPr>
          <a:xfrm>
            <a:off x="6012000" y="4869000"/>
            <a:ext cx="24476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 квадратов</a:t>
            </a:r>
            <a:endParaRPr b="1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804000" y="5516640"/>
            <a:ext cx="792360" cy="216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5940360" y="5516640"/>
            <a:ext cx="576360" cy="217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642960" y="1071720"/>
            <a:ext cx="2901960" cy="1643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узн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"/>
          <p:cNvSpPr/>
          <p:nvPr/>
        </p:nvSpPr>
        <p:spPr>
          <a:xfrm>
            <a:off x="5724360" y="1071720"/>
            <a:ext cx="2895840" cy="1785960"/>
          </a:xfrm>
          <a:prstGeom prst="pie">
            <a:avLst/>
          </a:prstGeom>
          <a:solidFill>
            <a:srgbClr val="7575d1"/>
          </a:solidFill>
          <a:ln w="936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терес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32880" y="2484720"/>
            <a:ext cx="1975680" cy="120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о труд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4859280" y="4005360"/>
            <a:ext cx="3714840" cy="1785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loud"/>
          <p:cNvSpPr/>
          <p:nvPr/>
        </p:nvSpPr>
        <p:spPr>
          <a:xfrm>
            <a:off x="755640" y="4005360"/>
            <a:ext cx="3114720" cy="170964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 похвалить себя з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5:38:38Z</dcterms:created>
  <dc:creator>Ольга</dc:creator>
  <dc:description/>
  <dc:language>en-US</dc:language>
  <cp:lastModifiedBy>Admin</cp:lastModifiedBy>
  <dcterms:modified xsi:type="dcterms:W3CDTF">2014-02-25T02:09:55Z</dcterms:modified>
  <cp:revision>54</cp:revision>
  <dc:subject/>
  <dc:title>Урок математики 2 класс учебник «Математика в 2-х частях» М.И. Моро, М.И. Бантова и др. </dc:title>
</cp:coreProperties>
</file>