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1A7-BCA3-4685-AFE9-A9C7E62D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E57-31DB-42A0-95D6-BBB0FA07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8B0-B72A-4EA0-BEF8-D6E1DC1C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78F-3DE0-43C6-A961-BE10C6A0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DFA-DF1E-4AE3-9CEE-332FDFC8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4B9-3563-4DCA-82AF-EF2ABEA4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BEE-8EB3-4095-B2BC-37E85F60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3E1-19F8-40B7-87B6-A5CCDEB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73A-D7A6-4A39-958F-57489E81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7FE-7544-4DE4-95DF-CF1C91ED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62F-AFE7-4CCA-A01D-51050EF4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29B-9FB9-4050-932F-76CEDAA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1F77-210B-44BF-83DB-425CB11652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3279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sters.donntu.edu.ua/2008/fvti/svistunov/ind/450px-Pccar_0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0.imgsrc.ru/s/serillo/5/2323925UGz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valinor-design.narod.ru/imsite/sa1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hotos.lifeisphoto.ru/37/0/371547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4.bp.blogspot.com/___hMvuVxZ1g/SiQGwDEh7BI/AAAAAAAAHAw/FgXYEQOHYYw/s400/866335_98019163.jpg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open.az/uploads/posts/2009-07/1247382330_i-1618.jp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vision.rambler.ru/public/adsveta/1/41/00000007.jpg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uchimsya-chitat.ru/images/stories/d_computerkids.jpg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darius.lact.ru/uploads/www_darius_lact_ru/image_upload/130457/medium/56.jpg" TargetMode="External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5800" y="685800"/>
            <a:ext cx="7924680" cy="32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351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9966"/>
                </a:solidFill>
                <a:latin typeface="Monotype Corsiva"/>
              </a:rPr>
              <a:t>Компьютерная</a:t>
            </a:r>
            <a:endParaRPr b="1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9966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914400" y="42670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висимость</a:t>
            </a:r>
            <a:endParaRPr b="1" i="1" lang="en-US" sz="1800" spc="1" strike="noStrike">
              <a:ln w="2844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Picture 8" descr="Картинка 3 из 6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523880"/>
            <a:ext cx="381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ем больше у ребенка психологических барьеров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повседне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альной жизн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ем быстр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глубже он погруз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виртуальную реальнос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Картинка 85 из 31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8580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11 из 311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762120"/>
            <a:ext cx="5077080" cy="434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Картинка 16 из 1953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8769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Картинка 40 из 3953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1600200"/>
            <a:ext cx="396216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Картинка 102 из 1953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1523880"/>
            <a:ext cx="3429000" cy="510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Картинка 62 из 4737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Картинка 14 из 61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" y="60948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Картинка 8 из 617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3520" y="228600"/>
            <a:ext cx="441936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Картинка 9 из 3953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81480" y="3048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4280" y="456840"/>
            <a:ext cx="41911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Не более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ча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рерывами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5-20 мин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ебенка 6-9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1 из 8134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2971800"/>
            <a:ext cx="853416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ат детей сче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странному алфави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ят концентрацию вни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т мыслительные оп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ы принятия решения, будут способствовать формированию художественного воображения, помогут развить быстроту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98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4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14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14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14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3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14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3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4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3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ых странах (Китай, Северная Корея) проблема компьютерной зависимости вышла на государствен-ный уровень и взята под контроль правительст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72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2,6 миллиона человек, или 13%, из 20 миллионов интернет-пользователей в возрасте до 18 лет в Китае страдают чрезмерной интернет-зависимостью. Для борьбы с этим явлением китайские власти регулярно принимают меры по ограничению числа интернет-кафе, запрету наиболее жестоких компьютерных игр. По официальным данным, в Китае насчитывается 113 тысяч интернет-каф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Картинка 11 из 270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исимый от компьютера чело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всего тот, кто проводит слишком много времени за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 дел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 этом осознанно (или неосозна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дит своему здо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1 из 646"/>
          <p:cNvPicPr/>
          <p:nvPr/>
        </p:nvPicPr>
        <p:blipFill>
          <a:blip r:embed="rId1"/>
          <a:stretch/>
        </p:blipFill>
        <p:spPr>
          <a:xfrm>
            <a:off x="2057400" y="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одител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олько чувствовать потребности своего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понимать опасность долгих бдений перед компьюте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отвлечь его от привязанности к н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ь, то, что достижение успехов в физическом мире гораздо интереснее иллюзорных компьютерных поб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а 156 из 28018"/>
          <p:cNvPicPr/>
          <p:nvPr/>
        </p:nvPicPr>
        <p:blipFill>
          <a:blip r:embed="rId1"/>
          <a:stretch/>
        </p:blipFill>
        <p:spPr>
          <a:xfrm>
            <a:off x="4876920" y="457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4495680"/>
            <a:ext cx="8991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многие родители не осознают опасности. Многочасовое сидение перед монитором по сравнению, например,с наркозависимостью выглядит в их глазах совершенно безоби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380880"/>
            <a:ext cx="6400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- хорошее самочувствие или эйфория за компьютер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нежелание отвлечься от работы или игры за компьютер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раздражение при вынужденном отвлечени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неспособность спланировать окончание сеанса работы или игры с компьютером; </a:t>
            </a:r>
            <a:br>
              <a:rPr sz="18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- расходование больших денег на обеспечение постоянного обновления программного обеспечения (в т.ч. игр) и апгрейд компьютера; </a:t>
            </a:r>
            <a:br>
              <a:rPr sz="2400"/>
            </a:b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- забывание о домашних делах, служебных обязанностях, учебе, встречах и договоренностях в ходе работы или игры на компьютере;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Картинка 129 из 195319"/>
          <p:cNvPicPr/>
          <p:nvPr/>
        </p:nvPicPr>
        <p:blipFill>
          <a:blip r:embed="rId1"/>
          <a:stretch/>
        </p:blipFill>
        <p:spPr>
          <a:xfrm>
            <a:off x="6172200" y="1600200"/>
            <a:ext cx="2666880" cy="3006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228600" y="4952880"/>
            <a:ext cx="87631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- пренебрежение собственным здоровьем, гигиеной и сном в пользу проведения большего количества времени за компьютером;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ловек предпочитает есть перед монитором; </a:t>
            </a:r>
            <a:br>
              <a:rPr sz="18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обсуждение компьютерной тематики со всеми мало-мальски сведущими в этой области люд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8600" y="152280"/>
            <a:ext cx="8610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сихологи выделяют следующие симптомы     психологической зависимости от компьютера: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Многочасовое непрерывное нахождение перед монитором может выз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зр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иммунит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ые бо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, бессон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того, долгое нахождение в сидячем положении оказывает сильную нагрузку на позвоночник, что вызывает частые боли в пояснице и проблемы с оса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одна болезнь современных пользователей - туннельный синд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Это нарушение, проявляющееся болью в запястье и возникающее от неудобных условий работы с клавиатурой и мышью.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8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8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119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4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ы психологов: как предотвратить компьютерную зависимос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е за симптомами проявления Интернет-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гайте ребенку участвовать в общении вне 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ите компьютер в открытом помеще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прещайте 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те альтернати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ируйте своих де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3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02T08:35:5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