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22D-5855-4DE8-B4EC-D83010CF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A70-3F0E-42CB-B8CD-DCBB42DC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B68-2771-4C32-90F9-643DA9B8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533-B332-4300-8319-A5959D90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7B7-1643-4A9F-9018-1C79000D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554-B2C9-45C4-B5FA-65B8E5C3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947-806A-46B0-8E77-006BB965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CE6-6B12-4C7D-B0CD-E9D9998B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49C-D29D-4807-8ADF-8CE88C99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6F0-A69C-4B28-A7D0-D3476EDD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473-0406-4CD1-9A58-7AD08FD1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159-4466-4A47-AFF0-2D0D1CB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AB2E-F460-4B0C-8CD6-BFCA71D4A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3279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sters.donntu.edu.ua/2008/fvti/svistunov/ind/450px-Pccar_03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b0.imgsrc.ru/s/serillo/5/2323925UGz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valinor-design.narod.ru/imsite/sa1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photos.lifeisphoto.ru/37/0/371547.jpg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4.bp.blogspot.com/___hMvuVxZ1g/SiQGwDEh7BI/AAAAAAAAHAw/FgXYEQOHYYw/s400/866335_98019163.jpg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open.az/uploads/posts/2009-07/1247382330_i-1618.jpg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vision.rambler.ru/public/adsveta/1/41/00000007.jpg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uchimsya-chitat.ru/images/stories/d_computerkids.jpg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darius.lact.ru/uploads/www_darius_lact_ru/image_upload/130457/medium/56.jpg" TargetMode="External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685800" y="685800"/>
            <a:ext cx="7924680" cy="32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1351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9966"/>
                </a:solidFill>
                <a:latin typeface="Monotype Corsiva"/>
              </a:rPr>
              <a:t>Компьютерная</a:t>
            </a:r>
            <a:endParaRPr b="1" i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339966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914400" y="4267080"/>
            <a:ext cx="7315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висимость</a:t>
            </a:r>
            <a:endParaRPr b="1" i="1" lang="en-US" sz="1800" spc="1" strike="noStrike">
              <a:ln w="2844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43" name="Picture 8" descr="Картинка 3 из 6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523880"/>
            <a:ext cx="38102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Чем больше у ребенка психологических барьеров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 повседне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альной жизн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ем быстре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глубже он погрузи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 виртуальную реальность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Картинка 85 из 31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85800"/>
            <a:ext cx="3200400" cy="441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11 из 311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762120"/>
            <a:ext cx="5077080" cy="434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Картинка 16 из 19531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87692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Картинка 40 из 3953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76920" y="1600200"/>
            <a:ext cx="3962160" cy="44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Картинка 102 из 19531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86400" y="1523880"/>
            <a:ext cx="3429000" cy="510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Картинка 62 из 4737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0"/>
            <a:ext cx="563868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Картинка 14 из 61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57200" y="60948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Картинка 8 из 617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33520" y="228600"/>
            <a:ext cx="441936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Картинка 9 из 39539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181480" y="3048120"/>
            <a:ext cx="3962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100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7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24280" y="456840"/>
            <a:ext cx="41911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Не более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cc"/>
                </a:solidFill>
                <a:latin typeface="Arial"/>
              </a:rPr>
              <a:t>ча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у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ерерывами чер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5-20 мину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ебенка 6-9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артинка 1 из 8134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04920" y="2971800"/>
            <a:ext cx="853416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тельный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ат детей сче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странному алфави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ят концентрацию вним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учшат мыслительные опе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ы принятия решения, будут способствовать формированию художественного воображения, помогут развить быстроту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2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3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98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42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14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14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3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14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3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14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3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14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3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14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3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которых странах (Китай, Северная Корея) проблема компьютерной зависимости вышла на государствен-ный уровень и взята под контроль правительств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67080" y="1142640"/>
            <a:ext cx="472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2,6 миллиона человек, или 13%, из 20 миллионов интернет-пользователей в возрасте до 18 лет в Китае страдают чрезмерной интернет-зависимостью. Для борьбы с этим явлением китайские власти регулярно принимают меры по ограничению числа интернет-кафе, запрету наиболее жестоких компьютерных игр. По официальным данным, в Китае насчитывается 113 тысяч интернет-каф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Картинка 11 из 270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висимый от компьютера челов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жде всего тот, кто проводит слишком много времени за компью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 дел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ри этом осознанно (или неосозна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дит своему здор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Картинка 31 из 646"/>
          <p:cNvPicPr/>
          <p:nvPr/>
        </p:nvPicPr>
        <p:blipFill>
          <a:blip r:embed="rId1"/>
          <a:stretch/>
        </p:blipFill>
        <p:spPr>
          <a:xfrm>
            <a:off x="2057400" y="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одители долж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олько чувствовать потребности своего реб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понимать опасность долгих бдений перед компьютер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ть отвлечь его от привязанности к н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ь, то, что достижение успехов в физическом мире гораздо интереснее иллюзорных компьютерных поб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Картинка 156 из 28018"/>
          <p:cNvPicPr/>
          <p:nvPr/>
        </p:nvPicPr>
        <p:blipFill>
          <a:blip r:embed="rId1"/>
          <a:stretch/>
        </p:blipFill>
        <p:spPr>
          <a:xfrm>
            <a:off x="4876920" y="457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4495680"/>
            <a:ext cx="8991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многие родители не осознают опасности. Многочасовое сидение перед монитором по сравнению, например,с наркозависимостью выглядит в их глазах совершенно безобид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152280" y="380880"/>
            <a:ext cx="6400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- хорошее самочувствие или эйфория за компьютером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- нежелание отвлечься от работы или игры за компьютером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раздражение при вынужденном отвлечении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- неспособность спланировать окончание сеанса работы или игры с компьютером; </a:t>
            </a:r>
            <a:br>
              <a:rPr sz="1800"/>
            </a:b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- расходование больших денег на обеспечение постоянного обновления программного обеспечения (в т.ч. игр) и апгрейд компьютера; </a:t>
            </a:r>
            <a:br>
              <a:rPr sz="2400"/>
            </a:b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- забывание о домашних делах, служебных обязанностях, учебе, встречах и договоренностях в ходе работы или игры на компьютере;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Картинка 129 из 195319"/>
          <p:cNvPicPr/>
          <p:nvPr/>
        </p:nvPicPr>
        <p:blipFill>
          <a:blip r:embed="rId1"/>
          <a:stretch/>
        </p:blipFill>
        <p:spPr>
          <a:xfrm>
            <a:off x="6172200" y="1600200"/>
            <a:ext cx="2666880" cy="3006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228600" y="4952880"/>
            <a:ext cx="87631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- пренебрежение собственным здоровьем, гигиеной и сном в пользу проведения большего количества времени за компьютером;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ловек предпочитает есть перед монитором; </a:t>
            </a:r>
            <a:br>
              <a:rPr sz="18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 обсуждение компьютерной тематики со всеми мало-мальски сведущими в этой области людь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28600" y="152280"/>
            <a:ext cx="8610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сихологи выделяют следующие симптомы     психологической зависимости от компьютера: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3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Многочасовое непрерывное нахождение перед монитором может выз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зр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иммуните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ые бо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лость, бессон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того, долгое нахождение в сидячем положении оказывает сильную нагрузку на позвоночник, что вызывает частые боли в пояснице и проблемы с оса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е одна болезнь современных пользователей - туннельный синд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Это нарушение, проявляющееся болью в запястье и возникающее от неудобных условий работы с клавиатурой и мышью. 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8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48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4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92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119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4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ы психологов: как предотвратить компьютерную зависимост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ите за симптомами проявления Интернет-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огайте ребенку участвовать в общении вне Интер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жите компьютер в открытом помещен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апрещайте Интер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ите альтернати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ролируйте своих дет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3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35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3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65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8-02T08:35:5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