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6.gif" ContentType="image/gif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661E2-AB31-4ED1-958B-4A9BBA4505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8640"/>
            <a:ext cx="82281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789EE-06B0-4A03-9AAA-04B94462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CF9E2-7D7C-44EB-812B-9068DB81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86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586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586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C988B-A1D4-4661-976C-ACC07EE421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0157C-3570-448E-A30C-BFEABEB5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C5C9B-7877-43DE-8829-A4276A7D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9C989-0EB9-4804-A118-D1BCFE18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0E1BC-2DBD-4A29-87A9-058B1FE14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38DC0-FDCC-4CC6-95B5-4A4731F08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9A18D-0103-45E6-9E6F-B8507545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C69C6-35BA-4FD1-BD5B-86ADEDBF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82281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6365F-B03E-4EDA-A4ED-8C24527D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8.1.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47A0664-E533-4DC0-BA9C-9942B1DD8EB8}" type="slidenum">
              <a:rPr b="0" lang="ru-RU" sz="18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Arial"/>
              </a:rPr>
              <a:t>Историческая басня И.А.Крылова «Волк на псарне»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16360" y="4797360"/>
            <a:ext cx="3888000" cy="13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блёва Оксана Вале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г.Иркутска СОШ№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ркут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1745" r="888" b="0"/>
          <a:stretch/>
        </p:blipFill>
        <p:spPr>
          <a:xfrm>
            <a:off x="250920" y="1773360"/>
            <a:ext cx="4033800" cy="4070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372360" y="1484280"/>
            <a:ext cx="2233440" cy="30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900000" y="907920"/>
            <a:ext cx="6912000" cy="5545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8296200" cy="77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47640" y="1125360"/>
            <a:ext cx="5977080" cy="43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6264360" cy="43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100" spc="-1" strike="noStrike">
                <a:solidFill>
                  <a:srgbClr val="c9c2d1"/>
                </a:solidFill>
                <a:latin typeface="Lucida Sans"/>
              </a:rPr>
              <a:t>СЛОВАРНАЯ РАБОТА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3600" indent="-25416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Ловчий (истор.) – лицо заведовавшее (у бояр, помещиков) разными видами ловли (охотой, рыбной ловлей, преимущественно же псовой охото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54160"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5416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403280" y="3357720"/>
            <a:ext cx="5832720" cy="33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-181080" y="0"/>
            <a:ext cx="5292720" cy="59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900" spc="-1" strike="noStrike" u="sng">
                <a:solidFill>
                  <a:srgbClr val="0e0eb2"/>
                </a:solidFill>
                <a:uFillTx/>
                <a:latin typeface="Book Antiqua"/>
              </a:rPr>
              <a:t>ВОЛК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лобный, хищный, беспощадный. Он привык легко и безнаказанно расправляться с теми, кто слабее его. Но когда ему грозит опасность, когда он встречает дружный отпор, он изворачивается, хитрит, лицемер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добрый дипломат», «расчетливый зверь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03640" y="549360"/>
            <a:ext cx="4140360" cy="59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79280" y="189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70c0"/>
                </a:solidFill>
                <a:uFillTx/>
                <a:latin typeface="Book Antiqua"/>
              </a:rPr>
              <a:t>ЛОВЧ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 Antiqua"/>
              </a:rPr>
              <a:t>Ловчий показан опытным, мудрым и предусмотрите-льным, знающим все повадки Волка и не поддающимся на его хитр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940360" y="3429000"/>
            <a:ext cx="320364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476280"/>
            <a:ext cx="82296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 Antiqua"/>
              </a:rPr>
              <a:t>ТЕМА                                          ИДЕ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Book Antiqua"/>
              </a:rPr>
              <a:t>ЗЛОСТНОЕ </a:t>
            </a:r>
            <a:r>
              <a:rPr b="1" i="1" lang="ru-RU" sz="2600" spc="-1" strike="noStrike">
                <a:solidFill>
                  <a:srgbClr val="000000"/>
                </a:solidFill>
                <a:latin typeface="Book Antiqua"/>
              </a:rPr>
              <a:t>                           УЧИТ, КАК НАД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ru-RU" sz="2600" spc="-1" strike="noStrike">
                <a:solidFill>
                  <a:srgbClr val="0070c0"/>
                </a:solidFill>
                <a:latin typeface="Book Antiqua"/>
              </a:rPr>
              <a:t>НАПАДЕНИЕ </a:t>
            </a:r>
            <a:r>
              <a:rPr b="1" i="1" lang="ru-RU" sz="2600" spc="-1" strike="noStrike">
                <a:solidFill>
                  <a:srgbClr val="000000"/>
                </a:solidFill>
                <a:latin typeface="Book Antiqua"/>
              </a:rPr>
              <a:t>            ПОСТУПАТЬ   С ВРАГАМ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Book Antiqua"/>
              </a:rPr>
              <a:t>НА  </a:t>
            </a:r>
            <a:r>
              <a:rPr b="1" i="1" lang="ru-RU" sz="2600" spc="-1" strike="noStrike">
                <a:solidFill>
                  <a:srgbClr val="000000"/>
                </a:solidFill>
                <a:latin typeface="Book Antiqua"/>
              </a:rPr>
              <a:t>                                   С «ВОЛКАМИ ИНАЧ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Book Antiqua"/>
              </a:rPr>
              <a:t>ЧУЖУЮ ТЕРРИТОРИЮ</a:t>
            </a:r>
            <a:r>
              <a:rPr b="1" i="1" lang="ru-RU" sz="2600" spc="-1" strike="noStrike">
                <a:solidFill>
                  <a:srgbClr val="000000"/>
                </a:solidFill>
                <a:latin typeface="Book Antiqua"/>
              </a:rPr>
              <a:t>            НЕ ДЕЛАТ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Book Antiqua"/>
              </a:rPr>
              <a:t>И ЕГО ОТПОР</a:t>
            </a:r>
            <a:r>
              <a:rPr b="1" i="1" lang="ru-RU" sz="2600" spc="-1" strike="noStrike">
                <a:solidFill>
                  <a:srgbClr val="000000"/>
                </a:solidFill>
                <a:latin typeface="Book Antiqua"/>
              </a:rPr>
              <a:t>                        МИРОВОЙ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Book Antiqua"/>
              </a:rPr>
              <a:t>                                         </a:t>
            </a:r>
            <a:r>
              <a:rPr b="1" i="1" lang="ru-RU" sz="2600" spc="-1" strike="noStrike">
                <a:solidFill>
                  <a:srgbClr val="000000"/>
                </a:solidFill>
                <a:latin typeface="Book Antiqua"/>
              </a:rPr>
              <a:t>КАК СНЯВШИ ШКУР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Book Antiqua"/>
              </a:rPr>
              <a:t>                                          </a:t>
            </a:r>
            <a:r>
              <a:rPr b="1" i="1" lang="ru-RU" sz="2600" spc="-1" strike="noStrike">
                <a:solidFill>
                  <a:srgbClr val="000000"/>
                </a:solidFill>
                <a:latin typeface="Book Antiqua"/>
              </a:rPr>
              <a:t>С НИХ ДОЛОЙ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476280"/>
            <a:ext cx="82296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Произведение проникнуто патрио-тическим пафосом, чувством любви к Родине, ответственности за ее судьбу. В этой басне мораль заключается в словах Ловчего, реплика которого звучит последн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100" spc="-1" strike="noStrike">
                <a:solidFill>
                  <a:srgbClr val="c9c2d1"/>
                </a:solidFill>
                <a:latin typeface="Lucida Sans"/>
              </a:rPr>
              <a:t>                       </a:t>
            </a:r>
            <a:r>
              <a:rPr b="1" lang="ru-RU" sz="4100" spc="-1" strike="noStrike">
                <a:solidFill>
                  <a:srgbClr val="c9c2d1"/>
                </a:solidFill>
                <a:latin typeface="Lucida Sans"/>
              </a:rPr>
              <a:t>Вывод        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1197000"/>
            <a:ext cx="822960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сякий захватчик, посягнувший на чужую землю, ищущий легкой добычи, напоминает героя басни Крылова. (Недаром Ловчий говорит не об одном Волке, а об обоих свойствах этих хищников: «волчью вашу я давно натуру знаю...», «с волками... не делать мировой!»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427280" y="274680"/>
            <a:ext cx="4716360" cy="22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500" spc="-1" strike="noStrike">
                <a:solidFill>
                  <a:srgbClr val="ff3300"/>
                </a:solidFill>
                <a:latin typeface="Monotype Corsiva"/>
              </a:rPr>
              <a:t>Люблю, где случай есть, пороки пощипать</a:t>
            </a:r>
            <a:r>
              <a:rPr b="1" lang="ru-RU" sz="4500" spc="-1" strike="noStrike">
                <a:solidFill>
                  <a:srgbClr val="ff3300"/>
                </a:solidFill>
                <a:latin typeface="Lucida Sans"/>
              </a:rPr>
              <a:t>…</a:t>
            </a:r>
            <a:br>
              <a:rPr sz="4500"/>
            </a:br>
            <a:r>
              <a:rPr b="1" lang="ru-RU" sz="4500" spc="-1" strike="noStrike">
                <a:solidFill>
                  <a:srgbClr val="ff3300"/>
                </a:solidFill>
                <a:latin typeface="Monotype Corsiva"/>
              </a:rPr>
              <a:t>             </a:t>
            </a:r>
            <a:r>
              <a:rPr b="1" lang="ru-RU" sz="4100" spc="-1" strike="noStrike">
                <a:solidFill>
                  <a:srgbClr val="ff3300"/>
                </a:solidFill>
                <a:latin typeface="Monotype Corsiva"/>
              </a:rPr>
              <a:t>И.А. Крылов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835280" y="836640"/>
            <a:ext cx="554328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"/>
              </a:rPr>
              <a:t>Каким образом сюжет басни связан с событиями Отечественной войны 1812 года</a:t>
            </a:r>
            <a:r>
              <a:rPr b="1" lang="ru-RU" sz="3700" spc="-1" strike="noStrike">
                <a:solidFill>
                  <a:srgbClr val="000000"/>
                </a:solidFill>
                <a:latin typeface="Lucida Sans"/>
              </a:rPr>
              <a:t>?</a:t>
            </a:r>
            <a:br>
              <a:rPr sz="3700"/>
            </a:b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6120" indent="-4096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Ситуация, описанная в басне, воспроизводит события Отечественной войны 1812 года. Наполеон достаточно легко завоевал многие европейские государства так же, как Волк легко справляется с беспомощными овцами. Следующей в захватнических планах французов была Россия. Но на борьбу с войсками Наполеона поднялся весь российский народ: «Волк ночью, думая залезть в овчарню, попал на псарню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60280"/>
            <a:ext cx="82296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 Antiqua"/>
              </a:rPr>
              <a:t>Басня «Волк на псарне», написанная в 1812 году, является откликом  на Отечественную войну против  французского нашествия. Волк — это  Наполеон, потерпевший поражение на  Бородинском  поле; заняв Москву, он понял, что оказался в ловушке, и послал  Кутузову предложение  о мире, заверяя русского полководца, что  желает мира. Кутузов  отверг  предложение завоевателя и в победоносных сражениях освободил Россию от врагов. Ловчий в басне — это Кутуз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6120" indent="-4096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По свидетельству современников, басню «Волк на псарне» И. А. Крылов собственноручно переписал и отдал жене М. И. Кутузова, которая отправила ее мужу в письме. М. И. Кутузов прочитал басню после сражения под Красным собравшимся вокруг него офицерам и при словах «а я, приятель, сед» снял фуражку и потряс наклоненной голо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9c2d1"/>
                </a:solidFill>
                <a:latin typeface="Times New Roman"/>
              </a:rPr>
              <a:t>Михаил Илларионович Кутузов</a:t>
            </a:r>
            <a:br>
              <a:rPr sz="37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3600" indent="-25416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3600" indent="-25416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3600" indent="-25416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3600" indent="-25416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3600" indent="-25416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3600" indent="-25416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3600" indent="-25416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3600" indent="-25416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3600" indent="-25416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3600" indent="-25416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3600" indent="-254160"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Book Antiqua"/>
              </a:rPr>
              <a:t>Портрет М. И. Кутузова кисти Р. М. Волков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56000" y="907920"/>
            <a:ext cx="417672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100" spc="-1" strike="noStrike">
                <a:solidFill>
                  <a:srgbClr val="c9c2d1"/>
                </a:solidFill>
                <a:latin typeface="Lucida Sans"/>
              </a:rPr>
              <a:t>Наполеон Бонапарт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771640" y="1125360"/>
            <a:ext cx="3560760" cy="4464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042920" y="5731200"/>
            <a:ext cx="761832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Ф.</a:t>
            </a:r>
            <a:r>
              <a:rPr b="0" lang="ru-RU" sz="4000" spc="-1" strike="noStrike">
                <a:solidFill>
                  <a:srgbClr val="ffffff"/>
                </a:solidFill>
                <a:latin typeface="Book Antiqua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артолоцци. По рисунку Дж.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ппиани, 1789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9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1" lang="ru-RU" sz="5900" spc="-1" strike="noStrike">
                <a:solidFill>
                  <a:srgbClr val="ffffff"/>
                </a:solidFill>
                <a:latin typeface="Book Antiqua"/>
              </a:rPr>
              <a:t>Волк - Наполеон;     Ловчий - Кутузов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c9c2d1"/>
                </a:solidFill>
                <a:latin typeface="Lucida Sans"/>
              </a:rPr>
              <a:t>А. М. Лаптев. Иллюстрация к басне И. А. Крылова «Волк на псарне».1947 г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286760" y="3284640"/>
            <a:ext cx="1857240" cy="2457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6953400" cy="5210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ккке</cp:lastModifiedBy>
  <dcterms:modified xsi:type="dcterms:W3CDTF">2013-09-27T15:38:06Z</dcterms:modified>
  <cp:revision>11</cp:revision>
  <dc:subject/>
  <dc:title>Историческая басня И.А.Крылова «Волк на псарне</dc:title>
</cp:coreProperties>
</file>