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13AF-2B5C-4715-9BD3-0EB2BAC49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FA54-E3E6-4461-8D5A-8DAE5B4D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9F64-D936-4262-8EEC-D37243F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2C41-235C-4100-B1B5-75DE234E5F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ABB9-61EE-4043-BFC1-FD026537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5AF7-5534-4A5E-BAE7-23B9E886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4A6B-10C3-454F-A7D4-F3A96CE1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538B-9E03-4EB8-9BEF-E0D0BC98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1C1B-89DB-4605-886E-01BE97B2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9B8F-BBBD-4CBF-A0A6-12372DB2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CED2-D9C0-45B9-BEE3-23437FE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BCEA-2FB8-42BD-A5DA-5465A526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8.1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9E2AC3C-B9FC-4137-872B-7415A00946AB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Историческая басня И.А.Крылова «Волк на псарне»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4797360"/>
            <a:ext cx="38880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лёва Окса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.Иркутска СОШ№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ркут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745" r="888" b="0"/>
          <a:stretch/>
        </p:blipFill>
        <p:spPr>
          <a:xfrm>
            <a:off x="250920" y="1773360"/>
            <a:ext cx="4033800" cy="407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223344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907920"/>
            <a:ext cx="6912000" cy="554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96200" cy="7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97708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СЛОВАРНАЯ РАБОТА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овчий (истор.) – лицо заведовавшее (у бояр, помещиков) разными видами ловли (охотой, рыбной ловлей, преимущественно же псовой охот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583272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81080" y="0"/>
            <a:ext cx="529272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 u="sng">
                <a:solidFill>
                  <a:srgbClr val="0e0eb2"/>
                </a:solidFill>
                <a:uFillTx/>
                <a:latin typeface="Book Antiqua"/>
              </a:rPr>
              <a:t>ВОЛ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лобный, хищный, беспощадный. Он привык легко и безнаказанно расправляться с теми, кто слабее его. Но когда ему грозит опасность, когда он встречает дружный отпор, он изворачивается, хитрит, лицеме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обрый дипломат», «расчетливый звер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4140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Book Antiqua"/>
              </a:rPr>
              <a:t>ЛОВ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Ловчий показан опытным, мудрым и предусмотрите-льным, знающим все повадки Волка и не поддающимся на его хит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3429000"/>
            <a:ext cx="3203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 Antiqua"/>
              </a:rPr>
              <a:t>ТЕМА                                          ИДЕ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ЗЛОСТНО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УЧИТ, КАК НАД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НАПАДЕНИ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ПОСТУПАТЬ   С ВРАГ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НА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С «ВОЛКАМИ ИНАЧ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ЧУЖУЮ ТЕРРИТОРИЮ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НЕ ДЕЛ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И ЕГО ОТПОР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МИРОВО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КАК СНЯВШИ ШКУ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С НИХ ДОЛОЙ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4762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роизведение проникнуто патрио-тическим пафосом, чувством любви к Родине, ответственности за ее судьбу. В этой басне мораль заключается в словах Ловчего, реплика которого звучит послед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                       </a:t>
            </a: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Вывод     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2296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який захватчик, посягнувший на чужую землю, ищущий легкой добычи, напоминает героя басни Крылова. (Недаром Ловчий говорит не об одном Волке, а об обоих свойствах этих хищников: «волчью вашу я давно натуру знаю...», «с волками... не делать мировой!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716360" cy="22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3300"/>
                </a:solidFill>
                <a:latin typeface="Monotype Corsiva"/>
              </a:rPr>
              <a:t>Люблю, где случай есть, пороки пощипать</a:t>
            </a:r>
            <a:r>
              <a:rPr b="1" lang="ru-RU" sz="4500" spc="-1" strike="noStrike">
                <a:solidFill>
                  <a:srgbClr val="ff3300"/>
                </a:solidFill>
                <a:latin typeface="Lucida Sans"/>
              </a:rPr>
              <a:t>…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Monotype Corsiva"/>
              </a:rPr>
              <a:t>             </a:t>
            </a:r>
            <a:r>
              <a:rPr b="1" lang="ru-RU" sz="4100" spc="-1" strike="noStrike">
                <a:solidFill>
                  <a:srgbClr val="ff3300"/>
                </a:solidFill>
                <a:latin typeface="Monotype Corsiva"/>
              </a:rPr>
              <a:t>И.А. Крылов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35280" y="836640"/>
            <a:ext cx="55432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Каким образом сюжет басни связан с событиями Отечественной войны 1812 года</a:t>
            </a:r>
            <a:r>
              <a:rPr b="1" lang="ru-RU" sz="3700" spc="-1" strike="noStrike">
                <a:solidFill>
                  <a:srgbClr val="000000"/>
                </a:solidFill>
                <a:latin typeface="Lucida Sans"/>
              </a:rPr>
              <a:t>?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итуация, описанная в басне, воспроизводит события Отечественной войны 1812 года. Наполеон достаточно легко завоевал многие европейские государства так же, как Волк легко справляется с беспомощными овцами. Следующей в захватнических планах французов была Россия. Но на борьбу с войсками Наполеона поднялся весь российский народ: «Волк ночью, думая залезть в овчарню, попал на псарн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Басня «Волк на псарне», написанная в 1812 году, является откликом  на Отечественную войну против  французского нашествия. Волк — это  Наполеон, потерпевший поражение на  Бородинском  поле; заняв Москву, он понял, что оказался в ловушке, и послал  Кутузову предложение  о мире, заверяя русского полководца, что  желает мира. Кутузов  отверг  предложение завоевателя и в победоносных сражениях освободил Россию от врагов. Ловчий в басне — это Куту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 свидетельству современников, басню «Волк на псарне» И. А. Крылов собственноручно переписал и отдал жене М. И. Кутузова, которая отправила ее мужу в письме. М. И. Кутузов прочитал басню после сражения под Красным собравшимся вокруг него офицерам и при словах «а я, приятель, сед» снял фуражку и потряс наклоненно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9c2d1"/>
                </a:solidFill>
                <a:latin typeface="Times New Roman"/>
              </a:rPr>
              <a:t>Михаил Илларионович Кутузов</a:t>
            </a:r>
            <a:br>
              <a:rPr sz="37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ртрет М. И. Кутузова кисти Р. М. Волк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Наполеон Бонапарт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3560760" cy="446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5731200"/>
            <a:ext cx="76183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толоцци. По рисунку Дж.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пиани, 1789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9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5900" spc="-1" strike="noStrike">
                <a:solidFill>
                  <a:srgbClr val="ffffff"/>
                </a:solidFill>
                <a:latin typeface="Book Antiqua"/>
              </a:rPr>
              <a:t>Волк - Наполеон;     Ловчий - Кутузов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c9c2d1"/>
                </a:solidFill>
                <a:latin typeface="Lucida Sans"/>
              </a:rPr>
              <a:t>А. М. Лаптев. Иллюстрация к басне И. А. Крылова «Волк на псарне».1947 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86760" y="3284640"/>
            <a:ext cx="185724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6953400" cy="52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ккке</cp:lastModifiedBy>
  <dcterms:modified xsi:type="dcterms:W3CDTF">2013-09-27T15:38:06Z</dcterms:modified>
  <cp:revision>11</cp:revision>
  <dc:subject/>
  <dc:title>Историческая басня И.А.Крылова «Волк на псарне</dc:title>
</cp:coreProperties>
</file>