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gif" ContentType="image/gif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EFCF-E214-471F-AE10-8E3EC7609C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3E216-8F72-4F82-8B73-A44D92F4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C6B95-77AB-4EEE-A30F-B1865E8E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11E5-C7B1-4BA0-9BC2-ACCF19A0FF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D746B-30A6-4511-AB0B-6FDD0C6D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299F1-0038-428D-92C4-D749E283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9B31-FAFB-458A-B7F9-CD1DF8EE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36501-D215-4D1E-B587-56738BF9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A1FF-5CDD-4903-B064-FAA1D6BD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CAC05-7137-4D2E-8E45-ACB7A35F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7F97-6506-4B20-97A3-8EA8DA8E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8E43D-2EB9-47FD-9EAB-301AB531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8.1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1ED94FD-14F0-4ACF-8635-A3B503F79C81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</a:rPr>
              <a:t>Историческая басня И.А.Крылова «Волк на псарне»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4797360"/>
            <a:ext cx="388800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лёва Оксан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г.Иркутска СОШ№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ркут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1745" r="888" b="0"/>
          <a:stretch/>
        </p:blipFill>
        <p:spPr>
          <a:xfrm>
            <a:off x="250920" y="1773360"/>
            <a:ext cx="4033800" cy="4070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72360" y="1484280"/>
            <a:ext cx="223344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00000" y="907920"/>
            <a:ext cx="6912000" cy="554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96200" cy="77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5977080" cy="43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26436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c9c2d1"/>
                </a:solidFill>
                <a:latin typeface="Lucida Sans"/>
              </a:rPr>
              <a:t>СЛОВАРНАЯ РАБОТА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Ловчий (истор.) – лицо заведовавшее (у бояр, помещиков) разными видами ловли (охотой, рыбной ловлей, преимущественно же псовой охот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583272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81080" y="0"/>
            <a:ext cx="529272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 u="sng">
                <a:solidFill>
                  <a:srgbClr val="0e0eb2"/>
                </a:solidFill>
                <a:uFillTx/>
                <a:latin typeface="Book Antiqua"/>
              </a:rPr>
              <a:t>ВОЛК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лобный, хищный, беспощадный. Он привык легко и безнаказанно расправляться с теми, кто слабее его. Но когда ему грозит опасность, когда он встречает дружный отпор, он изворачивается, хитрит, лицеме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добрый дипломат», «расчетливый звер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03640" y="549360"/>
            <a:ext cx="41403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89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Book Antiqua"/>
              </a:rPr>
              <a:t>ЛОВ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Ловчий показан опытным, мудрым и предусмотрите-льным, знающим все повадки Волка и не поддающимся на его хит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940360" y="3429000"/>
            <a:ext cx="32036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 Antiqua"/>
              </a:rPr>
              <a:t>ТЕМА                                          ИДЕ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Book Antiqua"/>
              </a:rPr>
              <a:t>ЗЛОСТНОЕ 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               УЧИТ, КАК НАД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600" spc="-1" strike="noStrike">
                <a:solidFill>
                  <a:srgbClr val="0070c0"/>
                </a:solidFill>
                <a:latin typeface="Book Antiqua"/>
              </a:rPr>
              <a:t>НАПАДЕНИЕ 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ПОСТУПАТЬ   С ВРАГА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Book Antiqua"/>
              </a:rPr>
              <a:t>НА  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                       С «ВОЛКАМИ ИНАЧ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Book Antiqua"/>
              </a:rPr>
              <a:t>ЧУЖУЮ ТЕРРИТОРИЮ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НЕ ДЕЛА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Book Antiqua"/>
              </a:rPr>
              <a:t>И ЕГО ОТПОР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            МИРОВО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              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КАК СНЯВШИ ШКУ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                           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С НИХ ДОЛОЙ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47628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Произведение проникнуто патрио-тическим пафосом, чувством любви к Родине, ответственности за ее судьбу. В этой басне мораль заключается в словах Ловчего, реплика которого звучит послед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c9c2d1"/>
                </a:solidFill>
                <a:latin typeface="Lucida Sans"/>
              </a:rPr>
              <a:t>                       </a:t>
            </a:r>
            <a:r>
              <a:rPr b="1" lang="ru-RU" sz="4100" spc="-1" strike="noStrike">
                <a:solidFill>
                  <a:srgbClr val="c9c2d1"/>
                </a:solidFill>
                <a:latin typeface="Lucida Sans"/>
              </a:rPr>
              <a:t>Вывод        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22960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який захватчик, посягнувший на чужую землю, ищущий легкой добычи, напоминает героя басни Крылова. (Недаром Ловчий говорит не об одном Волке, а об обоих свойствах этих хищников: «волчью вашу я давно натуру знаю...», «с волками... не делать мировой!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27280" y="274680"/>
            <a:ext cx="4716360" cy="22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ff3300"/>
                </a:solidFill>
                <a:latin typeface="Monotype Corsiva"/>
              </a:rPr>
              <a:t>Люблю, где случай есть, пороки пощипать</a:t>
            </a:r>
            <a:r>
              <a:rPr b="1" lang="ru-RU" sz="4500" spc="-1" strike="noStrike">
                <a:solidFill>
                  <a:srgbClr val="ff3300"/>
                </a:solidFill>
                <a:latin typeface="Lucida Sans"/>
              </a:rPr>
              <a:t>…</a:t>
            </a:r>
            <a:br>
              <a:rPr sz="4500"/>
            </a:br>
            <a:r>
              <a:rPr b="1" lang="ru-RU" sz="4500" spc="-1" strike="noStrike">
                <a:solidFill>
                  <a:srgbClr val="ff3300"/>
                </a:solidFill>
                <a:latin typeface="Monotype Corsiva"/>
              </a:rPr>
              <a:t>             </a:t>
            </a:r>
            <a:r>
              <a:rPr b="1" lang="ru-RU" sz="4100" spc="-1" strike="noStrike">
                <a:solidFill>
                  <a:srgbClr val="ff3300"/>
                </a:solidFill>
                <a:latin typeface="Monotype Corsiva"/>
              </a:rPr>
              <a:t>И.А. Крылов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835280" y="836640"/>
            <a:ext cx="554328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"/>
              </a:rPr>
              <a:t>Каким образом сюжет басни связан с событиями Отечественной войны 1812 года</a:t>
            </a:r>
            <a:r>
              <a:rPr b="1" lang="ru-RU" sz="3700" spc="-1" strike="noStrike">
                <a:solidFill>
                  <a:srgbClr val="000000"/>
                </a:solidFill>
                <a:latin typeface="Lucida Sans"/>
              </a:rPr>
              <a:t>?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Ситуация, описанная в басне, воспроизводит события Отечественной войны 1812 года. Наполеон достаточно легко завоевал многие европейские государства так же, как Волк легко справляется с беспомощными овцами. Следующей в захватнических планах французов была Россия. Но на борьбу с войсками Наполеона поднялся весь российский народ: «Волк ночью, думая залезть в овчарню, попал на псарню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6028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Басня «Волк на псарне», написанная в 1812 году, является откликом  на Отечественную войну против  французского нашествия. Волк — это  Наполеон, потерпевший поражение на  Бородинском  поле; заняв Москву, он понял, что оказался в ловушке, и послал  Кутузову предложение  о мире, заверяя русского полководца, что  желает мира. Кутузов  отверг  предложение завоевателя и в победоносных сражениях освободил Россию от врагов. Ловчий в басне — это Кутуз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о свидетельству современников, басню «Волк на псарне» И. А. Крылов собственноручно переписал и отдал жене М. И. Кутузова, которая отправила ее мужу в письме. М. И. Кутузов прочитал басню после сражения под Красным собравшимся вокруг него офицерам и при словах «а я, приятель, сед» снял фуражку и потряс наклоненной г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9c2d1"/>
                </a:solidFill>
                <a:latin typeface="Times New Roman"/>
              </a:rPr>
              <a:t>Михаил Илларионович Кутузов</a:t>
            </a:r>
            <a:br>
              <a:rPr sz="37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416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Book Antiqua"/>
              </a:rPr>
              <a:t>Портрет М. И. Кутузова кисти Р. М. Волко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56000" y="907920"/>
            <a:ext cx="417672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c9c2d1"/>
                </a:solidFill>
                <a:latin typeface="Lucida Sans"/>
              </a:rPr>
              <a:t>Наполеон Бонапарт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3560760" cy="4464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42920" y="5731200"/>
            <a:ext cx="761832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Ф.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ртолоцци. По рисунку Дж.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ппиани, 1789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9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ru-RU" sz="5900" spc="-1" strike="noStrike">
                <a:solidFill>
                  <a:srgbClr val="ffffff"/>
                </a:solidFill>
                <a:latin typeface="Book Antiqua"/>
              </a:rPr>
              <a:t>Волк - Наполеон;     Ловчий - Кутузов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c9c2d1"/>
                </a:solidFill>
                <a:latin typeface="Lucida Sans"/>
              </a:rPr>
              <a:t>А. М. Лаптев. Иллюстрация к басне И. А. Крылова «Волк на псарне».1947 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86760" y="3284640"/>
            <a:ext cx="1857240" cy="245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6953400" cy="521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ккке</cp:lastModifiedBy>
  <dcterms:modified xsi:type="dcterms:W3CDTF">2013-09-27T15:38:06Z</dcterms:modified>
  <cp:revision>11</cp:revision>
  <dc:subject/>
  <dc:title>Историческая басня И.А.Крылова «Волк на псарне</dc:title>
</cp:coreProperties>
</file>