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2158-3B32-4A02-8AD9-E77603087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0934-2355-4DF6-B40E-3B230E154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505F-5053-4BC0-8D5C-1502A81B4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FD29-6DDF-4024-98CD-30805F400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D013F-59C2-45A8-9F43-2FCB4707A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7772F-CCE3-4C0E-AC48-368BEDDE1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2A2DF-1089-4595-841C-400A0DE0C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FF31A-895B-4693-A0A4-7BFFB0F4D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55134-55AE-45F6-B423-DF39CA4FA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14234-B280-4D41-840C-D6CD2679A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FD326-C8E9-4006-BF73-293238CD7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76C2-7758-44EA-94C3-163513FCB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1B733-559D-4739-AC56-C2B995DE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EDD0A-E56D-466E-9FE9-3A0F253A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3D553-588E-49E0-B259-2E7BB1F23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3ABF9-6787-491F-A617-2435E768A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3E3DA-B876-47DF-9490-736D3CCD1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96B4-C029-4A09-A9D4-8704C8E8E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1ADA-41C1-43C5-A487-1AD24D138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F668-F80A-48C2-ABD1-AABE87E2C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4889-A519-4A1D-8521-05D9BD9BE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7594-89A3-4C18-926E-0CA5B5854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5952-1A63-4F2A-93AF-1D00CB71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294C-CE65-4B88-8971-BE5BDDDE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59091-58D5-4627-8401-7741A75BC99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D5B60-73AE-481B-8675-71E001A403E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linenews.ru/uploads/posts/2008-09/1220387076_1.jpg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669960"/>
            <a:ext cx="7924680" cy="282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«Ионизирующее излучение: природа, единицы измерения, биологические эффекты».</a:t>
            </a:r>
            <a:r>
              <a:rPr b="0" lang="ru-RU" sz="44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438280" y="4762440"/>
            <a:ext cx="6400800" cy="17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подаватель-организатор ОБ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У «СОШ» с. Кам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ташов Алексей Серге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6600"/>
                </a:solidFill>
                <a:latin typeface="Arial"/>
              </a:rPr>
              <a:t>Характеристика степени опасности излучения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980720"/>
            <a:ext cx="8540640" cy="41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Доза излуче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Р) – количество энергии ионизирующего излучения, поглощаемое 1 г веще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Доза облуче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бэр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бэр = 1 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ial"/>
              </a:rPr>
              <a:t>2. ИСТОЧНИКИ ИОНИЗИРУЮЩИХ ИЗЛУЧЕНИЙ</a:t>
            </a:r>
            <a:r>
              <a:rPr b="0" lang="ru-RU" sz="44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11" name="Group 13"/>
          <p:cNvGrpSpPr/>
          <p:nvPr/>
        </p:nvGrpSpPr>
        <p:grpSpPr>
          <a:xfrm>
            <a:off x="1143000" y="1600200"/>
            <a:ext cx="6477120" cy="837720"/>
            <a:chOff x="1143000" y="1600200"/>
            <a:chExt cx="6477120" cy="837720"/>
          </a:xfrm>
        </p:grpSpPr>
        <p:sp>
          <p:nvSpPr>
            <p:cNvPr id="112" name="AutoShape 16"/>
            <p:cNvSpPr/>
            <p:nvPr/>
          </p:nvSpPr>
          <p:spPr>
            <a:xfrm>
              <a:off x="1143000" y="1600200"/>
              <a:ext cx="6477120" cy="83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5"/>
            <p:cNvSpPr/>
            <p:nvPr/>
          </p:nvSpPr>
          <p:spPr>
            <a:xfrm flipH="1">
              <a:off x="2894760" y="1768680"/>
              <a:ext cx="1066680" cy="669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14"/>
            <p:cNvSpPr/>
            <p:nvPr/>
          </p:nvSpPr>
          <p:spPr>
            <a:xfrm>
              <a:off x="4877280" y="1768680"/>
              <a:ext cx="990360" cy="669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5"/>
          <p:cNvGrpSpPr/>
          <p:nvPr/>
        </p:nvGrpSpPr>
        <p:grpSpPr>
          <a:xfrm>
            <a:off x="0" y="2743200"/>
            <a:ext cx="8305920" cy="3886200"/>
            <a:chOff x="0" y="2743200"/>
            <a:chExt cx="8305920" cy="3886200"/>
          </a:xfrm>
        </p:grpSpPr>
        <p:sp>
          <p:nvSpPr>
            <p:cNvPr id="116" name="AutoShape 12"/>
            <p:cNvSpPr/>
            <p:nvPr/>
          </p:nvSpPr>
          <p:spPr>
            <a:xfrm>
              <a:off x="0" y="2743200"/>
              <a:ext cx="8305920" cy="38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11"/>
            <p:cNvSpPr/>
            <p:nvPr/>
          </p:nvSpPr>
          <p:spPr>
            <a:xfrm>
              <a:off x="5178600" y="2743200"/>
              <a:ext cx="3126960" cy="3656880"/>
            </a:xfrm>
            <a:prstGeom prst="rect">
              <a:avLst/>
            </a:prstGeom>
            <a:solidFill>
              <a:srgbClr val="fbeec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u="sng">
                  <a:solidFill>
                    <a:srgbClr val="0000ff"/>
                  </a:solidFill>
                  <a:uFillTx/>
                  <a:latin typeface="Arial"/>
                  <a:ea typeface="Times New Roman"/>
                </a:rPr>
                <a:t>ИСКУССТВЕННО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Ядерное производств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Атомные электростанц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Ядерно-энергетические установ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пециальные военные объек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Медицинская рентгеновская аппаратур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Бытовые излучател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0"/>
            <p:cNvSpPr/>
            <p:nvPr/>
          </p:nvSpPr>
          <p:spPr>
            <a:xfrm>
              <a:off x="2540160" y="3657240"/>
              <a:ext cx="2248200" cy="2173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 u="sng">
                  <a:solidFill>
                    <a:srgbClr val="003300"/>
                  </a:solidFill>
                  <a:uFillTx/>
                  <a:latin typeface="Arial"/>
                  <a:ea typeface="Times New Roman"/>
                </a:rPr>
                <a:t>ЗЕМНО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Естественные радиоактивные вещества (радон и др.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9"/>
            <p:cNvSpPr/>
            <p:nvPr/>
          </p:nvSpPr>
          <p:spPr>
            <a:xfrm>
              <a:off x="949320" y="2753640"/>
              <a:ext cx="2708640" cy="507960"/>
            </a:xfrm>
            <a:prstGeom prst="rect">
              <a:avLst/>
            </a:prstGeom>
            <a:solidFill>
              <a:srgbClr val="fbeec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u="sng">
                  <a:solidFill>
                    <a:srgbClr val="0000ff"/>
                  </a:solidFill>
                  <a:uFillTx/>
                  <a:latin typeface="Arial"/>
                  <a:ea typeface="Times New Roman"/>
                </a:rPr>
                <a:t>ЕСТЕСТВЕННО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8"/>
            <p:cNvSpPr/>
            <p:nvPr/>
          </p:nvSpPr>
          <p:spPr>
            <a:xfrm>
              <a:off x="97920" y="3701880"/>
              <a:ext cx="2247120" cy="212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 u="sng">
                  <a:solidFill>
                    <a:srgbClr val="003300"/>
                  </a:solidFill>
                  <a:uFillTx/>
                  <a:latin typeface="Arial"/>
                  <a:ea typeface="Times New Roman"/>
                </a:rPr>
                <a:t>КОСМИЧЕСКО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Звездные взрыв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олнечные вспыш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7"/>
            <p:cNvSpPr/>
            <p:nvPr/>
          </p:nvSpPr>
          <p:spPr>
            <a:xfrm flipH="1">
              <a:off x="1270080" y="3314520"/>
              <a:ext cx="586080" cy="342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6"/>
            <p:cNvSpPr/>
            <p:nvPr/>
          </p:nvSpPr>
          <p:spPr>
            <a:xfrm>
              <a:off x="2736360" y="3314520"/>
              <a:ext cx="780840" cy="342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Rectangle 18"/>
          <p:cNvSpPr/>
          <p:nvPr/>
        </p:nvSpPr>
        <p:spPr>
          <a:xfrm>
            <a:off x="1828800" y="2637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4"/>
          <p:cNvGrpSpPr/>
          <p:nvPr/>
        </p:nvGrpSpPr>
        <p:grpSpPr>
          <a:xfrm>
            <a:off x="304920" y="1752480"/>
            <a:ext cx="8381880" cy="3885840"/>
            <a:chOff x="304920" y="1752480"/>
            <a:chExt cx="8381880" cy="3885840"/>
          </a:xfrm>
        </p:grpSpPr>
        <p:sp>
          <p:nvSpPr>
            <p:cNvPr id="125" name="AutoShape 10"/>
            <p:cNvSpPr/>
            <p:nvPr/>
          </p:nvSpPr>
          <p:spPr>
            <a:xfrm>
              <a:off x="304920" y="2057400"/>
              <a:ext cx="8381880" cy="358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9"/>
            <p:cNvSpPr/>
            <p:nvPr/>
          </p:nvSpPr>
          <p:spPr>
            <a:xfrm flipH="1">
              <a:off x="1980720" y="1752480"/>
              <a:ext cx="1523880" cy="60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8"/>
            <p:cNvSpPr/>
            <p:nvPr/>
          </p:nvSpPr>
          <p:spPr>
            <a:xfrm>
              <a:off x="5629680" y="2555280"/>
              <a:ext cx="2820600" cy="496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ВНУТРЕННЕ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7"/>
            <p:cNvSpPr/>
            <p:nvPr/>
          </p:nvSpPr>
          <p:spPr>
            <a:xfrm>
              <a:off x="600480" y="2555280"/>
              <a:ext cx="2860200" cy="496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ВНЕШНЕ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6"/>
            <p:cNvSpPr/>
            <p:nvPr/>
          </p:nvSpPr>
          <p:spPr>
            <a:xfrm>
              <a:off x="403560" y="3151800"/>
              <a:ext cx="3548160" cy="1491120"/>
            </a:xfrm>
            <a:prstGeom prst="rect">
              <a:avLst/>
            </a:prstGeom>
            <a:solidFill>
              <a:srgbClr val="ecd04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Источник – </a:t>
              </a:r>
              <a:r>
                <a:rPr b="1" lang="ru-RU" sz="2000" spc="-1" strike="noStrike" u="sng">
                  <a:solidFill>
                    <a:srgbClr val="003300"/>
                  </a:solidFill>
                  <a:uFillTx/>
                  <a:latin typeface="Arial"/>
                  <a:ea typeface="Times New Roman"/>
                </a:rPr>
                <a:t>вне</a:t>
              </a:r>
              <a:r>
                <a:rPr b="0" lang="ru-RU" sz="2000" spc="-1" strike="noStrike" u="sng">
                  <a:solidFill>
                    <a:srgbClr val="ff9900"/>
                  </a:solidFill>
                  <a:uFillTx/>
                  <a:latin typeface="Arial"/>
                  <a:ea typeface="Times New Roman"/>
                </a:rPr>
                <a:t> </a:t>
              </a:r>
              <a:r>
                <a:rPr b="0" lang="ru-RU" sz="20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организма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Чем выше над уровнем моря, тем выше радиац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5"/>
            <p:cNvSpPr/>
            <p:nvPr/>
          </p:nvSpPr>
          <p:spPr>
            <a:xfrm>
              <a:off x="4840560" y="3151800"/>
              <a:ext cx="3845880" cy="2486520"/>
            </a:xfrm>
            <a:prstGeom prst="rect">
              <a:avLst/>
            </a:prstGeom>
            <a:solidFill>
              <a:srgbClr val="ecd04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Источник – </a:t>
              </a:r>
              <a:r>
                <a:rPr b="1" lang="ru-RU" sz="2000" spc="-1" strike="noStrike" u="sng">
                  <a:solidFill>
                    <a:srgbClr val="003300"/>
                  </a:solidFill>
                  <a:uFillTx/>
                  <a:latin typeface="Arial"/>
                  <a:ea typeface="Times New Roman"/>
                </a:rPr>
                <a:t>внутри</a:t>
              </a:r>
              <a:r>
                <a:rPr b="0" lang="ru-RU" sz="2000" spc="-1" strike="noStrike" u="sng">
                  <a:solidFill>
                    <a:srgbClr val="ff9900"/>
                  </a:solidFill>
                  <a:uFillTx/>
                  <a:latin typeface="Arial"/>
                  <a:ea typeface="Times New Roman"/>
                </a:rPr>
                <a:t> </a:t>
              </a:r>
              <a:r>
                <a:rPr b="0" lang="ru-RU" sz="20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организм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Через дыхательные пути (пыль)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Через пищеварительный тракт (пища, вода)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Через поврежденную кожу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Line 11"/>
          <p:cNvSpPr/>
          <p:nvPr/>
        </p:nvSpPr>
        <p:spPr>
          <a:xfrm>
            <a:off x="5410080" y="1752480"/>
            <a:ext cx="152424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2"/>
          <p:cNvSpPr/>
          <p:nvPr/>
        </p:nvSpPr>
        <p:spPr>
          <a:xfrm>
            <a:off x="1600200" y="823320"/>
            <a:ext cx="609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3. ОБЛУЧЕНИЕ  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3"/>
          <p:cNvSpPr/>
          <p:nvPr/>
        </p:nvSpPr>
        <p:spPr>
          <a:xfrm>
            <a:off x="0" y="16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8"/>
          <p:cNvSpPr/>
          <p:nvPr/>
        </p:nvSpPr>
        <p:spPr>
          <a:xfrm>
            <a:off x="0" y="510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2286000" y="4952880"/>
            <a:ext cx="2133720" cy="16066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"/>
          <p:cNvPicPr/>
          <p:nvPr/>
        </p:nvPicPr>
        <p:blipFill>
          <a:blip r:embed="rId2"/>
          <a:stretch/>
        </p:blipFill>
        <p:spPr>
          <a:xfrm>
            <a:off x="228600" y="4800600"/>
            <a:ext cx="1766880" cy="129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6600"/>
                </a:solidFill>
                <a:latin typeface="Arial"/>
              </a:rPr>
              <a:t>4. Нормы радиационной безопасности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533520" y="2514600"/>
          <a:ext cx="7848360" cy="3124080"/>
        </p:xfrm>
        <a:graphic>
          <a:graphicData uri="http://schemas.openxmlformats.org/drawingml/2006/table">
            <a:tbl>
              <a:tblPr/>
              <a:tblGrid>
                <a:gridCol w="3603600"/>
                <a:gridCol w="4244760"/>
              </a:tblGrid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4 до 12 мкР/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ественный радиационный фо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– 100 мбэр (0,03 -0,1 бэр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овая доза облуч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 мбэ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устимое облучение за г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Rectangle 43"/>
          <p:cNvSpPr/>
          <p:nvPr/>
        </p:nvSpPr>
        <p:spPr>
          <a:xfrm>
            <a:off x="0" y="397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C:\Documents and Settings\Пенкина.FB141FE2CCDD411\Мои документы\Пенкина О.В\ФотоОБЖ\ЧС техног\Аварии на РОО\{1050A855-ED3A-4226-A7EA-7DBDCEBF61EA}.jpg"/>
          <p:cNvPicPr/>
          <p:nvPr/>
        </p:nvPicPr>
        <p:blipFill>
          <a:blip r:embed="rId1"/>
          <a:stretch/>
        </p:blipFill>
        <p:spPr>
          <a:xfrm>
            <a:off x="-103320" y="0"/>
            <a:ext cx="9247320" cy="693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838080" y="457200"/>
          <a:ext cx="7620120" cy="5943600"/>
        </p:xfrm>
        <a:graphic>
          <a:graphicData uri="http://schemas.openxmlformats.org/drawingml/2006/table">
            <a:tbl>
              <a:tblPr/>
              <a:tblGrid>
                <a:gridCol w="1498680"/>
                <a:gridCol w="6121440"/>
              </a:tblGrid>
              <a:tr h="95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за облучения, бэ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знаки поражения челове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 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имых признаков поражения 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5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 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многократном облучении (10—30 суток) внешних признаков нет. При однократном — у 10% возникает тошнота, рвота, слабост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5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 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многократном (в течение 3 месяцев) — внешних признаков нет. При однократном — признаки лучевой болезни I степен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 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многократном — первые признаки лучевой болезни. При однократном — лучевая болезнь II степен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5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 400-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учевая болезнь III степени. Головная боль, температура, слабость, тошнота, рвота, понос, изменение состава крови. При отсутствии лече­ния — смерт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 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большинстве случаев смертельный исхо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 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лниеносная форма лучевой болезни, гибель в первые сутк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6600"/>
                </a:solidFill>
                <a:latin typeface="Arial"/>
              </a:rPr>
              <a:t>Закрепление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lnSpc>
                <a:spcPct val="80000"/>
              </a:lnSpc>
              <a:spcBef>
                <a:spcPts val="700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е виды излучения вы теперь знает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альфа, б)бетта, в)гам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  Какое из них самое опасно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альфа, б)бетта, в)гам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  В каких единицах измеряется доза:                а) излучения, б) облуч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  Радон – это искусственный или естественный источник излуч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  Кто  больше облучается:                                  а) живущие на равнине, б) живущие в гора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   Какова годовая доза естественного облуч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Arial"/>
              </a:rPr>
              <a:t>Проверим себя!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льфа, бета, гамма – изуч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амма-излуч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Рентген, б) бэ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тественный источн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0-100 мбэ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WordArt 2"/>
          <p:cNvSpPr txBox="1"/>
          <p:nvPr/>
        </p:nvSpPr>
        <p:spPr>
          <a:xfrm>
            <a:off x="1523880" y="914400"/>
            <a:ext cx="59436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лодцы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" name="WordArt 7"/>
          <p:cNvSpPr txBox="1"/>
          <p:nvPr/>
        </p:nvSpPr>
        <p:spPr>
          <a:xfrm>
            <a:off x="1523880" y="3352680"/>
            <a:ext cx="59436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урок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6600"/>
                </a:solidFill>
                <a:latin typeface="Arial"/>
              </a:rPr>
              <a:t>Как работает атомная электростанция?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55656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ЭС использует энергию атома, которая нагревает воду, превращая ее в па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 вращает турби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5715000" y="1752480"/>
            <a:ext cx="304812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Arial"/>
              </a:rPr>
              <a:t>План урока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онизирующее излучение и его ви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точники излучений (естественные и искусственные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нутреннее и внешнее облучение организ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2b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рмы радиационной безопасности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Arial"/>
              </a:rPr>
              <a:t>Что это?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294920" y="2209680"/>
            <a:ext cx="723924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Она не слышна, не видна, не пахнет, не дымит. Определяется только приборами. Не безобидна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Прямоугольник 4" descr=""/>
          <p:cNvPicPr/>
          <p:nvPr/>
        </p:nvPicPr>
        <p:blipFill>
          <a:blip r:embed="rId1"/>
          <a:stretch/>
        </p:blipFill>
        <p:spPr>
          <a:xfrm>
            <a:off x="4827600" y="4280040"/>
            <a:ext cx="4249800" cy="114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6600"/>
                </a:solidFill>
                <a:latin typeface="Arial"/>
              </a:rPr>
              <a:t>Что общего между этими тремя датами?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 и 9 августа 1945 г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6 апреля 1986 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иросима и Нагасаки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рнобы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Картинка 48 из 10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5000" y="1143000"/>
            <a:ext cx="3200400" cy="2359080"/>
          </a:xfrm>
          <a:prstGeom prst="rect">
            <a:avLst/>
          </a:prstGeom>
          <a:ln w="0">
            <a:noFill/>
          </a:ln>
        </p:spPr>
      </p:pic>
      <p:pic>
        <p:nvPicPr>
          <p:cNvPr id="95" name="Чернобыль.avi" descr=""/>
          <p:cNvPicPr/>
          <p:nvPr/>
        </p:nvPicPr>
        <p:blipFill>
          <a:blip r:embed="rId3"/>
          <a:stretch/>
        </p:blipFill>
        <p:spPr>
          <a:xfrm>
            <a:off x="4952880" y="3581280"/>
            <a:ext cx="4165560" cy="312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7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Arial"/>
              </a:rPr>
              <a:t>1. Ионизирующее излучение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895 г. – В.Рентген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896 г. – А.Беккер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898 г. – М.Кюри и П.Кю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4724280" y="1295280"/>
            <a:ext cx="1986120" cy="22100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"/>
          <p:cNvPicPr/>
          <p:nvPr/>
        </p:nvPicPr>
        <p:blipFill>
          <a:blip r:embed="rId2"/>
          <a:stretch/>
        </p:blipFill>
        <p:spPr>
          <a:xfrm>
            <a:off x="7086600" y="2451240"/>
            <a:ext cx="1638360" cy="23907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"/>
          <p:cNvPicPr/>
          <p:nvPr/>
        </p:nvPicPr>
        <p:blipFill>
          <a:blip r:embed="rId3"/>
          <a:stretch/>
        </p:blipFill>
        <p:spPr>
          <a:xfrm>
            <a:off x="5638680" y="4489560"/>
            <a:ext cx="1752840" cy="2368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Ионизирующее излуче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потоки заряженных и нейтральных частиц, а также электромагнитных вол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прохождении через вещество вызывают в нем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ионизаци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превращение нейтральных атомов и молекул в электрически заряженные неустойчивые частицы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Arial"/>
              </a:rPr>
              <a:t>Виды излучений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04" name="Рисунок 5" descr=""/>
          <p:cNvPicPr/>
          <p:nvPr/>
        </p:nvPicPr>
        <p:blipFill>
          <a:blip r:embed="rId1"/>
          <a:srcRect l="0" t="5731" r="-49" b="11934"/>
          <a:stretch/>
        </p:blipFill>
        <p:spPr>
          <a:xfrm>
            <a:off x="990720" y="1295280"/>
            <a:ext cx="7467480" cy="510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06" name="Схема 3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8796600" cy="4095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454px-Alfa_beta_gamma_radiation"/>
          <p:cNvPicPr/>
          <p:nvPr/>
        </p:nvPicPr>
        <p:blipFill>
          <a:blip r:embed="rId2"/>
          <a:stretch/>
        </p:blipFill>
        <p:spPr>
          <a:xfrm>
            <a:off x="2895480" y="4495680"/>
            <a:ext cx="2895840" cy="219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7" dur="1000" autoRev="1" fill="hold"/>
                                        <p:tgtEl>
                                          <p:spTgt spid="1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иколай</dc:creator>
  <dc:description/>
  <dc:language>en-US</dc:language>
  <cp:lastModifiedBy>Николай</cp:lastModifiedBy>
  <dcterms:modified xsi:type="dcterms:W3CDTF">2013-07-03T10:11:39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