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82B-9284-4AD7-AB1D-C81EC72D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937-18E5-4844-BEB6-BAE957D4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54D-179B-42CA-B3DB-EF56941D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374-AD98-4B9F-ADF5-796608F0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1535-C658-4341-8003-4B9B9D0F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625E-EE16-4073-88EC-9C173F64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C40E-AD17-4A0F-B923-019DC058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3DCE-453F-46D1-B973-EE0B3E9A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F6E6-ABE2-4883-A705-FC70A589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1672-332B-4399-88F0-CFA3B814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D619-A5DD-439C-ACA4-002AC137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E07-A974-4CEB-BBF5-82605745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B973-FEE8-4364-ABC8-EBDA02EC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5360-3A51-461B-84C6-62748F78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4C43-0477-4581-A6AC-E1C79DF6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4FB5-E198-4341-AD8A-64F26324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DDD6-1141-4942-8E7B-F26B5D22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E0D-4370-4B8C-BB1F-DAA1E540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051-566A-44C2-8A24-0A6B2F2B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14C-EA50-4419-888A-D92F52AF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D62-240F-45C1-B1E8-84B4E8A2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3C0-F9D1-4658-8918-F122FDA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007-1076-4758-89E2-2D82837D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266-2823-41F1-B7BA-D26CECEF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099D-B22E-43BE-AC79-4834D47123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CAA3-656E-445E-8496-DC79D2F5E3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nenews.ru/uploads/posts/2008-09/1220387076_1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69960"/>
            <a:ext cx="7924680" cy="28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«Ионизирующее излучение: природа, единицы измерения, биологические эффекты».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762440"/>
            <a:ext cx="6400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-организатор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СОШ» с.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ашов Алексей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Характеристика степени опасности излучени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из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) – количество энергии ионизирующего излучения, поглощаемое 1 г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об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э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эр = 1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2. ИСТОЧНИКИ ИОНИЗИРУЮЩИХ ИЗЛУЧЕНИЙ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1143000" y="1600200"/>
            <a:ext cx="6477120" cy="837720"/>
            <a:chOff x="1143000" y="1600200"/>
            <a:chExt cx="6477120" cy="837720"/>
          </a:xfrm>
        </p:grpSpPr>
        <p:sp>
          <p:nvSpPr>
            <p:cNvPr id="112" name="AutoShape 16"/>
            <p:cNvSpPr/>
            <p:nvPr/>
          </p:nvSpPr>
          <p:spPr>
            <a:xfrm>
              <a:off x="1143000" y="1600200"/>
              <a:ext cx="647712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2894760" y="1768680"/>
              <a:ext cx="106668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877280" y="1768680"/>
              <a:ext cx="99036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5"/>
          <p:cNvGrpSpPr/>
          <p:nvPr/>
        </p:nvGrpSpPr>
        <p:grpSpPr>
          <a:xfrm>
            <a:off x="0" y="2743200"/>
            <a:ext cx="8305920" cy="3886200"/>
            <a:chOff x="0" y="2743200"/>
            <a:chExt cx="8305920" cy="3886200"/>
          </a:xfrm>
        </p:grpSpPr>
        <p:sp>
          <p:nvSpPr>
            <p:cNvPr id="116" name="AutoShape 12"/>
            <p:cNvSpPr/>
            <p:nvPr/>
          </p:nvSpPr>
          <p:spPr>
            <a:xfrm>
              <a:off x="0" y="2743200"/>
              <a:ext cx="83059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5178600" y="2743200"/>
              <a:ext cx="3126960" cy="365688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ИСКУС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е произво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томные электро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-энергетические устано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ециальные военные 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дицинская рентгеновская аппа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ытовые излуч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2540160" y="3657240"/>
              <a:ext cx="2248200" cy="21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ЗЕМ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стественные радиоактивные вещества (радон и др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949320" y="2753640"/>
              <a:ext cx="2708640" cy="50796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ЕСТЕ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97920" y="3701880"/>
              <a:ext cx="2247120" cy="21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КОСМ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вездные взрыв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нечные вспыш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H="1">
              <a:off x="1270080" y="3314520"/>
              <a:ext cx="58608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2736360" y="3314520"/>
              <a:ext cx="78084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8"/>
          <p:cNvSpPr/>
          <p:nvPr/>
        </p:nvSpPr>
        <p:spPr>
          <a:xfrm>
            <a:off x="18288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304920" y="1752480"/>
            <a:ext cx="8381880" cy="3885840"/>
            <a:chOff x="304920" y="1752480"/>
            <a:chExt cx="8381880" cy="3885840"/>
          </a:xfrm>
        </p:grpSpPr>
        <p:sp>
          <p:nvSpPr>
            <p:cNvPr id="125" name="AutoShape 10"/>
            <p:cNvSpPr/>
            <p:nvPr/>
          </p:nvSpPr>
          <p:spPr>
            <a:xfrm>
              <a:off x="304920" y="2057400"/>
              <a:ext cx="8381880" cy="35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1980720" y="1752480"/>
              <a:ext cx="1523880" cy="60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"/>
            <p:cNvSpPr/>
            <p:nvPr/>
          </p:nvSpPr>
          <p:spPr>
            <a:xfrm>
              <a:off x="5629680" y="2555280"/>
              <a:ext cx="28206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УТРЕН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600480" y="2555280"/>
              <a:ext cx="28602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ЕШ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403560" y="3151800"/>
              <a:ext cx="3548160" cy="14911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е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м выше над уровнем моря, тем выше ради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4840560" y="3151800"/>
              <a:ext cx="3845880" cy="24865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утри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дыхательные пути (пыль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ищеварительный тракт (пища, вода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оврежденную кож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11"/>
          <p:cNvSpPr/>
          <p:nvPr/>
        </p:nvSpPr>
        <p:spPr>
          <a:xfrm>
            <a:off x="5410080" y="1752480"/>
            <a:ext cx="15242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600200" y="823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3. ОБЛУЧЕНИЕ 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0" y="510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286000" y="4952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7668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4. Нормы радиационной безопасност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3520" y="2514600"/>
          <a:ext cx="7848360" cy="3124080"/>
        </p:xfrm>
        <a:graphic>
          <a:graphicData uri="http://schemas.openxmlformats.org/drawingml/2006/table">
            <a:tbl>
              <a:tblPr/>
              <a:tblGrid>
                <a:gridCol w="3603600"/>
                <a:gridCol w="42447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 до 12 мкР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радиационный ф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– 100 мбэр (0,03 -0,1 бэ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доза обл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мбэ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ое облучение за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43"/>
          <p:cNvSpPr/>
          <p:nvPr/>
        </p:nvSpPr>
        <p:spPr>
          <a:xfrm>
            <a:off x="0" y="397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Пенкина.FB141FE2CCDD411\Мои документы\Пенкина О.В\ФотоОБЖ\ЧС техног\Аварии на РОО\{1050A855-ED3A-4226-A7EA-7DBDCEBF61EA}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38080" y="457200"/>
          <a:ext cx="7620120" cy="5943600"/>
        </p:xfrm>
        <a:graphic>
          <a:graphicData uri="http://schemas.openxmlformats.org/drawingml/2006/table">
            <a:tbl>
              <a:tblPr/>
              <a:tblGrid>
                <a:gridCol w="1498680"/>
                <a:gridCol w="6121440"/>
              </a:tblGrid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а облучения, бэ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поражения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мых признаков поражения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облучении (10—30 суток) внешних признаков нет. При однократном — у 10% возникает тошнота, рвота, слаб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(в течение 3 месяцев) — внешних признаков нет. При однократном — признаки лучевой болезни I степ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— первые признаки лучевой болезни. При однократном — лучевая болезнь II степ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400-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болезнь III степени. Головная боль, температура, слабость, тошнота, рвота, понос, изменение состава крови. При отсутствии лече­ния — смер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большинстве случаев смертельный исх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ниеносная форма лучевой болезни, гибель в первые сут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иды излучения вы теперь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альфа, б)бетта, в)г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Какое из них самое опас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альфа, б)бетта, в)г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В каких единицах измеряется доза:                а) излучения, б)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  Радон – это искусственный или естественный источник из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 Кто  больше облучается:                                  а) живущие на равнине, б) живущие в го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Какова годовая доза естественного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роверим себя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ьфа, бета, гамма – из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мма-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ентген, б) 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енный 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-100 м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2"/>
          <p:cNvSpPr txBox="1"/>
          <p:nvPr/>
        </p:nvSpPr>
        <p:spPr>
          <a:xfrm>
            <a:off x="1523880" y="91440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1523880" y="335268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Как работает атомная электростанция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С использует энергию атома, которая нагревает воду, превращая ее в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 вращает тур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низирующее излучение и его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излучений (естественные и искусствен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е и внешнее облучение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радиационной безопас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4920" y="220968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на не слышна, не видна, не пахнет, не дымит. Определяется только приборами. Не безобидн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4827600" y="4280040"/>
            <a:ext cx="4249800" cy="114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Что общего между этими тремя датами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и 9 августа 1945 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 апреля 198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росима и Нагасак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бы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Картинка 48 из 10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143000"/>
            <a:ext cx="3200400" cy="2359080"/>
          </a:xfrm>
          <a:prstGeom prst="rect">
            <a:avLst/>
          </a:prstGeom>
          <a:ln w="0">
            <a:noFill/>
          </a:ln>
        </p:spPr>
      </p:pic>
      <p:pic>
        <p:nvPicPr>
          <p:cNvPr id="95" name="Чернобыль.avi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1. Ионизирующее излуч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5 г. – В.Рентг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6 г. – А.Бекке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8 г. – М.Кюри и П.Кю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1986120" cy="22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7086600" y="2451240"/>
            <a:ext cx="1638360" cy="239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5638680" y="4489560"/>
            <a:ext cx="175284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ирующее изл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токи заряженных и нейтральных частиц, а также электромагнитных во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хождении через вещество вызывают в н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евращение нейтральных атомов и молекул в электрически заряженные неустойчивые части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иды излучений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4" name="Рисунок 5" descr=""/>
          <p:cNvPicPr/>
          <p:nvPr/>
        </p:nvPicPr>
        <p:blipFill>
          <a:blip r:embed="rId1"/>
          <a:srcRect l="0" t="5731" r="-49" b="11934"/>
          <a:stretch/>
        </p:blipFill>
        <p:spPr>
          <a:xfrm>
            <a:off x="990720" y="12952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96600" cy="4095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454px-Alfa_beta_gamma_radiation"/>
          <p:cNvPicPr/>
          <p:nvPr/>
        </p:nvPicPr>
        <p:blipFill>
          <a:blip r:embed="rId2"/>
          <a:stretch/>
        </p:blipFill>
        <p:spPr>
          <a:xfrm>
            <a:off x="2895480" y="4495680"/>
            <a:ext cx="289584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7-03T10:11:3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