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FE7-218A-4657-AFEB-B90D8B15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059-356F-4F17-B570-A68D8365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FD1-8F57-49D6-8767-05278E00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583E-A04A-40E2-A30E-90C73FAA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798B-879D-4B5E-BD84-2FA874A2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9F95-97F4-4068-BE28-A95649B6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CACF-4BCD-42C2-ACA2-8CC3F35E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3C91-0073-4B90-8FD1-4F3E3382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FB21-97CC-4930-91DC-3E789042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3CCC-511B-43B5-A647-F752FB0E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A5D3-0D34-479D-9104-47926CC9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B9A-09CA-4BAE-AE68-518905A3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A452-79C0-4316-9097-B3165898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F013-6D84-48B1-80A7-237E0A58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25E3-7EA3-4B2F-910E-8C6493F7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FE0F-BF7A-4BD0-BB3B-511F446D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B7D6-D190-44B4-A339-4B55C4EB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F76-046A-4703-A9F3-446E4E13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3FC-8F4B-4BCD-BA31-633116A2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D75-6C56-449F-8107-0777ECCB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AFC-9F03-43A1-82E4-C547F9BB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460-ADFD-4B8B-8F50-1B775821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1E0-60B2-4EE4-B365-681EE38B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21B-15C4-4238-899B-BAAD7DBA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7BE2-3FC2-4AD8-9AE1-AB32EC18CB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B787-AF95-4E54-9EAB-745ED9FCB1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nenews.ru/uploads/posts/2008-09/1220387076_1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69960"/>
            <a:ext cx="7924680" cy="28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«Ионизирующее излучение: природа, единицы измерения, биологические эффекты».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4762440"/>
            <a:ext cx="6400800" cy="17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-организатор ОБ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СОШ» с. Кам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ашов Алексей 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Характеристика степени опасности излучения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за излу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) – количество энергии ионизирующего излучения, поглощаемое 1 г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за облу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бэ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эр = 1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2. ИСТОЧНИКИ ИОНИЗИРУЮЩИХ ИЗЛУЧЕНИЙ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1" name="Group 13"/>
          <p:cNvGrpSpPr/>
          <p:nvPr/>
        </p:nvGrpSpPr>
        <p:grpSpPr>
          <a:xfrm>
            <a:off x="1143000" y="1600200"/>
            <a:ext cx="6477120" cy="837720"/>
            <a:chOff x="1143000" y="1600200"/>
            <a:chExt cx="6477120" cy="837720"/>
          </a:xfrm>
        </p:grpSpPr>
        <p:sp>
          <p:nvSpPr>
            <p:cNvPr id="112" name="AutoShape 16"/>
            <p:cNvSpPr/>
            <p:nvPr/>
          </p:nvSpPr>
          <p:spPr>
            <a:xfrm>
              <a:off x="1143000" y="1600200"/>
              <a:ext cx="647712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2894760" y="1768680"/>
              <a:ext cx="1066680" cy="66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877280" y="1768680"/>
              <a:ext cx="990360" cy="66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5"/>
          <p:cNvGrpSpPr/>
          <p:nvPr/>
        </p:nvGrpSpPr>
        <p:grpSpPr>
          <a:xfrm>
            <a:off x="0" y="2743200"/>
            <a:ext cx="8305920" cy="3886200"/>
            <a:chOff x="0" y="2743200"/>
            <a:chExt cx="8305920" cy="3886200"/>
          </a:xfrm>
        </p:grpSpPr>
        <p:sp>
          <p:nvSpPr>
            <p:cNvPr id="116" name="AutoShape 12"/>
            <p:cNvSpPr/>
            <p:nvPr/>
          </p:nvSpPr>
          <p:spPr>
            <a:xfrm>
              <a:off x="0" y="2743200"/>
              <a:ext cx="83059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5178600" y="2743200"/>
              <a:ext cx="3126960" cy="3656880"/>
            </a:xfrm>
            <a:prstGeom prst="rect">
              <a:avLst/>
            </a:prstGeom>
            <a:solidFill>
              <a:srgbClr val="fbee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Arial"/>
                  <a:ea typeface="Times New Roman"/>
                </a:rPr>
                <a:t>ИСКУССТВЕН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Ядерное производ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томные электро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Ядерно-энергетические установ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пециальные военные объек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дицинская рентгеновская аппарату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ытовые излуча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2540160" y="3657240"/>
              <a:ext cx="2248200" cy="21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ЗЕМ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стественные радиоактивные вещества (радон и др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949320" y="2753640"/>
              <a:ext cx="2708640" cy="507960"/>
            </a:xfrm>
            <a:prstGeom prst="rect">
              <a:avLst/>
            </a:prstGeom>
            <a:solidFill>
              <a:srgbClr val="fbee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Arial"/>
                  <a:ea typeface="Times New Roman"/>
                </a:rPr>
                <a:t>ЕСТЕСТВЕН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97920" y="3701880"/>
              <a:ext cx="2247120" cy="21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КОСМИЧЕСК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вездные взрыв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лнечные вспыш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 flipH="1">
              <a:off x="1270080" y="3314520"/>
              <a:ext cx="586080" cy="342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2736360" y="3314520"/>
              <a:ext cx="780840" cy="342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8"/>
          <p:cNvSpPr/>
          <p:nvPr/>
        </p:nvSpPr>
        <p:spPr>
          <a:xfrm>
            <a:off x="18288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"/>
          <p:cNvGrpSpPr/>
          <p:nvPr/>
        </p:nvGrpSpPr>
        <p:grpSpPr>
          <a:xfrm>
            <a:off x="304920" y="1752480"/>
            <a:ext cx="8381880" cy="3885840"/>
            <a:chOff x="304920" y="1752480"/>
            <a:chExt cx="8381880" cy="3885840"/>
          </a:xfrm>
        </p:grpSpPr>
        <p:sp>
          <p:nvSpPr>
            <p:cNvPr id="125" name="AutoShape 10"/>
            <p:cNvSpPr/>
            <p:nvPr/>
          </p:nvSpPr>
          <p:spPr>
            <a:xfrm>
              <a:off x="304920" y="2057400"/>
              <a:ext cx="8381880" cy="35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1980720" y="1752480"/>
              <a:ext cx="1523880" cy="60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"/>
            <p:cNvSpPr/>
            <p:nvPr/>
          </p:nvSpPr>
          <p:spPr>
            <a:xfrm>
              <a:off x="5629680" y="2555280"/>
              <a:ext cx="2820600" cy="49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ВНУТРЕННЕ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7"/>
            <p:cNvSpPr/>
            <p:nvPr/>
          </p:nvSpPr>
          <p:spPr>
            <a:xfrm>
              <a:off x="600480" y="2555280"/>
              <a:ext cx="2860200" cy="49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ВНЕШНЕ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403560" y="3151800"/>
              <a:ext cx="3548160" cy="1491120"/>
            </a:xfrm>
            <a:prstGeom prst="rect">
              <a:avLst/>
            </a:prstGeom>
            <a:solidFill>
              <a:srgbClr val="ecd0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Источник – </a:t>
              </a:r>
              <a:r>
                <a:rPr b="1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вне</a:t>
              </a:r>
              <a:r>
                <a:rPr b="0" lang="ru-RU" sz="2000" spc="-1" strike="noStrike" u="sng">
                  <a:solidFill>
                    <a:srgbClr val="ff9900"/>
                  </a:solidFill>
                  <a:uFillTx/>
                  <a:latin typeface="Arial"/>
                  <a:ea typeface="Times New Roman"/>
                </a:rPr>
                <a:t> 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организм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м выше над уровнем моря, тем выше ради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>
              <a:off x="4840560" y="3151800"/>
              <a:ext cx="3845880" cy="2486520"/>
            </a:xfrm>
            <a:prstGeom prst="rect">
              <a:avLst/>
            </a:prstGeom>
            <a:solidFill>
              <a:srgbClr val="ecd0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Источник – </a:t>
              </a:r>
              <a:r>
                <a:rPr b="1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внутри</a:t>
              </a:r>
              <a:r>
                <a:rPr b="0" lang="ru-RU" sz="2000" spc="-1" strike="noStrike" u="sng">
                  <a:solidFill>
                    <a:srgbClr val="ff9900"/>
                  </a:solidFill>
                  <a:uFillTx/>
                  <a:latin typeface="Arial"/>
                  <a:ea typeface="Times New Roman"/>
                </a:rPr>
                <a:t> 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организ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дыхательные пути (пыль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пищеварительный тракт (пища, вода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поврежденную кожу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Line 11"/>
          <p:cNvSpPr/>
          <p:nvPr/>
        </p:nvSpPr>
        <p:spPr>
          <a:xfrm>
            <a:off x="5410080" y="1752480"/>
            <a:ext cx="15242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600200" y="823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3. ОБЛУЧЕНИЕ 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0" y="510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286000" y="4952880"/>
            <a:ext cx="2133720" cy="160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17668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4. Нормы радиационной безопасности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3520" y="2514600"/>
          <a:ext cx="7848360" cy="3124080"/>
        </p:xfrm>
        <a:graphic>
          <a:graphicData uri="http://schemas.openxmlformats.org/drawingml/2006/table">
            <a:tbl>
              <a:tblPr/>
              <a:tblGrid>
                <a:gridCol w="3603600"/>
                <a:gridCol w="424476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 до 12 мкР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й радиационный ф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– 100 мбэр (0,03 -0,1 бэр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 доза обл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мбэ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мое облучение за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43"/>
          <p:cNvSpPr/>
          <p:nvPr/>
        </p:nvSpPr>
        <p:spPr>
          <a:xfrm>
            <a:off x="0" y="397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Пенкина.FB141FE2CCDD411\Мои документы\Пенкина О.В\ФотоОБЖ\ЧС техног\Аварии на РОО\{1050A855-ED3A-4226-A7EA-7DBDCEBF61EA}.jpg"/>
          <p:cNvPicPr/>
          <p:nvPr/>
        </p:nvPicPr>
        <p:blipFill>
          <a:blip r:embed="rId1"/>
          <a:stretch/>
        </p:blipFill>
        <p:spPr>
          <a:xfrm>
            <a:off x="-103320" y="0"/>
            <a:ext cx="9247320" cy="69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838080" y="457200"/>
          <a:ext cx="7620120" cy="5943600"/>
        </p:xfrm>
        <a:graphic>
          <a:graphicData uri="http://schemas.openxmlformats.org/drawingml/2006/table">
            <a:tbl>
              <a:tblPr/>
              <a:tblGrid>
                <a:gridCol w="1498680"/>
                <a:gridCol w="6121440"/>
              </a:tblGrid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за облучения, бэ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поражения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мых признаков поражения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многократном облучении (10—30 суток) внешних признаков нет. При однократном — у 10% возникает тошнота, рвота, слаб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многократном (в течение 3 месяцев) — внешних признаков нет. При однократном — признаки лучевой болезни I степе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многократном — первые признаки лучевой болезни. При однократном — лучевая болезнь II степе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400-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евая болезнь III степени. Головная боль, температура, слабость, тошнота, рвота, понос, изменение состава крови. При отсутствии лече­ния — смер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большинстве случаев смертельный исхо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ниеносная форма лучевой болезни, гибель в первые сут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виды излучения вы теперь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альфа, б)бетта, в)гам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 Какое из них самое опас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альфа, б)бетта, в)гам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В каких единицах измеряется доза:                а) излучения, б) об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  Радон – это искусственный или естественный источник из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  Кто  больше облучается:                                  а) живущие на равнине, б) живущие в гор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  Какова годовая доза естественного об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роверим себя!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ьфа, бета, гамма – из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мма-изл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Рентген, б) бэ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ественный 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-100 мбэ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2"/>
          <p:cNvSpPr txBox="1"/>
          <p:nvPr/>
        </p:nvSpPr>
        <p:spPr>
          <a:xfrm>
            <a:off x="1523880" y="914400"/>
            <a:ext cx="5943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1523880" y="3352680"/>
            <a:ext cx="5943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Как работает атомная электростанция?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ЭС использует энергию атома, которая нагревает воду, превращая ее в п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 вращает тур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онизирующее излучение и его в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и излучений (естественные и искусственны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ее и внешнее облучение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ы радиационной безопасност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Что это?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4920" y="2209680"/>
            <a:ext cx="7239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на не слышна, не видна, не пахнет, не дымит. Определяется только приборами. Не безобидн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4827600" y="4280040"/>
            <a:ext cx="4249800" cy="114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Что общего между этими тремя датами?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и 9 августа 1945 г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 апреля 1986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росима и Нагасак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обы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Картинка 48 из 10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143000"/>
            <a:ext cx="3200400" cy="2359080"/>
          </a:xfrm>
          <a:prstGeom prst="rect">
            <a:avLst/>
          </a:prstGeom>
          <a:ln w="0">
            <a:noFill/>
          </a:ln>
        </p:spPr>
      </p:pic>
      <p:pic>
        <p:nvPicPr>
          <p:cNvPr id="95" name="Чернобыль.avi" descr=""/>
          <p:cNvPicPr/>
          <p:nvPr/>
        </p:nvPicPr>
        <p:blipFill>
          <a:blip r:embed="rId3"/>
          <a:stretch/>
        </p:blipFill>
        <p:spPr>
          <a:xfrm>
            <a:off x="4952880" y="358128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1. Ионизирующее излучени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5 г. – В.Рентг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6 г. – А.Беккер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8 г. – М.Кюри и П.Кю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1986120" cy="22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7086600" y="2451240"/>
            <a:ext cx="1638360" cy="2390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5638680" y="4489560"/>
            <a:ext cx="1752840" cy="23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онизирующее излу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токи заряженных и нейтральных частиц, а также электромагнитных вол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хождении через вещество вызывают в не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онизац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евращение нейтральных атомов и молекул в электрически заряженные неустойчивые частиц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Виды излучений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4" name="Рисунок 5" descr=""/>
          <p:cNvPicPr/>
          <p:nvPr/>
        </p:nvPicPr>
        <p:blipFill>
          <a:blip r:embed="rId1"/>
          <a:srcRect l="0" t="5731" r="-49" b="11934"/>
          <a:stretch/>
        </p:blipFill>
        <p:spPr>
          <a:xfrm>
            <a:off x="990720" y="12952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6" name="Схема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796600" cy="4095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454px-Alfa_beta_gamma_radiation"/>
          <p:cNvPicPr/>
          <p:nvPr/>
        </p:nvPicPr>
        <p:blipFill>
          <a:blip r:embed="rId2"/>
          <a:stretch/>
        </p:blipFill>
        <p:spPr>
          <a:xfrm>
            <a:off x="2895480" y="4495680"/>
            <a:ext cx="289584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7-03T10:11:39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