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DA1-5B7B-48EB-9748-B2621907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99E-A205-45AD-AFDC-201C761B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DD13-95A3-4EAA-A85B-5967B560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13B-7960-4210-8A43-A6018391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905-3D01-4B95-BAF2-7ADE1188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616-DD0F-4FAC-B298-5FBB6882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C33A-6FCE-4624-8901-C87D00FE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42E0-9055-47AC-B866-C8C6287D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6F4-022B-4CA7-AFC4-F115BF4E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EBF-6025-4C31-9CAE-C20C0A2D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221-759E-4DB0-969A-C65BE8DC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1F9-9F63-4990-9850-1EFD94AA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B850-A49E-4C8A-896C-C3F932378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9.xml"/><Relationship Id="rId11" Type="http://schemas.openxmlformats.org/officeDocument/2006/relationships/slide" Target="slide19.xml"/><Relationship Id="rId12" Type="http://schemas.openxmlformats.org/officeDocument/2006/relationships/slide" Target="slide18.xml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457200"/>
            <a:ext cx="6705720" cy="825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Химическая ава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267080"/>
            <a:ext cx="6705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Тема 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81080" y="380880"/>
            <a:ext cx="5334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Хл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143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Хлор – зеленовато-желтый газ с резким удушливым запахом, тяжелее воздуха. Застаивается в нижних этажах зданий, в низи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981080"/>
            <a:ext cx="2743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Действие на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здражение слизистых оболочек, ко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езкая боль в груд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аше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ды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во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езь в глаз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рушение координации 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1981080"/>
            <a:ext cx="25146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Защ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ражданский противог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атно-марлевая повязка, смоченная 2% раствором пищевой со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ла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19810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1981080"/>
            <a:ext cx="32004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Оказание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деть на пострадавшего противогаз, вынести из опасной зоны, создать покой, дать теплое пит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 попадании на кожу обмыть вод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 ожоге наложить асептическую повяз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 остановке дыхания сделать искусственное дых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8305920" y="60199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14600" y="304920"/>
            <a:ext cx="4114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Амми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1430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Аммиак – бесцветный газ с резким удушливым запахом, легче воздуха. Проникает в верхние этажи з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057400"/>
            <a:ext cx="28195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Действие на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здражение слизистых оболочек, ко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зу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красн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смор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аше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душ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ердцеби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057400"/>
            <a:ext cx="213372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Защ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ражданский противога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атно-марлевая повязка, смоченная 5% раствором лимонной кисл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2057400"/>
            <a:ext cx="327636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Оказание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деть на пострадавшего противогаз, вынести из опасной зоны, дать вдыхать теплые водяные пары с добавлением уксуса, промыть гла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 попадании на кожу обмыть вод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 ожоге наложить асептическую повяз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и остановке дыхания сделать искусственное дых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6" name=""/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705360" cy="5029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9" name=""/>
          <p:cNvSpPr/>
          <p:nvPr/>
        </p:nvSpPr>
        <p:spPr>
          <a:xfrm>
            <a:off x="228600" y="228600"/>
            <a:ext cx="86104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Действия населения при оповещении о химической ава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19320" y="1562040"/>
            <a:ext cx="6705360" cy="5029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3" name=""/>
          <p:cNvSpPr/>
          <p:nvPr/>
        </p:nvSpPr>
        <p:spPr>
          <a:xfrm>
            <a:off x="304920" y="380880"/>
            <a:ext cx="85341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Действия после выхода из зоны химического за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86200" y="3454560"/>
            <a:ext cx="5257800" cy="3403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76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200" y="0"/>
            <a:ext cx="594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Те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685800"/>
            <a:ext cx="883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 результате аварии на химически опасном объекте (хладокомбинат) облако аварийно химически опасного вещества с запахом нашатырного спирта достигло Вашего жилища. Как Вы будете действовать, если Ваша квартира находится на 3 этаже многоэтажного до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станетесь в квартире;      укроетесь в подвале;      поднимитесь на верхний этаж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ыходить из зоны химического заражения след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австречу потоку ветра;      по направлению ветра;      перпендикулярно направлению ве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знаки отравления хлор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аздражение слизистых оболочек, кожи, резкая боль в груди, кашель, одышка, рвота, резь в глазах, нарушение координации дви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головная боль, жидкий стул, обморок, боль в гру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знаки отравления аммиак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атруднённое дыхание, ожог кожи, рвота с кровью, боль за грудиной и в желуд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аздражение слизистых оболочек, кожи, зуд, покраснение, насморк, кашель, удушье, сердцеби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380880" y="1905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3276720" y="1905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4" action="ppaction://hlinksldjump"/>
          </p:cNvPr>
          <p:cNvSpPr/>
          <p:nvPr/>
        </p:nvSpPr>
        <p:spPr>
          <a:xfrm>
            <a:off x="5943600" y="1905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5" action="ppaction://hlinksldjump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6" action="ppaction://hlinksldjump"/>
          </p:cNvPr>
          <p:cNvSpPr/>
          <p:nvPr/>
        </p:nvSpPr>
        <p:spPr>
          <a:xfrm>
            <a:off x="380880" y="2971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7" action="ppaction://hlinksldjump"/>
          </p:cNvPr>
          <p:cNvSpPr/>
          <p:nvPr/>
        </p:nvSpPr>
        <p:spPr>
          <a:xfrm>
            <a:off x="3352680" y="2971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8" action="ppaction://hlinksldjump"/>
          </p:cNvPr>
          <p:cNvSpPr/>
          <p:nvPr/>
        </p:nvSpPr>
        <p:spPr>
          <a:xfrm>
            <a:off x="6248520" y="2971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9" action="ppaction://hlinksldjump"/>
          </p:cNvPr>
          <p:cNvSpPr/>
          <p:nvPr/>
        </p:nvSpPr>
        <p:spPr>
          <a:xfrm>
            <a:off x="380880" y="4114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10" action="ppaction://hlinksldjump"/>
          </p:cNvPr>
          <p:cNvSpPr/>
          <p:nvPr/>
        </p:nvSpPr>
        <p:spPr>
          <a:xfrm>
            <a:off x="380880" y="4648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1" action="ppaction://hlinksldjump"/>
          </p:cNvPr>
          <p:cNvSpPr/>
          <p:nvPr/>
        </p:nvSpPr>
        <p:spPr>
          <a:xfrm>
            <a:off x="380880" y="5486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2" action="ppaction://hlinksldjump"/>
          </p:cNvPr>
          <p:cNvSpPr/>
          <p:nvPr/>
        </p:nvSpPr>
        <p:spPr>
          <a:xfrm>
            <a:off x="380880" y="6019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28800" y="609480"/>
            <a:ext cx="5715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равильно. 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429000" y="2666880"/>
            <a:ext cx="2744640" cy="250848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808080"/>
            </a:outerShdw>
          </a:effectLst>
        </p:spPr>
      </p:pic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822960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7493"/>
                </a:moveTo>
                <a:lnTo>
                  <a:pt x="7308" y="7493"/>
                </a:lnTo>
                <a:lnTo>
                  <a:pt x="7308" y="12828"/>
                </a:lnTo>
                <a:cubicBezTo>
                  <a:pt x="7308" y="13751"/>
                  <a:pt x="8109" y="14482"/>
                  <a:pt x="9145" y="14482"/>
                </a:cubicBezTo>
                <a:lnTo>
                  <a:pt x="10807" y="14482"/>
                </a:lnTo>
                <a:cubicBezTo>
                  <a:pt x="11843" y="14482"/>
                  <a:pt x="12644" y="13751"/>
                  <a:pt x="12644" y="12828"/>
                </a:cubicBezTo>
                <a:lnTo>
                  <a:pt x="12644" y="7493"/>
                </a:lnTo>
                <a:lnTo>
                  <a:pt x="10807" y="7493"/>
                </a:lnTo>
                <a:lnTo>
                  <a:pt x="14315" y="3985"/>
                </a:lnTo>
                <a:lnTo>
                  <a:pt x="17988" y="7493"/>
                </a:lnTo>
                <a:lnTo>
                  <a:pt x="16151" y="7493"/>
                </a:lnTo>
                <a:lnTo>
                  <a:pt x="16151" y="12828"/>
                </a:lnTo>
                <a:cubicBezTo>
                  <a:pt x="16151" y="15596"/>
                  <a:pt x="13575" y="18155"/>
                  <a:pt x="10807" y="18155"/>
                </a:cubicBezTo>
                <a:lnTo>
                  <a:pt x="9145" y="18155"/>
                </a:lnTo>
                <a:cubicBezTo>
                  <a:pt x="6377" y="18155"/>
                  <a:pt x="3801" y="15596"/>
                  <a:pt x="380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133720" y="609480"/>
            <a:ext cx="5181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одумай ещ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895480" y="2362320"/>
            <a:ext cx="3697560" cy="3468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533520"/>
            <a:ext cx="358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6f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1371600"/>
            <a:ext cx="792468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Химическая авар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ХОО - химически опасный 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исленность населения в зонах потенциально опасных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ородские предприятия, использующие опасные химические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ХОВ – аварийно химически опасные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ледствия аварий на химически опасных объек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ействия населения при оповещении о химической ава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ействия после выхода из зоны химического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е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845820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685800" y="1447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685800" y="1905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685800" y="2362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685800" y="3124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685800" y="3886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7" action="ppaction://hlinksldjump"/>
          </p:cNvPr>
          <p:cNvSpPr/>
          <p:nvPr/>
        </p:nvSpPr>
        <p:spPr>
          <a:xfrm>
            <a:off x="685800" y="4343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8" action="ppaction://hlinksldjump"/>
          </p:cNvPr>
          <p:cNvSpPr/>
          <p:nvPr/>
        </p:nvSpPr>
        <p:spPr>
          <a:xfrm>
            <a:off x="685800" y="4800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9" action="ppaction://hlinksldjump"/>
          </p:cNvPr>
          <p:cNvSpPr/>
          <p:nvPr/>
        </p:nvSpPr>
        <p:spPr>
          <a:xfrm>
            <a:off x="685800" y="5257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0" action="ppaction://hlinksldjump"/>
          </p:cNvPr>
          <p:cNvSpPr/>
          <p:nvPr/>
        </p:nvSpPr>
        <p:spPr>
          <a:xfrm>
            <a:off x="685800" y="57150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09680" y="533520"/>
            <a:ext cx="487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Химическая ава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447920"/>
            <a:ext cx="4800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Химическая авария - авария на химически опасном объекте, сопровождающаяся проливом или выбросом опасных химических веществ, способная привести к гибели людей или химическому заражению продовольствия, пищевого сырья и кормов, сельскохозяйственных животных и растений или окружающей природно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2857680" cy="23716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2" name=""/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66680" y="304920"/>
            <a:ext cx="7391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ХОО – химически опасный объ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295280"/>
            <a:ext cx="4800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Химически опасный объект (ХОО) - объект, на котором хранят, перерабатывают, используют или транспортируют опасные химические вещества, при аварии на котором или при разрушении которого может произойти гибель людей или химическое заражение сельскохозяйственных животных и растений, а также окружающей природно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3276360" cy="27972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7" name=""/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1" name=""/>
          <p:cNvSpPr/>
          <p:nvPr/>
        </p:nvSpPr>
        <p:spPr>
          <a:xfrm>
            <a:off x="845820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457200"/>
            <a:ext cx="86104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Городские предприятия, использующие опасные химические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981080"/>
            <a:ext cx="3809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еталлургический за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ашиностроительный за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ондитерская фаб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ивоваренный за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Ликероводочный за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1981080"/>
            <a:ext cx="3657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ясокомб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олокоза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Хладокомб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оммунальное хозя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танции водоочис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59436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спределение АХОВ по химически опасным объек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838080" y="6019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3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2120" y="914400"/>
            <a:ext cx="7696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АХОВ – аварийно химически опасные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362320"/>
            <a:ext cx="71629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варийно химически опасное вещество – вещество, применяемое в народном хозяйстве, при аварийном выбросе которого может произойти заражение окружающей среды в поражающих живой организм токсикодоз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л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мми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457200" y="5410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45720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09-09-28T17:07:2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