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638-DFFF-4B8E-978C-14B4B253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930-DEC0-4595-BC04-40D27C00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DF0-278A-4E4E-BA38-AB122886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656-2BCB-4E12-A5E9-7A22ED72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05D-3746-4CAF-92AC-2B509200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5C4-77A6-4C17-853C-69D781CD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E43-1F0E-4E03-A9BB-50E1D29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5D7-5A43-4CDB-99AC-F4420742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67C-F49B-4741-AA58-FEA2C3CF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F48-9B7E-4893-928B-3DC309F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2A5-FA35-498A-96DD-9EA3317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A9A-9F2F-48CC-9AA1-2EE3DBF8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4CE-DBA8-4207-B2D2-01F313EE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5720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Химическая ава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267080"/>
            <a:ext cx="6705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ема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38088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1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лор – зеленовато-желтый газ с резким удушливым запахом, тяжелее воздуха. Застаивается в нижних этажах зданий, в низ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1080"/>
            <a:ext cx="2743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кая боль в гру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ды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ь в 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ушение координации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981080"/>
            <a:ext cx="2514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2% раствором пищевой с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ла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9810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981080"/>
            <a:ext cx="3200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создать покой, дать теплое пит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3059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304920"/>
            <a:ext cx="411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ммиак – бесцветный газ с резким удушливым запахом, легче воздуха. Проникает в верхние этажи з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57400"/>
            <a:ext cx="28195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крас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смор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уш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ердцеби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057400"/>
            <a:ext cx="21337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5% раствором лимонной кисл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057400"/>
            <a:ext cx="3276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дать вдыхать теплые водяные пары с добавлением уксуса, промыть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56204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3454560"/>
            <a:ext cx="5257800" cy="340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0"/>
            <a:ext cx="594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результате аварии на химически опасном объекте (хладокомбинат) облако аварийно химически опасного вещества с запахом нашатырного спирта достигло Вашего жилища. Как Вы будете действовать, если Ваша квартира находится на 3 этаже многоэтажного до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станетесь в квартире;      укроетесь в подвале;      поднимитесь на верхний эт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ходить из зоны химического заражения 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встречу потоку ветра;      по направлению ветра;      перпендикулярно направлению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хло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резкая боль в груди, кашель, одышка, рвота, резь в глазах, нарушение координаци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оловная боль, жидкий стул, обморок, боль в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аммиа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труднённое дыхание, ожог кожи, рвота с кровью, боль за грудиной и в желу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зуд, покраснение, насморк, кашель, удушье, сердцеби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27672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59436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3808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33526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62485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380880" y="4114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8088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38088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3808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6094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авильно.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33720" y="609480"/>
            <a:ext cx="518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думай ещ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697560" cy="34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33520"/>
            <a:ext cx="35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371600"/>
            <a:ext cx="792468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О - химически 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исленность населения в зонах потенциально опасны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дствия аварий на химически опасных объ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85800" y="1447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858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8580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685800" y="3124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68580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68580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68580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685800" y="5257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5800" y="5715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53352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ая авария - авария на химически опасном объекте, сопровождающаяся проливом или выбросом опасных химических веществ, способная привести к гибели людей или химическому заражению продовольствия, пищевого сырья и кормов, сельскохозяйственных животных и растений или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857680" cy="237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304920"/>
            <a:ext cx="7391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ОО – химически опасный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9528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и опасный объект (ХОО) - объект, на котором хранят, перерабатывают, используют или транспортируют опасные химические вещества, при аварии на котором или при разрушении которого может произойти гибель людей или химическое заражение сельскохозяйственных животных и растений, а также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276360" cy="2797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4572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таллургическ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шиностроитель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дитерская фаб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ивоварен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кероводоч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981080"/>
            <a:ext cx="3657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яс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локо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лад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мун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анции водо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5943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спределение АХОВ по химически опасным объе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80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914400"/>
            <a:ext cx="769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362320"/>
            <a:ext cx="71629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варийно химически опасное вещество – вещество, применяемое в народном хозяйстве, при аварийном выбросе которого может произойти заражение окружающей среды в поражающих живой организм токсикодо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45720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4572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9-28T17:07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