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B0E-28F0-46FA-BD8A-55580B02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B1F-C50A-4C0C-AF69-C9B42281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906-61E8-4C8E-B621-5FB0D2C5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D6E-EE2D-46D0-AA50-920C2842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58E-AF3A-49B1-B47F-0867C533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5BB-72D5-4331-B49A-61061ADC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74C-A7EF-4D8A-9FEC-9B8DF511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99A-30D6-4972-9ED3-5E50F4B7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33E-31C0-48E8-9FCD-07D441C1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F10-958A-435B-AEDD-A2A64548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233-23C0-417C-AA8B-80E44560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D8D-079D-4150-BD5D-7A6D497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8AA9-EF7A-44FF-8A01-6B2CB8198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195640" y="333360"/>
            <a:ext cx="3630600" cy="22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волю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2920" y="2565360"/>
            <a:ext cx="816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исходящий во вре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братимый процесс измен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й-либо системы, благодаря ч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никает что-то новое, разнород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более высокой ступени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20200" y="575136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термин был использован в 1762г. Карлом Бон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68360" y="33336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Приспособленность – возникает п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ямым воздействием  услов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шней среды (Упражнени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упражнение орган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jiraf"/>
          <p:cNvPicPr/>
          <p:nvPr/>
        </p:nvPicPr>
        <p:blipFill>
          <a:blip r:embed="rId1"/>
          <a:stretch/>
        </p:blipFill>
        <p:spPr>
          <a:xfrm>
            <a:off x="539640" y="2492280"/>
            <a:ext cx="1974960" cy="418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okapi"/>
          <p:cNvPicPr/>
          <p:nvPr/>
        </p:nvPicPr>
        <p:blipFill>
          <a:blip r:embed="rId2"/>
          <a:stretch/>
        </p:blipFill>
        <p:spPr>
          <a:xfrm>
            <a:off x="5796000" y="2060640"/>
            <a:ext cx="2543040" cy="4324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5993280" y="63752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56000" y="616572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50920" y="6237360"/>
            <a:ext cx="10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ра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olen2"/>
          <p:cNvPicPr/>
          <p:nvPr/>
        </p:nvPicPr>
        <p:blipFill>
          <a:blip r:embed="rId3"/>
          <a:stretch/>
        </p:blipFill>
        <p:spPr>
          <a:xfrm>
            <a:off x="3059280" y="2421000"/>
            <a:ext cx="2315880" cy="2442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krot"/>
          <p:cNvPicPr/>
          <p:nvPr/>
        </p:nvPicPr>
        <p:blipFill>
          <a:blip r:embed="rId4"/>
          <a:stretch/>
        </p:blipFill>
        <p:spPr>
          <a:xfrm>
            <a:off x="2987640" y="5013360"/>
            <a:ext cx="24796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11280" y="62064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Ставит вопрос о факторах и движущих силах эволю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Это стремление всего жи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совершенствов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50920" y="2997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Открыл два закона: об изменчивости и наслед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56960" y="4292640"/>
            <a:ext cx="8998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кон изменчивост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 меняется под действием лишь одной движу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ы: условий внешн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кон  наследственност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дивидуальные изменения, если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ются в ряде поколений, передаются по наследству и становя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ами в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248400" y="333360"/>
            <a:ext cx="859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Постепенное повышение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вых существ в процессе эволю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марк назвал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адаци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восхожд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@@140192"/>
          <p:cNvPicPr/>
          <p:nvPr/>
        </p:nvPicPr>
        <p:blipFill>
          <a:blip r:embed="rId1"/>
          <a:stretch/>
        </p:blipFill>
        <p:spPr>
          <a:xfrm>
            <a:off x="2268360" y="1989000"/>
            <a:ext cx="313704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4"/>
          <p:cNvSpPr/>
          <p:nvPr/>
        </p:nvSpPr>
        <p:spPr>
          <a:xfrm>
            <a:off x="4500720" y="0"/>
            <a:ext cx="71280" cy="587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528920" y="31680"/>
            <a:ext cx="87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995440" y="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84960" y="903240"/>
            <a:ext cx="311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здал перв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остную тео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ждения в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-5040" y="1989000"/>
            <a:ext cx="442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ервым применил терм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одство» для обозна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ства происхождения жи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-6480" y="3284640"/>
            <a:ext cx="44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ид изменчив. Развитие прои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дит от простого к слож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-4680" y="4076640"/>
            <a:ext cx="443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Открыл два закона об изменч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ти и наслед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-3240" y="5013360"/>
            <a:ext cx="40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Впервые поставил вопрос 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торах э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620240" y="758880"/>
            <a:ext cx="401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Вид реально не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617360" y="1406520"/>
            <a:ext cx="463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Неверно определил движу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ы э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тремление живого к совершенс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вани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4536720" y="2852640"/>
            <a:ext cx="461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Передаются все приобрет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зн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555440" y="3789360"/>
            <a:ext cx="459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Обязательное появление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езных изменений и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-360" y="6035760"/>
            <a:ext cx="94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а эволюционной теории были недостаточ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на не была приня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image001"/>
          <p:cNvPicPr/>
          <p:nvPr/>
        </p:nvPicPr>
        <p:blipFill>
          <a:blip r:embed="rId1"/>
          <a:stretch/>
        </p:blipFill>
        <p:spPr>
          <a:xfrm>
            <a:off x="250920" y="189000"/>
            <a:ext cx="2047680" cy="3076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917800" y="333360"/>
            <a:ext cx="33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арлз Дарв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680560" y="1000080"/>
            <a:ext cx="58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ниг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Происхождение видов пу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ого отбора» (1859г.)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эволюционной те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396160" y="2276640"/>
            <a:ext cx="674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ниг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Изменение животн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й под влиянием одомашни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868г.) – изложена первая нау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 се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339280" y="4437000"/>
            <a:ext cx="459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ниг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Происхо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а и половой отбор»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ложена 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а (1871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darwin200"/>
          <p:cNvPicPr/>
          <p:nvPr/>
        </p:nvPicPr>
        <p:blipFill>
          <a:blip r:embed="rId2"/>
          <a:stretch/>
        </p:blipFill>
        <p:spPr>
          <a:xfrm>
            <a:off x="250920" y="3716280"/>
            <a:ext cx="1904760" cy="285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darwin"/>
          <p:cNvPicPr/>
          <p:nvPr/>
        </p:nvPicPr>
        <p:blipFill>
          <a:blip r:embed="rId3"/>
          <a:stretch/>
        </p:blipFill>
        <p:spPr>
          <a:xfrm>
            <a:off x="6948360" y="3645000"/>
            <a:ext cx="20196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истематика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раздел биологии, посвященный  описанию, обозначению и классификации по группам(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таксонам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) всех существующих и вымерших организмов, установлению родственных связей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 rot="16200000">
            <a:off x="3687120" y="1722960"/>
            <a:ext cx="4724280" cy="5545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755640" y="4941720"/>
            <a:ext cx="19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Карл Лин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(1707-1778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24360" y="2435400"/>
            <a:ext cx="61927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инципы систематики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инарная номенкл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двойное название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ид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пример,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omo sap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ерархия (соподчиненност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пример: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дц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ц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дцарст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95280" y="5805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сновоположник принципов сис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Карл Линней"/>
          <p:cNvPicPr/>
          <p:nvPr/>
        </p:nvPicPr>
        <p:blipFill>
          <a:blip r:embed="rId2"/>
          <a:stretch/>
        </p:blipFill>
        <p:spPr>
          <a:xfrm>
            <a:off x="468360" y="1700280"/>
            <a:ext cx="2436840" cy="3230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61128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376920" y="632952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едский натуралист, 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59280" y="836640"/>
          <a:ext cx="5184720" cy="5289480"/>
        </p:xfrm>
        <a:graphic>
          <a:graphicData uri="http://schemas.openxmlformats.org/drawingml/2006/table">
            <a:tbl>
              <a:tblPr/>
              <a:tblGrid>
                <a:gridCol w="2197080"/>
                <a:gridCol w="29876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мпе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точ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дцар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кари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Цар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одцар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гоклеточ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Т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дов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екопитающ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т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ищ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еме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шачь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thera Le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 w="187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28"/>
          <p:cNvSpPr/>
          <p:nvPr/>
        </p:nvSpPr>
        <p:spPr>
          <a:xfrm>
            <a:off x="2484360" y="3500280"/>
            <a:ext cx="1440000" cy="2305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9"/>
          <p:cNvSpPr/>
          <p:nvPr/>
        </p:nvSpPr>
        <p:spPr>
          <a:xfrm>
            <a:off x="2556000" y="3500280"/>
            <a:ext cx="1368360" cy="18734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2556000" y="3500280"/>
            <a:ext cx="1368360" cy="1368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1"/>
          <p:cNvSpPr/>
          <p:nvPr/>
        </p:nvSpPr>
        <p:spPr>
          <a:xfrm>
            <a:off x="2556000" y="3500280"/>
            <a:ext cx="136836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2"/>
          <p:cNvSpPr/>
          <p:nvPr/>
        </p:nvSpPr>
        <p:spPr>
          <a:xfrm>
            <a:off x="2556000" y="3573360"/>
            <a:ext cx="1368360" cy="287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3"/>
          <p:cNvSpPr/>
          <p:nvPr/>
        </p:nvSpPr>
        <p:spPr>
          <a:xfrm flipV="1">
            <a:off x="2556000" y="3284640"/>
            <a:ext cx="1368360" cy="288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4"/>
          <p:cNvSpPr/>
          <p:nvPr/>
        </p:nvSpPr>
        <p:spPr>
          <a:xfrm flipV="1">
            <a:off x="2556000" y="2852640"/>
            <a:ext cx="136836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5"/>
          <p:cNvSpPr/>
          <p:nvPr/>
        </p:nvSpPr>
        <p:spPr>
          <a:xfrm flipV="1">
            <a:off x="2556000" y="1700280"/>
            <a:ext cx="1368360" cy="1800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6"/>
          <p:cNvSpPr/>
          <p:nvPr/>
        </p:nvSpPr>
        <p:spPr>
          <a:xfrm flipV="1">
            <a:off x="2556000" y="1196640"/>
            <a:ext cx="1368360" cy="2376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7"/>
          <p:cNvSpPr/>
          <p:nvPr/>
        </p:nvSpPr>
        <p:spPr>
          <a:xfrm flipV="1">
            <a:off x="2627280" y="2204640"/>
            <a:ext cx="1368360" cy="1368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8" descr="152b450bb82796efa29caaa7ba6beb6e"/>
          <p:cNvPicPr/>
          <p:nvPr/>
        </p:nvPicPr>
        <p:blipFill>
          <a:blip r:embed="rId1"/>
          <a:srcRect l="22997" t="0" r="8716" b="0"/>
          <a:stretch/>
        </p:blipFill>
        <p:spPr>
          <a:xfrm>
            <a:off x="395280" y="2276640"/>
            <a:ext cx="2508120" cy="27540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65" name="Text Box 39"/>
          <p:cNvSpPr/>
          <p:nvPr/>
        </p:nvSpPr>
        <p:spPr>
          <a:xfrm>
            <a:off x="0" y="0"/>
            <a:ext cx="39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мер систематического положения живо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-совокупность сходных по строению особей, дающих плодовитое потом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08080" y="3357720"/>
            <a:ext cx="894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л первую систему, но искусственну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к. искал сходство организмов, а не род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5000" y="4724280"/>
            <a:ext cx="891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 – строение тычинок: форма, располож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695960" y="2421000"/>
            <a:ext cx="61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постоянен с момента соз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л цветочные ч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linney"/>
          <p:cNvPicPr/>
          <p:nvPr/>
        </p:nvPicPr>
        <p:blipFill>
          <a:blip r:embed="rId1"/>
          <a:stretch/>
        </p:blipFill>
        <p:spPr>
          <a:xfrm>
            <a:off x="395280" y="162864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"/>
          <p:cNvPicPr/>
          <p:nvPr/>
        </p:nvPicPr>
        <p:blipFill>
          <a:blip r:embed="rId2"/>
          <a:stretch/>
        </p:blipFill>
        <p:spPr>
          <a:xfrm>
            <a:off x="4788000" y="1773360"/>
            <a:ext cx="3851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052360" y="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227640" y="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78560" y="917640"/>
            <a:ext cx="4402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оздал  пер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Вид- ре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Бинар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Усовершенств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таниче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Описал около 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ов и бо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00 видов раст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 им наз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857480" y="836640"/>
            <a:ext cx="393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Искусстве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, т.к. ис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ки сход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не р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Метафиз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гля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Вид – стабил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измене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ан Батист Ламарк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н-Батист-Пьер-Антуан де Моне, шевалье де ла Марк)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744-182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776760" y="4653000"/>
            <a:ext cx="515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Философия зоолог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Жан Батист Ламарк"/>
          <p:cNvPicPr/>
          <p:nvPr/>
        </p:nvPicPr>
        <p:blipFill>
          <a:blip r:embed="rId1"/>
          <a:stretch/>
        </p:blipFill>
        <p:spPr>
          <a:xfrm>
            <a:off x="179280" y="1628640"/>
            <a:ext cx="3328920" cy="480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4282560" y="2997360"/>
            <a:ext cx="418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уз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ествоиспыт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2400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 изменчив, но нереален абстрак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oloz"/>
          <p:cNvPicPr/>
          <p:nvPr/>
        </p:nvPicPr>
        <p:blipFill>
          <a:blip r:embed="rId1"/>
          <a:stretch/>
        </p:blipFill>
        <p:spPr>
          <a:xfrm>
            <a:off x="611280" y="1916280"/>
            <a:ext cx="3419280" cy="229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ugor"/>
          <p:cNvPicPr/>
          <p:nvPr/>
        </p:nvPicPr>
        <p:blipFill>
          <a:blip r:embed="rId2"/>
          <a:stretch/>
        </p:blipFill>
        <p:spPr>
          <a:xfrm>
            <a:off x="4427640" y="1916280"/>
            <a:ext cx="3384360" cy="2268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549440" y="436572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798520" y="4292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52880" y="4908600"/>
            <a:ext cx="845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ид понятие условное. Природа – непреры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пь меняющихся индивидуу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 виды переходят в другие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391680" y="404640"/>
            <a:ext cx="719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Рассматривал эволюцию ви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ремени все мен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93120" y="1484280"/>
            <a:ext cx="77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Создал определительные 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bird-sum1"/>
          <p:cNvPicPr/>
          <p:nvPr/>
        </p:nvPicPr>
        <p:blipFill>
          <a:blip r:embed="rId1"/>
          <a:stretch/>
        </p:blipFill>
        <p:spPr>
          <a:xfrm>
            <a:off x="395280" y="2060640"/>
            <a:ext cx="3244680" cy="459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fl_perv1"/>
          <p:cNvPicPr/>
          <p:nvPr/>
        </p:nvPicPr>
        <p:blipFill>
          <a:blip r:embed="rId2"/>
          <a:stretch/>
        </p:blipFill>
        <p:spPr>
          <a:xfrm>
            <a:off x="3851280" y="2492280"/>
            <a:ext cx="51228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15:48Z</dcterms:created>
  <dc:creator>Мама</dc:creator>
  <dc:description/>
  <dc:language>en-US</dc:language>
  <cp:lastModifiedBy>Николай</cp:lastModifiedBy>
  <dcterms:modified xsi:type="dcterms:W3CDTF">2012-11-03T10:42:53Z</dcterms:modified>
  <cp:revision>12</cp:revision>
  <dc:subject/>
  <dc:title>Слайд 1</dc:title>
</cp:coreProperties>
</file>