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4D1-7FA9-4423-A8A5-4154653C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626-2405-42C0-8F58-C442933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D2F-4D80-4123-80DB-3440982E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A8F-7284-4E63-8587-DB0318AF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EFA-BE43-41CD-B92B-6F9D050D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98B-2E7A-45C9-A2B0-70F5B84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284-6B33-42F7-89FF-BFDBB01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343-F082-43FC-8AE0-5291176C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6D5-84E5-43A0-AA35-1926689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8B5-0E47-4547-98EE-D31D1D3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401-CAA8-4189-BD87-38387EB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CD2-FBFD-4B9E-99CC-BBB3D772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DE2-9179-4B19-BEC5-A967246DE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333360"/>
            <a:ext cx="363060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волю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2920" y="2565360"/>
            <a:ext cx="816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ящий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ратимый процесс изме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-либо системы, благодаря ч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никает что-то новое, разно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более высокой ступен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20200" y="575136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термин был использован в 1762г. Карлом Бон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3333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Приспособленность – возникает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ым воздействием  услов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й среды (Упражнени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упражнение орган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jiraf"/>
          <p:cNvPicPr/>
          <p:nvPr/>
        </p:nvPicPr>
        <p:blipFill>
          <a:blip r:embed="rId1"/>
          <a:stretch/>
        </p:blipFill>
        <p:spPr>
          <a:xfrm>
            <a:off x="539640" y="2492280"/>
            <a:ext cx="197496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okapi"/>
          <p:cNvPicPr/>
          <p:nvPr/>
        </p:nvPicPr>
        <p:blipFill>
          <a:blip r:embed="rId2"/>
          <a:stretch/>
        </p:blipFill>
        <p:spPr>
          <a:xfrm>
            <a:off x="5796000" y="2060640"/>
            <a:ext cx="2543040" cy="4324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993280" y="6375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56000" y="6165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50920" y="623736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olen2"/>
          <p:cNvPicPr/>
          <p:nvPr/>
        </p:nvPicPr>
        <p:blipFill>
          <a:blip r:embed="rId3"/>
          <a:stretch/>
        </p:blipFill>
        <p:spPr>
          <a:xfrm>
            <a:off x="3059280" y="2421000"/>
            <a:ext cx="2315880" cy="2442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krot"/>
          <p:cNvPicPr/>
          <p:nvPr/>
        </p:nvPicPr>
        <p:blipFill>
          <a:blip r:embed="rId4"/>
          <a:stretch/>
        </p:blipFill>
        <p:spPr>
          <a:xfrm>
            <a:off x="2987640" y="5013360"/>
            <a:ext cx="24796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11280" y="620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Ставит вопрос о факторах и движущих силах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то стремление всего жи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овершенство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299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Открыл два закона: об изменчивости и наслед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6960" y="4292640"/>
            <a:ext cx="899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изменчив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меняется под действием лишь одной движу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: условий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 наследственн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ивидуальные изменения, если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ются в ряде поколений, передаются по наследству и станов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ами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48400" y="333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Постепенное повышен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ых существ в процессе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марк назвал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адаци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восхожд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@@140192"/>
          <p:cNvPicPr/>
          <p:nvPr/>
        </p:nvPicPr>
        <p:blipFill>
          <a:blip r:embed="rId1"/>
          <a:stretch/>
        </p:blipFill>
        <p:spPr>
          <a:xfrm>
            <a:off x="2268360" y="1989000"/>
            <a:ext cx="31370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00720" y="0"/>
            <a:ext cx="71280" cy="587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28920" y="3168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995440" y="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4960" y="903240"/>
            <a:ext cx="31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здал пер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остную те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-5040" y="1989000"/>
            <a:ext cx="442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ервым применил 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дство» для обозна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а происхождения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-6480" y="3284640"/>
            <a:ext cx="44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ид изменчив. Развитие прои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ит от простого к слож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-4680" y="4076640"/>
            <a:ext cx="443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ткрыл два закона об изменч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и и наслед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-3240" y="5013360"/>
            <a:ext cx="40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Впервые поставил вопрос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ах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620240" y="758880"/>
            <a:ext cx="40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ид реально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617360" y="140652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Неверно определил движу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ы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тремление живого к совершенс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36720" y="2852640"/>
            <a:ext cx="461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Передаются все приобрет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55440" y="3789360"/>
            <a:ext cx="459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бязательное появлени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зных изменений и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-360" y="6035760"/>
            <a:ext cx="94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а эволюционной теории были недостаточ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на не была прин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image001"/>
          <p:cNvPicPr/>
          <p:nvPr/>
        </p:nvPicPr>
        <p:blipFill>
          <a:blip r:embed="rId1"/>
          <a:stretch/>
        </p:blipFill>
        <p:spPr>
          <a:xfrm>
            <a:off x="250920" y="189000"/>
            <a:ext cx="2047680" cy="3076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917800" y="33336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80560" y="1000080"/>
            <a:ext cx="58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видов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го отбора» (1859г.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эволюционной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396160" y="227664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Изменение живот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й под влиянием одомашни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868г.) – изложена первая 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се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339280" y="4437000"/>
            <a:ext cx="459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и половой отбор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ожена 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(187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darwin200"/>
          <p:cNvPicPr/>
          <p:nvPr/>
        </p:nvPicPr>
        <p:blipFill>
          <a:blip r:embed="rId2"/>
          <a:stretch/>
        </p:blipFill>
        <p:spPr>
          <a:xfrm>
            <a:off x="250920" y="371628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darwin"/>
          <p:cNvPicPr/>
          <p:nvPr/>
        </p:nvPicPr>
        <p:blipFill>
          <a:blip r:embed="rId3"/>
          <a:stretch/>
        </p:blipFill>
        <p:spPr>
          <a:xfrm>
            <a:off x="6948360" y="3645000"/>
            <a:ext cx="20196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истематика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раздел биологии, посвященный  описанию, обозначению и классификации по группам(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таксонам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) всех существующих и вымерших организмов, установлению родственных 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 rot="16200000">
            <a:off x="3687120" y="1722960"/>
            <a:ext cx="4724280" cy="5545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4941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рл Лин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(1707-1778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24360" y="2435400"/>
            <a:ext cx="6192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нципы систематик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инарная 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двойное название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ид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,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ерархия (соподчиненност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: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д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дцарст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9528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сновоположник принципов сис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Карл Линней"/>
          <p:cNvPicPr/>
          <p:nvPr/>
        </p:nvPicPr>
        <p:blipFill>
          <a:blip r:embed="rId2"/>
          <a:stretch/>
        </p:blipFill>
        <p:spPr>
          <a:xfrm>
            <a:off x="468360" y="1700280"/>
            <a:ext cx="2436840" cy="3230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6112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76920" y="63295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ский натуралист, 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9280" y="836640"/>
          <a:ext cx="5184720" cy="5289480"/>
        </p:xfrm>
        <a:graphic>
          <a:graphicData uri="http://schemas.openxmlformats.org/drawingml/2006/table">
            <a:tbl>
              <a:tblPr/>
              <a:tblGrid>
                <a:gridCol w="2197080"/>
                <a:gridCol w="29876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мп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ари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о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д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копитающ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щ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ме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ач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thera 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28"/>
          <p:cNvSpPr/>
          <p:nvPr/>
        </p:nvSpPr>
        <p:spPr>
          <a:xfrm>
            <a:off x="2484360" y="3500280"/>
            <a:ext cx="1440000" cy="2305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2556000" y="3500280"/>
            <a:ext cx="1368360" cy="1873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2556000" y="3500280"/>
            <a:ext cx="1368360" cy="136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2556000" y="350028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2"/>
          <p:cNvSpPr/>
          <p:nvPr/>
        </p:nvSpPr>
        <p:spPr>
          <a:xfrm>
            <a:off x="2556000" y="3573360"/>
            <a:ext cx="136836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3"/>
          <p:cNvSpPr/>
          <p:nvPr/>
        </p:nvSpPr>
        <p:spPr>
          <a:xfrm flipV="1">
            <a:off x="2556000" y="3284640"/>
            <a:ext cx="1368360" cy="28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 flipV="1">
            <a:off x="2556000" y="285264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5"/>
          <p:cNvSpPr/>
          <p:nvPr/>
        </p:nvSpPr>
        <p:spPr>
          <a:xfrm flipV="1">
            <a:off x="2556000" y="1700280"/>
            <a:ext cx="1368360" cy="1800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6"/>
          <p:cNvSpPr/>
          <p:nvPr/>
        </p:nvSpPr>
        <p:spPr>
          <a:xfrm flipV="1">
            <a:off x="2556000" y="1196640"/>
            <a:ext cx="1368360" cy="237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 flipV="1">
            <a:off x="2627280" y="2204640"/>
            <a:ext cx="1368360" cy="1368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8" descr="152b450bb82796efa29caaa7ba6beb6e"/>
          <p:cNvPicPr/>
          <p:nvPr/>
        </p:nvPicPr>
        <p:blipFill>
          <a:blip r:embed="rId1"/>
          <a:srcRect l="22997" t="0" r="8716" b="0"/>
          <a:stretch/>
        </p:blipFill>
        <p:spPr>
          <a:xfrm>
            <a:off x="395280" y="2276640"/>
            <a:ext cx="2508120" cy="2754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65" name="Text Box 39"/>
          <p:cNvSpPr/>
          <p:nvPr/>
        </p:nvSpPr>
        <p:spPr>
          <a:xfrm>
            <a:off x="0" y="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мер систематического положения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-совокупность сходных по строению особей, дающих плодовитое потом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08080" y="3357720"/>
            <a:ext cx="89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 первую систему, но искусственн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искал сходство организмов, а не род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5000" y="4724280"/>
            <a:ext cx="89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 – строение тычинок: форма, располож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695960" y="242100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постоянен с момента соз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л цветоч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inney"/>
          <p:cNvPicPr/>
          <p:nvPr/>
        </p:nvPicPr>
        <p:blipFill>
          <a:blip r:embed="rId1"/>
          <a:stretch/>
        </p:blipFill>
        <p:spPr>
          <a:xfrm>
            <a:off x="395280" y="1628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"/>
          <p:cNvPicPr/>
          <p:nvPr/>
        </p:nvPicPr>
        <p:blipFill>
          <a:blip r:embed="rId2"/>
          <a:stretch/>
        </p:blipFill>
        <p:spPr>
          <a:xfrm>
            <a:off x="4788000" y="1773360"/>
            <a:ext cx="385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2360" y="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227640" y="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8560" y="917640"/>
            <a:ext cx="4402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оздал 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ид- ре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Бинар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совершенств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тан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писал около 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в и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00 видов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 им на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857480" y="836640"/>
            <a:ext cx="393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кусств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, т.к.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сход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е р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тафиз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гл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Вид – стаби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измен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ан Батист Ламарк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-Батист-Пьер-Антуан де Моне, шевалье де ла Марк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44-18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76760" y="4653000"/>
            <a:ext cx="51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илософия зоолог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Жан Батист Ламарк"/>
          <p:cNvPicPr/>
          <p:nvPr/>
        </p:nvPicPr>
        <p:blipFill>
          <a:blip r:embed="rId1"/>
          <a:stretch/>
        </p:blipFill>
        <p:spPr>
          <a:xfrm>
            <a:off x="179280" y="1628640"/>
            <a:ext cx="3328920" cy="480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4282560" y="2997360"/>
            <a:ext cx="41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оиспы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 изменчив, но нереален абстрак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oloz"/>
          <p:cNvPicPr/>
          <p:nvPr/>
        </p:nvPicPr>
        <p:blipFill>
          <a:blip r:embed="rId1"/>
          <a:stretch/>
        </p:blipFill>
        <p:spPr>
          <a:xfrm>
            <a:off x="611280" y="1916280"/>
            <a:ext cx="3419280" cy="229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ugor"/>
          <p:cNvPicPr/>
          <p:nvPr/>
        </p:nvPicPr>
        <p:blipFill>
          <a:blip r:embed="rId2"/>
          <a:stretch/>
        </p:blipFill>
        <p:spPr>
          <a:xfrm>
            <a:off x="4427640" y="1916280"/>
            <a:ext cx="3384360" cy="2268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549440" y="43657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79852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52880" y="4908600"/>
            <a:ext cx="84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ид понятие условное. Природа – непреры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пь меняющихся индивидуу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 виды переходят в други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391680" y="404640"/>
            <a:ext cx="719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Рассматривал эволюцию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ени все 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93120" y="148428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Создал определительны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bird-sum1"/>
          <p:cNvPicPr/>
          <p:nvPr/>
        </p:nvPicPr>
        <p:blipFill>
          <a:blip r:embed="rId1"/>
          <a:stretch/>
        </p:blipFill>
        <p:spPr>
          <a:xfrm>
            <a:off x="395280" y="2060640"/>
            <a:ext cx="3244680" cy="45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fl_perv1"/>
          <p:cNvPicPr/>
          <p:nvPr/>
        </p:nvPicPr>
        <p:blipFill>
          <a:blip r:embed="rId2"/>
          <a:stretch/>
        </p:blipFill>
        <p:spPr>
          <a:xfrm>
            <a:off x="3851280" y="2492280"/>
            <a:ext cx="5122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15:48Z</dcterms:created>
  <dc:creator>Мама</dc:creator>
  <dc:description/>
  <dc:language>en-US</dc:language>
  <cp:lastModifiedBy>Николай</cp:lastModifiedBy>
  <dcterms:modified xsi:type="dcterms:W3CDTF">2012-11-03T10:42:53Z</dcterms:modified>
  <cp:revision>12</cp:revision>
  <dc:subject/>
  <dc:title>Слайд 1</dc:title>
</cp:coreProperties>
</file>