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3CA-53A3-4EFA-8C54-805ACBD8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0DF-7A66-439F-B4B9-01BECA85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672-CB70-4ED2-8B17-9E033812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446-F844-404E-906C-834A1591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38A2-EDF6-4578-A9FE-07CF501B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143-F2DA-4464-BACE-9BF273B1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F7E5-E1E3-47C1-A331-CD1BF020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CFE6-AC70-4FCA-A827-73F736E9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CCB7-61EA-478A-A0DC-C8DEBC4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46E-F6A8-4F26-89F9-98F237E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6CA6-D168-4DFB-B6CB-56CEFCA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1ED-6801-4C37-9CAF-50008AC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ACD3-8EFA-4E28-9380-A93689B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3266-95E5-497E-88CD-53CF8DA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9BE-E01E-4DB0-83FA-ED927A1C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06E-AB9A-492D-ACA9-A6B08842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B62F-4C95-4F70-852E-B3013A60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4AF-9176-4F17-A87F-3FDD118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391-663D-4F43-94E3-AEDB125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DF3-26B8-4C82-8D2F-7FF5958B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822-C6D0-46A1-A616-2830BED9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008-96E5-4126-B845-4E2ED2F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A2-54A9-48F5-A0FE-DCAE32F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C3D-305F-405C-87B8-B62B00CB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05F1-3486-4F03-8B59-B3CE557831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3CED-BF88-48E1-A5B6-AD35691C29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ак разговаривает улица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31240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1"/>
          <a:stretch/>
        </p:blipFill>
        <p:spPr>
          <a:xfrm>
            <a:off x="7018200" y="3352680"/>
            <a:ext cx="1897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Группы дорожных знаков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упрежд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писыв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рещающ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о-указа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серви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ки приори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ительной информации(таблич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5f7"/>
            </a:gs>
            <a:gs pos="100000">
              <a:srgbClr val="6e63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упрежд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и этой группы предупреждают водителей о приближении к опасному участку дор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знаки треугольной формы с белым фоном и красным окаймле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WINDOWS\Рабочий стол\Волкова И.Н\жлел.пер..bmp"/>
          <p:cNvPicPr/>
          <p:nvPr/>
        </p:nvPicPr>
        <p:blipFill>
          <a:blip r:embed="rId1"/>
          <a:stretch/>
        </p:blipFill>
        <p:spPr>
          <a:xfrm>
            <a:off x="304920" y="4440240"/>
            <a:ext cx="1752480" cy="1663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209680" y="27432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C:\WINDOWS\Рабочий стол\Волкова И.Н\пеш. пер..bmp"/>
          <p:cNvPicPr/>
          <p:nvPr/>
        </p:nvPicPr>
        <p:blipFill>
          <a:blip r:embed="rId2"/>
          <a:stretch/>
        </p:blipFill>
        <p:spPr>
          <a:xfrm>
            <a:off x="457200" y="1962000"/>
            <a:ext cx="1828800" cy="16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2895480" y="2209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8" descr="C:\WINDOWS\Рабочий стол\Волкова И.Н\дети.bmp"/>
          <p:cNvPicPr/>
          <p:nvPr/>
        </p:nvPicPr>
        <p:blipFill>
          <a:blip r:embed="rId3"/>
          <a:stretch/>
        </p:blipFill>
        <p:spPr>
          <a:xfrm>
            <a:off x="2895480" y="3276720"/>
            <a:ext cx="158112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Предписыв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267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ки этой группы указывают места для движения пешеходов и велосипедистов, устанавливают движение только одного какого-то вида транспорта, разрешают движение только в определенных направл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писывающие знаки имеют округлую форму и голубой фо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Object 1028"/>
          <p:cNvGraphicFramePr/>
          <p:nvPr/>
        </p:nvGraphicFramePr>
        <p:xfrm>
          <a:off x="6172200" y="4419720"/>
          <a:ext cx="17128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10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4419720"/>
                    <a:ext cx="1712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29"/>
          <p:cNvGraphicFramePr/>
          <p:nvPr/>
        </p:nvGraphicFramePr>
        <p:xfrm>
          <a:off x="7010280" y="1752480"/>
          <a:ext cx="1828800" cy="176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1752480"/>
                    <a:ext cx="1828800" cy="17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030"/>
          <p:cNvGraphicFramePr/>
          <p:nvPr/>
        </p:nvGraphicFramePr>
        <p:xfrm>
          <a:off x="4724280" y="2209680"/>
          <a:ext cx="1771920" cy="18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10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24280" y="2209680"/>
                    <a:ext cx="1771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031"/>
          <p:cNvGraphicFramePr/>
          <p:nvPr/>
        </p:nvGraphicFramePr>
        <p:xfrm>
          <a:off x="1981080" y="4799160"/>
          <a:ext cx="1676520" cy="16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10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4799160"/>
                    <a:ext cx="16765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апрещающ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и всех дорожных знаков самые строгие - запрещающ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вводят разные запреты и ограничения, имеют круглую форму с красной окантов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C:\WINDOWS\Рабочий стол\Волкова И.Н\Знаки21.jpg"/>
          <p:cNvPicPr/>
          <p:nvPr/>
        </p:nvPicPr>
        <p:blipFill>
          <a:blip r:embed="rId1"/>
          <a:srcRect l="24066" t="53996" r="67902" b="35276"/>
          <a:stretch/>
        </p:blipFill>
        <p:spPr>
          <a:xfrm>
            <a:off x="91440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WINDOWS\Рабочий стол\Волкова И.Н\Знаки21.jpg"/>
          <p:cNvPicPr/>
          <p:nvPr/>
        </p:nvPicPr>
        <p:blipFill>
          <a:blip r:embed="rId2"/>
          <a:srcRect l="44028" t="41909" r="48177" b="47854"/>
          <a:stretch/>
        </p:blipFill>
        <p:spPr>
          <a:xfrm>
            <a:off x="380880" y="4038480"/>
            <a:ext cx="1828800" cy="180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0"/>
          <p:cNvGraphicFramePr/>
          <p:nvPr/>
        </p:nvGraphicFramePr>
        <p:xfrm>
          <a:off x="3048120" y="2206800"/>
          <a:ext cx="1600200" cy="15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206800"/>
                    <a:ext cx="160020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"/>
          <p:cNvGraphicFramePr/>
          <p:nvPr/>
        </p:nvGraphicFramePr>
        <p:xfrm>
          <a:off x="2666880" y="4724280"/>
          <a:ext cx="175896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4724280"/>
                    <a:ext cx="17589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d5f7"/>
                </a:solidFill>
                <a:latin typeface="Times New Roman"/>
              </a:rPr>
              <a:t>Информационно-указательны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ообщают участникам движения о местах пешеходных переходов, о местах стоянки транспорта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Эти знаки синего цвета, квадратные или прямоуго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248520" y="4267080"/>
          <a:ext cx="2438280" cy="20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4267080"/>
                    <a:ext cx="243828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5410080" y="1828800"/>
          <a:ext cx="206856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1828800"/>
                    <a:ext cx="2068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6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сервис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серви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быту означает «обслуживание, добрая услуг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указывают места расположения объектов жизнеобеспеч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и сервиса имеют прямоугольную форму, они синие, с черными изображениями на белом фо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5334120" y="4419720"/>
          <a:ext cx="196200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419720"/>
                    <a:ext cx="19620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6835680" y="1752480"/>
          <a:ext cx="20066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5680" y="1752480"/>
                    <a:ext cx="200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Знаки приорите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914400" y="2147760"/>
          <a:ext cx="220968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47760"/>
                    <a:ext cx="22096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Слово</a:t>
            </a:r>
            <a:r>
              <a:rPr b="0" i="1" lang="ru-RU" sz="2400" spc="-1" strike="noStrike">
                <a:solidFill>
                  <a:srgbClr val="330099"/>
                </a:solidFill>
                <a:latin typeface="Times New Roman"/>
              </a:rPr>
              <a:t> приоритет</a:t>
            </a: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 означает «преимуществ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Знаки приоритета предоставляют преимущество в движении одним его участникам перед други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99"/>
                </a:solidFill>
                <a:latin typeface="Times New Roman"/>
              </a:rPr>
              <a:t>Форма и цвет знаков приоритета оказались разными, потому что когда-то они находились в других группах знаков и сохранили форму и цвет тех груп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2743200" y="4495680"/>
          <a:ext cx="1752480" cy="17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4495680"/>
                    <a:ext cx="1752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Табличк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ки дополнительной информации(таблички) отличаются от всех других знаков - они меньше по размеру, прямоугольные, белые, с черными надписями и изображ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ички применяются вместе с другими зна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4114800" y="21337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5" descr="C:\WINDOWS\Рабочий стол\Волкова И.Н\таблица22.jpg"/>
          <p:cNvPicPr/>
          <p:nvPr/>
        </p:nvPicPr>
        <p:blipFill>
          <a:blip r:embed="rId1"/>
          <a:stretch/>
        </p:blipFill>
        <p:spPr>
          <a:xfrm>
            <a:off x="6248520" y="1981080"/>
            <a:ext cx="18208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14:07Z</dcterms:created>
  <dc:creator>User</dc:creator>
  <dc:description/>
  <dc:language>en-US</dc:language>
  <cp:lastModifiedBy>R</cp:lastModifiedBy>
  <dcterms:modified xsi:type="dcterms:W3CDTF">2014-05-21T06:15:10Z</dcterms:modified>
  <cp:revision>23</cp:revision>
  <dc:subject/>
  <dc:title>Как разговаривает улица?</dc:title>
</cp:coreProperties>
</file>