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4.png" ContentType="image/png"/>
  <Override PartName="/ppt/media/image1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F9B-2C98-43A3-B4AC-4CC2AD7F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C01-B110-4374-99A2-DE44B1B3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AB32-0412-49E8-999D-75FAE7EB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8666-1CEF-434F-9DC2-E2200A76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A850-8E6F-4EAD-AA2F-CF898BD7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257C-FB3D-4CC9-84BD-48612E93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98D8-B92A-4D28-8678-00CFFCD5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63A2-C208-49BB-AEDB-15F12DB6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30A0-F817-49AB-8DA9-4A9919D5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F2BB-9281-401C-B385-685DB467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6148-5F6B-4C6C-B6ED-C0202818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6A3-34B1-489E-AD36-ED1B0A53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2950-8B1B-4CF6-AA90-854308EF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7BB9-EF26-4F60-B00F-3888C8F3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9BC0-744C-4939-9A97-C3563F67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016E-3361-4F39-B10B-C33F57D6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6357-E2CD-4433-BBC2-014D5978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5F0F-F2F4-4F18-B33A-37962FB0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33F7-9913-4DD0-9CD9-B0CE474B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DAC-B340-4C82-B4B8-3159E701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F24-6CFD-4D62-928C-03392029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981F-0083-42E5-A118-12D20F38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DBD0-5D25-4AFB-80F8-D97040FA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E7EB-0EAC-4EDD-BE1E-412CABC5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40EC-A1F6-44FF-862B-FBE31C2B88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5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6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7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8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11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Group 14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5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6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7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8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21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2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Oval 23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Group 24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5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1639800"/>
                  <a:gd name="textAreaBottom" fmla="*/ 1640160 h 1639800"/>
                </a:gdLst>
                <a:ahLst/>
                <a:rect l="textAreaLeft" t="textAreaTop" r="textAreaRight" b="textAreaBottom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26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>
                  <a:gd name="textAreaLeft" fmla="*/ 0 w 1308240"/>
                  <a:gd name="textAreaRight" fmla="*/ 1308600 w 1308240"/>
                  <a:gd name="textAreaTop" fmla="*/ 0 h 1909800"/>
                  <a:gd name="textAreaBottom" fmla="*/ 1910160 h 1909800"/>
                </a:gdLst>
                <a:ahLst/>
                <a:rect l="textAreaLeft" t="textAreaTop" r="textAreaRight" b="textAreaBottom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7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E216-8048-4563-AFF0-C494F67CF43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Как разговаривает улица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480" y="3124080"/>
            <a:ext cx="79250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РОЖ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НА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Object 4" descr=""/>
          <p:cNvPicPr/>
          <p:nvPr/>
        </p:nvPicPr>
        <p:blipFill>
          <a:blip r:embed="rId1"/>
          <a:stretch/>
        </p:blipFill>
        <p:spPr>
          <a:xfrm>
            <a:off x="7018200" y="3352680"/>
            <a:ext cx="18972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Группы дорожных знаков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упреждающ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писывающ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прещающ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формационно-указательн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ки серви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ки приорите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полнительной информации(табличк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d5f7"/>
            </a:gs>
            <a:gs pos="100000">
              <a:srgbClr val="6e637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редупреждающи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наки этой группы предупреждают водителей о приближении к опасному участку дорог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знаки треугольной формы с белым фоном и красным окаймлени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C:\WINDOWS\Рабочий стол\Волкова И.Н\жлел.пер..bmp"/>
          <p:cNvPicPr/>
          <p:nvPr/>
        </p:nvPicPr>
        <p:blipFill>
          <a:blip r:embed="rId1"/>
          <a:stretch/>
        </p:blipFill>
        <p:spPr>
          <a:xfrm>
            <a:off x="304920" y="4440240"/>
            <a:ext cx="1752480" cy="16635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209680" y="274320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6" descr="C:\WINDOWS\Рабочий стол\Волкова И.Н\пеш. пер..bmp"/>
          <p:cNvPicPr/>
          <p:nvPr/>
        </p:nvPicPr>
        <p:blipFill>
          <a:blip r:embed="rId2"/>
          <a:stretch/>
        </p:blipFill>
        <p:spPr>
          <a:xfrm>
            <a:off x="457200" y="1962000"/>
            <a:ext cx="1828800" cy="1619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2895480" y="220968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8" descr="C:\WINDOWS\Рабочий стол\Волкова И.Н\дети.bmp"/>
          <p:cNvPicPr/>
          <p:nvPr/>
        </p:nvPicPr>
        <p:blipFill>
          <a:blip r:embed="rId3"/>
          <a:stretch/>
        </p:blipFill>
        <p:spPr>
          <a:xfrm>
            <a:off x="2895480" y="3276720"/>
            <a:ext cx="158112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редписывающи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267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ки этой группы указывают места для движения пешеходов и велосипедистов, устанавливают движение только одного какого-то вида транспорта, разрешают движение только в определенных направления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писывающие знаки имеют округлую форму и голубой фо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Object 1028"/>
          <p:cNvGraphicFramePr/>
          <p:nvPr/>
        </p:nvGraphicFramePr>
        <p:xfrm>
          <a:off x="6172200" y="4419720"/>
          <a:ext cx="17128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10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4419720"/>
                    <a:ext cx="17128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029"/>
          <p:cNvGraphicFramePr/>
          <p:nvPr/>
        </p:nvGraphicFramePr>
        <p:xfrm>
          <a:off x="7010280" y="1752480"/>
          <a:ext cx="1828800" cy="1760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0280" y="1752480"/>
                    <a:ext cx="1828800" cy="17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030"/>
          <p:cNvGraphicFramePr/>
          <p:nvPr/>
        </p:nvGraphicFramePr>
        <p:xfrm>
          <a:off x="4724280" y="2209680"/>
          <a:ext cx="1771920" cy="182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Object 10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24280" y="2209680"/>
                    <a:ext cx="1771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031"/>
          <p:cNvGraphicFramePr/>
          <p:nvPr/>
        </p:nvGraphicFramePr>
        <p:xfrm>
          <a:off x="1981080" y="4799160"/>
          <a:ext cx="1676520" cy="165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" name="Object 10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799160"/>
                    <a:ext cx="167652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Запрещающи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еди всех дорожных знаков самые строгие - запрещающ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и вводят разные запреты и ограничения, имеют круглую форму с красной окантов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C:\WINDOWS\Рабочий стол\Волкова И.Н\Знаки21.jpg"/>
          <p:cNvPicPr/>
          <p:nvPr/>
        </p:nvPicPr>
        <p:blipFill>
          <a:blip r:embed="rId1"/>
          <a:srcRect l="24066" t="53996" r="67902" b="35276"/>
          <a:stretch/>
        </p:blipFill>
        <p:spPr>
          <a:xfrm>
            <a:off x="914400" y="1676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WINDOWS\Рабочий стол\Волкова И.Н\Знаки21.jpg"/>
          <p:cNvPicPr/>
          <p:nvPr/>
        </p:nvPicPr>
        <p:blipFill>
          <a:blip r:embed="rId2"/>
          <a:srcRect l="44028" t="41909" r="48177" b="47854"/>
          <a:stretch/>
        </p:blipFill>
        <p:spPr>
          <a:xfrm>
            <a:off x="380880" y="4038480"/>
            <a:ext cx="1828800" cy="180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Object 0"/>
          <p:cNvGraphicFramePr/>
          <p:nvPr/>
        </p:nvGraphicFramePr>
        <p:xfrm>
          <a:off x="3048120" y="2206800"/>
          <a:ext cx="1600200" cy="153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2206800"/>
                    <a:ext cx="1600200" cy="15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"/>
          <p:cNvGraphicFramePr/>
          <p:nvPr/>
        </p:nvGraphicFramePr>
        <p:xfrm>
          <a:off x="2666880" y="4724280"/>
          <a:ext cx="1758960" cy="16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4724280"/>
                    <a:ext cx="175896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5328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d5f7"/>
                </a:solidFill>
                <a:latin typeface="Times New Roman"/>
              </a:rPr>
              <a:t>Информационно-указательны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4496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Эти знаки сообщают участникам движения о местах пешеходных переходов, о местах стоянки транспорта и т. 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Эти знаки синего цвета, квадратные или прямоугольны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6248520" y="4267080"/>
          <a:ext cx="2438280" cy="20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4267080"/>
                    <a:ext cx="243828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"/>
          <p:cNvGraphicFramePr/>
          <p:nvPr/>
        </p:nvGraphicFramePr>
        <p:xfrm>
          <a:off x="5410080" y="1828800"/>
          <a:ext cx="2068560" cy="213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1828800"/>
                    <a:ext cx="20685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76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Знаки сервис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во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сервис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быту означает «обслуживание, добрая услуга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ки сервиса указывают места расположения объектов жизнеобеспеч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ки сервиса имеют прямоугольную форму, они синие, с черными изображениями на белом фо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5334120" y="4419720"/>
          <a:ext cx="196200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419720"/>
                    <a:ext cx="19620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5"/>
          <p:cNvGraphicFramePr/>
          <p:nvPr/>
        </p:nvGraphicFramePr>
        <p:xfrm>
          <a:off x="6835680" y="1752480"/>
          <a:ext cx="200664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35680" y="1752480"/>
                    <a:ext cx="20066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Знаки приоритет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914400" y="2147760"/>
          <a:ext cx="2209680" cy="19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147760"/>
                    <a:ext cx="22096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99"/>
                </a:solidFill>
                <a:latin typeface="Times New Roman"/>
              </a:rPr>
              <a:t>Слово</a:t>
            </a:r>
            <a:r>
              <a:rPr b="0" i="1" lang="ru-RU" sz="2400" spc="-1" strike="noStrike">
                <a:solidFill>
                  <a:srgbClr val="330099"/>
                </a:solidFill>
                <a:latin typeface="Times New Roman"/>
              </a:rPr>
              <a:t> приоритет</a:t>
            </a:r>
            <a:r>
              <a:rPr b="0" lang="ru-RU" sz="2400" spc="-1" strike="noStrike">
                <a:solidFill>
                  <a:srgbClr val="330099"/>
                </a:solidFill>
                <a:latin typeface="Times New Roman"/>
              </a:rPr>
              <a:t> означает «преимущество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99"/>
                </a:solidFill>
                <a:latin typeface="Times New Roman"/>
              </a:rPr>
              <a:t>Знаки приоритета предоставляют преимущество в движении одним его участникам перед други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99"/>
                </a:solidFill>
                <a:latin typeface="Times New Roman"/>
              </a:rPr>
              <a:t>Форма и цвет знаков приоритета оказались разными, потому что когда-то они находились в других группах знаков и сохранили форму и цвет тех групп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Object 7"/>
          <p:cNvGraphicFramePr/>
          <p:nvPr/>
        </p:nvGraphicFramePr>
        <p:xfrm>
          <a:off x="2743200" y="4495680"/>
          <a:ext cx="1752480" cy="175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4495680"/>
                    <a:ext cx="17524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Табличк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ки дополнительной информации(таблички) отличаются от всех других знаков - они меньше по размеру, прямоугольные, белые, с черными надписями и изображения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ички применяются вместе с другими знак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4114800" y="21337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15" descr="C:\WINDOWS\Рабочий стол\Волкова И.Н\таблица22.jpg"/>
          <p:cNvPicPr/>
          <p:nvPr/>
        </p:nvPicPr>
        <p:blipFill>
          <a:blip r:embed="rId1"/>
          <a:stretch/>
        </p:blipFill>
        <p:spPr>
          <a:xfrm>
            <a:off x="6248520" y="1981080"/>
            <a:ext cx="18208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23:14:07Z</dcterms:created>
  <dc:creator>User</dc:creator>
  <dc:description/>
  <dc:language>en-US</dc:language>
  <cp:lastModifiedBy>R</cp:lastModifiedBy>
  <dcterms:modified xsi:type="dcterms:W3CDTF">2014-05-21T06:15:10Z</dcterms:modified>
  <cp:revision>23</cp:revision>
  <dc:subject/>
  <dc:title>Как разговаривает улица?</dc:title>
</cp:coreProperties>
</file>