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WHOOSH.WAV" ContentType="audio/x-wav"/>
  <Override PartName="/ppt/media/image9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0F-F782-4A78-B68C-E8132B54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D0F-F622-433A-97FF-79D6F78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037-65EF-4F81-8AE9-018598F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E60-1344-427F-8C62-9F366C3C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7C81-1E95-4DC3-B733-E693918C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088-E8E7-4169-B2AF-1A0ACAB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950B-433D-4CE7-9865-706361F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2B9-61AD-41C7-9767-39BFD044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6E9-51C9-4A64-B591-E29DA147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EB6-C0CB-4EEA-BC60-58AB9B5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F65-C72D-4A72-84E8-862417A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EE5-A4E3-4F91-84EC-37E3C2B8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5EC-DDA2-4D4D-921C-12136D4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1476-ADFE-4AEB-B917-B0A02D5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6DB-6505-4929-9DD5-C790D9B2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9EF7-BBF1-4831-8D14-E060102E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BEE-BA79-4B12-8764-CA7850AD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D3F-B7CA-4D25-BBBE-C627DB5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817-D311-45C8-AA86-3C49DF61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F47-626D-48A3-9283-BF4A075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14C-D73F-4C15-9E5C-92A7CD2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2BE-C8C2-4A42-A2C4-06DA772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92E-592C-4FE9-B1A4-945AE8B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D32-DDC9-4370-910D-B0DFD07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BE9-A6B7-4ACF-9718-E20E391326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72DD-4147-41CA-A641-A377418960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file:///kusnecova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72;&#1090;&#1077;&#1084;&#1072;&#1090;&#1080;&#1095;&#1077;&#1089;&#1082;&#1080;&#1081;%20&#1076;&#1080;&#1082;&#1090;&#1072;&#1085;&#1090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3146400" cy="6858000"/>
          </a:xfrm>
          <a:prstGeom prst="rect">
            <a:avLst/>
          </a:prstGeom>
          <a:gradFill rotWithShape="0">
            <a:gsLst>
              <a:gs pos="0">
                <a:srgbClr val="6f89f7"/>
              </a:gs>
              <a:gs pos="100000">
                <a:srgbClr val="a6b6f9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45200" y="0"/>
            <a:ext cx="2998800" cy="6858000"/>
          </a:xfrm>
          <a:prstGeom prst="rect">
            <a:avLst/>
          </a:prstGeom>
          <a:gradFill rotWithShape="0">
            <a:gsLst>
              <a:gs pos="0">
                <a:srgbClr val="9eaff8"/>
              </a:gs>
              <a:gs pos="100000">
                <a:srgbClr val="6f89f7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4400" y="509760"/>
            <a:ext cx="5294160" cy="1935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6400" y="131760"/>
            <a:ext cx="5380200" cy="3700440"/>
          </a:xfrm>
          <a:prstGeom prst="flowChartMerge">
            <a:avLst/>
          </a:prstGeom>
          <a:gradFill rotWithShape="0">
            <a:gsLst>
              <a:gs pos="0">
                <a:srgbClr val="889df7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90720" y="339840"/>
            <a:ext cx="3784680" cy="2914560"/>
          </a:xfrm>
          <a:prstGeom prst="flowChartMerge">
            <a:avLst/>
          </a:prstGeom>
          <a:gradFill rotWithShape="0">
            <a:gsLst>
              <a:gs pos="0">
                <a:srgbClr val="6f89f7"/>
              </a:gs>
              <a:gs pos="100000">
                <a:srgbClr val="9eaf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5560" y="2448000"/>
            <a:ext cx="5276880" cy="54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2cdf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03360" y="2401920"/>
            <a:ext cx="48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Геометрия. 9 класс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40000" y="165240"/>
            <a:ext cx="65005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9999ff"/>
                  </a:outerShdw>
                </a:effectLst>
                <a:latin typeface="Impact"/>
              </a:rPr>
              <a:t>Длина окруж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504" dir="2216091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740a73b396965654d5e45d53b47d4e2b" descr=""/>
          <p:cNvPicPr/>
          <p:nvPr/>
        </p:nvPicPr>
        <p:blipFill>
          <a:blip r:embed="rId1"/>
          <a:stretch/>
        </p:blipFill>
        <p:spPr>
          <a:xfrm>
            <a:off x="3127320" y="4022640"/>
            <a:ext cx="304344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884160" y="3630600"/>
            <a:ext cx="5167440" cy="97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4880" y="3648240"/>
                <a:ext cx="5054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80720"/>
            <a:ext cx="819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104(а). Найти длину окружности описанной около правильного треугольника со стороной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4280" y="1533600"/>
            <a:ext cx="3558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рез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804000" y="1568520"/>
            <a:ext cx="1765440" cy="17650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044800">
            <a:off x="6803640" y="1568520"/>
            <a:ext cx="1562040" cy="1371600"/>
          </a:xfrm>
          <a:prstGeom prst="flowChartExtract">
            <a:avLst/>
          </a:prstGeom>
          <a:noFill/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76240" y="1890720"/>
            <a:ext cx="3810240" cy="95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80920" y="1905120"/>
                <a:ext cx="38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728640" y="3052800"/>
            <a:ext cx="708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ставьте в формулу длины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915240" y="1905120"/>
            <a:ext cx="142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        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2824200"/>
            <a:ext cx="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69880" y="1512720"/>
            <a:ext cx="61516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 – равнобедренный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сан в О(О;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АВ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, BC=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168800"/>
            <a:ext cx="4597560" cy="866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38640" y="3475080"/>
            <a:ext cx="2735280" cy="68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375000" y="3419640"/>
                <a:ext cx="261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801800" y="2865600"/>
            <a:ext cx="1515960" cy="65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897200" y="2820960"/>
                <a:ext cx="134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790720" y="2405160"/>
            <a:ext cx="2971800" cy="371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973240" y="2443320"/>
                <a:ext cx="2727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Н, где АН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28200" y="404640"/>
            <a:ext cx="824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1676520"/>
            <a:ext cx="0" cy="119052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421160" y="4168800"/>
                <a:ext cx="4468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- АО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684360" y="2954160"/>
            <a:ext cx="126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040" y="3602160"/>
            <a:ext cx="281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en-US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ВН: АН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200" y="4441680"/>
            <a:ext cx="38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АО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,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 О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240" y="91908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3960" y="2154240"/>
            <a:ext cx="1871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С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0920" y="2471760"/>
            <a:ext cx="2293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r>
              <a:rPr b="0" lang="en-US" sz="2400" spc="-1" strike="noStrike">
                <a:solidFill>
                  <a:srgbClr val="452b75"/>
                </a:solidFill>
                <a:latin typeface="Tahoma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17760" y="3889440"/>
            <a:ext cx="2238120" cy="744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536840" y="3908520"/>
                <a:ext cx="2238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42840" y="1905120"/>
            <a:ext cx="5016600" cy="1977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30360" y="39960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481040"/>
            <a:ext cx="52642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ОН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+B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1676520"/>
            <a:ext cx="0" cy="1790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35244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47760" y="1900080"/>
                <a:ext cx="297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42840" y="2644920"/>
                <a:ext cx="50166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933480" y="3317760"/>
                <a:ext cx="2146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079800" y="3139920"/>
                <a:ext cx="2031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600120" y="4024440"/>
            <a:ext cx="108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452b75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24560" y="26719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5720" y="8827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и боковой 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06560" y="4648320"/>
                <a:ext cx="1204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61600" y="4836960"/>
            <a:ext cx="1379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4280" y="1518840"/>
            <a:ext cx="4697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АВ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трапеция, АВ=ВС=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 а,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2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800" y="2755800"/>
            <a:ext cx="447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Длину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200" y="3063960"/>
            <a:ext cx="194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09720" y="2124000"/>
            <a:ext cx="3189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р(О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исанная около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8440" y="1836720"/>
            <a:ext cx="3649680" cy="36576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980240" y="3665520"/>
            <a:ext cx="3653640" cy="1581120"/>
            <a:chOff x="4980240" y="3665520"/>
            <a:chExt cx="3653640" cy="1581120"/>
          </a:xfrm>
        </p:grpSpPr>
        <p:sp>
          <p:nvSpPr>
            <p:cNvPr id="413" name=""/>
            <p:cNvSpPr/>
            <p:nvPr/>
          </p:nvSpPr>
          <p:spPr>
            <a:xfrm flipH="1">
              <a:off x="4984920" y="3665520"/>
              <a:ext cx="364284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896080" y="5243400"/>
              <a:ext cx="1831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719840" y="3665520"/>
              <a:ext cx="91404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80240" y="3665520"/>
              <a:ext cx="92052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654440" y="1779480"/>
            <a:ext cx="4448160" cy="2018880"/>
            <a:chOff x="4654440" y="1779480"/>
            <a:chExt cx="4448160" cy="2018880"/>
          </a:xfrm>
        </p:grpSpPr>
        <p:grpSp>
          <p:nvGrpSpPr>
            <p:cNvPr id="418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19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654440" y="33386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7800" y="1779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8018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56560" y="3314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73120" y="3343320"/>
            <a:ext cx="3913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роим трапецию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 правильного шестиугольника. Тогда окружность описанная около шестиугольника будет описана и 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9880" y="1512720"/>
            <a:ext cx="38480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шестиугольник правильный, то радиус описанной окружности равен стороне.           А значит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8600" y="3379680"/>
            <a:ext cx="223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вет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975200" y="1836720"/>
            <a:ext cx="3658680" cy="3657600"/>
            <a:chOff x="4975200" y="1836720"/>
            <a:chExt cx="3658680" cy="3657600"/>
          </a:xfrm>
        </p:grpSpPr>
        <p:sp>
          <p:nvSpPr>
            <p:cNvPr id="433" name=""/>
            <p:cNvSpPr/>
            <p:nvPr/>
          </p:nvSpPr>
          <p:spPr>
            <a:xfrm>
              <a:off x="4978080" y="1836720"/>
              <a:ext cx="3649320" cy="3657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35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80600" y="3665520"/>
              <a:ext cx="3653280" cy="1581120"/>
              <a:chOff x="4980600" y="3665520"/>
              <a:chExt cx="3653280" cy="158112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4985280" y="3665520"/>
                <a:ext cx="36424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896440" y="5243400"/>
                <a:ext cx="183132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719840" y="366552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80600" y="366552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4654440" y="3338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27800" y="17794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66000" y="1801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656560" y="33148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6120" y="5810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ВОПРОСЫ ДЛЯ ПОВТОР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42880" y="14986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формулируйте основное свойство длины окружности. На чём основывается его доказательство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55480" y="2584440"/>
            <a:ext cx="802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вычисляется длина окружности по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ормул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2600" y="3332160"/>
            <a:ext cx="8162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кое число обозначается буквой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и чему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равно его приближённое значени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7280" y="4078440"/>
            <a:ext cx="806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3400" y="5210280"/>
            <a:ext cx="826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Вопросы 8-9(стр. 270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№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108, №1105(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пасибо за урок, де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819520" y="217188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2"/>
          </p:cNvPr>
          <p:cNvSpPr/>
          <p:nvPr/>
        </p:nvSpPr>
        <p:spPr>
          <a:xfrm>
            <a:off x="8458200" y="648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&lt;&lt;&lt;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51040" y="1521000"/>
            <a:ext cx="7378560" cy="5105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92240" y="1521000"/>
            <a:ext cx="6934320" cy="304560"/>
          </a:xfrm>
          <a:custGeom>
            <a:avLst/>
            <a:gdLst/>
            <a:ahLst/>
            <a:rect l="l" t="t" r="r" b="b"/>
            <a:pathLst>
              <a:path w="4368" h="192">
                <a:moveTo>
                  <a:pt x="0" y="186"/>
                </a:moveTo>
                <a:lnTo>
                  <a:pt x="4368" y="192"/>
                </a:lnTo>
                <a:lnTo>
                  <a:pt x="4260" y="84"/>
                </a:lnTo>
                <a:lnTo>
                  <a:pt x="4110" y="18"/>
                </a:lnTo>
                <a:lnTo>
                  <a:pt x="3942" y="0"/>
                </a:lnTo>
                <a:lnTo>
                  <a:pt x="342" y="12"/>
                </a:lnTo>
                <a:lnTo>
                  <a:pt x="228" y="30"/>
                </a:lnTo>
                <a:lnTo>
                  <a:pt x="120" y="84"/>
                </a:lnTo>
                <a:lnTo>
                  <a:pt x="54" y="126"/>
                </a:lnTo>
                <a:lnTo>
                  <a:pt x="0" y="186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15920" y="1851120"/>
            <a:ext cx="701064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68160" y="1523880"/>
            <a:ext cx="2933640" cy="0"/>
          </a:xfrm>
          <a:prstGeom prst="line">
            <a:avLst/>
          </a:prstGeom>
          <a:ln w="41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7320" y="1828800"/>
            <a:ext cx="6969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73920" y="1692360"/>
            <a:ext cx="117720" cy="136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1523880"/>
            <a:ext cx="59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стер подключения презентации к уроку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7320" y="2138400"/>
            <a:ext cx="6969240" cy="125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3440" y="207972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 T O P</a:t>
            </a:r>
            <a:endParaRPr b="0" lang="en-US" sz="8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5920" y="3573360"/>
            <a:ext cx="72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Дальнейший просмотр возможен только при наличии соответствующих знаний. А они у тебя есть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4987800"/>
            <a:ext cx="204480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0720" y="4987800"/>
            <a:ext cx="2374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4987800"/>
            <a:ext cx="2590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7320" y="5165640"/>
            <a:ext cx="196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Могу доказать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5165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, но я устал  и дум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5165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Ничего не знаю и зн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>
            <a:hlinkClick r:id="rId1"/>
          </p:cNvPr>
          <p:cNvSpPr/>
          <p:nvPr/>
        </p:nvSpPr>
        <p:spPr>
          <a:xfrm>
            <a:off x="1015920" y="5165640"/>
            <a:ext cx="2003400" cy="779400"/>
          </a:xfrm>
          <a:custGeom>
            <a:avLst/>
            <a:gdLst>
              <a:gd name="textAreaLeft" fmla="*/ 50400 w 2003400"/>
              <a:gd name="textAreaRight" fmla="*/ 1953000 w 2003400"/>
              <a:gd name="textAreaTop" fmla="*/ 50400 h 779400"/>
              <a:gd name="textAreaBottom" fmla="*/ 729000 h 779400"/>
            </a:gdLst>
            <a:ahLst/>
            <a:rect l="textAreaLeft" t="textAreaTop" r="textAreaRight" b="textAreaBottom"/>
            <a:pathLst>
              <a:path w="55506" h="21600">
                <a:moveTo>
                  <a:pt x="0" y="0"/>
                </a:moveTo>
                <a:lnTo>
                  <a:pt x="55506" y="0"/>
                </a:lnTo>
                <a:lnTo>
                  <a:pt x="55506" y="21600"/>
                </a:lnTo>
                <a:lnTo>
                  <a:pt x="0" y="21600"/>
                </a:lnTo>
                <a:close/>
              </a:path>
              <a:path fill="lightenLess" w="55506" h="21600">
                <a:moveTo>
                  <a:pt x="0" y="0"/>
                </a:moveTo>
                <a:lnTo>
                  <a:pt x="55506" y="0"/>
                </a:lnTo>
                <a:lnTo>
                  <a:pt x="54106" y="1400"/>
                </a:lnTo>
                <a:lnTo>
                  <a:pt x="1400" y="1400"/>
                </a:lnTo>
                <a:close/>
              </a:path>
              <a:path fill="darken" w="55506" h="21600">
                <a:moveTo>
                  <a:pt x="55506" y="0"/>
                </a:moveTo>
                <a:lnTo>
                  <a:pt x="55506" y="21600"/>
                </a:lnTo>
                <a:lnTo>
                  <a:pt x="54106" y="20200"/>
                </a:lnTo>
                <a:lnTo>
                  <a:pt x="54106" y="1400"/>
                </a:lnTo>
                <a:close/>
              </a:path>
              <a:path fill="darkenLess" w="55506" h="21600">
                <a:moveTo>
                  <a:pt x="5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6" y="20200"/>
                </a:lnTo>
                <a:close/>
              </a:path>
              <a:path fill="lighten" w="5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8149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едставим себе нить в форме окружности. Разрежем её и растянем за конц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609480" y="-6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нятие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732720" y="3357720"/>
            <a:ext cx="1224000" cy="1223640"/>
            <a:chOff x="6732720" y="3357720"/>
            <a:chExt cx="1224000" cy="1223640"/>
          </a:xfrm>
        </p:grpSpPr>
        <p:sp>
          <p:nvSpPr>
            <p:cNvPr id="236" name=""/>
            <p:cNvSpPr/>
            <p:nvPr/>
          </p:nvSpPr>
          <p:spPr>
            <a:xfrm>
              <a:off x="6732720" y="3357720"/>
              <a:ext cx="1224000" cy="12236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019640" y="3933720"/>
              <a:ext cx="360360" cy="50328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391464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48360" y="443700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04000" y="3789360"/>
              <a:ext cx="3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7956360" y="3357720"/>
            <a:ext cx="718920" cy="431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29242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Тонкая нить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038480"/>
            <a:ext cx="31323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1708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005360"/>
            <a:ext cx="71280" cy="730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75640" y="4005360"/>
            <a:ext cx="73080" cy="712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1960" y="4508640"/>
            <a:ext cx="489888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лина полученного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трезка и есть длина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84960" y="2997360"/>
            <a:ext cx="2448000" cy="3058920"/>
          </a:xfrm>
          <a:prstGeom prst="borderCallout1">
            <a:avLst>
              <a:gd name="adj1" fmla="val -5827"/>
              <a:gd name="adj2" fmla="val -538"/>
              <a:gd name="adj3" fmla="val 20591"/>
              <a:gd name="adj4" fmla="val -538"/>
            </a:avLst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68920" y="3645000"/>
            <a:ext cx="1729080" cy="1800000"/>
          </a:xfrm>
          <a:prstGeom prst="ellipse">
            <a:avLst/>
          </a:prstGeom>
          <a:noFill/>
          <a:ln w="2844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6480720" y="3896280"/>
            <a:ext cx="1511280" cy="12970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9560" y="3789360"/>
            <a:ext cx="1728720" cy="1511280"/>
          </a:xfrm>
          <a:prstGeom prst="hexagon">
            <a:avLst>
              <a:gd name="adj" fmla="val 28597"/>
              <a:gd name="vf" fmla="val 115470"/>
            </a:avLst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3645000"/>
            <a:ext cx="1729080" cy="1800000"/>
          </a:xfrm>
          <a:custGeom>
            <a:avLst/>
            <a:gdLst/>
            <a:ahLst/>
            <a:rect l="l" t="t" r="r" b="b"/>
            <a:pathLst>
              <a:path w="1089" h="1134">
                <a:moveTo>
                  <a:pt x="272" y="1043"/>
                </a:moveTo>
                <a:lnTo>
                  <a:pt x="45" y="817"/>
                </a:lnTo>
                <a:lnTo>
                  <a:pt x="0" y="590"/>
                </a:lnTo>
                <a:lnTo>
                  <a:pt x="91" y="227"/>
                </a:lnTo>
                <a:lnTo>
                  <a:pt x="318" y="45"/>
                </a:lnTo>
                <a:lnTo>
                  <a:pt x="544" y="0"/>
                </a:lnTo>
                <a:lnTo>
                  <a:pt x="907" y="136"/>
                </a:lnTo>
                <a:lnTo>
                  <a:pt x="1043" y="363"/>
                </a:lnTo>
                <a:lnTo>
                  <a:pt x="1089" y="590"/>
                </a:lnTo>
                <a:lnTo>
                  <a:pt x="998" y="862"/>
                </a:lnTo>
                <a:lnTo>
                  <a:pt x="817" y="1043"/>
                </a:lnTo>
                <a:lnTo>
                  <a:pt x="544" y="1134"/>
                </a:lnTo>
                <a:lnTo>
                  <a:pt x="272" y="1043"/>
                </a:lnTo>
                <a:close/>
              </a:path>
            </a:pathLst>
          </a:custGeom>
          <a:noFill/>
          <a:ln w="1908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65240" y="95256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ериметр любого вписанного в окружность многоугольника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является приближённым значением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длины окружности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9760" y="2480760"/>
            <a:ext cx="57513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 увеличении числа сторон правильный многоугольник всё ближе и ближе «прилегает» к окруж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8200" y="4091040"/>
            <a:ext cx="584676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Длина окружности – эт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преде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 к которому стремится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метр правильног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писанного многоугольника пр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ограниченном увеличени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исла его сторон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H="1">
            <a:off x="6773400" y="4021200"/>
            <a:ext cx="505080" cy="7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42120" y="36417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6680" y="41400"/>
            <a:ext cx="78469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войство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2880" y="1484280"/>
            <a:ext cx="8207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Отношение длины окружности к её диаметру есть одно и то</a:t>
            </a:r>
            <a:r>
              <a:rPr b="1" i="1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же число для всех окружностей.</a:t>
            </a: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( стр. 265, курсив предпоследний абзац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797040" y="3444840"/>
            <a:ext cx="5246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Окр(О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                  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оказать: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73760" y="344484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42120" y="3986280"/>
            <a:ext cx="730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3960" y="4813200"/>
            <a:ext cx="1512720" cy="1513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94680" y="522612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605640" y="5624640"/>
            <a:ext cx="720720" cy="72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4680" y="557064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06760" y="5735520"/>
            <a:ext cx="1638360" cy="81936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606760" y="5735520"/>
                <a:ext cx="1638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94280" y="6149880"/>
            <a:ext cx="412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свойству пропорци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164880"/>
            <a:ext cx="4551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6160" y="1495440"/>
            <a:ext cx="863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b75"/>
                </a:solidFill>
                <a:latin typeface="Tahoma"/>
              </a:rPr>
              <a:t>1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шем в каждую окружность правильный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7699320" y="276228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6960" y="4148280"/>
            <a:ext cx="1512720" cy="151272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46960" y="4952880"/>
            <a:ext cx="752400" cy="73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67680" y="490536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99320" y="3294000"/>
            <a:ext cx="504720" cy="49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167680" y="3246480"/>
            <a:ext cx="61920" cy="71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99320" y="2773440"/>
            <a:ext cx="1076400" cy="1052280"/>
          </a:xfrm>
          <a:custGeom>
            <a:avLst/>
            <a:gdLst/>
            <a:ahLst/>
            <a:rect l="l" t="t" r="r" b="b"/>
            <a:pathLst>
              <a:path w="678" h="663">
                <a:moveTo>
                  <a:pt x="0" y="305"/>
                </a:moveTo>
                <a:lnTo>
                  <a:pt x="96" y="93"/>
                </a:lnTo>
                <a:lnTo>
                  <a:pt x="270" y="0"/>
                </a:lnTo>
                <a:lnTo>
                  <a:pt x="483" y="21"/>
                </a:lnTo>
                <a:lnTo>
                  <a:pt x="638" y="174"/>
                </a:lnTo>
                <a:lnTo>
                  <a:pt x="678" y="381"/>
                </a:lnTo>
                <a:lnTo>
                  <a:pt x="594" y="560"/>
                </a:lnTo>
                <a:lnTo>
                  <a:pt x="425" y="663"/>
                </a:lnTo>
                <a:lnTo>
                  <a:pt x="216" y="651"/>
                </a:lnTo>
                <a:lnTo>
                  <a:pt x="51" y="518"/>
                </a:lnTo>
                <a:lnTo>
                  <a:pt x="0" y="305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43720" y="4146480"/>
            <a:ext cx="1492200" cy="1501920"/>
          </a:xfrm>
          <a:custGeom>
            <a:avLst/>
            <a:gdLst/>
            <a:ahLst/>
            <a:rect l="l" t="t" r="r" b="b"/>
            <a:pathLst>
              <a:path w="940" h="946">
                <a:moveTo>
                  <a:pt x="0" y="468"/>
                </a:moveTo>
                <a:lnTo>
                  <a:pt x="70" y="230"/>
                </a:lnTo>
                <a:lnTo>
                  <a:pt x="240" y="64"/>
                </a:lnTo>
                <a:lnTo>
                  <a:pt x="474" y="0"/>
                </a:lnTo>
                <a:lnTo>
                  <a:pt x="736" y="76"/>
                </a:lnTo>
                <a:lnTo>
                  <a:pt x="918" y="294"/>
                </a:lnTo>
                <a:lnTo>
                  <a:pt x="940" y="590"/>
                </a:lnTo>
                <a:lnTo>
                  <a:pt x="792" y="834"/>
                </a:lnTo>
                <a:lnTo>
                  <a:pt x="554" y="946"/>
                </a:lnTo>
                <a:lnTo>
                  <a:pt x="290" y="916"/>
                </a:lnTo>
                <a:lnTo>
                  <a:pt x="58" y="704"/>
                </a:lnTo>
                <a:lnTo>
                  <a:pt x="0" y="468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" y="3886200"/>
            <a:ext cx="46213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число сторон неограниченно увеличивать, т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421160" y="5886360"/>
                <a:ext cx="1419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771560" y="3008160"/>
                <a:ext cx="3784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444240" y="1865160"/>
            <a:ext cx="47775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их периметры;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 а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х стороны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гда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n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387600" y="2241720"/>
                <a:ext cx="2165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5575320" y="2362320"/>
            <a:ext cx="195120" cy="1591920"/>
            <a:chOff x="5575320" y="2362320"/>
            <a:chExt cx="195120" cy="1591920"/>
          </a:xfrm>
        </p:grpSpPr>
        <p:sp>
          <p:nvSpPr>
            <p:cNvPr id="286" name=""/>
            <p:cNvSpPr/>
            <p:nvPr/>
          </p:nvSpPr>
          <p:spPr>
            <a:xfrm>
              <a:off x="5575320" y="2362320"/>
              <a:ext cx="0" cy="159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5320" y="2972160"/>
              <a:ext cx="195120" cy="223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5320" y="2991240"/>
              <a:ext cx="195120" cy="2044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835600" y="2684520"/>
                <a:ext cx="1298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843200" y="4640400"/>
                <a:ext cx="3492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851440" y="4334040"/>
                <a:ext cx="1114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7156440" y="2854440"/>
            <a:ext cx="244080" cy="2206440"/>
            <a:chOff x="7156440" y="2854440"/>
            <a:chExt cx="244080" cy="2206440"/>
          </a:xfrm>
        </p:grpSpPr>
        <p:sp>
          <p:nvSpPr>
            <p:cNvPr id="293" name=""/>
            <p:cNvSpPr/>
            <p:nvPr/>
          </p:nvSpPr>
          <p:spPr>
            <a:xfrm>
              <a:off x="7156440" y="2854440"/>
              <a:ext cx="0" cy="2206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6520" y="3691800"/>
              <a:ext cx="234000" cy="3481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95440" y="5656320"/>
            <a:ext cx="233280" cy="234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130400" y="5326200"/>
                <a:ext cx="1387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911920" y="60818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.т.д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4510080"/>
            <a:ext cx="325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Число «пи». Вывод формулы     длины окружност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510920"/>
            <a:ext cx="832968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з свойства длины окружности следует 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то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есть число постоянное и теоретически доказано, что это число иррационально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означают его греческой буквой «пи»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5040" y="1819440"/>
          <a:ext cx="759960" cy="1035000"/>
        </p:xfrm>
        <a:graphic>
          <a:graphicData uri="http://schemas.openxmlformats.org/drawingml/2006/table">
            <a:tbl>
              <a:tblPr/>
              <a:tblGrid>
                <a:gridCol w="75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435480" y="3940200"/>
            <a:ext cx="2022480" cy="42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54000" y="4365720"/>
            <a:ext cx="727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Это я знаю и помню прекрасно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44520" y="5332320"/>
            <a:ext cx="1689120" cy="889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15880" y="5332320"/>
                <a:ext cx="1365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933640" y="5638680"/>
            <a:ext cx="685800" cy="279360"/>
          </a:xfrm>
          <a:prstGeom prst="rightArrow">
            <a:avLst>
              <a:gd name="adj1" fmla="val 50000"/>
              <a:gd name="adj2" fmla="val 61372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4920" y="5295960"/>
            <a:ext cx="1314360" cy="888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14920" y="53989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=2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02160" y="5398920"/>
            <a:ext cx="31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формула длины 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luno031" descr=""/>
          <p:cNvPicPr/>
          <p:nvPr/>
        </p:nvPicPr>
        <p:blipFill>
          <a:blip r:embed="rId1"/>
          <a:stretch/>
        </p:blipFill>
        <p:spPr>
          <a:xfrm>
            <a:off x="8105760" y="468648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11" name="sharik" descr=""/>
          <p:cNvPicPr/>
          <p:nvPr/>
        </p:nvPicPr>
        <p:blipFill>
          <a:blip r:embed="rId2"/>
          <a:stretch/>
        </p:blipFill>
        <p:spPr>
          <a:xfrm>
            <a:off x="8028000" y="5818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12" name="Безымянный" descr=""/>
          <p:cNvPicPr/>
          <p:nvPr/>
        </p:nvPicPr>
        <p:blipFill>
          <a:blip r:embed="rId3"/>
          <a:stretch/>
        </p:blipFill>
        <p:spPr>
          <a:xfrm>
            <a:off x="6999120" y="3648240"/>
            <a:ext cx="2078280" cy="3085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62040" y="2120760"/>
            <a:ext cx="8481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хушка головы -                               где 1,7м рост человек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040" y="1828800"/>
            <a:ext cx="8481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ги прошли путь          , гд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ного шар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1360" y="2197080"/>
            <a:ext cx="2601720" cy="34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6600" y="1822320"/>
            <a:ext cx="628560" cy="3430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7920" y="210960"/>
            <a:ext cx="81896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1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Вообразите, что вы обошли землю по экватору. На сколько при этом верхушка вашей головы прошла более длинный путь, чем кончик вашей ноги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61680" y="1542600"/>
            <a:ext cx="194796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000680" y="2171880"/>
                <a:ext cx="2601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855960" y="1851120"/>
                <a:ext cx="628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4226040" y="2768760"/>
            <a:ext cx="4519440" cy="355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311720" y="2738520"/>
                <a:ext cx="41227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,7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,7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62040" y="2730600"/>
            <a:ext cx="8481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ность путей равна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40" y="3060720"/>
            <a:ext cx="848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так голова прошла путь на 10,7 м больше, чем ног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5" name="aluno031" descr=""/>
          <p:cNvPicPr/>
          <p:nvPr/>
        </p:nvPicPr>
        <p:blipFill>
          <a:blip r:embed="rId5"/>
          <a:stretch/>
        </p:blipFill>
        <p:spPr>
          <a:xfrm>
            <a:off x="3870360" y="381312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26" name="sharik" descr=""/>
          <p:cNvPicPr/>
          <p:nvPr/>
        </p:nvPicPr>
        <p:blipFill>
          <a:blip r:embed="rId6"/>
          <a:stretch/>
        </p:blipFill>
        <p:spPr>
          <a:xfrm>
            <a:off x="3838680" y="4948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30080" y="3375000"/>
            <a:ext cx="2624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0,7 м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sharik" descr=""/>
          <p:cNvPicPr/>
          <p:nvPr/>
        </p:nvPicPr>
        <p:blipFill>
          <a:blip r:embed="rId8"/>
          <a:stretch/>
        </p:blipFill>
        <p:spPr>
          <a:xfrm>
            <a:off x="3265560" y="4948200"/>
            <a:ext cx="1965240" cy="196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56r4" descr=""/>
          <p:cNvPicPr/>
          <p:nvPr/>
        </p:nvPicPr>
        <p:blipFill>
          <a:blip r:embed="rId1"/>
          <a:stretch/>
        </p:blipFill>
        <p:spPr>
          <a:xfrm>
            <a:off x="7151760" y="546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64280" y="5389560"/>
            <a:ext cx="1290600" cy="1279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1" name="18" descr=""/>
          <p:cNvPicPr/>
          <p:nvPr/>
        </p:nvPicPr>
        <p:blipFill>
          <a:blip r:embed="rId2"/>
          <a:stretch/>
        </p:blipFill>
        <p:spPr>
          <a:xfrm>
            <a:off x="7464600" y="3610080"/>
            <a:ext cx="1679400" cy="2400120"/>
          </a:xfrm>
          <a:prstGeom prst="rect">
            <a:avLst/>
          </a:prstGeom>
          <a:ln w="0">
            <a:noFill/>
          </a:ln>
        </p:spPr>
      </p:pic>
      <p:pic>
        <p:nvPicPr>
          <p:cNvPr id="332" name="Безымянный" descr=""/>
          <p:cNvPicPr/>
          <p:nvPr/>
        </p:nvPicPr>
        <p:blipFill>
          <a:blip r:embed="rId3"/>
          <a:stretch/>
        </p:blipFill>
        <p:spPr>
          <a:xfrm>
            <a:off x="7010280" y="3652920"/>
            <a:ext cx="2133720" cy="305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3360" y="1512720"/>
            <a:ext cx="8540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ычно отвечают, что промежуток будет тоньше волоса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2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Если обтянуть земной шар по экватору проволокой и затем прибавить к её длине 1м, то сможет ли между проволокой и землёй проскочить мышь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296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Пусть  длина промежутка х 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46200" y="3116160"/>
            <a:ext cx="3484800" cy="2540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482920" y="3197160"/>
                <a:ext cx="3438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58800" y="2122560"/>
            <a:ext cx="832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ли, то длина проволоки была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,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станет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+ x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9440" y="2743200"/>
            <a:ext cx="83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 по условию задачи их разность равна 100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9960" y="3035160"/>
            <a:ext cx="1886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равн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22720" y="3595680"/>
                <a:ext cx="1879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95800" y="3960720"/>
                <a:ext cx="1517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54400" y="4975200"/>
                <a:ext cx="1517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6 с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549000" y="5808600"/>
            <a:ext cx="2261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6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56:07Z</dcterms:created>
  <dc:creator>user</dc:creator>
  <dc:description/>
  <dc:language>en-US</dc:language>
  <cp:lastModifiedBy>pupil</cp:lastModifiedBy>
  <dcterms:modified xsi:type="dcterms:W3CDTF">2007-02-07T10:23:39Z</dcterms:modified>
  <cp:revision>69</cp:revision>
  <dc:subject/>
  <dc:title>Длина окружности. Длина дуги окружности.</dc:title>
</cp:coreProperties>
</file>