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WHOOSH.WAV" ContentType="audio/x-wav"/>
  <Override PartName="/ppt/media/image9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9EC-AE3B-48CA-B620-1984E2A5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37D-30CC-4666-B4C2-34C60E32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25C-102C-43AD-84D9-3326F309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CA7-90B9-4979-A52F-CD30B58A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BF5A-0D15-43DE-AFDB-FDAF728E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AB5E-27A9-46BA-864B-D89D52E1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E83E-F8CF-4FDF-8EDB-E26D98D4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E898-D6BC-41DC-A65B-3155F8B2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3718-9183-4F85-9A98-E1DFC05B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1F41-8DA5-411E-8AED-ADC43443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2812-6407-4C2F-B69F-9F25FD62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595-394E-4F03-8C49-C08C9D99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2A39-E0DB-498C-8FE7-8ADE135D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3C62-1967-407F-82A0-AB63C6FF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2B10-EBC2-4779-A52A-394D1211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7968-6003-44FE-B2F1-A5879CD9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FD71-2BDA-4AB3-8914-5F79739E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24F7-8D0B-4317-AAD4-B01C52B7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D80-3FD8-430E-8FF7-0A2BAE66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60F-27BE-4A56-A4E5-8AF2B020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8A6-2DBC-45DD-851D-9E87B40D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80E-5F59-4760-A80E-32FCCCC1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A1A-B3CD-4994-9EC1-085AA494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D7C-18ED-47A0-942B-FA88F2EC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78D6-140E-4D1B-85AB-C93760F3326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5401-AD91-4A72-B2AA-60B62D1977C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hyperlink" Target="file:///kusnecova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2;&#1072;&#1090;&#1077;&#1084;&#1072;&#1090;&#1080;&#1095;&#1077;&#1089;&#1082;&#1080;&#1081;%20&#1076;&#1080;&#1082;&#1090;&#1072;&#1085;&#1090;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2.png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3146400" cy="6858000"/>
          </a:xfrm>
          <a:prstGeom prst="rect">
            <a:avLst/>
          </a:prstGeom>
          <a:gradFill rotWithShape="0">
            <a:gsLst>
              <a:gs pos="0">
                <a:srgbClr val="6f89f7"/>
              </a:gs>
              <a:gs pos="100000">
                <a:srgbClr val="a6b6f9"/>
              </a:gs>
            </a:gsLst>
            <a:lin ang="10800000"/>
          </a:gra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45200" y="0"/>
            <a:ext cx="2998800" cy="6858000"/>
          </a:xfrm>
          <a:prstGeom prst="rect">
            <a:avLst/>
          </a:prstGeom>
          <a:gradFill rotWithShape="0">
            <a:gsLst>
              <a:gs pos="0">
                <a:srgbClr val="9eaff8"/>
              </a:gs>
              <a:gs pos="100000">
                <a:srgbClr val="6f89f7"/>
              </a:gs>
            </a:gsLst>
            <a:lin ang="10800000"/>
          </a:gra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84400" y="509760"/>
            <a:ext cx="5294160" cy="1935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76400" y="131760"/>
            <a:ext cx="5380200" cy="3700440"/>
          </a:xfrm>
          <a:prstGeom prst="flowChartMerge">
            <a:avLst/>
          </a:prstGeom>
          <a:gradFill rotWithShape="0">
            <a:gsLst>
              <a:gs pos="0">
                <a:srgbClr val="889df7"/>
              </a:gs>
              <a:gs pos="100000">
                <a:srgbClr val="6f89f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90720" y="339840"/>
            <a:ext cx="3784680" cy="2914560"/>
          </a:xfrm>
          <a:prstGeom prst="flowChartMerge">
            <a:avLst/>
          </a:prstGeom>
          <a:gradFill rotWithShape="0">
            <a:gsLst>
              <a:gs pos="0">
                <a:srgbClr val="6f89f7"/>
              </a:gs>
              <a:gs pos="100000">
                <a:srgbClr val="9eaff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95560" y="2448000"/>
            <a:ext cx="5276880" cy="54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2cdf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03360" y="2401920"/>
            <a:ext cx="48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Геометрия. 9 класс.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440000" y="165240"/>
            <a:ext cx="6500520" cy="20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63504" dir="2216091" blurRad="0" rotWithShape="0">
                    <a:srgbClr val="9999ff"/>
                  </a:outerShdw>
                </a:effectLst>
                <a:latin typeface="Impact"/>
              </a:rPr>
              <a:t>Длина окружност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63504" dir="2216091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5" name="740a73b396965654d5e45d53b47d4e2b" descr=""/>
          <p:cNvPicPr/>
          <p:nvPr/>
        </p:nvPicPr>
        <p:blipFill>
          <a:blip r:embed="rId1"/>
          <a:stretch/>
        </p:blipFill>
        <p:spPr>
          <a:xfrm>
            <a:off x="3127320" y="4022640"/>
            <a:ext cx="3043440" cy="2824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884160" y="3630600"/>
            <a:ext cx="5167440" cy="973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74880" y="3648240"/>
                <a:ext cx="50544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180720"/>
            <a:ext cx="819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№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104(а). Найти длину окружности описанной около правильного треугольника со стороной </a:t>
            </a:r>
            <a:r>
              <a:rPr b="0" i="1" lang="en-US" sz="2800" spc="-1" strike="noStrike">
                <a:solidFill>
                  <a:srgbClr val="660066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4280" y="1533600"/>
            <a:ext cx="35589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ыразит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рез </a:t>
            </a:r>
            <a:r>
              <a:rPr b="0" i="1" lang="ru-RU" sz="2400" spc="-1" strike="noStrike">
                <a:solidFill>
                  <a:srgbClr val="40458c"/>
                </a:solidFill>
                <a:latin typeface="Tahoma"/>
              </a:rPr>
              <a:t>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6804000" y="1568520"/>
            <a:ext cx="1765440" cy="176508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20044800">
            <a:off x="6803640" y="1568520"/>
            <a:ext cx="1562040" cy="1371600"/>
          </a:xfrm>
          <a:prstGeom prst="flowChartExtract">
            <a:avLst/>
          </a:prstGeom>
          <a:noFill/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76240" y="1890720"/>
            <a:ext cx="3810240" cy="952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880920" y="1905120"/>
                <a:ext cx="3834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728640" y="3052800"/>
            <a:ext cx="708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ставьте в формулу длины окружност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915240" y="1905120"/>
            <a:ext cx="1422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          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96080" y="2824200"/>
            <a:ext cx="0" cy="6429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53080" y="1676520"/>
            <a:ext cx="2286000" cy="238752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730920" y="1676520"/>
            <a:ext cx="1949400" cy="1790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569880" y="1512720"/>
            <a:ext cx="61516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 </a:t>
            </a:r>
            <a:r>
              <a:rPr b="0" lang="ru-RU" sz="2400" spc="-1" strike="noStrike">
                <a:solidFill>
                  <a:srgbClr val="40458c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ВС – равнобедренный,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писан в О(О;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)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; АВ=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=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, BC=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4343400" y="4168800"/>
            <a:ext cx="4597560" cy="866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38640" y="3475080"/>
            <a:ext cx="2735280" cy="682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375000" y="3419640"/>
                <a:ext cx="261612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1801800" y="2865600"/>
            <a:ext cx="1515960" cy="650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897200" y="2820960"/>
                <a:ext cx="13474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2790720" y="2405160"/>
            <a:ext cx="2971800" cy="371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973240" y="2443320"/>
                <a:ext cx="2727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АН, где АН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28200" y="404640"/>
            <a:ext cx="8240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№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104 (в). Найти длину окружности описанной около равнобедренного треугольника с основанием </a:t>
            </a:r>
            <a:r>
              <a:rPr b="0" i="1" lang="en-US" sz="2400" spc="-1" strike="noStrike">
                <a:solidFill>
                  <a:srgbClr val="660066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 и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7791480" y="130968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58040" y="3225960"/>
            <a:ext cx="3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680320" y="32259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730560" y="2824200"/>
            <a:ext cx="965160" cy="642960"/>
          </a:xfrm>
          <a:prstGeom prst="line">
            <a:avLst/>
          </a:prstGeom>
          <a:ln w="9360">
            <a:solidFill>
              <a:srgbClr val="ee9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1676520"/>
            <a:ext cx="0" cy="1190520"/>
          </a:xfrm>
          <a:prstGeom prst="line">
            <a:avLst/>
          </a:prstGeom>
          <a:ln w="9360">
            <a:solidFill>
              <a:srgbClr val="ee9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96080" y="2824200"/>
            <a:ext cx="984240" cy="642960"/>
          </a:xfrm>
          <a:prstGeom prst="line">
            <a:avLst/>
          </a:prstGeom>
          <a:ln w="9360">
            <a:solidFill>
              <a:srgbClr val="ee9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421160" y="4168800"/>
                <a:ext cx="44686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Н- АО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684360" y="2954160"/>
            <a:ext cx="126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Н=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62040" y="3602160"/>
            <a:ext cx="2819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 </a:t>
            </a:r>
            <a:r>
              <a:rPr b="0" lang="en-US" sz="2400" spc="-1" strike="noStrike">
                <a:solidFill>
                  <a:srgbClr val="40458c"/>
                </a:solidFill>
                <a:latin typeface="Wingdings 3"/>
                <a:ea typeface="Wingdings 3"/>
              </a:rPr>
              <a:t>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ВН: АН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9200" y="4441680"/>
            <a:ext cx="3822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ак как АО=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,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о ОН=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0240" y="919080"/>
            <a:ext cx="35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тороной </a:t>
            </a:r>
            <a:r>
              <a:rPr b="0" i="1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3960" y="2154240"/>
            <a:ext cx="1871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йти: С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20920" y="2471760"/>
            <a:ext cx="2293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шение. </a:t>
            </a:r>
            <a:r>
              <a:rPr b="0" lang="en-US" sz="2400" spc="-1" strike="noStrike">
                <a:solidFill>
                  <a:srgbClr val="452b75"/>
                </a:solidFill>
                <a:latin typeface="Tahoma"/>
              </a:rPr>
              <a:t>1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67640" y="2824200"/>
            <a:ext cx="57240" cy="4284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17760" y="3889440"/>
            <a:ext cx="2238120" cy="7444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536840" y="3908520"/>
                <a:ext cx="2238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942840" y="1905120"/>
            <a:ext cx="5016600" cy="19778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30360" y="39960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№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104 (в). Найти длину окружности описанной около равнобедренного треугольника с основанием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481040"/>
            <a:ext cx="52642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452b75"/>
              </a:buClr>
              <a:buSzPct val="110000"/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 </a:t>
            </a:r>
            <a:r>
              <a:rPr b="0" lang="ru-RU" sz="2400" spc="-1" strike="noStrike">
                <a:solidFill>
                  <a:srgbClr val="40458c"/>
                </a:solidFill>
                <a:latin typeface="Wingdings 3"/>
                <a:ea typeface="Wingdings 3"/>
              </a:rPr>
              <a:t>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ОН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</a:t>
            </a:r>
            <a:r>
              <a:rPr b="0" lang="ru-RU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H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+BH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6730920" y="1676520"/>
            <a:ext cx="1949400" cy="1790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791480" y="130968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458040" y="3225960"/>
            <a:ext cx="3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680320" y="32259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3080" y="1676520"/>
            <a:ext cx="2286000" cy="238752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96080" y="1676520"/>
            <a:ext cx="0" cy="1790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730560" y="2824200"/>
            <a:ext cx="965160" cy="6429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96080" y="2824200"/>
            <a:ext cx="984240" cy="6429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667640" y="2824200"/>
            <a:ext cx="57240" cy="4284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35244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247760" y="1900080"/>
                <a:ext cx="29718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42840" y="2644920"/>
                <a:ext cx="50166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933480" y="3317760"/>
                <a:ext cx="2146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3079800" y="3139920"/>
                <a:ext cx="203184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600120" y="4024440"/>
            <a:ext cx="108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buClr>
                <a:srgbClr val="452b75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=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324560" y="26719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85720" y="882720"/>
            <a:ext cx="363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и боковой стороной </a:t>
            </a:r>
            <a:r>
              <a:rPr b="0" i="1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906560" y="4648320"/>
                <a:ext cx="12049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61600" y="4836960"/>
            <a:ext cx="1379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вет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60240" y="259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№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3. Дана равнобедренная трапеция со сторонами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2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. Найти длину окружности, описанно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84280" y="1518840"/>
            <a:ext cx="46972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о: АВ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– трапеция, АВ=ВС=С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= а, 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=2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701640" y="88092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около трапеци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6800" y="2755800"/>
            <a:ext cx="4474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йти: Длину окружност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8200" y="3063960"/>
            <a:ext cx="1949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шение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09720" y="2124000"/>
            <a:ext cx="3189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кр(О;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)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исанная около окружност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78440" y="1836720"/>
            <a:ext cx="3649680" cy="36576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980240" y="3665520"/>
            <a:ext cx="3653640" cy="1581120"/>
            <a:chOff x="4980240" y="3665520"/>
            <a:chExt cx="3653640" cy="1581120"/>
          </a:xfrm>
        </p:grpSpPr>
        <p:sp>
          <p:nvSpPr>
            <p:cNvPr id="413" name=""/>
            <p:cNvSpPr/>
            <p:nvPr/>
          </p:nvSpPr>
          <p:spPr>
            <a:xfrm flipH="1">
              <a:off x="4984920" y="3665520"/>
              <a:ext cx="3642840" cy="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5896080" y="5243400"/>
              <a:ext cx="1831680" cy="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719840" y="3665520"/>
              <a:ext cx="914040" cy="1581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80240" y="3665520"/>
              <a:ext cx="920520" cy="15811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654440" y="1779480"/>
            <a:ext cx="4448160" cy="2018880"/>
            <a:chOff x="4654440" y="1779480"/>
            <a:chExt cx="4448160" cy="2018880"/>
          </a:xfrm>
        </p:grpSpPr>
        <p:grpSp>
          <p:nvGrpSpPr>
            <p:cNvPr id="418" name=""/>
            <p:cNvGrpSpPr/>
            <p:nvPr/>
          </p:nvGrpSpPr>
          <p:grpSpPr>
            <a:xfrm>
              <a:off x="4975200" y="2081160"/>
              <a:ext cx="3653640" cy="1581120"/>
              <a:chOff x="4975200" y="2081160"/>
              <a:chExt cx="3653640" cy="1581120"/>
            </a:xfrm>
          </p:grpSpPr>
          <p:sp>
            <p:nvSpPr>
              <p:cNvPr id="419" name=""/>
              <p:cNvSpPr/>
              <p:nvPr/>
            </p:nvSpPr>
            <p:spPr>
              <a:xfrm>
                <a:off x="4981320" y="3662280"/>
                <a:ext cx="364284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881320" y="2084400"/>
                <a:ext cx="183168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975200" y="2081160"/>
                <a:ext cx="91404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7708320" y="2081160"/>
                <a:ext cx="92052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4654440" y="333864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27800" y="177948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66000" y="18018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656560" y="331488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573120" y="3343320"/>
            <a:ext cx="3913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52b75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строим трапецию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CD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до правильного шестиугольника. Тогда окружность описанная около шестиугольника будет описана и около трапеци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569880" y="1512720"/>
            <a:ext cx="38480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52b75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ак как шестиугольник правильный, то радиус описанной окружности равен стороне.           А значит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=2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=2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60240" y="259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№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3. Дана равнобедренная трапеция со сторонами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2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. Найти длину окружности, описанно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701640" y="88092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около трапеци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8600" y="3379680"/>
            <a:ext cx="2234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вет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975200" y="1836720"/>
            <a:ext cx="3658680" cy="3657600"/>
            <a:chOff x="4975200" y="1836720"/>
            <a:chExt cx="3658680" cy="3657600"/>
          </a:xfrm>
        </p:grpSpPr>
        <p:sp>
          <p:nvSpPr>
            <p:cNvPr id="433" name=""/>
            <p:cNvSpPr/>
            <p:nvPr/>
          </p:nvSpPr>
          <p:spPr>
            <a:xfrm>
              <a:off x="4978080" y="1836720"/>
              <a:ext cx="3649320" cy="36576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975200" y="2081160"/>
              <a:ext cx="3653640" cy="1581120"/>
              <a:chOff x="4975200" y="2081160"/>
              <a:chExt cx="3653640" cy="1581120"/>
            </a:xfrm>
          </p:grpSpPr>
          <p:sp>
            <p:nvSpPr>
              <p:cNvPr id="435" name=""/>
              <p:cNvSpPr/>
              <p:nvPr/>
            </p:nvSpPr>
            <p:spPr>
              <a:xfrm>
                <a:off x="4981320" y="3662280"/>
                <a:ext cx="364284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81320" y="2084400"/>
                <a:ext cx="183168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4975200" y="2081160"/>
                <a:ext cx="91404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 flipV="1">
                <a:off x="7708320" y="2081160"/>
                <a:ext cx="92052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4980600" y="3665520"/>
              <a:ext cx="3653280" cy="1581120"/>
              <a:chOff x="4980600" y="3665520"/>
              <a:chExt cx="3653280" cy="1581120"/>
            </a:xfrm>
          </p:grpSpPr>
          <p:sp>
            <p:nvSpPr>
              <p:cNvPr id="440" name=""/>
              <p:cNvSpPr/>
              <p:nvPr/>
            </p:nvSpPr>
            <p:spPr>
              <a:xfrm flipH="1">
                <a:off x="4985280" y="3665520"/>
                <a:ext cx="364248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5896440" y="5243400"/>
                <a:ext cx="1831320" cy="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7719840" y="3665520"/>
                <a:ext cx="91404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80600" y="3665520"/>
                <a:ext cx="920520" cy="1581120"/>
              </a:xfrm>
              <a:prstGeom prst="line">
                <a:avLst/>
              </a:prstGeom>
              <a:ln w="1260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"/>
          <p:cNvSpPr/>
          <p:nvPr/>
        </p:nvSpPr>
        <p:spPr>
          <a:xfrm>
            <a:off x="4654440" y="333864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27800" y="17794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866000" y="18018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656560" y="331488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6120" y="5810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ВОПРОСЫ ДЛЯ ПОВТОР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42880" y="149868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Сформулируйте основное свойство длины окружности. На чём основывается его доказательство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555480" y="2584440"/>
            <a:ext cx="802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вычисляется длина окружности по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формуле?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2600" y="3332160"/>
            <a:ext cx="8162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акое число обозначается буквой </a:t>
            </a:r>
            <a:r>
              <a:rPr b="0" lang="en-US" sz="28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и чему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равно его приближённое значение?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7280" y="4078440"/>
            <a:ext cx="806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изменится длина окружности, если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диус окружности уменьшить (увеличить) в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раз?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3400" y="5210280"/>
            <a:ext cx="826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изменится длина окружности, если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диус окружности уменьшить (увеличить) в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з?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Домашнее задание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  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Вопросы 8-9(стр. 270)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  №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108, №1105(а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пасибо за урок, дети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5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819520" y="217188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458" name="">
            <a:hlinkClick r:id="rId2"/>
          </p:cNvPr>
          <p:cNvSpPr/>
          <p:nvPr/>
        </p:nvSpPr>
        <p:spPr>
          <a:xfrm>
            <a:off x="8458200" y="648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&lt;&lt;&lt;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51040" y="1521000"/>
            <a:ext cx="7378560" cy="51051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475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92240" y="1521000"/>
            <a:ext cx="6934320" cy="304560"/>
          </a:xfrm>
          <a:custGeom>
            <a:avLst/>
            <a:gdLst/>
            <a:ahLst/>
            <a:rect l="l" t="t" r="r" b="b"/>
            <a:pathLst>
              <a:path w="4368" h="192">
                <a:moveTo>
                  <a:pt x="0" y="186"/>
                </a:moveTo>
                <a:lnTo>
                  <a:pt x="4368" y="192"/>
                </a:lnTo>
                <a:lnTo>
                  <a:pt x="4260" y="84"/>
                </a:lnTo>
                <a:lnTo>
                  <a:pt x="4110" y="18"/>
                </a:lnTo>
                <a:lnTo>
                  <a:pt x="3942" y="0"/>
                </a:lnTo>
                <a:lnTo>
                  <a:pt x="342" y="12"/>
                </a:lnTo>
                <a:lnTo>
                  <a:pt x="228" y="30"/>
                </a:lnTo>
                <a:lnTo>
                  <a:pt x="120" y="84"/>
                </a:lnTo>
                <a:lnTo>
                  <a:pt x="54" y="126"/>
                </a:lnTo>
                <a:lnTo>
                  <a:pt x="0" y="186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15920" y="1851120"/>
            <a:ext cx="701064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568160" y="1523880"/>
            <a:ext cx="2933640" cy="0"/>
          </a:xfrm>
          <a:prstGeom prst="line">
            <a:avLst/>
          </a:prstGeom>
          <a:ln w="414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7320" y="1828800"/>
            <a:ext cx="6969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73920" y="1692360"/>
            <a:ext cx="117720" cy="1364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68520" y="1523880"/>
            <a:ext cx="59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астер подключения презентации к уроку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57320" y="2138400"/>
            <a:ext cx="6969240" cy="125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3440" y="2079720"/>
            <a:ext cx="654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S T O P</a:t>
            </a:r>
            <a:endParaRPr b="0" lang="en-US" sz="8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15920" y="3573360"/>
            <a:ext cx="72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Дальнейший просмотр возможен только при наличии соответствующих знаний. А они у тебя есть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15920" y="4987800"/>
            <a:ext cx="2044800" cy="111780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60720" y="4987800"/>
            <a:ext cx="2374920" cy="111780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4987800"/>
            <a:ext cx="2590920" cy="111780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7320" y="5165640"/>
            <a:ext cx="196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7c1eb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Да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Могу доказать</a:t>
            </a:r>
            <a:r>
              <a:rPr b="0" lang="en-US" sz="1800" spc="-1" strike="noStrike">
                <a:solidFill>
                  <a:srgbClr val="b7c1eb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63760" y="516564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Да, но я устал  и думать не хочу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516564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Ничего не знаю и знать не хочу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">
            <a:hlinkClick r:id="rId1"/>
          </p:cNvPr>
          <p:cNvSpPr/>
          <p:nvPr/>
        </p:nvSpPr>
        <p:spPr>
          <a:xfrm>
            <a:off x="1015920" y="5165640"/>
            <a:ext cx="2003400" cy="779400"/>
          </a:xfrm>
          <a:custGeom>
            <a:avLst/>
            <a:gdLst>
              <a:gd name="textAreaLeft" fmla="*/ 50400 w 2003400"/>
              <a:gd name="textAreaRight" fmla="*/ 1953000 w 2003400"/>
              <a:gd name="textAreaTop" fmla="*/ 50400 h 779400"/>
              <a:gd name="textAreaBottom" fmla="*/ 729000 h 779400"/>
            </a:gdLst>
            <a:ahLst/>
            <a:rect l="textAreaLeft" t="textAreaTop" r="textAreaRight" b="textAreaBottom"/>
            <a:pathLst>
              <a:path w="55506" h="21600">
                <a:moveTo>
                  <a:pt x="0" y="0"/>
                </a:moveTo>
                <a:lnTo>
                  <a:pt x="55506" y="0"/>
                </a:lnTo>
                <a:lnTo>
                  <a:pt x="55506" y="21600"/>
                </a:lnTo>
                <a:lnTo>
                  <a:pt x="0" y="21600"/>
                </a:lnTo>
                <a:close/>
              </a:path>
              <a:path fill="lightenLess" w="55506" h="21600">
                <a:moveTo>
                  <a:pt x="0" y="0"/>
                </a:moveTo>
                <a:lnTo>
                  <a:pt x="55506" y="0"/>
                </a:lnTo>
                <a:lnTo>
                  <a:pt x="54106" y="1400"/>
                </a:lnTo>
                <a:lnTo>
                  <a:pt x="1400" y="1400"/>
                </a:lnTo>
                <a:close/>
              </a:path>
              <a:path fill="darken" w="55506" h="21600">
                <a:moveTo>
                  <a:pt x="55506" y="0"/>
                </a:moveTo>
                <a:lnTo>
                  <a:pt x="55506" y="21600"/>
                </a:lnTo>
                <a:lnTo>
                  <a:pt x="54106" y="20200"/>
                </a:lnTo>
                <a:lnTo>
                  <a:pt x="54106" y="1400"/>
                </a:lnTo>
                <a:close/>
              </a:path>
              <a:path fill="darkenLess" w="55506" h="21600">
                <a:moveTo>
                  <a:pt x="55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6" y="20200"/>
                </a:lnTo>
                <a:close/>
              </a:path>
              <a:path fill="lighten" w="55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81492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едставим себе нить в форме окружности. Разрежем её и растянем за концы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609480" y="-6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нятие длины окружности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732720" y="3357720"/>
            <a:ext cx="1224000" cy="1223640"/>
            <a:chOff x="6732720" y="3357720"/>
            <a:chExt cx="1224000" cy="1223640"/>
          </a:xfrm>
        </p:grpSpPr>
        <p:sp>
          <p:nvSpPr>
            <p:cNvPr id="236" name=""/>
            <p:cNvSpPr/>
            <p:nvPr/>
          </p:nvSpPr>
          <p:spPr>
            <a:xfrm>
              <a:off x="6732720" y="3357720"/>
              <a:ext cx="1224000" cy="1223640"/>
            </a:xfrm>
            <a:prstGeom prst="ellipse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019640" y="3933720"/>
              <a:ext cx="360360" cy="503280"/>
            </a:xfrm>
            <a:prstGeom prst="line">
              <a:avLst/>
            </a:prstGeom>
            <a:ln w="1260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08720" y="3914640"/>
              <a:ext cx="71640" cy="716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48360" y="4437000"/>
              <a:ext cx="71640" cy="716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04000" y="3789360"/>
              <a:ext cx="3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H="1">
            <a:off x="7956360" y="3357720"/>
            <a:ext cx="718920" cy="4316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96360" y="292428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Тонкая нить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4038480"/>
            <a:ext cx="31323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17080" y="4149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08720" y="4005360"/>
            <a:ext cx="71280" cy="73080"/>
          </a:xfrm>
          <a:prstGeom prst="ellipse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675640" y="4005360"/>
            <a:ext cx="73080" cy="71280"/>
          </a:xfrm>
          <a:prstGeom prst="ellipse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1960" y="4508640"/>
            <a:ext cx="489888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Длина полученного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отрезка и есть длина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окружности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384960" y="2997360"/>
            <a:ext cx="2448000" cy="3058920"/>
          </a:xfrm>
          <a:prstGeom prst="borderCallout1">
            <a:avLst>
              <a:gd name="adj1" fmla="val -5827"/>
              <a:gd name="adj2" fmla="val -538"/>
              <a:gd name="adj3" fmla="val 20591"/>
              <a:gd name="adj4" fmla="val -538"/>
            </a:avLst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68920" y="3645000"/>
            <a:ext cx="1729080" cy="1800000"/>
          </a:xfrm>
          <a:prstGeom prst="ellipse">
            <a:avLst/>
          </a:prstGeom>
          <a:noFill/>
          <a:ln w="28440">
            <a:solidFill>
              <a:srgbClr val="ee9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6480720" y="3896280"/>
            <a:ext cx="1511280" cy="12970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9560" y="3789360"/>
            <a:ext cx="1728720" cy="1511280"/>
          </a:xfrm>
          <a:prstGeom prst="hexagon">
            <a:avLst>
              <a:gd name="adj" fmla="val 28597"/>
              <a:gd name="vf" fmla="val 115470"/>
            </a:avLst>
          </a:prstGeom>
          <a:noFill/>
          <a:ln w="1908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88000" y="3645000"/>
            <a:ext cx="1729080" cy="1800000"/>
          </a:xfrm>
          <a:custGeom>
            <a:avLst/>
            <a:gdLst/>
            <a:ahLst/>
            <a:rect l="l" t="t" r="r" b="b"/>
            <a:pathLst>
              <a:path w="1089" h="1134">
                <a:moveTo>
                  <a:pt x="272" y="1043"/>
                </a:moveTo>
                <a:lnTo>
                  <a:pt x="45" y="817"/>
                </a:lnTo>
                <a:lnTo>
                  <a:pt x="0" y="590"/>
                </a:lnTo>
                <a:lnTo>
                  <a:pt x="91" y="227"/>
                </a:lnTo>
                <a:lnTo>
                  <a:pt x="318" y="45"/>
                </a:lnTo>
                <a:lnTo>
                  <a:pt x="544" y="0"/>
                </a:lnTo>
                <a:lnTo>
                  <a:pt x="907" y="136"/>
                </a:lnTo>
                <a:lnTo>
                  <a:pt x="1043" y="363"/>
                </a:lnTo>
                <a:lnTo>
                  <a:pt x="1089" y="590"/>
                </a:lnTo>
                <a:lnTo>
                  <a:pt x="998" y="862"/>
                </a:lnTo>
                <a:lnTo>
                  <a:pt x="817" y="1043"/>
                </a:lnTo>
                <a:lnTo>
                  <a:pt x="544" y="1134"/>
                </a:lnTo>
                <a:lnTo>
                  <a:pt x="272" y="1043"/>
                </a:lnTo>
                <a:close/>
              </a:path>
            </a:pathLst>
          </a:custGeom>
          <a:noFill/>
          <a:ln w="1908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165240" y="952560"/>
            <a:ext cx="91440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Периметр любого вписанного в окружность многоугольника</a:t>
            </a: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является приближённым значением</a:t>
            </a:r>
            <a:br>
              <a:rPr sz="2800"/>
            </a:b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длины окружности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9760" y="2480760"/>
            <a:ext cx="575136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и увеличении числа сторон правильный многоугольник всё ближе и ближе «прилегает» к окружност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538200" y="4091040"/>
            <a:ext cx="584676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cc"/>
                </a:solidFill>
                <a:latin typeface="Tahoma"/>
              </a:rPr>
              <a:t>Длина окружности – это 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cc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33cc"/>
                </a:solidFill>
                <a:latin typeface="Tahoma"/>
              </a:rPr>
              <a:t>предел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, к которому стремится 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ериметр правильного 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писанного многоугольника при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еограниченном увеличении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числа его сторон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 flipH="1">
            <a:off x="6773400" y="4021200"/>
            <a:ext cx="505080" cy="71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242120" y="3641760"/>
            <a:ext cx="6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96680" y="41400"/>
            <a:ext cx="784692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Свойство длины окружности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2880" y="1484280"/>
            <a:ext cx="8207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45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Отношение длины окружности к её диаметру есть одно и то</a:t>
            </a:r>
            <a:r>
              <a:rPr b="1" i="1" lang="en-US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33cc"/>
                </a:solidFill>
                <a:latin typeface="Tahoma"/>
              </a:rPr>
              <a:t>же число для всех окружностей.</a:t>
            </a: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( стр. 265, курсив предпоследний абзац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797040" y="3444840"/>
            <a:ext cx="52466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Дано: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Окр(О</a:t>
            </a:r>
            <a:r>
              <a:rPr b="0" lang="ru-RU" sz="2800" spc="-1" strike="noStrike" baseline="-25000">
                <a:solidFill>
                  <a:srgbClr val="40458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),Oкр(O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;R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длина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Oкр(O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; R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),                  C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длина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Oкр(O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; R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Arial"/>
              </a:rPr>
              <a:t>Доказать: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73760" y="3444840"/>
            <a:ext cx="1081080" cy="1081080"/>
          </a:xfrm>
          <a:prstGeom prst="ellipse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42120" y="3986280"/>
            <a:ext cx="73080" cy="730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73960" y="4813200"/>
            <a:ext cx="1512720" cy="1513080"/>
          </a:xfrm>
          <a:prstGeom prst="ellipse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94680" y="5226120"/>
            <a:ext cx="6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605640" y="5624640"/>
            <a:ext cx="720720" cy="727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94680" y="5570640"/>
            <a:ext cx="71280" cy="730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06760" y="5735520"/>
            <a:ext cx="1638360" cy="81936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606760" y="5735520"/>
                <a:ext cx="163836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strips dir="r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94280" y="6149880"/>
            <a:ext cx="4123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2b75"/>
              </a:buClr>
              <a:buSzPct val="110000"/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 свойству пропорции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164880"/>
            <a:ext cx="45511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оказательство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6160" y="1495440"/>
            <a:ext cx="863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41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b75"/>
                </a:solidFill>
                <a:latin typeface="Tahoma"/>
              </a:rPr>
              <a:t>1)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пишем в каждую окружность правильный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угольни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7699320" y="2762280"/>
            <a:ext cx="1081080" cy="1081080"/>
          </a:xfrm>
          <a:prstGeom prst="ellipse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46960" y="4148280"/>
            <a:ext cx="1512720" cy="1512720"/>
          </a:xfrm>
          <a:prstGeom prst="ellipse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446960" y="4952880"/>
            <a:ext cx="752400" cy="73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67680" y="4905360"/>
            <a:ext cx="71280" cy="730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699320" y="3294000"/>
            <a:ext cx="504720" cy="493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8167680" y="3246480"/>
            <a:ext cx="61920" cy="71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99320" y="2773440"/>
            <a:ext cx="1076400" cy="1052280"/>
          </a:xfrm>
          <a:custGeom>
            <a:avLst/>
            <a:gdLst/>
            <a:ahLst/>
            <a:rect l="l" t="t" r="r" b="b"/>
            <a:pathLst>
              <a:path w="678" h="663">
                <a:moveTo>
                  <a:pt x="0" y="305"/>
                </a:moveTo>
                <a:lnTo>
                  <a:pt x="96" y="93"/>
                </a:lnTo>
                <a:lnTo>
                  <a:pt x="270" y="0"/>
                </a:lnTo>
                <a:lnTo>
                  <a:pt x="483" y="21"/>
                </a:lnTo>
                <a:lnTo>
                  <a:pt x="638" y="174"/>
                </a:lnTo>
                <a:lnTo>
                  <a:pt x="678" y="381"/>
                </a:lnTo>
                <a:lnTo>
                  <a:pt x="594" y="560"/>
                </a:lnTo>
                <a:lnTo>
                  <a:pt x="425" y="663"/>
                </a:lnTo>
                <a:lnTo>
                  <a:pt x="216" y="651"/>
                </a:lnTo>
                <a:lnTo>
                  <a:pt x="51" y="518"/>
                </a:lnTo>
                <a:lnTo>
                  <a:pt x="0" y="305"/>
                </a:lnTo>
                <a:close/>
              </a:path>
            </a:pathLst>
          </a:custGeom>
          <a:noFill/>
          <a:ln w="126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43720" y="4146480"/>
            <a:ext cx="1492200" cy="1501920"/>
          </a:xfrm>
          <a:custGeom>
            <a:avLst/>
            <a:gdLst/>
            <a:ahLst/>
            <a:rect l="l" t="t" r="r" b="b"/>
            <a:pathLst>
              <a:path w="940" h="946">
                <a:moveTo>
                  <a:pt x="0" y="468"/>
                </a:moveTo>
                <a:lnTo>
                  <a:pt x="70" y="230"/>
                </a:lnTo>
                <a:lnTo>
                  <a:pt x="240" y="64"/>
                </a:lnTo>
                <a:lnTo>
                  <a:pt x="474" y="0"/>
                </a:lnTo>
                <a:lnTo>
                  <a:pt x="736" y="76"/>
                </a:lnTo>
                <a:lnTo>
                  <a:pt x="918" y="294"/>
                </a:lnTo>
                <a:lnTo>
                  <a:pt x="940" y="590"/>
                </a:lnTo>
                <a:lnTo>
                  <a:pt x="792" y="834"/>
                </a:lnTo>
                <a:lnTo>
                  <a:pt x="554" y="946"/>
                </a:lnTo>
                <a:lnTo>
                  <a:pt x="290" y="916"/>
                </a:lnTo>
                <a:lnTo>
                  <a:pt x="58" y="704"/>
                </a:lnTo>
                <a:lnTo>
                  <a:pt x="0" y="468"/>
                </a:lnTo>
                <a:close/>
              </a:path>
            </a:pathLst>
          </a:custGeom>
          <a:noFill/>
          <a:ln w="1260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2360" y="3886200"/>
            <a:ext cx="462132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сли число сторон неограниченно увеличивать, то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421160" y="5886360"/>
                <a:ext cx="14191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771560" y="3008160"/>
                <a:ext cx="37846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444240" y="1865160"/>
            <a:ext cx="47775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52b75"/>
              </a:buClr>
              <a:buSzPct val="110000"/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Р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Р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2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 их периметры;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  а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n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a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n2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х стороны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огда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 n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n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387600" y="2241720"/>
                <a:ext cx="2165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5" name=""/>
          <p:cNvGrpSpPr/>
          <p:nvPr/>
        </p:nvGrpSpPr>
        <p:grpSpPr>
          <a:xfrm>
            <a:off x="5575320" y="2362320"/>
            <a:ext cx="195120" cy="1591920"/>
            <a:chOff x="5575320" y="2362320"/>
            <a:chExt cx="195120" cy="1591920"/>
          </a:xfrm>
        </p:grpSpPr>
        <p:sp>
          <p:nvSpPr>
            <p:cNvPr id="286" name=""/>
            <p:cNvSpPr/>
            <p:nvPr/>
          </p:nvSpPr>
          <p:spPr>
            <a:xfrm>
              <a:off x="5575320" y="2362320"/>
              <a:ext cx="0" cy="1591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75320" y="2972160"/>
              <a:ext cx="195120" cy="22356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75320" y="2991240"/>
              <a:ext cx="195120" cy="20448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835600" y="2684520"/>
                <a:ext cx="12985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843200" y="4640400"/>
                <a:ext cx="3492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851440" y="4334040"/>
                <a:ext cx="11145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7156440" y="2854440"/>
            <a:ext cx="244080" cy="2206440"/>
            <a:chOff x="7156440" y="2854440"/>
            <a:chExt cx="244080" cy="2206440"/>
          </a:xfrm>
        </p:grpSpPr>
        <p:sp>
          <p:nvSpPr>
            <p:cNvPr id="293" name=""/>
            <p:cNvSpPr/>
            <p:nvPr/>
          </p:nvSpPr>
          <p:spPr>
            <a:xfrm>
              <a:off x="7156440" y="2854440"/>
              <a:ext cx="0" cy="2206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66520" y="3691800"/>
              <a:ext cx="234000" cy="3481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95440" y="5656320"/>
            <a:ext cx="233280" cy="234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130400" y="5326200"/>
                <a:ext cx="138744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5911920" y="60818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Ч.т.д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3200" y="4510080"/>
            <a:ext cx="325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P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24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тогда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Число «пи». Вывод формулы     длины окружности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62040" y="1510920"/>
            <a:ext cx="832968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з свойства длины окружности следует  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что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есть число постоянное и теоретически доказано, что это число иррационально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бозначают его греческой буквой «пи»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805040" y="1819440"/>
          <a:ext cx="759960" cy="1035000"/>
        </p:xfrm>
        <a:graphic>
          <a:graphicData uri="http://schemas.openxmlformats.org/drawingml/2006/table">
            <a:tbl>
              <a:tblPr/>
              <a:tblGrid>
                <a:gridCol w="7599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2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3435480" y="3940200"/>
            <a:ext cx="2022480" cy="4255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954000" y="4365720"/>
            <a:ext cx="727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Это я знаю и помню прекрасно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44520" y="5332320"/>
            <a:ext cx="1689120" cy="889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415880" y="5332320"/>
                <a:ext cx="13654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2933640" y="5638680"/>
            <a:ext cx="685800" cy="279360"/>
          </a:xfrm>
          <a:prstGeom prst="rightArrow">
            <a:avLst>
              <a:gd name="adj1" fmla="val 50000"/>
              <a:gd name="adj2" fmla="val 61372"/>
            </a:avLst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14920" y="5295960"/>
            <a:ext cx="1314360" cy="8888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14920" y="539892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C=2</a:t>
            </a:r>
            <a:r>
              <a:rPr b="1" lang="en-US" sz="2800" spc="-1" strike="noStrike">
                <a:solidFill>
                  <a:srgbClr val="660066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02160" y="5398920"/>
            <a:ext cx="31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 формула длины окружности.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aluno031" descr=""/>
          <p:cNvPicPr/>
          <p:nvPr/>
        </p:nvPicPr>
        <p:blipFill>
          <a:blip r:embed="rId1"/>
          <a:stretch/>
        </p:blipFill>
        <p:spPr>
          <a:xfrm>
            <a:off x="8105760" y="4686480"/>
            <a:ext cx="743040" cy="1279440"/>
          </a:xfrm>
          <a:prstGeom prst="rect">
            <a:avLst/>
          </a:prstGeom>
          <a:ln w="0">
            <a:noFill/>
          </a:ln>
        </p:spPr>
      </p:pic>
      <p:pic>
        <p:nvPicPr>
          <p:cNvPr id="311" name="sharik" descr=""/>
          <p:cNvPicPr/>
          <p:nvPr/>
        </p:nvPicPr>
        <p:blipFill>
          <a:blip r:embed="rId2"/>
          <a:stretch/>
        </p:blipFill>
        <p:spPr>
          <a:xfrm>
            <a:off x="8028000" y="58183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312" name="Безымянный" descr=""/>
          <p:cNvPicPr/>
          <p:nvPr/>
        </p:nvPicPr>
        <p:blipFill>
          <a:blip r:embed="rId3"/>
          <a:stretch/>
        </p:blipFill>
        <p:spPr>
          <a:xfrm>
            <a:off x="6999120" y="3648240"/>
            <a:ext cx="2078280" cy="3085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62040" y="2120760"/>
            <a:ext cx="84819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рхушка головы -                               где 1,7м рост человека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2040" y="1828800"/>
            <a:ext cx="8481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оги прошли путь          , гд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R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радиус земного шара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51360" y="2197080"/>
            <a:ext cx="2601720" cy="343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6600" y="1822320"/>
            <a:ext cx="628560" cy="34308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37920" y="210960"/>
            <a:ext cx="81896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Задача 1.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Вообразите, что вы обошли землю по экватору. На сколько при этом верхушка вашей головы прошла более длинный путь, чем кончик вашей ноги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61680" y="1542600"/>
            <a:ext cx="194796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шени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000680" y="2171880"/>
                <a:ext cx="26017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,7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855960" y="1851120"/>
                <a:ext cx="6285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4226040" y="2768760"/>
            <a:ext cx="4519440" cy="3553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311720" y="2738520"/>
                <a:ext cx="41227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1,7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,7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0,7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662040" y="2730600"/>
            <a:ext cx="84819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buClr>
                <a:srgbClr val="452b75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зность путей равна   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40" y="3060720"/>
            <a:ext cx="8481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так голова прошла путь на 10,7 м больше, чем ноги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5" name="aluno031" descr=""/>
          <p:cNvPicPr/>
          <p:nvPr/>
        </p:nvPicPr>
        <p:blipFill>
          <a:blip r:embed="rId5"/>
          <a:stretch/>
        </p:blipFill>
        <p:spPr>
          <a:xfrm>
            <a:off x="3870360" y="3813120"/>
            <a:ext cx="743040" cy="1279440"/>
          </a:xfrm>
          <a:prstGeom prst="rect">
            <a:avLst/>
          </a:prstGeom>
          <a:ln w="0">
            <a:noFill/>
          </a:ln>
        </p:spPr>
      </p:pic>
      <p:pic>
        <p:nvPicPr>
          <p:cNvPr id="326" name="sharik" descr=""/>
          <p:cNvPicPr/>
          <p:nvPr/>
        </p:nvPicPr>
        <p:blipFill>
          <a:blip r:embed="rId6"/>
          <a:stretch/>
        </p:blipFill>
        <p:spPr>
          <a:xfrm>
            <a:off x="3838680" y="494820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730080" y="3375000"/>
            <a:ext cx="26244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вет:10,7 м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8" name="sharik" descr=""/>
          <p:cNvPicPr/>
          <p:nvPr/>
        </p:nvPicPr>
        <p:blipFill>
          <a:blip r:embed="rId8"/>
          <a:stretch/>
        </p:blipFill>
        <p:spPr>
          <a:xfrm>
            <a:off x="3265560" y="4948200"/>
            <a:ext cx="1965240" cy="1965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56r4" descr=""/>
          <p:cNvPicPr/>
          <p:nvPr/>
        </p:nvPicPr>
        <p:blipFill>
          <a:blip r:embed="rId1"/>
          <a:stretch/>
        </p:blipFill>
        <p:spPr>
          <a:xfrm>
            <a:off x="7151760" y="54626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064280" y="5389560"/>
            <a:ext cx="1290600" cy="127944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31" name="18" descr=""/>
          <p:cNvPicPr/>
          <p:nvPr/>
        </p:nvPicPr>
        <p:blipFill>
          <a:blip r:embed="rId2"/>
          <a:stretch/>
        </p:blipFill>
        <p:spPr>
          <a:xfrm>
            <a:off x="7464600" y="3610080"/>
            <a:ext cx="1679400" cy="2400120"/>
          </a:xfrm>
          <a:prstGeom prst="rect">
            <a:avLst/>
          </a:prstGeom>
          <a:ln w="0">
            <a:noFill/>
          </a:ln>
        </p:spPr>
      </p:pic>
      <p:pic>
        <p:nvPicPr>
          <p:cNvPr id="332" name="Безымянный" descr=""/>
          <p:cNvPicPr/>
          <p:nvPr/>
        </p:nvPicPr>
        <p:blipFill>
          <a:blip r:embed="rId3"/>
          <a:stretch/>
        </p:blipFill>
        <p:spPr>
          <a:xfrm>
            <a:off x="7010280" y="3652920"/>
            <a:ext cx="2133720" cy="3057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03360" y="1512720"/>
            <a:ext cx="8540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ычно отвечают, что промежуток будет тоньше волоса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Задача 2.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Если обтянуть земной шар по экватору проволокой и затем прибавить к её длине 1м, то сможет ли между проволокой и землёй проскочить мышь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827360"/>
            <a:ext cx="83296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шение. Пусть  длина промежутка х с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2446200" y="3116160"/>
            <a:ext cx="3484800" cy="2540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482920" y="3197160"/>
                <a:ext cx="3438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00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658800" y="2122560"/>
            <a:ext cx="8329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сли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радиус земли, то длина проволоки была 2</a:t>
            </a:r>
            <a:r>
              <a:rPr b="0" lang="ru-RU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,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 станет 2</a:t>
            </a:r>
            <a:r>
              <a:rPr b="0" lang="ru-RU" sz="24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 + x)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9440" y="2743200"/>
            <a:ext cx="83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 по условию задачи их разность равна 100 см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9960" y="3035160"/>
            <a:ext cx="18860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равнение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222720" y="3595680"/>
                <a:ext cx="1879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 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295800" y="3960720"/>
                <a:ext cx="151740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254400" y="4975200"/>
                <a:ext cx="15177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6 с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549000" y="5808600"/>
            <a:ext cx="2261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вет:16 см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8:56:07Z</dcterms:created>
  <dc:creator>user</dc:creator>
  <dc:description/>
  <dc:language>en-US</dc:language>
  <cp:lastModifiedBy>pupil</cp:lastModifiedBy>
  <dcterms:modified xsi:type="dcterms:W3CDTF">2007-02-07T10:23:39Z</dcterms:modified>
  <cp:revision>69</cp:revision>
  <dc:subject/>
  <dc:title>Длина окружности. Длина дуги окружности.</dc:title>
</cp:coreProperties>
</file>