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299-C24E-465D-B9B7-383EC0BA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E6F-908E-4ACE-BB2A-F00AA9C3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5E0-D3D1-4EEA-8C50-118EB8A3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4E4-34F6-4075-A694-875821DB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1F58-0907-4114-8861-26671D67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A0BA-3F51-4ED5-99F8-64CF6E25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BFD7-B875-489D-B4DD-3F2F5093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5891-E587-4F0C-A715-5E5A4C11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44BB-AAC2-4974-A824-E4FC1DA5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D3FF-E68A-459F-B3D8-33F7D1CE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8575-8811-4508-B06E-0B5FA908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F2D0-A8A2-4E44-84D9-B95C6F76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AC5F-C1BB-4EC3-8B7D-190DBBD4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54E0-6E54-471A-A138-4DEA5398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2716-A6B9-48C0-944B-21AE44B0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C246-FF87-458F-8CC9-143AF5D2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8EF4-6B45-47BE-9A30-AB240F97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975-B8D4-46E9-B33E-6364D441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C07-6EC7-441C-AFCB-481EC837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DCD-8E00-4BC6-970B-4BF901EB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DEC-6DE9-484F-BC18-70B1711D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BAD-62F2-4311-8E1A-B5332752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5C13-2DD6-4DC8-A6FD-33F84B61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B29E-9BAA-4386-B853-A12E4B4B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F23E-F3D2-4451-8702-9426247BF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93E7-F901-45F3-83A0-5B5DC07B5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бобщающий урок</a:t>
            </a:r>
            <a:br>
              <a:rPr sz="4400"/>
            </a:br>
            <a:r>
              <a:rPr b="0" lang="en-US" sz="4400" spc="-1" strike="noStrike">
                <a:solidFill>
                  <a:srgbClr val="7b9cb5"/>
                </a:solidFill>
                <a:latin typeface="Tahoma"/>
                <a:ea typeface="Tahoma"/>
              </a:rPr>
              <a:t>на тему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7294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аболевания органов дыхания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х предупреждения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лохо проветриваемом помещении накапливаются летучие продукты жизнедеятельности. Пребывание в таком помещении снижается работоспособность человека, вызывает головную боль и другие нарушения самочувствия челове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Невидимые враги в воздух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Заболевания органов дыха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воздухе находится огромное количество болезнетворных бактерий и микроорганизмов. Особенно их концентрация увеличивается во время возникновения вспышек инфекционных заболеваний, таких как грипп, туберкулез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же существуют следующие  заболевания органов дыхания: бронхит, бронхиальная астма, рак органов дых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3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cb5"/>
                </a:solidFill>
                <a:latin typeface="Tahoma"/>
              </a:rPr>
              <a:t>Вредные привычки, способствующие развитию заболеваний органов дыхания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Краткая история кур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8001000" cy="5079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Последствие кур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Закрепление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Тест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Органы дых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. мышцы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. ребр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. легк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. поч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В процессе дыхания организм получает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. 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. минеральные сол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. Углекислый га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. кислор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Углекислый газ образуется в организм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. в легки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. в клетках тел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. В легочных капилляр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. В капиллярах большого круг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Жизненная емкость легких составляе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3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1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20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. Помещения нужно регулярно проветривать, чтоб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удалить избыток кислор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удалить избыток углекислого га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Увеличить влажность воздух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Удалить пы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 Что измеряется спирометро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давление кров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температура те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Пуль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Жизненная емкость легки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 К вредным газообразным примесям в воздухе относит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. азо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. водор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. Угарный газ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 кислор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 К инфекционным болезням передающимся через воздух относит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инфаркт миокар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. СПИ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 Малокров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. Туберкуле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. В выдыхаемом воздухе содержитс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30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. 2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 16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. 21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. В качестве профилактики от заболевания гриппом нужн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заниматься спорт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. прикрывать рот и нос марлевой повязкой при общении с больным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 делать зарядк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. не бывать на улиц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 146-14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расширить знания учащихся о возможных заболеваниях и нарушениях органов дыхания, их причинах и профилактических мерах; гигиенических требованиях к окружающей среде; правилах дых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формировать умения: разъяснить необходимость проветривания в жилых помещениях; обосновывать вредное воздействие кур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Тип урока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бинирован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Ход урока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рганизационный момен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иологическая разми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учение нов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крепл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03640" y="9079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Биологический диктант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 органам дыхания относятся: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дгортанни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ронхиальное дере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лев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ьвео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иафраг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олосовые связ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221000" y="404640"/>
            <a:ext cx="4923000" cy="6237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5410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Носовая полость, носоглотка, гортань, трахея, бронхи и легк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Особый эластичный и гибкий хрящ, он закрывает вход в гортань, когда мы глотаем пищу, предохраняя дыхательные пути от попадания в них пищевых частиче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Ветвление главных бронх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Тонкая оболочка покрывающая снаружи легко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Тонкостенные легочные пузырь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Мышечная перегородка, разделяющая грудную и брюшную полости. Участвует в дыхательных движе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4"/>
                </a:solidFill>
                <a:latin typeface="Tahoma"/>
              </a:rPr>
              <a:t>Складки слизистой оболочки, натянутые, как стру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19280" y="549360"/>
            <a:ext cx="609588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Фронтальный опрос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происходит газообмен в легки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ов механизм газообмена в тканя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им образом совершаются дыхательные движен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 такое жизненная емкость легки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регулируется дыхани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Изучение нового материала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дыхательном  центре находятся клетки, чувствительные к малейшему изменению содержанию углекислого газа в межклеточном веществе. Избыток углекислого газа возбуждает дыхательный центр, это в свою очередь вызывает учащение дыха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бывание людей в закрытых помещениях неизбежно приводит к изменению химического состава и физических свойств возду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выдыхаемом человеком воздухе всего 16.4 % кислорода, до 4 % С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много водяных па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18080" y="4246560"/>
            <a:ext cx="36259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33:29Z</dcterms:created>
  <dc:creator>Ефремова</dc:creator>
  <dc:description/>
  <dc:language>en-US</dc:language>
  <cp:lastModifiedBy>Ефремова</cp:lastModifiedBy>
  <dcterms:modified xsi:type="dcterms:W3CDTF">2011-02-20T12:09:49Z</dcterms:modified>
  <cp:revision>2</cp:revision>
  <dc:subject/>
  <dc:title>Обобщающий урок на тему:</dc:title>
</cp:coreProperties>
</file>