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824F0-BEC2-4326-A1C6-9265466A4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4FF3A-067A-458A-A71C-5C0139C15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852D6-21D9-4228-AE70-DC20793A0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438D2-31F5-44EE-A459-5733E6F93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C23CD-034A-4BA3-BB3F-540141C5F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9AB80-C9DD-4F15-9E58-E8792DA3A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8A606-5C63-47C6-98D3-8C8A5430F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28FB6-4E47-49CA-A812-8217D0474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F74B3-B5BA-4885-918C-E58D8D003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D3DA3-F23B-42E4-A795-6E9417887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573DD-6326-4987-B805-CA944D6BB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EF3FB-89CF-4740-BD4F-1517974E1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DF023-80ED-4C71-9D64-6E895DB28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AB4B5-F673-4F00-B447-AF07F6524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C7E7C-6083-4684-BBEB-F01E21BF5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F7631-7B9A-4047-AD50-38B4F14B6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B343A-BB36-48B9-8EEF-B99213A84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3B44B-97F3-44D5-99C9-25593C30E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EB4D8-E16F-4911-B5F7-49ECF29D9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F92BE-BF4B-439B-9568-F4CDD5568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583D0-0E87-42FC-868F-FA652352B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E6AFB-6997-4054-B581-56FFE6643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5E6F2-0C1E-445B-85FC-D92FA3A21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43A89-4071-4469-B52D-164929DE9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cb5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2424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2424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7262C-EECD-49DA-8F7C-F01470BA3CD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cb5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B0736-CFBD-43EC-B5FA-E064B9EC001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242492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cb5"/>
                </a:solidFill>
                <a:latin typeface="Tahoma"/>
              </a:rPr>
              <a:t>Обобщающий урок</a:t>
            </a:r>
            <a:br>
              <a:rPr sz="4400"/>
            </a:br>
            <a:r>
              <a:rPr b="0" lang="en-US" sz="4400" spc="-1" strike="noStrike">
                <a:solidFill>
                  <a:srgbClr val="7b9cb5"/>
                </a:solidFill>
                <a:latin typeface="Tahoma"/>
                <a:ea typeface="Tahoma"/>
              </a:rPr>
              <a:t>на тему:</a:t>
            </a: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72948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Ды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хание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Заболевания органов дыхания</a:t>
            </a:r>
            <a:r>
              <a:rPr b="0" lang="he-IL" sz="3200" spc="-1" strike="noStrike">
                <a:solidFill>
                  <a:srgbClr val="000000"/>
                </a:solidFill>
                <a:latin typeface="Tahoma"/>
                <a:cs typeface="Tahoma"/>
              </a:rPr>
              <a:t>ֽ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их предупреждения</a:t>
            </a:r>
            <a:r>
              <a:rPr b="0" lang="he-IL" sz="3200" spc="-1" strike="noStrike">
                <a:solidFill>
                  <a:srgbClr val="000000"/>
                </a:solidFill>
                <a:latin typeface="Tahoma"/>
                <a:cs typeface="Tahoma"/>
              </a:rPr>
              <a:t>ִ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В плохо проветриваемом помещении накапливаются летучие продукты жизнедеятельности. Пребывание в таком помещении снижается работоспособность человека, вызывает головную боль и другие нарушения самочувствия человека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cb5"/>
                </a:solidFill>
                <a:latin typeface="Tahoma"/>
              </a:rPr>
              <a:t>Невидимые враги в воздухе</a:t>
            </a: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cb5"/>
                </a:solidFill>
                <a:latin typeface="Tahoma"/>
              </a:rPr>
              <a:t>Заболевания органов дыхания</a:t>
            </a: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В воздухе находится огромное количество болезнетворных бактерий и микроорганизмов. Особенно их концентрация увеличивается во время возникновения вспышек инфекционных заболеваний, таких как грипп, туберкулез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Также существуют следующие  заболевания органов дыхания: бронхит, бронхиальная астма, рак органов дыхания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539640" y="114300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3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b9cb5"/>
                </a:solidFill>
                <a:latin typeface="Tahoma"/>
              </a:rPr>
              <a:t>Вредные привычки, способствующие развитию заболеваний органов дыхания</a:t>
            </a:r>
            <a:endParaRPr b="0" lang="en-US" sz="3200" spc="-1" strike="noStrike">
              <a:solidFill>
                <a:srgbClr val="7b9cb5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684360" y="54936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cb5"/>
                </a:solidFill>
                <a:latin typeface="Tahoma"/>
              </a:rPr>
              <a:t>Краткая история курения</a:t>
            </a: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611280" y="981000"/>
            <a:ext cx="8001000" cy="507996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cb5"/>
                </a:solidFill>
                <a:latin typeface="Tahoma"/>
              </a:rPr>
              <a:t>Последствие курения</a:t>
            </a: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cb5"/>
                </a:solidFill>
                <a:latin typeface="Tahoma"/>
              </a:rPr>
              <a:t>Закрепление:</a:t>
            </a: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Тест 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. Органы дыхания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А. мышцы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Б. ребра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В. легкие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Г. почки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2. В процессе дыхания организм получает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А. органические вещества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Б. минеральные соли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В. Углекислый газ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Г. кислород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3.Углекислый газ образуется в организме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А. в легких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Б. в клетках тела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В. В легочных капиллярах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Г. В капиллярах большого круга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4. Жизненная емкость легких составляет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А. 500 см.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Б. 3500 см.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В. 1500 см.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Г. 2000 см.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5. Помещения нужно регулярно проветривать, чтобы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А. удалить избыток кислород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Б. удалить избыток углекислого газ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В. Увеличить влажность воздух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Г. Удалить пыль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6. Что измеряется спирометром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А. давление крови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Б. температура тел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В. Пульс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Г. Жизненная емкость легких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. К вредным газообразным примесям в воздухе относится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А. азот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Б. водород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В. Угарный газ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Г. кислород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. К инфекционным болезням передающимся через воздух относитс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А. инфаркт миокард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Б. СПИД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В. Малокрови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Г. Туберкулез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9. В выдыхаемом воздухе содержится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А. 30% кислород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Б. 2% кислород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В. 16% кислород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Г. 21% кислород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. В качестве профилактики от заболевания гриппом нужно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А. заниматься спортом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Б. прикрывать рот и нос марлевой повязкой при общении с больными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В. делать зарядку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Г. не бывать на улиц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cb5"/>
                </a:solidFill>
                <a:latin typeface="Tahoma"/>
              </a:rPr>
              <a:t>ответы</a:t>
            </a: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.в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г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.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.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.г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7.в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.г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9.в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.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cb5"/>
                </a:solidFill>
                <a:latin typeface="Tahoma"/>
              </a:rPr>
              <a:t>Домашнее задание</a:t>
            </a: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тр 146-147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cb5"/>
                </a:solidFill>
                <a:latin typeface="Tahoma"/>
              </a:rPr>
              <a:t>Цели:</a:t>
            </a: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. расширить знания учащихся о возможных заболеваниях и нарушениях органов дыхания, их причинах и профилактических мерах; гигиенических требованиях к окружающей среде; правилах дыхания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. формировать умения: разъяснить необходимость проветривания в жилых помещениях; обосновывать вредное воздействие курения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cb5"/>
                </a:solidFill>
                <a:latin typeface="Tahoma"/>
              </a:rPr>
              <a:t>Тип урока</a:t>
            </a: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комбинированный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cb5"/>
                </a:solidFill>
                <a:latin typeface="Tahoma"/>
              </a:rPr>
              <a:t>Ход урока</a:t>
            </a: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8a8ad8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Организационный момент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8a8ad8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Биологическая разминк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8a8ad8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Проверка домашнего задани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8a8ad8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Изучение нового материал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8a8ad8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Закрепление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3203640" y="907920"/>
            <a:ext cx="5715000" cy="571500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cb5"/>
                </a:solidFill>
                <a:latin typeface="Tahoma"/>
              </a:rPr>
              <a:t>Биологический диктант</a:t>
            </a: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8a8ad8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К органам дыхания относятся: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3360" indent="-603360">
              <a:spcBef>
                <a:spcPts val="799"/>
              </a:spcBef>
              <a:buClr>
                <a:srgbClr val="8a8ad8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Надгортанник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3360" indent="-603360">
              <a:spcBef>
                <a:spcPts val="799"/>
              </a:spcBef>
              <a:buClr>
                <a:srgbClr val="8a8ad8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Бронхиальное дерево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3360" indent="-603360">
              <a:spcBef>
                <a:spcPts val="799"/>
              </a:spcBef>
              <a:buClr>
                <a:srgbClr val="8a8ad8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Плевр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3360" indent="-603360">
              <a:spcBef>
                <a:spcPts val="799"/>
              </a:spcBef>
              <a:buClr>
                <a:srgbClr val="8a8ad8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Альвеол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3360" indent="-603360">
              <a:spcBef>
                <a:spcPts val="799"/>
              </a:spcBef>
              <a:buClr>
                <a:srgbClr val="8a8ad8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Диафрагм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3360" indent="-603360">
              <a:spcBef>
                <a:spcPts val="799"/>
              </a:spcBef>
              <a:buClr>
                <a:srgbClr val="8a8ad8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Голосовые связк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4221000" y="404640"/>
            <a:ext cx="4923000" cy="623736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cb5"/>
                </a:solidFill>
                <a:latin typeface="Tahoma"/>
              </a:rPr>
              <a:t>Ответы:</a:t>
            </a: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54100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8a8ad8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a3d74"/>
                </a:solidFill>
                <a:latin typeface="Tahoma"/>
              </a:rPr>
              <a:t>Носовая полость, носоглотка, гортань, трахея, бронхи и легкие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8a8ad8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a3d74"/>
                </a:solidFill>
                <a:latin typeface="Tahoma"/>
              </a:rPr>
              <a:t>Особый эластичный и гибкий хрящ, он закрывает вход в гортань, когда мы глотаем пищу, предохраняя дыхательные пути от попадания в них пищевых частичек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8a8ad8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a3d74"/>
                </a:solidFill>
                <a:latin typeface="Tahoma"/>
              </a:rPr>
              <a:t>Ветвление главных бронхов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8a8ad8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a3d74"/>
                </a:solidFill>
                <a:latin typeface="Tahoma"/>
              </a:rPr>
              <a:t>Тонкая оболочка покрывающая снаружи легкое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8a8ad8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a3d74"/>
                </a:solidFill>
                <a:latin typeface="Tahoma"/>
              </a:rPr>
              <a:t>Тонкостенные легочные пузырьки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8a8ad8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a3d74"/>
                </a:solidFill>
                <a:latin typeface="Tahoma"/>
              </a:rPr>
              <a:t>Мышечная перегородка, разделяющая грудную и брюшную полости. Участвует в дыхательных движениях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8a8ad8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a3d74"/>
                </a:solidFill>
                <a:latin typeface="Tahoma"/>
              </a:rPr>
              <a:t>Складки слизистой оболочки, натянутые, как струны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619280" y="549360"/>
            <a:ext cx="6095880" cy="571500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cb5"/>
                </a:solidFill>
                <a:latin typeface="Tahoma"/>
              </a:rPr>
              <a:t>Фронтальный опрос</a:t>
            </a: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85000" indent="-585000">
              <a:spcBef>
                <a:spcPts val="799"/>
              </a:spcBef>
              <a:buClr>
                <a:srgbClr val="8a8ad8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Как происходит газообмен в легких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85000" indent="-585000">
              <a:spcBef>
                <a:spcPts val="799"/>
              </a:spcBef>
              <a:buClr>
                <a:srgbClr val="8a8ad8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Каков механизм газообмена в тканях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85000" indent="-585000">
              <a:spcBef>
                <a:spcPts val="799"/>
              </a:spcBef>
              <a:buClr>
                <a:srgbClr val="8a8ad8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Каким образом совершаются дыхательные движения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85000" indent="-585000">
              <a:spcBef>
                <a:spcPts val="799"/>
              </a:spcBef>
              <a:buClr>
                <a:srgbClr val="8a8ad8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Что такое жизненная емкость легких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85000" indent="-585000">
              <a:spcBef>
                <a:spcPts val="799"/>
              </a:spcBef>
              <a:buClr>
                <a:srgbClr val="8a8ad8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Как регулируется дыхание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Изучение нового материала: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0" y="260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В дыхательном  центре находятся клетки, чувствительные к малейшему изменению содержанию углекислого газа в межклеточном веществе. Избыток углекислого газа возбуждает дыхательный центр, это в свою очередь вызывает учащение дыхания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Пребывание людей в закрытых помещениях неизбежно приводит к изменению химического состава и физических свойств воздух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В выдыхаемом человеком воздухе всего 16.4 % кислорода, до 4 % СО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и много водяных паров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5518080" y="4246560"/>
            <a:ext cx="3625920" cy="26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0T09:33:29Z</dcterms:created>
  <dc:creator>Ефремова</dc:creator>
  <dc:description/>
  <dc:language>en-US</dc:language>
  <cp:lastModifiedBy>Ефремова</cp:lastModifiedBy>
  <dcterms:modified xsi:type="dcterms:W3CDTF">2011-02-20T12:09:49Z</dcterms:modified>
  <cp:revision>2</cp:revision>
  <dc:subject/>
  <dc:title>Обобщающий урок на тему:</dc:title>
</cp:coreProperties>
</file>