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9FCC-633E-4115-BB88-839278564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451B-768B-40C8-A084-434266846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49EA-878B-4DAE-BE9B-89D9C194E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2E9C-9947-44F6-B42C-795D63777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90536-CF0D-4C4F-ACC6-BC5123FD3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6F6DB-3489-41A7-8386-1F2DF2FF3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7B0AE-7851-4065-90B3-AC2E8E26D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0B323-8C40-4500-A845-B6AEC62B2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FE7CA-426D-4267-9C2D-F81D4FBCC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56217-E806-4D15-AEB4-047B131C5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44F73-4D80-45DD-B809-F5F06700F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FED0-E8D8-463F-B661-3E671D80A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3BA63-9CD0-4493-87A1-ADF52949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F42B0-43B8-4633-B9FC-53B1418A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0109C-A907-4420-B8BB-E9A77814A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DD4BD-2594-43F0-9CE9-340E95E23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9FDC9-D831-446B-888D-78F0FA06A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C06A-82B1-48F4-A4B6-99573E35A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5ABD-7652-4C78-A9F1-1569C3759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C72C-06BA-4E3B-8B51-CFFE759B1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B824-2957-4585-902F-0E811F84E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9752-FDF1-4740-87B6-97085D367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4C0B-6D7F-4FBC-90F3-E04FE6B88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06CB-66D7-4019-A427-2A5AFD421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77E3C-67B0-41AD-ADB9-B2476ACEB2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C77EA-862E-4410-B393-E8DE2C114A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Обобщающий урок</a:t>
            </a:r>
            <a:br>
              <a:rPr sz="4400"/>
            </a:br>
            <a:r>
              <a:rPr b="0" lang="en-US" sz="4400" spc="-1" strike="noStrike">
                <a:solidFill>
                  <a:srgbClr val="7b9cb5"/>
                </a:solidFill>
                <a:latin typeface="Tahoma"/>
                <a:ea typeface="Tahoma"/>
              </a:rPr>
              <a:t>на тему: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7294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ы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хание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Заболевания органов дыхания</a:t>
            </a:r>
            <a:r>
              <a:rPr b="0" lang="he-IL" sz="3200" spc="-1" strike="noStrike">
                <a:solidFill>
                  <a:srgbClr val="000000"/>
                </a:solidFill>
                <a:latin typeface="Tahoma"/>
                <a:cs typeface="Tahoma"/>
              </a:rPr>
              <a:t>ֽ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их предупреждения</a:t>
            </a:r>
            <a:r>
              <a:rPr b="0" lang="he-IL" sz="3200" spc="-1" strike="noStrike">
                <a:solidFill>
                  <a:srgbClr val="000000"/>
                </a:solidFill>
                <a:latin typeface="Tahoma"/>
                <a:cs typeface="Tahoma"/>
              </a:rPr>
              <a:t>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 плохо проветриваемом помещении накапливаются летучие продукты жизнедеятельности. Пребывание в таком помещении снижается работоспособность человека, вызывает головную боль и другие нарушения самочувствия человек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Невидимые враги в воздухе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Заболевания органов дыхания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 воздухе находится огромное количество болезнетворных бактерий и микроорганизмов. Особенно их концентрация увеличивается во время возникновения вспышек инфекционных заболеваний, таких как грипп, туберкулез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Также существуют следующие  заболевания органов дыхания: бронхит, бронхиальная астма, рак органов дыха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39640" y="11430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3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b9cb5"/>
                </a:solidFill>
                <a:latin typeface="Tahoma"/>
              </a:rPr>
              <a:t>Вредные привычки, способствующие развитию заболеваний органов дыхания</a:t>
            </a:r>
            <a:endParaRPr b="0" lang="en-US" sz="3200" spc="-1" strike="noStrike">
              <a:solidFill>
                <a:srgbClr val="7b9cb5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84360" y="54936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Краткая история курения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11280" y="981000"/>
            <a:ext cx="8001000" cy="50799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Последствие курения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Закрепление: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Тест 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. Органы дыхания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А. мышцы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Б. ребр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В. легкие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Г. почки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. В процессе дыхания организм получает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А. органические веществ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Б. минеральные соли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В. Углекислый газ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Г. кислород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.Углекислый газ образуется в организме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А. в легких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Б. в клетках тел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В. В легочных капиллярах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Г. В капиллярах большого круг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. Жизненная емкость легких составляет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А. 500 см.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Б. 3500 см.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. 1500 см.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Г. 2000 см.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. Помещения нужно регулярно проветривать, чтоб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А. удалить избыток кислород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Б. удалить избыток углекислого газ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. Увеличить влажность воздух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Г. Удалить пыл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6. Что измеряется спирометром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А. давление кров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Б. температура тел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. Пуль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Г. Жизненная емкость легких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. К вредным газообразным примесям в воздухе относитс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А. азо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Б. водоро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. Угарный газ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Г. кислоро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. К инфекционным болезням передающимся через воздух относитс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А. инфаркт миокард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Б. СПИД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В. Малокрови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Г. Туберкулез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9. В выдыхаемом воздухе содержится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А. 30% кислород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Б. 2% кислород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В. 16% кислород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Г. 21% кислород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. В качестве профилактики от заболевания гриппом нужно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А. заниматься спорто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Б. прикрывать рот и нос марлевой повязкой при общении с больным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В. делать зарядку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Г. не бывать на улиц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ответы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.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.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.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7.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.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.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.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Домашнее задание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тр 146-14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Цели: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 расширить знания учащихся о возможных заболеваниях и нарушениях органов дыхания, их причинах и профилактических мерах; гигиенических требованиях к окружающей среде; правилах дыха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 формировать умения: разъяснить необходимость проветривания в жилых помещениях; обосновывать вредное воздействие куре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Тип урока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омбинированны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Ход урока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рганизационный момент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Биологическая размин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оверка домашнего зада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зучение нового материал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Закреплени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203640" y="90792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Биологический диктант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 органам дыхания относятся: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адгортанник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Бронхиальное дерев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левр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Альвеол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Диафрагм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Голосовые связк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221000" y="404640"/>
            <a:ext cx="4923000" cy="62373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Ответы: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5410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3d74"/>
                </a:solidFill>
                <a:latin typeface="Tahoma"/>
              </a:rPr>
              <a:t>Носовая полость, носоглотка, гортань, трахея, бронхи и легки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3d74"/>
                </a:solidFill>
                <a:latin typeface="Tahoma"/>
              </a:rPr>
              <a:t>Особый эластичный и гибкий хрящ, он закрывает вход в гортань, когда мы глотаем пищу, предохраняя дыхательные пути от попадания в них пищевых частичек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3d74"/>
                </a:solidFill>
                <a:latin typeface="Tahoma"/>
              </a:rPr>
              <a:t>Ветвление главных бронхо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3d74"/>
                </a:solidFill>
                <a:latin typeface="Tahoma"/>
              </a:rPr>
              <a:t>Тонкая оболочка покрывающая снаружи легко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3d74"/>
                </a:solidFill>
                <a:latin typeface="Tahoma"/>
              </a:rPr>
              <a:t>Тонкостенные легочные пузырьк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3d74"/>
                </a:solidFill>
                <a:latin typeface="Tahoma"/>
              </a:rPr>
              <a:t>Мышечная перегородка, разделяющая грудную и брюшную полости. Участвует в дыхательных движениях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3d74"/>
                </a:solidFill>
                <a:latin typeface="Tahoma"/>
              </a:rPr>
              <a:t>Складки слизистой оболочки, натянутые, как струн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619280" y="549360"/>
            <a:ext cx="6095880" cy="5715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Фронтальный опрос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ак происходит газообмен в легких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аков механизм газообмена в тканях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аким образом совершаются дыхательные движения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Что такое жизненная емкость легких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ак регулируется дыхание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Изучение нового материала: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 дыхательном  центре находятся клетки, чувствительные к малейшему изменению содержанию углекислого газа в межклеточном веществе. Избыток углекислого газа возбуждает дыхательный центр, это в свою очередь вызывает учащение дыхания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ебывание людей в закрытых помещениях неизбежно приводит к изменению химического состава и физических свойств воздух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 выдыхаемом человеком воздухе всего 16.4 % кислорода, до 4 % СО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и много водяных пар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518080" y="4246560"/>
            <a:ext cx="3625920" cy="26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0T09:33:29Z</dcterms:created>
  <dc:creator>Ефремова</dc:creator>
  <dc:description/>
  <dc:language>en-US</dc:language>
  <cp:lastModifiedBy>Ефремова</cp:lastModifiedBy>
  <dcterms:modified xsi:type="dcterms:W3CDTF">2011-02-20T12:09:49Z</dcterms:modified>
  <cp:revision>2</cp:revision>
  <dc:subject/>
  <dc:title>Обобщающий урок на тему:</dc:title>
</cp:coreProperties>
</file>