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FB2-74AF-4757-BF42-F5420DB1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A38-DB4E-4F39-B501-6DA58313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EA4-74BA-47A7-B0CE-7A1326BC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577-A2A1-44A2-A141-29B2696C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75E5-F2FD-41D8-A0FC-F07EAE9A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8867-9545-4E6B-A79C-3005A67F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C875-4A1E-4F45-A674-86AC24E0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66A2-23DD-486C-9C4B-4F243D16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93A5-929C-491E-A9D9-F1D5C833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4D90-D7BD-4687-9BFE-BC7060B7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5876-9E17-4D27-BE9F-5AB42405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1DA-9EAB-428D-AB6C-910F5474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3912-EEA7-477D-B216-4A8BD00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1DB-A9CF-481D-990A-49BB7FA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48F6-4880-4C8E-A47B-6665B8BC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F31-9671-41D8-B63C-BA88C473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5198-FF93-4E2E-B665-7D88B191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0AF-8783-431B-AB12-8F11837A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74C-4179-46F7-A2F7-2631F1CB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FEC-F3A5-4ECD-BA8B-3F7701B3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993-912F-46C1-809C-AC272E7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E37-54AB-4A79-9EF7-89734D0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AF5-9B5D-472E-852C-56888861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C38-C264-4E9F-A0C1-FB1FA8B5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A691-A2DE-48DD-A86C-FFBA06334DD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04CA-428A-43D1-AE03-AF276A4ACE6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236920"/>
            <a:ext cx="6400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Правильно ли мы</a:t>
            </a:r>
            <a:r>
              <a:rPr b="0" lang="en-US" sz="3200" spc="-1" strike="noStrike">
                <a:solidFill>
                  <a:srgbClr val="a0709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говори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2133720"/>
            <a:ext cx="85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тилистика    помож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583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В одном из своих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поместий (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имений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Жил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барин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избавимся от повтор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поместье, помещик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3. »Один помещик»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лишнее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один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этот, как его, ну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– сорня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У фамилии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Троекуров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есть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синонимы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Кирила Петрович, он, этот барин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Здорово богатый –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росторечи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Надо сказать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: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очень богатый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Первый союз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и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 не на месте. Выбросить 2-е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он</a:t>
            </a: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8.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Самодур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– характеристика помещик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979640" y="18900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равили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« В одном…этом, как его…ну…поместье жил один помещик Троекуров. Троекуров был здорово богатый, и он никого не слушал, он всё делал так, как ему хот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лось, и все его боялись…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«В  одном  из  своих  имений   жил помещик Троекуров. Это был богатый самодур, которого все боялись».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76360" y="0"/>
            <a:ext cx="64818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и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65b2ff"/>
                </a:solidFill>
                <a:latin typeface="Arial"/>
              </a:rPr>
              <a:t>Кто такой редактор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ор исправляет, улучшает стиль текста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ниги, стать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ировать – проверять и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исправлять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текст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. Воздвигнута поражающая своим великол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пием овощная баз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2. Мы с сестрой громом аплодисментов встр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тили бабуш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3. Поведением Кости была возмущена вся об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щественность клас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0"/>
            <a:ext cx="799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1. Построена большая овощна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баз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. Мы с сестрой радостно встретил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абуш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3. Класс был возмущён поведение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Кост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1280" y="0"/>
            <a:ext cx="748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орошо поработал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Повторение  на   коротких отрезка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екста  одних  и  тех  же слов, выб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точного   слова   из     двух      или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скольких   близких    по    смыслу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брежность в построении  высказы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вания –  всё это  принято    относить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к   </a:t>
            </a:r>
            <a:r>
              <a:rPr b="0" i="1" lang="ru-RU" sz="3600" spc="-1" strike="noStrike" u="sng">
                <a:solidFill>
                  <a:srgbClr val="cccc00"/>
                </a:solidFill>
                <a:uFillTx/>
                <a:latin typeface="Arial"/>
              </a:rPr>
              <a:t>стилистическим ошибкам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63640" y="47628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1. Мы поража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ной памя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гнал, но остальных обогнать ему 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3. Сначала  появился   лесник, 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вскоре появились и все наши реб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32000" y="260280"/>
            <a:ext cx="676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1. Мы удивля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ной памяти.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(Ещё варианты?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гнал, но  остальных опередить ем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не 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3. Сначала   появился   лесник,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вскоре – и все наши ребята.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58920" y="47628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пасность, которую таят в себе стилистиче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шибки, - это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бедность, невы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ость речи.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о они могут также вести 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еясности, двусмысленности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или ж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попросту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искажать смысл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сказанного ил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аписанного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Вдали зеленеют купоро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                                       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a5d729"/>
                </a:solidFill>
                <a:latin typeface="Arial"/>
              </a:rPr>
              <a:t>вместо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кипари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)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39640" y="404640"/>
            <a:ext cx="756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орожно! Опасность!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 стихотворения «Рассказ школьного портфе-ля» (Ю.Тимянский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Колидор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5b2ff"/>
                </a:solidFill>
                <a:latin typeface="Arial"/>
              </a:rPr>
              <a:t>«дилектор»,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«маг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ин»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«стакан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«секёт свекл</a:t>
            </a: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«пекё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блины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«п</a:t>
            </a:r>
            <a:r>
              <a:rPr b="0" lang="ru-RU" sz="4400" spc="-1" strike="noStrike">
                <a:solidFill>
                  <a:srgbClr val="ff9999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ртфель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60280"/>
            <a:ext cx="83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Язык мой - друг мо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Как правильно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Почему этот Пет</a:t>
            </a:r>
            <a:r>
              <a:rPr b="0" lang="ru-RU" sz="4000" spc="-1" strike="noStrike">
                <a:solidFill>
                  <a:srgbClr val="9999ff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 так говорит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 незнания норм литератур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языка или в результате небреж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ношения к слову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908000" y="476280"/>
            <a:ext cx="48992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равьт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308720" y="189000"/>
            <a:ext cx="28764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Семененко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ариса Владимировна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учитель русского языка 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итературы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Невельской ООШ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200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16000" y="404640"/>
            <a:ext cx="748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втор    работы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eb8861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«Правильно – неправильн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9280" y="476280"/>
            <a:ext cx="856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нька-встань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идор            т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бурет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зво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     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клад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(а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 ложи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рас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вее           пов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ь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в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ё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ла               п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, с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р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дства           обес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ч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овать        фа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а, ши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360" y="189000"/>
            <a:ext cx="8278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те  правильно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пасность,  грозящая языку,-  это  искаж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слов в результате невежества, неверного их уп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ребления,  неправильного  ударения  и произн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шения.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Искалеченные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аким образом сл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засоряют язы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Важнейшее требование стилистики –правиль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ность, точность и ясность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, т.е.полное  соответст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вие слов тем понятиям, которые вы  должны  в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рази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260280"/>
            <a:ext cx="70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алеченные сло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Лакони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краткость, сжатость речи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«Краткость – сестра таланта».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(А.Чехов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Плеона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лишние слов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На горизонте появились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 ледяные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 айсберги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76360" y="333360"/>
            <a:ext cx="6262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интерес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йдите лишние слов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.Муму очень сильно привязалась к Герасим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Караван двигался по песчаным бархана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Мы вновь возобновили с ними перепис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4.Я не успел закончить до конца эту работ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5.Моя автобиография уместилась на странич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6.Всадники уже приближались ближе к дерев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7.На Камчатке много горячих гейзеров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333360"/>
            <a:ext cx="79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едот, да не то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Сильн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Песча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Внов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До конц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5.Мо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6.Ближ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7.Горячи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03280" y="40464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шний  Фед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ндивидуальная рабо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5640" y="404640"/>
            <a:ext cx="7272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ff9966"/>
                </a:solidFill>
                <a:uFillTx/>
                <a:latin typeface="Arial"/>
              </a:rPr>
              <a:t>Для домашней рабо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1. Подойдя к дому, нас настиг сильный ливе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В зоопарке мы видели весело перелетающи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 ветки  на  ветку  различных  птиц, обезьян, б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ок, львов и других хищников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3. Рыбаки  возвращались домой с богатым ул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вом.  Они  поймали  семь  окуней,  пять   карас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ков,  четыре  плотвички,   маленького   щенка 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много разных других рыбок помельч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4360" y="26028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лминутки для шутки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Че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стилистика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же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акова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роль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гла ли вам эта нау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Правильно ли мы говорим?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чё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нравственная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роль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11280" y="189000"/>
            <a:ext cx="78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 - делу вене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9640" y="692280"/>
            <a:ext cx="799308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регите  наш  язы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16effa"/>
                </a:solidFill>
                <a:latin typeface="Arial"/>
              </a:rPr>
              <a:t>Цель: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оль стилистики как нау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вышение уровня речевой культур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именение полученных знаний и ум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собственной речевой практи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юбить родной русский язык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Осуществлять речевой контрол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дактировать текс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здавать устные и письменные монологи-    ческие и диалогические высказывани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разительно читать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 рассказыва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Что значит «беречь» язы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 кого или от чег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Разве у языка есть враги и ему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грозят какие-то опасности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.С.Тургене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Берегите наш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наш прекрасный русский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т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клад,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достояние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ереданное на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шими предшественниками…  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8900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сатели о русском языке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Берегите его 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ортите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искажайт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засоряйте грубыми словами 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штампами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наш язык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великое сокровище народа !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                                      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50920" y="333360"/>
            <a:ext cx="84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 – живой организ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збранное из кни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65b2ff"/>
                </a:solidFill>
                <a:latin typeface="Arial"/>
              </a:rPr>
              <a:t>«Песнь души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(стихи учащихся Невельской школы)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8900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вящаем…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«Берегите речь родную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Не забывайте обо м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О речи правильной, хорошей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«Россия моя самая лучшая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И язык в ней самый родной!.. 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А.Спиридон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Русский язык люб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Его навсегда сохраним!.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Россия, русское слово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Как это нам, знакомо!»                   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 А.Матвее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«Сохраним, сбережём и взлелеем тебя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Наша русская речь дорогая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И.Сандригайл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«Русская речь – это наше богатство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колько красивых есть русских слов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«О русская речь, мы достойны тебя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Спасём нашу речь от любого огня!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36a8"/>
                </a:solidFill>
                <a:latin typeface="Arial"/>
              </a:rPr>
              <a:t>О.Дрозд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«Да разве можн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Не любить родной язык!..»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Л.Гончар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«Русский язык знают везде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Даже в самой далёкой стра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всю Россию славится о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– наш отец, а Земля – наш до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Земле мы живё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По-русски говор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ш русский язы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всегда сохрани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Мы не забудем его никогд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нам поможет везде и всегда!»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А.Матвеева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99cc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Д.С.Лихачёв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«…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Наш язык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 это    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важнейшая   часть нашег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общего поведения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в жизни.    И по тому, </a:t>
            </a:r>
            <a:r>
              <a:rPr b="1" lang="en-US" sz="2400" spc="-1" strike="noStrike">
                <a:solidFill>
                  <a:srgbClr val="eb8861"/>
                </a:solidFill>
                <a:latin typeface="Arial"/>
              </a:rPr>
              <a:t>как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человек говорит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, мы сразу и легко можем судить о том,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с кем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мы имеем дел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Учиться хорошей интеллигентной речи над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долго и внимательн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прислушиваясь,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запоминая, замечая, читая и изучая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Но хоть и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трудно –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надо, надо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Письма о добром и прекрасном» 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Нам Стилистика ну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 для нас она ва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Всех Стилистика научит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Правильности речи учит!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Л.Семененк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0"/>
            <a:ext cx="770400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м Стилистика нужна 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«А как речь-то говорит, словно реченька журчит». (А.Пушкин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Наука, которая изучает стили речи 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употребление в них языковых средст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640" y="33336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комьтесь: Стилистик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Эт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66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стилистическ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неправильная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речь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11280" y="620640"/>
            <a:ext cx="727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убная боль»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b9e5a9"/>
                </a:solidFill>
                <a:latin typeface="Arial"/>
              </a:rPr>
              <a:t>Речь ясная и выразительная, логически стройная и убедительная,  чистая и живая, понятная и интересна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 u="sng">
                <a:solidFill>
                  <a:srgbClr val="ccff66"/>
                </a:solidFill>
                <a:uFillTx/>
                <a:latin typeface="Arial"/>
              </a:rPr>
              <a:t>Правильность речи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– это основа реч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вой культуры, то есть умения владеть яз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ковыми  нормами  и  использовать выраз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тельные средства язы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476280"/>
            <a:ext cx="770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ая ре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Сильное кино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А.Барто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И вот брат начал свой рассказ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-Они ползу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ползл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как даст ем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Со зл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и ей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Но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Её он спас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 был с ней заодно</a:t>
            </a:r>
            <a:r>
              <a:rPr b="0" lang="ru-RU" sz="2000" spc="-1" strike="noStrike">
                <a:solidFill>
                  <a:srgbClr val="eb8861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eb8861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Ух, </a:t>
            </a:r>
            <a:r>
              <a:rPr b="1" lang="ru-RU" sz="2000" spc="-1" strike="noStrike" u="sng">
                <a:solidFill>
                  <a:srgbClr val="eb8861"/>
                </a:solidFill>
                <a:uFillTx/>
                <a:latin typeface="Arial"/>
              </a:rPr>
              <a:t>сильное кино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360" y="0"/>
            <a:ext cx="7272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минутки для шутк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 вы можете сказать о «рассказчике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Какие слова-сорняки  мешают  нормаль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ой речи незадачливого «героя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гла   ли  сестра   понять   содерж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фильм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вы поняли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00000" y="47628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говори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Найдите и исправьте 8 стилистических ошибо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в рассказе учени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«В одном…этом, как его…ну…поме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стье  жил один помещик  Троекур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роекуров  был  здорово  богатый, и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он никого не слушал,  он  всё  дела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ак, как ему хотелось, и все его бо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лись…»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0"/>
            <a:ext cx="79930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раснореч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3:16Z</dcterms:created>
  <dc:creator>Loner-XP</dc:creator>
  <dc:description/>
  <dc:language>en-US</dc:language>
  <cp:lastModifiedBy>Loner-XP</cp:lastModifiedBy>
  <dcterms:modified xsi:type="dcterms:W3CDTF">2009-03-09T15:05:32Z</dcterms:modified>
  <cp:revision>123</cp:revision>
  <dc:subject/>
  <dc:title>Правильно ли мы говорим?</dc:title>
</cp:coreProperties>
</file>