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0AE-6CF8-4518-B346-55886361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D8A-3B43-41BB-B282-14ED58D3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F0D-41BD-4DDB-A6C7-A3C443DF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B12-70DA-4EA4-B024-536D9C47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F865-446E-43D8-A89B-BD395A64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5AAC-3057-4062-AC3B-433B8B94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7C93-B106-427C-A62D-AA239992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D617-7646-4DE0-88E0-3C77CF3D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98E7-1292-4E83-B861-22498FF2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4471-0234-44B7-A771-DEF262E9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B026-1A53-4C85-8D16-84E6E406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4AC-8453-4574-ADC2-97783953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D1C7-192A-41C2-BFB8-61780951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8407-A240-4598-AD6F-ECE9D1E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D490-3768-4DDA-B65E-E8123A4C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94EE-9E37-4BB2-AC8E-5FEFB6B2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028F-4246-445A-BA3F-23F53A41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D815-49EB-4B1C-90F3-0B74EA9C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FF3-A3E1-45BA-B081-1E368FD8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537-FD14-4CA6-AFA5-63ABBDD9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E9A-6223-4492-A4F2-6DF1A61B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CEA-DD97-42B8-904A-6C1F948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72E-7304-41E7-BF06-43C2083A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D3D-1EA2-4492-BB79-7E2CC15D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8EFB-50F0-4C2C-AB07-D593C9202D7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D8D6-4A34-460D-B6C8-A2D914E00F0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5236920"/>
            <a:ext cx="6400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709e"/>
                </a:solidFill>
                <a:latin typeface="Arial"/>
              </a:rPr>
              <a:t>Правильно ли мы</a:t>
            </a:r>
            <a:r>
              <a:rPr b="0" lang="en-US" sz="3200" spc="-1" strike="noStrike">
                <a:solidFill>
                  <a:srgbClr val="a0709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0709e"/>
                </a:solidFill>
                <a:latin typeface="Arial"/>
              </a:rPr>
              <a:t>говорим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2133720"/>
            <a:ext cx="856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тилистика    помож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583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В одном из своих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поместий (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или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имений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Жил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cc99ff"/>
                </a:solidFill>
                <a:uFillTx/>
                <a:latin typeface="Arial"/>
              </a:rPr>
              <a:t>барин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cc99ff"/>
                </a:solidFill>
                <a:latin typeface="Arial"/>
              </a:rPr>
              <a:t>избавимся от повтора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поместье, помещик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3. »Один помещик»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лишнее</a:t>
            </a: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3399ff"/>
                </a:solidFill>
                <a:uFillTx/>
                <a:latin typeface="Arial"/>
              </a:rPr>
              <a:t>один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этот, как его, ну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– сорня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. У фамилии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Троекуров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есть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Arial"/>
              </a:rPr>
              <a:t>синонимы</a:t>
            </a: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Кирила Петрович, он, этот барин</a:t>
            </a: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Здорово богатый –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просторечи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Надо сказать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: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</a:rPr>
              <a:t>очень богатый</a:t>
            </a:r>
            <a:r>
              <a:rPr b="1" lang="ru-RU" sz="2000" spc="-1" strike="noStrike" u="sng">
                <a:solidFill>
                  <a:srgbClr val="3399ff"/>
                </a:solidFill>
                <a:uFillTx/>
                <a:latin typeface="Arial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Первый союз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и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 не на месте. Выбросить 2-е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он</a:t>
            </a:r>
            <a:r>
              <a:rPr b="0" lang="ru-RU" sz="24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8.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</a:rPr>
              <a:t>Самодур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– характеристика помещик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99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979640" y="18900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равили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« В одном…этом, как его…ну…поместье жил один помещик Троекуров. Троекуров был здорово богатый, и он никого не слушал, он всё делал так, как ему хоте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лось, и все его боялись…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«В  одном  из  своих  имений   жил помещик Троекуров. Это был богатый самодур, которого все боялись».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76360" y="0"/>
            <a:ext cx="64818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авни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65b2ff"/>
                </a:solidFill>
                <a:latin typeface="Arial"/>
              </a:rPr>
              <a:t>Кто такой редактор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актор исправляет, улучшает стиль текста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ниги, стать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актировать – проверять и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исправлять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текст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. Воздвигнута поражающая своим великол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пием овощная баз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2. Мы с сестрой громом аплодисментов встр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тили бабуш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3. Поведением Кости была возмущена вся об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щественность класс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0"/>
            <a:ext cx="7993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1. Построена большая овощна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баз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. Мы с сестрой радостно встретил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абушк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3. Класс был возмущён поведение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Кост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11280" y="0"/>
            <a:ext cx="7489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орошо поработал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Повторение  на   коротких отрезка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екста  одних  и  тех  же слов, выбо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точного   слова   из     двух      или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скольких   близких    по    смыслу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брежность в построении  высказы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вания –  всё это  принято    относить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к   </a:t>
            </a:r>
            <a:r>
              <a:rPr b="0" i="1" lang="ru-RU" sz="3600" spc="-1" strike="noStrike" u="sng">
                <a:solidFill>
                  <a:srgbClr val="cccc00"/>
                </a:solidFill>
                <a:uFillTx/>
                <a:latin typeface="Arial"/>
              </a:rPr>
              <a:t>стилистическим ошибкам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63640" y="47628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1. Мы поражались его по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ной памя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2. Ближайшего соперника он обо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гнал, но остальных обогнать ему н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удалос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3. Сначала  появился   лесник,   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вскоре появились и все наши ребя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332000" y="260280"/>
            <a:ext cx="676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1. Мы удивлялись его по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ной памяти.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(Ещё варианты?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2. Ближайшего соперника он обо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гнал, но  остальных опередить ем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не удалос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b8861"/>
                </a:solidFill>
                <a:latin typeface="Arial"/>
              </a:rPr>
              <a:t>3. Сначала   появился   лесник,  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8861"/>
                </a:solidFill>
                <a:latin typeface="Arial"/>
              </a:rPr>
              <a:t>вскоре – и все наши ребята.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58920" y="476280"/>
            <a:ext cx="662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пасность, которую таят в себе стилистическ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шибки, - это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бедность, невы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ность речи.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о они могут также вести 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неясности, двусмысленности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или ж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попросту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искажать смысл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сказанного ил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аписанного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a5d729"/>
                </a:solidFill>
                <a:latin typeface="Arial"/>
              </a:rPr>
              <a:t>Вдали зеленеют купоросы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                                        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a5d729"/>
                </a:solidFill>
                <a:latin typeface="Arial"/>
              </a:rPr>
              <a:t>вместо </a:t>
            </a:r>
            <a:r>
              <a:rPr b="0" i="1" lang="ru-RU" sz="2800" spc="-1" strike="noStrike">
                <a:solidFill>
                  <a:srgbClr val="a5d729"/>
                </a:solidFill>
                <a:latin typeface="Arial"/>
              </a:rPr>
              <a:t>кипарисы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)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39640" y="404640"/>
            <a:ext cx="756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орожно! Опасность!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з стихотворения «Рассказ школьного портфе-ля» (Ю.Тимянский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Колидор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5b2ff"/>
                </a:solidFill>
                <a:latin typeface="Arial"/>
              </a:rPr>
              <a:t>«дилектор»,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«маг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ин»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«стакан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«секёт свекл</a:t>
            </a: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«пекё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блины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</a:rPr>
              <a:t>«п</a:t>
            </a:r>
            <a:r>
              <a:rPr b="0" lang="ru-RU" sz="4400" spc="-1" strike="noStrike">
                <a:solidFill>
                  <a:srgbClr val="ff9999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</a:rPr>
              <a:t>ртфель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60280"/>
            <a:ext cx="83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Язык мой - друг мо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Как правильно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Почему этот Пет</a:t>
            </a:r>
            <a:r>
              <a:rPr b="0" lang="ru-RU" sz="4000" spc="-1" strike="noStrike">
                <a:solidFill>
                  <a:srgbClr val="9999ff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 так говорит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 незнания норм литератур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языка или в результате небреж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ношения к слову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908000" y="476280"/>
            <a:ext cx="48992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равьт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308720" y="189000"/>
            <a:ext cx="28764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Семененко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Лариса Владимировна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учитель русского языка 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литературы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Невельской ООШ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2009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16000" y="404640"/>
            <a:ext cx="748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втор    работы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eb8861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«Правильно – неправильно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79280" y="476280"/>
            <a:ext cx="856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нька-встань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о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идор            т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бурет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зво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т         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клад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(а </a:t>
            </a: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не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 ложи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!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рас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вее           пов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ть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в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ё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ла               п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ёт, с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ёт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р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дства           обесп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ч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оп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ровать        фа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ра, ши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360" y="189000"/>
            <a:ext cx="82789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те  правильно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Опасность,  грозящая языку,-  это  искаж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слов в результате невежества, неверного их уп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требления,  неправильного  ударения  и произн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шения.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Искалеченные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таким образом сл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засоряют язы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ff66ff"/>
                </a:solidFill>
                <a:uFillTx/>
                <a:latin typeface="Arial"/>
              </a:rPr>
              <a:t>Важнейшее требование стилистики –правиль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6ff"/>
                </a:solidFill>
                <a:uFillTx/>
                <a:latin typeface="Arial"/>
              </a:rPr>
              <a:t>ность, точность и ясность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, т.е.полное  соответст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вие слов тем понятиям, которые вы  должны  вы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рази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16000" y="260280"/>
            <a:ext cx="705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алеченные слов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Лаконизм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краткость, сжатость речи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«Краткость – сестра таланта».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 (А.Чехов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Плеоназм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лишние слов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На горизонте появились</a:t>
            </a: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 ледяные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 айсберги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76360" y="333360"/>
            <a:ext cx="62625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интересн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айдите лишние слов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.Муму очень сильно привязалась к Герасим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.Караван двигался по песчаным бархана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3.Мы вновь возобновили с ними перепис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4.Я не успел закончить до конца эту работ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5.Моя автобиография уместилась на страничк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6.Всадники уже приближались ближе к дерев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7.На Камчатке много горячих гейзеров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333360"/>
            <a:ext cx="792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едот, да не то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1.Сильн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2.Песчан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3.Внов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4.До конц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5.Мо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6.Ближ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7.Горячи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03280" y="404640"/>
            <a:ext cx="633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ишний  Фед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Индивидуальная рабо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55640" y="404640"/>
            <a:ext cx="7272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ff9966"/>
                </a:solidFill>
                <a:uFillTx/>
                <a:latin typeface="Arial"/>
              </a:rPr>
              <a:t>Для домашней работ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1. Подойдя к дому, нас настиг сильный ливен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В зоопарке мы видели весело перелетающи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 ветки  на  ветку  различных  птиц, обезьян, б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ок, львов и других хищников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3. Рыбаки  возвращались домой с богатым ул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вом.  Они  поймали  семь  окуней,  пять   караси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ков,  четыре  плотвички,   маленького   щенка  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много разных других рыбок помельч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4360" y="26028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лминутки для шутки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Чем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стилистика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поможет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Какова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роль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стилисти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Помогла ли вам эта наук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Правильно ли мы говорим?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чём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нравственная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роль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стилисти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11280" y="189000"/>
            <a:ext cx="7848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 - делу вене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9640" y="692280"/>
            <a:ext cx="799308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регите  наш  язы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16effa"/>
                </a:solidFill>
                <a:latin typeface="Arial"/>
              </a:rPr>
              <a:t>Цель: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оль стилистики как нау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вышение уровня речевой культур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именение полученных знаний и ум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собственной речевой практик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юбить родной русский язык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.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Осуществлять речевой контрол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едактировать текс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здавать устные и письменные монологи-    ческие и диалогические высказывания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разительно читать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 рассказыва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Что значит «беречь» язы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т кого или от чег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Разве у языка есть враги и ему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грозят какие-то опасности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.С.Тургене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Берегите наш язык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наш прекрасный русский язык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т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клад,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достояние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переданное на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ашими предшественниками…  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8900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исатели о русском языке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Берегите его 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портите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искажайт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!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засоряйте грубыми словами 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штампами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наш язык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великое сокровище народа !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                                      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50920" y="333360"/>
            <a:ext cx="84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й язык – живой организ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збранное из книг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65b2ff"/>
                </a:solidFill>
                <a:latin typeface="Arial"/>
              </a:rPr>
              <a:t>«Песнь души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(стихи учащихся Невельской школы)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89000"/>
            <a:ext cx="784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вящаем…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«Берегите речь родную…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«Не забывайте обо мн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О речи правильной, хорошей…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«Россия моя самая лучшая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И язык в ней самый родной!.. 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А.Спиридон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Русский язык люб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Его навсегда сохраним!..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«Россия, русское слово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Как это нам, знакомо!»                    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 А.Матвее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«Сохраним, сбережём и взлелеем тебя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Наша русская речь дорогая!.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И.Сандригайл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«Русская речь – это наше богатство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Сколько красивых есть русских слов!.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«О русская речь, мы достойны тебя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Спасём нашу речь от любого огня!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c36a8"/>
                </a:solidFill>
                <a:latin typeface="Arial"/>
              </a:rPr>
              <a:t>О.Дроздо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«Да разве можн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Не любить родной язык!..»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Л.Гончаро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«Русский язык знают везде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Даже в самой далёкой стран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 всю Россию славится он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Он – наш отец, а Земля – наш дом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 Земле мы живё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По-русски говор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ш русский язы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всегда сохраним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Мы не забудем его никогд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Он нам поможет везде и всегда!»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                                                               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А.Матвеева  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99cc"/>
                </a:solidFill>
                <a:latin typeface="Arial"/>
              </a:rPr>
              <a:t>                                                    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Д.С.Лихачёв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«…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Наш язык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–  это     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важнейшая   часть нашег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общего поведения 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в жизни.    И по тому, </a:t>
            </a:r>
            <a:r>
              <a:rPr b="1" lang="en-US" sz="2400" spc="-1" strike="noStrike">
                <a:solidFill>
                  <a:srgbClr val="eb8861"/>
                </a:solidFill>
                <a:latin typeface="Arial"/>
              </a:rPr>
              <a:t>как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 человек говорит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, мы сразу и легко можем судить о том,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с кем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 мы имеем дел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Учиться хорошей интеллигентной речи над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долго и внимательн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65b2ff"/>
                </a:solidFill>
                <a:latin typeface="Arial"/>
              </a:rPr>
              <a:t>прислушиваясь,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5b2ff"/>
                </a:solidFill>
                <a:latin typeface="Arial"/>
              </a:rPr>
              <a:t>запоминая, замечая, читая и изучая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Но хоть и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трудно –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это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 надо, надо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0920" y="189000"/>
            <a:ext cx="8281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Письма о добром и прекрасном» 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Нам Стилистика нужна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И для нас она важна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Всех Стилистика научит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Правильности речи учит!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Л.Семененк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0"/>
            <a:ext cx="770400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м Стилистика нужна 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2803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«А как речь-то говорит, словно реченька журчит». (А.Пушкин)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Наука, которая изучает стили речи 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употребление в них языковых средст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5640" y="33336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комьтесь: Стилистик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Эт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c66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стилистическ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неправильная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речь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11280" y="620640"/>
            <a:ext cx="727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Зубная боль»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b9e5a9"/>
                </a:solidFill>
                <a:latin typeface="Arial"/>
              </a:rPr>
              <a:t>Речь ясная и выразительная, логически стройная и убедительная,  чистая и живая, понятная и интересная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 u="sng">
                <a:solidFill>
                  <a:srgbClr val="ccff66"/>
                </a:solidFill>
                <a:uFillTx/>
                <a:latin typeface="Arial"/>
              </a:rPr>
              <a:t>Правильность речи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– это основа реч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вой культуры, то есть умения владеть язы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ковыми  нормами  и  использовать вырази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тельные средства язы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476280"/>
            <a:ext cx="770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ая реч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1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Сильное кино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А.Барто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И вот брат начал свой рассказ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-Они ползу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он им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тут как ра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а ползла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он как даст ем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Со зла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а им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и ей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Но тут как ра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Её он спас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 был с ней заодно</a:t>
            </a:r>
            <a:r>
              <a:rPr b="0" lang="ru-RU" sz="2000" spc="-1" strike="noStrike">
                <a:solidFill>
                  <a:srgbClr val="eb8861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eb8861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Ух, </a:t>
            </a:r>
            <a:r>
              <a:rPr b="1" lang="ru-RU" sz="2000" spc="-1" strike="noStrike" u="sng">
                <a:solidFill>
                  <a:srgbClr val="eb8861"/>
                </a:solidFill>
                <a:uFillTx/>
                <a:latin typeface="Arial"/>
              </a:rPr>
              <a:t>сильное кино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4360" y="0"/>
            <a:ext cx="72723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минутки для шутк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Что вы можете сказать о «рассказчике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Какие слова-сорняки  мешают  нормаль-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ой речи незадачливого «героя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Могла   ли  сестра   понять   содерж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фильма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 вы поняли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00000" y="47628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говори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Найдите и исправьте 8 стилистических ошибо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в рассказе учени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«В одном…этом, как его…ну…поме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стье  жил один помещик  Троекур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роекуров  был  здорово  богатый, и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он никого не слушал,  он  всё  дела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ак, как ему хотелось, и все его боя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лись…»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0"/>
            <a:ext cx="79930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Краснореч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23:16Z</dcterms:created>
  <dc:creator>Loner-XP</dc:creator>
  <dc:description/>
  <dc:language>en-US</dc:language>
  <cp:lastModifiedBy>Loner-XP</cp:lastModifiedBy>
  <dcterms:modified xsi:type="dcterms:W3CDTF">2009-03-09T15:05:32Z</dcterms:modified>
  <cp:revision>123</cp:revision>
  <dc:subject/>
  <dc:title>Правильно ли мы говорим?</dc:title>
</cp:coreProperties>
</file>