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E4F1-C0DB-414A-A8DD-7E6811DE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915-B924-4ECE-A471-61B44DF5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48E-3B33-4A7B-A848-9ECFE1EC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82B-A650-4FB4-8922-11B922E5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AA9E-E49C-4145-9D91-FCFFAE6C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5CA1-BBF1-41A0-9304-F42C1F87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344E-51DE-44EC-816D-90708BEF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9F21-82CC-45E7-A896-778336DD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E208-F8F2-474E-BFEF-FE92AC15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4386-A3DF-436C-A987-D0116FBB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8119-6380-48A9-922C-96F236DB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934-F0D3-491B-A818-B3FC769F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8B2A-8F32-473B-B362-E6501CB8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20D1-D52D-44F2-9074-BB8E13D7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125C-9D94-48CB-9803-927E21CC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E8AC-B2A8-4C95-B93A-3AEE9CF9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8907-13A1-4465-9116-5140E036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F3C5C-44CE-42B2-97D8-EB295731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3EC95-60AB-4410-BA20-21FF439E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B2A32-E4F4-4734-9750-32BA49D8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A63FE-96CD-4F8B-8A37-67D067A6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B974B-CBA1-469E-BCFE-71DBC358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C0A1-1C07-4BEA-8376-28C09280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A6C0F-8195-4FEE-A03E-33DAD3BC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836C0-05E0-45C9-96FC-3456E3D8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970DC-E732-499E-8CD1-12589BC8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5CB23-565E-464D-B7CC-D7F899A0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9AF61-5D19-4B6D-9CAC-0FBB6964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4E385-C521-49BE-BECE-F24C4259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BF437-B7E7-4A91-AA52-87198A9A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1BF6C-645E-426F-A5DF-B6FD794C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4F780-EDA9-44F6-A028-ED131082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24EF7-7F61-4F46-AA9C-019E50FD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A2C5-EB77-4A54-B32C-7549670E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DB37F-5B8E-4843-B0A2-DA287489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628ED-CEBD-4CE3-A1B1-806BB41B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5D0E4-FACD-45E6-A114-196770B6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2948F-B03F-48B9-8273-63509CFC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2CEE5-CE18-413C-887A-93B4A7A9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4C7E4-CDB5-436B-99B8-F0003876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B6DD4-013C-40C1-8403-70D10422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DFA2B-5538-4016-BD8E-8899DA31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2D1F7-B10A-45E1-80B9-A67DA630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1516B-B8D4-4E19-96E4-152D8F0C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BD1-D642-4AAC-8C3F-58C42E5A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7ADAB-EAC2-4E29-A772-DFAF2078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B96F2-FE22-4105-B395-453FBAE0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49403-49D2-49A4-A9BF-49394F61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A0245-A970-46EE-A3F3-D3243F78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84561-D7FA-4B80-9F2A-90271C3A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00349-DC7B-4AF5-8705-8D3D83A4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BB35C-AC01-4F2B-A38A-8942D545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A804B-E1FF-46B5-83EB-2E09A766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018C9-53E7-44E9-91A0-3FD1E34F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575C1-1B3A-429A-B5A8-EBF9796C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6BC-76C8-4444-92CB-1B070F32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38725-7468-4180-9A89-563455F6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D51C-C6B2-41FF-B4B3-EA9E82F2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CA5C-1D40-48C3-95AA-7F191D57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526-FC81-4D27-9654-D1DFA526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038A-3499-4456-B8CA-91BC10B1B67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6DF7-393C-48B6-AF7D-482DC5742E5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E9D6-C4D3-47CA-AAC4-554FC9231AF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2B43-186D-4C9C-98A4-8F38F8B66A5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E429-7FB3-46A9-A804-6BA8FF8E050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Николай</cp:lastModifiedBy>
  <dcterms:modified xsi:type="dcterms:W3CDTF">2013-01-23T12:42:12Z</dcterms:modified>
  <cp:revision>41</cp:revision>
  <dc:subject/>
  <dc:title>Тип Членистоногие</dc:title>
</cp:coreProperties>
</file>