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A71-6712-487A-9818-0E4D8257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B3C-DFDC-416C-9FE0-401B1EB1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176-82B3-4251-A9C4-F33129EB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0F6-2B54-496F-91F8-390AE704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F833-06D4-4928-B49C-2329F698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1DB4-D167-4192-8145-86927B8A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BC6C-92C8-4C2A-AFE4-8A63F2BF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209F-42C9-4190-A80C-3BA62E14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06A4-067C-4A91-A5B6-94C2479D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6A53-91AC-4B01-BBC6-FFA40E72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A95A-0547-4690-A190-2B02ABAE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471-E11C-4F65-9EB7-CC8096C1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1F40-6011-44DF-8063-952FEE1F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03CE-F386-475D-8C59-E36250DF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DCA0-F1DD-4949-9FD0-1180CBC5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204D-6431-4FD1-A8AF-CEEE5253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A086-05AC-475D-8A95-D05C8E1A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EA737-F06E-4933-9309-7A81AD34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86128-E99C-47DB-A48F-4375636A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73437-58DD-4BFC-B1B7-C5CF328D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23CF6-8AA5-41A1-B2A8-D55A234B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39105-B495-405D-83B7-29F200B1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D8D-3119-4C8B-9C64-323CA826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BBAAF-E895-4A43-BF6B-1B4CFA5C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DE91D-16D7-413A-9E84-0E0AF262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BC92E-DC56-4A95-A304-1DF218F0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87795-4F0B-445F-8819-7F61FF26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CD53-2BD8-4AFE-8030-927A884D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C7E4-1363-44CE-BD29-715BC16C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DF016-F10C-445D-9FE7-48FFCCFA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17487-9DCF-4ADC-A2A3-2EC7A969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BAA3D-BC68-431B-A892-51A8D93A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B7334-8F96-457C-97DC-1D9417DA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49F-D21A-438D-94AB-1D12B9E3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66C87-E580-4867-93F7-9E2CB023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D631D-39EB-4529-9DDE-80086C4E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BF2F0-60D2-4D09-B850-542CB103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C28F6-79E9-46B2-BA88-73A1B042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3F4F8-16CC-4A87-A6A3-A3FC9D30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02347-A2CC-4678-8FDF-E3F65722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9E753-5186-4A25-9E97-69C93D92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9910D-BF9E-43E2-90AD-1502B2D9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04801-0D35-4E67-9C48-DB761FE7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13B7C-7111-4065-9F7B-C1CA1E4B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493-D3E9-4379-B871-9670E69A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DEA18-879F-4ABB-8E3D-E95FF0CA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022E5-1C84-408F-B0E5-CEDA5FF7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B7241-1E27-4AB5-9486-460BCDC6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BD390-9300-4696-91F0-D01C8F2E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C522F-BB6D-480D-A696-ECCD018F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0D034-4C2C-4AE3-B6AD-94625077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DA123-5F62-4B29-A12A-CA8983EE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F6436-2BCB-4BD8-8683-BE598775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A6751-AB87-4240-B152-DC4F08A2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61948-5386-409E-8818-AE6A8819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B05-5305-4CA1-8298-53FE465D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42212-067B-4875-BE33-E51743D0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5CE-D6A7-4F08-9868-7B7FF276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B12-F1E5-4576-B8F4-8E0B6B4F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D31-FE02-4677-BB46-B47A271B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BA18-686A-4D03-A6FB-9649FC5F885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DD6C-4DD7-470F-919B-AC51C95168C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1F39-FF6D-497B-8DCF-0D09FCD085E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11D4-CBEA-49E0-9AF7-66E9CDFD28C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6D3A-A48B-44AD-96AE-55B63F6F66F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Николай</cp:lastModifiedBy>
  <dcterms:modified xsi:type="dcterms:W3CDTF">2013-01-23T12:42:12Z</dcterms:modified>
  <cp:revision>41</cp:revision>
  <dc:subject/>
  <dc:title>Тип Членистоногие</dc:title>
</cp:coreProperties>
</file>