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A6D-C28C-44B2-BFA5-9741F8A3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0787-B5DD-42B7-8CF0-09A8D22A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6C05-F293-4CBC-A76E-7CF70F1C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E84-8BB3-40C1-8DC3-0D4E10E1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1C74-A1CA-41DD-A412-6702D7B3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F0F1-1ABD-43C4-80A5-0DDE9D88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528D-FA8D-443C-9E7D-20F351A1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55D4-4CD8-4F3C-9A1E-F623A91F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6629-FC26-4EA0-BF06-7DCE52C9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C641-9B53-417F-9039-7130EF9A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B3D6-B848-4D11-80B2-80A91C24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8F1-0DE4-4D27-A3BB-65C9C70C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145C-4234-4547-BBB1-BE3E9CAB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C0E6-942F-42FE-B9E8-514AA07D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8DCA-FBC3-4308-8F1F-73C0BD05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7142-34FD-455F-A0E0-558DCE80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B031-A9DF-4370-88C9-7ED7736B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2CF94-6BB2-40BF-89BB-E248A7DC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C85BA-1D89-489C-905E-D941BFCD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E5F07-95FE-4D7E-B7A5-37AB741C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2E9B0-D074-4707-8D15-A28E401F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90B04-19F5-4556-A118-9C9D1865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31C5-2481-47E7-B1A6-489D143C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6A7E7-0324-4306-BF9D-FD15C026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67B24-ED1A-4C10-ABCE-5C679F7A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25C6A-1D62-4247-911E-F0D21A33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4BCDF-B3C7-4B00-9E27-55B800EB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C6879-4D61-43FC-94DD-BB6DE97D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132E9-8AC5-4023-AFDB-2B7A3EBC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1FB46-15B9-424E-A97F-D8FD4BE1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22C8B-DD5E-4C67-88EA-B28ACBA4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A1FE5-DDDD-430E-8071-AB876A6E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81A6F-36C6-4956-8F22-460E2065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DCE-A2FD-47D8-9D1E-E8AC2898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D8D64-68BC-48AA-B6DE-64C188A2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6FA9D-A2C5-495F-9432-9221BE85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D700A-850D-4354-B78A-76A6C63F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341AD-C90C-4427-BE17-76C15A7A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91A43-CF0B-4E6F-B4FD-DA6F2B88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E1146-D6E2-4729-AC66-CC2A93D0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04ABA-0C61-4A15-91BE-A7FA8A09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2238B-A66D-402A-A8DE-EF12CB9D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CC2E1-FAD5-4EBC-A7D4-F8E61BE2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BDBA2-8153-477B-8BE4-92B8EA4F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FBF-4FE8-47BE-BDDB-5160BF28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EFDC0-194E-45DE-9485-3511CC36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0E1EB-C6B9-4A77-BC39-2910A31F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02CEF-CBDD-4D76-B64F-EE2E25BD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C0923-7942-4E54-AB81-A1F4228B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E8F59-7295-4CA1-B756-4FA2382F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C9AD4-4079-4A63-995C-E88689E6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D86D6-D040-42AF-8901-E67AA621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70451-8845-4B9C-9BBA-3CAF8E8E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5864F-539F-48E5-A8D2-7BA2F6BA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2B39C-1371-4625-8354-FFAEF1E5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4637-65C2-4C6D-A0CF-FA10CBB8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7A332-C30B-443C-9CB6-1CB2080C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40B-A24F-4299-97BB-59B18DD8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57CA-6678-4DB7-865D-E1C58A2C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05E3-228E-4202-ADA5-93480DAA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F425-8F9A-4147-8201-458397F542E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95D8-8044-4A7D-A6AC-ADA86C6998C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C70E-5A1F-490B-AB91-F182E8ADBBB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DEE3-FDD7-40C4-9546-B195C676FD8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BE86-1D72-4AC0-A845-A33B9CF13D3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Николай</cp:lastModifiedBy>
  <dcterms:modified xsi:type="dcterms:W3CDTF">2013-01-23T12:42:12Z</dcterms:modified>
  <cp:revision>41</cp:revision>
  <dc:subject/>
  <dc:title>Тип Членистоногие</dc:title>
</cp:coreProperties>
</file>