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B070-4E19-47F8-82CD-6C556A49F5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865A-2FFB-4035-B3F7-AA939F97F2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30B-91AD-4D23-AA1F-AAC606DE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DE9E-926B-4547-8E64-3BB4D866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EA2-90B6-4403-B0D7-E7F029C0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414-D4B7-46E3-8498-0912C5BD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8DB-B7FF-41B6-BC34-DD8C4256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EA3E-81DE-475D-8745-348F3A82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02A-446D-4784-90D0-752C899A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52C-19D9-465C-86B3-0A84574F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6BA-9DDC-4A54-9194-0B3053E7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B176-90A4-4087-917F-D4278640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471-1B29-4ACC-B6A6-A89A0154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85A-CDD2-4642-A9EA-907739F7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DBB7-8579-48CE-8D17-972E00FB45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5640" y="0"/>
            <a:ext cx="3887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Жюль Вер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2154284451"/>
          <p:cNvPicPr/>
          <p:nvPr/>
        </p:nvPicPr>
        <p:blipFill>
          <a:blip r:embed="rId1"/>
          <a:stretch/>
        </p:blipFill>
        <p:spPr>
          <a:xfrm>
            <a:off x="2411280" y="981000"/>
            <a:ext cx="4321440" cy="49482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4143240" y="642924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6471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88640"/>
            <a:ext cx="4932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867 году Жюль Верн всецело отдался осуществлению своего нового замысла - самого прекрасного и самого поэтического из всех, какие ему приходили в голову. В 1868 году первый из двух томов «Двадцать тысяч лье под водой» был законч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Двадцать тысяч лье под водой"/>
          <p:cNvPicPr/>
          <p:nvPr/>
        </p:nvPicPr>
        <p:blipFill>
          <a:blip r:embed="rId1"/>
          <a:stretch/>
        </p:blipFill>
        <p:spPr>
          <a:xfrm>
            <a:off x="5148360" y="692280"/>
            <a:ext cx="369576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жды писатель решил вернуться к истории капитана Немо, а за одно связать сюжетные истории линии новой  «робинзонады», с «Детьми капитана Гранта». Он немедленно принялся за работу. Жюль в течении полутора лет отдавал ему лучшие свои утренние часы. В 1875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у «Таинственный остров» вышел отдельным изданием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0920" y="6858000"/>
            <a:ext cx="7561080" cy="1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"/>
          </a:bodyPr>
          <a:p>
            <a:pPr marL="30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Таинственный остров"/>
          <p:cNvPicPr/>
          <p:nvPr/>
        </p:nvPicPr>
        <p:blipFill>
          <a:blip r:embed="rId1"/>
          <a:stretch/>
        </p:blipFill>
        <p:spPr>
          <a:xfrm>
            <a:off x="3924360" y="4221000"/>
            <a:ext cx="19238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м рассказывается история нескольких  человек, занесенных на воздушном шаре на необитаемый остров, затерянный в бескрайних просторах южной части Тихого океана. Герои романа во время полета выбросили в море, как балласт, все, вплоть до  карманных ножей и спичек. Потерпевшие крушение, попав на остров, не приходят в уныние. Они принимаются за работу и неустанным трудом создают свое благополуч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1872 году Верн навсегда покинул Париж, он переселился в  Амьен. Там он вел строгий распорядок дня, который нарушался только один раз в год ради того, чтобы выйти на своей парусной шхуне в открытое море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юль Верн любил путешествовать. Много раз он плавал вдоль берегов Италии, Испании, Англии, Скандинавии, побывал в Африке, в Северной Амер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920" y="-401760"/>
            <a:ext cx="777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878 году писатель пишет роман «Пятнадцатилетний капитан», когда  во Французских колониях отменили работорговлю, но в других странах  продолжало оставаться все по-прежнему. В романе  Жюль Верн   протестует против работорговли, вступает в защиту нег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КАПИТАН"/>
          <p:cNvPicPr/>
          <p:nvPr/>
        </p:nvPicPr>
        <p:blipFill>
          <a:blip r:embed="rId1"/>
          <a:stretch/>
        </p:blipFill>
        <p:spPr>
          <a:xfrm>
            <a:off x="3203640" y="3500280"/>
            <a:ext cx="26622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1886, когда Жюлю Верну исполнилось 58 лет, его жизнь в корне переменилась в результате неожиданного происшествия. Страдавший тяжёлым нервным расстройством племянник писателя выстрелил в Верна из револьвера, когда тот вышел из дома. Пулю, засевшую в ноге Верна, извлечь не удалось, рана заживала плохо. Вскоре измученный болями, ослабленный писатель получил известие о смерти Этцеля. Горе потрясло писателя, он поправлялся с большим трудом, а хромота так и не прошла. Морским путешествиям, частым посещениям Парижа и походам в столь любимые им театры пришёл кон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атель скончался от сахарного диабета в возрасте 77 лет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Памятник"/>
          <p:cNvPicPr/>
          <p:nvPr/>
        </p:nvPicPr>
        <p:blipFill>
          <a:blip r:embed="rId1"/>
          <a:stretch/>
        </p:blipFill>
        <p:spPr>
          <a:xfrm>
            <a:off x="2987640" y="2781360"/>
            <a:ext cx="3097080" cy="38494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920" y="2033640"/>
            <a:ext cx="633744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475920"/>
            <a:ext cx="91440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Писатель родился восьмого февраля 1828 года в старинном приморском городе Нант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0_ce09_ba6411e5_L"/>
          <p:cNvPicPr/>
          <p:nvPr/>
        </p:nvPicPr>
        <p:blipFill>
          <a:blip r:embed="rId1"/>
          <a:stretch/>
        </p:blipFill>
        <p:spPr>
          <a:xfrm>
            <a:off x="1258920" y="191628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был старшим из четырёх детей. Его отец, Пьер Верн был адвокатом, а мать, Софи Верн родилась в семье Нантских судовладельце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Жулю исполнилось 11 лет, он попытался уехать в Индию, нанявшись  юнгой на шхуну «Коралли», но был возвращен домой через несколько часов. Вскоре он поступает учиться в Нантский лицей. После окончания лицея в 1848 году он поступает в Парижскую школу пр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е-как он получив диплом правоведа, Жюль отказался продолжить семейное дело. Он писал отцу: "Я мог бы стать хорошим литератором, но адвокатом буду плохим, поскольку во всём вижу только комическую сторону и художественную форму".  Жюль Верн остается в Париже. Вскоре у Жюля завязалась дружба с Александром Дюма-сыном, через некоторое время познакомился с Жаком Араго - исследователем, путешественником и писателем. Дюма помог Верну сосредоточиться на новом призвании: Жюля приняли секретарём в бывший театр Дюма-отца. Здесь шли первые пьесы Верна - лирические комедии. Новый знакомец Араго посоветовал ему попробовать себя в жанре географического романа. И вот, в середине 1850 года, Верн отказался от занимаемой им дол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36280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бросовестный Верн отправился в плавание - Англия, Шотландия, Скандинавия, Соединённые Штаты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1863 опубликовал в журнале «Журнал для образования и отдыха» первый роман из цикла «Необыкновенные путешествия» 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Пять недель на воздушном шаре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ЪХЗЩ"/>
          <p:cNvPicPr/>
          <p:nvPr/>
        </p:nvPicPr>
        <p:blipFill>
          <a:blip r:embed="rId1"/>
          <a:stretch/>
        </p:blipFill>
        <p:spPr>
          <a:xfrm>
            <a:off x="2843280" y="1962000"/>
            <a:ext cx="3373200" cy="47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имел огромный успех. Писатель наконец, нашел свою «золотую жилу» и стал ее тщательно разрабатывать. Герои его романов наделены страстью к исследованиям и открытия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шные странности таких героев, как Паганель или Филеас Фогг, вносят шутку 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нтастический мир произведений пис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70200" y="6556320"/>
            <a:ext cx="946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1863 по 1870 годы он написал семь больших романов: «Пять недель на воздушном шаре», «Путешествие к центру Земли», «Путешествия и приключения капитана Гаттераса», «С земли на луну», «Вокруг луны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Пять недель"/>
          <p:cNvPicPr/>
          <p:nvPr/>
        </p:nvPicPr>
        <p:blipFill>
          <a:blip r:embed="rId1"/>
          <a:stretch/>
        </p:blipFill>
        <p:spPr>
          <a:xfrm>
            <a:off x="468360" y="4437000"/>
            <a:ext cx="1322280" cy="206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Путешествие к центру земли"/>
          <p:cNvPicPr/>
          <p:nvPr/>
        </p:nvPicPr>
        <p:blipFill>
          <a:blip r:embed="rId2"/>
          <a:stretch/>
        </p:blipFill>
        <p:spPr>
          <a:xfrm>
            <a:off x="1908000" y="3933720"/>
            <a:ext cx="1646280" cy="2305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Гатерасс"/>
          <p:cNvPicPr/>
          <p:nvPr/>
        </p:nvPicPr>
        <p:blipFill>
          <a:blip r:embed="rId3"/>
          <a:stretch/>
        </p:blipFill>
        <p:spPr>
          <a:xfrm>
            <a:off x="3635280" y="3716280"/>
            <a:ext cx="1905120" cy="2943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51"/>
          <p:cNvPicPr/>
          <p:nvPr/>
        </p:nvPicPr>
        <p:blipFill>
          <a:blip r:embed="rId4"/>
          <a:stretch/>
        </p:blipFill>
        <p:spPr>
          <a:xfrm>
            <a:off x="5651640" y="3933720"/>
            <a:ext cx="1590480" cy="230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Вокруг луны"/>
          <p:cNvPicPr/>
          <p:nvPr/>
        </p:nvPicPr>
        <p:blipFill>
          <a:blip r:embed="rId5"/>
          <a:stretch/>
        </p:blipFill>
        <p:spPr>
          <a:xfrm>
            <a:off x="7380360" y="4437000"/>
            <a:ext cx="1322280" cy="206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0:03:59Z</dcterms:created>
  <dc:creator>FoM</dc:creator>
  <dc:description/>
  <dc:language>en-US</dc:language>
  <cp:lastModifiedBy>Admin</cp:lastModifiedBy>
  <dcterms:modified xsi:type="dcterms:W3CDTF">2012-07-30T10:18:33Z</dcterms:modified>
  <cp:revision>15</cp:revision>
  <dc:subject/>
  <dc:title>Презентация по литературе  на тему: «Мой любимый писатель»</dc:title>
</cp:coreProperties>
</file>