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20C-8565-4E20-A874-968E5FF9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7E0-BE05-4D55-ACC1-63C6F115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627-A87C-424E-AEC2-4D5DD71A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046-4138-4FD6-B962-D32FFCB2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CDA9-C997-4569-9D17-6EF2642C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1CF8-FE3A-40BA-BACE-1A137281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C198-AD0A-45D1-AFFF-F31E33CB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5442-0995-4FB4-A988-1BE8EC69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427D-0077-4304-A689-BBA633CF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8F28-270E-4CFB-9F42-AF04DF5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14C7-CE88-4722-8670-53C078A1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C92-8258-43AC-B9E6-648EF082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0733-7838-457E-89AD-0E5BC9D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03D1-5A86-455F-8CEB-00688EA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C8A-4F9D-4D08-AD21-B06F2CA3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D52C-E23D-409F-9E4D-C4C515C2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E27-5824-432A-980F-AAC5F0C6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955-7AA4-40C0-9AE3-B17C761A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238-96B1-489F-B136-351156E7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B97-5FD5-4179-9751-B322CFF1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170-D91E-49C5-94B3-42E2314A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3DE-A694-4682-A7DE-8E605CF0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EC9-4E50-457A-BF58-D326272E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74D-7365-4D1E-9CDE-8FF5ED8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0B7-D88B-427D-92E1-5BEF559EA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0FD2-E340-4E19-A7DF-6B34A941E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et.apteka.uz/" TargetMode="External"/><Relationship Id="rId2" Type="http://schemas.openxmlformats.org/officeDocument/2006/relationships/hyperlink" Target="http://ru/wikipedia.or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Spongillid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2556000" y="2565360"/>
            <a:ext cx="39909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  Губки</a:t>
            </a:r>
            <a:endParaRPr b="0" lang="en-US" sz="7200" spc="1" strike="noStrike">
              <a:ln w="9360">
                <a:solidFill>
                  <a:srgbClr val="00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923280" y="4076640"/>
            <a:ext cx="48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Засосенская СОШ имени 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ского Союза Н.Л.Яцен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шов Анатолий Владими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Подумайте и ответьте на вопросы: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 чём различие и сходство губок с простейшими живот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Каково значение губок в природе и жизни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Строение губок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Picture 5" descr="типы строения губок"/>
          <p:cNvPicPr/>
          <p:nvPr/>
        </p:nvPicPr>
        <p:blipFill>
          <a:blip r:embed="rId1"/>
          <a:stretch/>
        </p:blipFill>
        <p:spPr>
          <a:xfrm>
            <a:off x="179280" y="1341360"/>
            <a:ext cx="5619960" cy="25909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116000" y="4076640"/>
            <a:ext cx="27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типа строения г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иглы губок"/>
          <p:cNvPicPr/>
          <p:nvPr/>
        </p:nvPicPr>
        <p:blipFill>
          <a:blip r:embed="rId2"/>
          <a:stretch/>
        </p:blipFill>
        <p:spPr>
          <a:xfrm>
            <a:off x="5940360" y="2349360"/>
            <a:ext cx="3024360" cy="2665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6228720" y="508464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елетные иглы г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Систематика губок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2" name="Picture 4" descr="обыкновенные губки 1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131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903240" y="407664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об"/>
          <p:cNvPicPr/>
          <p:nvPr/>
        </p:nvPicPr>
        <p:blipFill>
          <a:blip r:embed="rId2"/>
          <a:stretch/>
        </p:blipFill>
        <p:spPr>
          <a:xfrm>
            <a:off x="5435640" y="1700280"/>
            <a:ext cx="3240000" cy="2160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6374160" y="400536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стеклян"/>
          <p:cNvPicPr/>
          <p:nvPr/>
        </p:nvPicPr>
        <p:blipFill>
          <a:blip r:embed="rId3"/>
          <a:stretch/>
        </p:blipFill>
        <p:spPr>
          <a:xfrm>
            <a:off x="2411280" y="4508640"/>
            <a:ext cx="4321440" cy="16556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9"/>
          <p:cNvSpPr/>
          <p:nvPr/>
        </p:nvSpPr>
        <p:spPr>
          <a:xfrm>
            <a:off x="4069440" y="6237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кл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 flipH="1">
            <a:off x="1979640" y="126828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6084720" y="126828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4500720" y="126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4572000" y="134136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Значение губок в природе и жизни человека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лужат пищей водным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Являются средой обитания для мелки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чищают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Испорльзуются в медицине, парфюмерии, для полировки деталей и как удоб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Spongillidae"/>
          <p:cNvPicPr/>
          <p:nvPr/>
        </p:nvPicPr>
        <p:blipFill>
          <a:blip r:embed="rId1"/>
          <a:stretch/>
        </p:blipFill>
        <p:spPr>
          <a:xfrm>
            <a:off x="4572000" y="191628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5006520" y="501336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сноводная губка бод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кова основная особенность строения тела губ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ожно ли утверждать, что губки – многоклеточные животн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аково значение губок для сообщества водных животных и рыбовод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ак человек использует животных данного тип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Задание на дом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араграф №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спользуя несколько литературных источников, подготовьте сообщение о сборе губок, их использ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В работе использованы изображения с сайтов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http://vet.apteka.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http://ru/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1:54:25Z</dcterms:created>
  <dc:creator>Ковшов А.В.</dc:creator>
  <dc:description/>
  <dc:language>en-US</dc:language>
  <cp:lastModifiedBy>Ковшов АВ</cp:lastModifiedBy>
  <dcterms:modified xsi:type="dcterms:W3CDTF">2010-09-08T15:39:42Z</dcterms:modified>
  <cp:revision>3</cp:revision>
  <dc:subject/>
  <dc:title>Слайд 1</dc:title>
</cp:coreProperties>
</file>