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577-23C1-4979-BB42-E5F1930B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1E9-40F3-4F25-9DC8-2201784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64C-EC5B-4B3E-B24C-019A85A2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4D0-4ADB-48B4-A239-5EBFEECB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4319-2563-4EE9-88D1-A224E4B4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42B8-3ED8-4A6D-939A-5AD11981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657-0111-4B78-AD6B-F1544B7A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4F69-C3FE-4447-9172-070E927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B77-86B7-40D0-AC1C-2A329B1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88B-86B9-4719-8BF5-71EA492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70E-35CE-4A58-B901-F131692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504-6FCE-4F34-BAE8-0F43B59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0510-147C-4968-86F5-684C5DD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42A3-0F4B-439E-BAF9-7E27B72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A50D-4382-439E-9654-C44F95A4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49B-FE50-42F1-935C-A85E2300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A3C9-20B8-446E-BA6E-E4830FA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E30-66B8-4F50-BA38-0040AC7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00A-2A6F-43E5-B8D3-1D64F60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928-A9AA-4328-98AB-4F954328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CF5-772E-46B1-98C0-B8B6C17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E70-8318-4CBE-AFA3-AB99419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25D-8291-44C3-AD80-66560DC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3E1-2681-4AF0-98A4-47560B78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3BD2-0B3B-4A46-BFA9-C5A16E875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648-9CC5-4FA2-8FA0-13A467B91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et.apteka.uz/" TargetMode="External"/><Relationship Id="rId2" Type="http://schemas.openxmlformats.org/officeDocument/2006/relationships/hyperlink" Target="http://ru/wikipedia.or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Spongillid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2556000" y="2565360"/>
            <a:ext cx="39909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  Губки</a:t>
            </a:r>
            <a:endParaRPr b="0" lang="en-US" sz="7200" spc="1" strike="noStrike">
              <a:ln w="9360">
                <a:solidFill>
                  <a:srgbClr val="00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923280" y="4076640"/>
            <a:ext cx="48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Засосенская СОШ имен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ого Союза Н.Л.Яцен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шов Анатолий Владими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Подумайте и ответьте на вопросы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 чём различие и сходство губок с простейшими живот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аково значение губок в природе и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троение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Picture 5" descr="типы строения губок"/>
          <p:cNvPicPr/>
          <p:nvPr/>
        </p:nvPicPr>
        <p:blipFill>
          <a:blip r:embed="rId1"/>
          <a:stretch/>
        </p:blipFill>
        <p:spPr>
          <a:xfrm>
            <a:off x="179280" y="1341360"/>
            <a:ext cx="5619960" cy="2590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116000" y="4076640"/>
            <a:ext cx="27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типа строения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иглы губок"/>
          <p:cNvPicPr/>
          <p:nvPr/>
        </p:nvPicPr>
        <p:blipFill>
          <a:blip r:embed="rId2"/>
          <a:stretch/>
        </p:blipFill>
        <p:spPr>
          <a:xfrm>
            <a:off x="5940360" y="2349360"/>
            <a:ext cx="3024360" cy="2665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6228720" y="50846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елетные иглы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истематика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2" name="Picture 4" descr="обыкновенные губки 1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131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903240" y="407664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об"/>
          <p:cNvPicPr/>
          <p:nvPr/>
        </p:nvPicPr>
        <p:blipFill>
          <a:blip r:embed="rId2"/>
          <a:stretch/>
        </p:blipFill>
        <p:spPr>
          <a:xfrm>
            <a:off x="5435640" y="1700280"/>
            <a:ext cx="3240000" cy="2160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6374160" y="40053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стеклян"/>
          <p:cNvPicPr/>
          <p:nvPr/>
        </p:nvPicPr>
        <p:blipFill>
          <a:blip r:embed="rId3"/>
          <a:stretch/>
        </p:blipFill>
        <p:spPr>
          <a:xfrm>
            <a:off x="2411280" y="4508640"/>
            <a:ext cx="4321440" cy="1655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4069440" y="6237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кл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1979640" y="1268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608472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4500720" y="126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4572000" y="134136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Значение губок в природе и жизни человек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лужат пищей водным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Являются средой обитания для мелк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чищают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Испорльзуются в медицине, парфюмерии, для полировки деталей и как удоб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Spongillidae"/>
          <p:cNvPicPr/>
          <p:nvPr/>
        </p:nvPicPr>
        <p:blipFill>
          <a:blip r:embed="rId1"/>
          <a:stretch/>
        </p:blipFill>
        <p:spPr>
          <a:xfrm>
            <a:off x="4572000" y="191628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5006520" y="50133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новодная губка бод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ова основная особенность строения тела губ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жно ли утверждать, что губки – многоклеточные живот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аково значение губок для сообщества водных животных и рыбовод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к человек использует животных данного тип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араграф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спользуя несколько литературных источников, подготовьте сообщение о сборе губок, их исполь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В работе использованы изображения с сайтов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vet.apteka.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ru/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54:25Z</dcterms:created>
  <dc:creator>Ковшов А.В.</dc:creator>
  <dc:description/>
  <dc:language>en-US</dc:language>
  <cp:lastModifiedBy>Ковшов АВ</cp:lastModifiedBy>
  <dcterms:modified xsi:type="dcterms:W3CDTF">2010-09-08T15:39:42Z</dcterms:modified>
  <cp:revision>3</cp:revision>
  <dc:subject/>
  <dc:title>Слайд 1</dc:title>
</cp:coreProperties>
</file>