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9CD-DB2E-4C78-AC5B-427F4884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323-925C-49BB-8EE3-CDC2DE1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B36-B80B-4633-A068-47268405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F54-A5B6-4ABD-985C-9C117B2D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F5AE-07F3-4800-83AB-E53673E2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C9A1-5BD3-4FCA-8BBB-988E58F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E69C-37F8-49A3-B651-B5621766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59C-DA6E-4D3B-946A-BE42428C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DD98-D45B-4D11-A4FE-325EE82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604B-EE8A-46B1-AAE3-A6AA2F3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B18-3178-4F94-914F-747501D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C4A-7DCB-4E73-9803-93C50DC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1BB-C596-4ADC-A3F8-C386BB8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FD2D-BBDA-4524-B38B-F1D1BF8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E581-6298-4329-887E-D04F54BC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FAD-915E-47E9-A9B5-D328F987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07A-3875-4ADC-AC1C-E8005375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283-A4F0-4459-B75F-6A21366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34A-EAA7-4580-BB73-54909C25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AF7-F41E-4476-B99F-96DE617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C34-0A82-409B-8650-0A84B27B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194-B12F-44E1-B7E2-7716B3D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078-AD24-488B-8419-A4E88BC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79B-7AFE-44BB-B9CF-BE89C0AC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6291-B1FC-4A90-B674-9C7FA2A78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61E6-4888-436E-916E-2D0788B3D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et.apteka.uz/" TargetMode="External"/><Relationship Id="rId2" Type="http://schemas.openxmlformats.org/officeDocument/2006/relationships/hyperlink" Target="http://ru/wikipedia.or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Spongillid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2556000" y="2565360"/>
            <a:ext cx="39909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  Губки</a:t>
            </a:r>
            <a:endParaRPr b="0" lang="en-US" sz="7200" spc="1" strike="noStrike">
              <a:ln w="9360">
                <a:solidFill>
                  <a:srgbClr val="00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923280" y="4076640"/>
            <a:ext cx="48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Засосенская СОШ имен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ого Союза Н.Л.Яцен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шов Анатолий Владими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Подумайте и ответьте на вопросы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 чём различие и сходство губок с простейшими живот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аково значение губок в природе и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троение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Picture 5" descr="типы строения губок"/>
          <p:cNvPicPr/>
          <p:nvPr/>
        </p:nvPicPr>
        <p:blipFill>
          <a:blip r:embed="rId1"/>
          <a:stretch/>
        </p:blipFill>
        <p:spPr>
          <a:xfrm>
            <a:off x="179280" y="1341360"/>
            <a:ext cx="5619960" cy="2590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116000" y="4076640"/>
            <a:ext cx="27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типа строения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иглы губок"/>
          <p:cNvPicPr/>
          <p:nvPr/>
        </p:nvPicPr>
        <p:blipFill>
          <a:blip r:embed="rId2"/>
          <a:stretch/>
        </p:blipFill>
        <p:spPr>
          <a:xfrm>
            <a:off x="5940360" y="2349360"/>
            <a:ext cx="3024360" cy="2665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6228720" y="50846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елетные иглы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истематика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2" name="Picture 4" descr="обыкновенные губки 1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131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903240" y="407664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об"/>
          <p:cNvPicPr/>
          <p:nvPr/>
        </p:nvPicPr>
        <p:blipFill>
          <a:blip r:embed="rId2"/>
          <a:stretch/>
        </p:blipFill>
        <p:spPr>
          <a:xfrm>
            <a:off x="5435640" y="1700280"/>
            <a:ext cx="3240000" cy="2160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6374160" y="40053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стеклян"/>
          <p:cNvPicPr/>
          <p:nvPr/>
        </p:nvPicPr>
        <p:blipFill>
          <a:blip r:embed="rId3"/>
          <a:stretch/>
        </p:blipFill>
        <p:spPr>
          <a:xfrm>
            <a:off x="2411280" y="4508640"/>
            <a:ext cx="4321440" cy="1655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4069440" y="6237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кл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1979640" y="1268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608472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4500720" y="126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4572000" y="134136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Значение губок в природе и жизни человек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лужат пищей водным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Являются средой обитания для мелк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чищают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Испорльзуются в медицине, парфюмерии, для полировки деталей и как удоб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Spongillidae"/>
          <p:cNvPicPr/>
          <p:nvPr/>
        </p:nvPicPr>
        <p:blipFill>
          <a:blip r:embed="rId1"/>
          <a:stretch/>
        </p:blipFill>
        <p:spPr>
          <a:xfrm>
            <a:off x="4572000" y="191628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5006520" y="50133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новодная губка бод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ова основная особенность строения тела губ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жно ли утверждать, что губки – многоклеточные живот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аково значение губок для сообщества водных животных и рыбовод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к человек использует животных данного тип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араграф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спользуя несколько литературных источников, подготовьте сообщение о сборе губок, их исполь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В работе использованы изображения с сайтов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vet.apteka.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ru/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54:25Z</dcterms:created>
  <dc:creator>Ковшов А.В.</dc:creator>
  <dc:description/>
  <dc:language>en-US</dc:language>
  <cp:lastModifiedBy>Ковшов АВ</cp:lastModifiedBy>
  <dcterms:modified xsi:type="dcterms:W3CDTF">2010-09-08T15:39:42Z</dcterms:modified>
  <cp:revision>3</cp:revision>
  <dc:subject/>
  <dc:title>Слайд 1</dc:title>
</cp:coreProperties>
</file>