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1CD-1558-48DC-8920-710001CE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8C7-45C9-4B87-81A8-D6B2268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E0A-3CEE-448D-800D-E024EC18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9A4-4AA0-4215-A8AC-8E65D30C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E8F-D078-402A-80BD-B020818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4AC-1DBA-46DF-8337-C5F8242E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A31-DB42-4C4C-8CF2-6E01785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B55-2FF9-47CE-87E5-3668066B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A8B-67C9-4CD1-A40F-8DB43C36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B7C-EB86-40D7-8B7B-B2F488F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3A1-F974-4ED2-9E42-89809F9D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2B9-3A3B-41DE-B5CE-AD700F8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C2B-ADA1-4728-A671-5D3C89AE00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Рамка 5"/>
          <p:cNvSpPr/>
          <p:nvPr/>
        </p:nvSpPr>
        <p:spPr>
          <a:xfrm>
            <a:off x="3786120" y="0"/>
            <a:ext cx="2214720" cy="428760"/>
          </a:xfrm>
          <a:prstGeom prst="pi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Admin</cp:lastModifiedBy>
  <dcterms:modified xsi:type="dcterms:W3CDTF">2012-05-06T02:38:26Z</dcterms:modified>
  <cp:revision>21</cp:revision>
  <dc:subject/>
  <dc:title>Михаил Александрович Шолохов </dc:title>
</cp:coreProperties>
</file>