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A5E5-D6E3-450F-9487-5F415663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3569-C3D2-4FE8-AA05-48894043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E1AA-3899-4B4C-9A4E-D7E699C9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70C2-AAE7-46BB-90DD-75DAF92C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41F1-FC59-48D3-A885-27B65019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1A9B-FAA7-4FFA-A585-375BFAA8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998C-B2F2-4CC6-B182-E4266FEB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799C-DC2F-43C8-82C9-4C169338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14C8-EEE5-4BDB-8A92-520D15FC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A682-7BBD-45D3-892F-FBB76FF5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84B9-F955-457C-9DA8-60A5E97A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16C7-B8F9-4113-86A2-4D424534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03F9-262F-41CF-83B9-C526EB956BD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376092"/>
                </a:solidFill>
                <a:latin typeface="Calibri"/>
              </a:rPr>
              <a:t>Михаил Александрович Шолохов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28960" y="3857760"/>
            <a:ext cx="484344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53735"/>
                </a:solidFill>
                <a:latin typeface="Calibri"/>
              </a:rPr>
              <a:t>«Тихий Дон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643800" y="1571760"/>
            <a:ext cx="1714320" cy="2428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714240" y="2571840"/>
            <a:ext cx="2714760" cy="3571920"/>
          </a:xfrm>
          <a:prstGeom prst="rect">
            <a:avLst/>
          </a:prstGeom>
          <a:ln w="0">
            <a:noFill/>
          </a:ln>
        </p:spPr>
      </p:pic>
      <p:sp>
        <p:nvSpPr>
          <p:cNvPr id="45" name="Рамка 5"/>
          <p:cNvSpPr/>
          <p:nvPr/>
        </p:nvSpPr>
        <p:spPr>
          <a:xfrm>
            <a:off x="3786120" y="0"/>
            <a:ext cx="2214720" cy="428760"/>
          </a:xfrm>
          <a:prstGeom prst="pie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42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, но и сами делают жертвами других (Наталь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4714920" y="3571920"/>
            <a:ext cx="3971880" cy="3119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285840" y="142920"/>
            <a:ext cx="39290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ую роль играет противопоставление двух героинь романа – Натальи и Аксинь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4714920" y="3000240"/>
            <a:ext cx="3333600" cy="2714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214280" y="2857680"/>
            <a:ext cx="27147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28560" y="356760"/>
            <a:ext cx="635796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талья – воплощение идеи дома, семьи. Её цельность, чистота, верность, преданность описаны Шолоховым с любовью и сочувствием к своей героине. Чувство Натальи переносится на детей, на родню. У Аксиньи нет ни детей, ни родни: </a:t>
            </a:r>
            <a:r>
              <a:rPr b="0" i="1" lang="ru-RU" sz="2500" spc="-1" strike="noStrike">
                <a:solidFill>
                  <a:srgbClr val="984807"/>
                </a:solidFill>
                <a:latin typeface="Calibri"/>
              </a:rPr>
              <a:t>«У тебя хоть дети есть, а он у меня, - голос Аксиньи дрогнул и стал глуше и ниже, - один на всём белом свете! Первый и последний…».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Любовь Аксиньи в беспредельном самопожертвовании, в перенесении центра своей жизни в другого человека, это глубокое, страстное чувств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500040" y="642960"/>
            <a:ext cx="1714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Наталью, И Аксинью Григорий любит. Наталья поражала его «какой-то чистой внутренней красотой». Она вся в стихии дома, семьи, она самоотверженная и ласковая мать. Любовь к Аксинье сильнее самого Григория. Её «порочная», «вызывающая» красота неумолимо притягивает его. Любовь Григория к Аксинье часто описана грубыми красками: </a:t>
            </a:r>
            <a:r>
              <a:rPr b="0" i="1" lang="ru-RU" sz="2800" spc="-1" strike="noStrike">
                <a:solidFill>
                  <a:srgbClr val="984807"/>
                </a:solidFill>
                <a:latin typeface="Calibri"/>
              </a:rPr>
              <a:t>«Рывком кинул Григорий её на руки – так кидает волк к себе на хребтину зарезанную овцу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же эта любовь вызывает сочувствие? (У Достоевского Митя Карамазов говорит: «Красота есть не только страшная, но и таинственная вещь. Тут дьявол с Богом борется, а поле битвы – сердца людей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258040" cy="61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характере Аксиньи соединены земное и идеальное. К концу романа Аксинья уже не соперница, не любовница, чувствующая власть своей красоты. Она живёт молитвой за Григория, она ласкает осиротевших его дете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счастливая личная жизнь героев, гибель Аксиньи, когда Григорий, «мертвея от ужаса, понял, что всё кончено, что самое страшное, что только могло случиться в его жизни, - уже случилось», трагичны. Но жизнь продолжается. Последняя сцена: Григорий стоит «у ворот родного дома», держит на руках сына. Здесь, в отчем доме, на родной земле, все начала и все концы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4000320" cy="5572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0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русского языка и литературы МОУ СОШ №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Болотно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касова Лариса Александ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6143400" cy="494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Григорий</a:t>
            </a:r>
            <a:br>
              <a:rPr sz="6600"/>
            </a:b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и</a:t>
            </a:r>
            <a:br>
              <a:rPr sz="6600"/>
            </a:b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Аксинь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2682720" cy="424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6000840" y="3000240"/>
            <a:ext cx="29257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ихий Дон» - повествование о грандиозной Революции, о катаклизме, пережитом Россией. Но и повествование о драматической, трагической любви. Эта любовь трагична не только для Григория и Аксиньи, но и для их сем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143080" y="3357720"/>
            <a:ext cx="4762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к относятся жители хутора к любви Григория и Аксиньи?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х отношения – любовь или «беззаконная» страсть?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071880" y="2643120"/>
            <a:ext cx="2733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та любовь удивляет и пугает жителей хутора, которые стыдились смотреть в глаза Григорию и Аксинье. Вспомним «Анну Каренину» Толстого. </a:t>
            </a:r>
            <a:r>
              <a:rPr b="0" i="1" lang="ru-RU" sz="2500" spc="-1" strike="noStrike">
                <a:solidFill>
                  <a:srgbClr val="376092"/>
                </a:solidFill>
                <a:latin typeface="Calibri"/>
              </a:rPr>
              <a:t>«Если б Григорий ходил к жалмерке Аксинье, делая вид, что скрывается от людей, если б жалмерка Аксинья жила с Григорием, блюдя это в относительной тайне, и в то же время не отказывала бы другим, то в этом не было бы ничего необычного, хлещущего по глазам. Хутор поговорил бы и перестал. Но они жили, почти не таясь, вязало их что-то большое, непохожее на короткую связь, и поэтому в хуторе решили, что это – преступно, безнравственно, и хутор прижух в поганеньком выжиданьице: придёт Степан – узелок развяжет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5715000" cy="64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из ряда вон выходящее чувство (сравним с любовью Натальи, Дарьи, Дуняши, Листницкого). Причём отношения героев почти лишены романтики, в привычном понимании: </a:t>
            </a:r>
            <a:br>
              <a:rPr sz="2400"/>
            </a:br>
            <a:r>
              <a:rPr b="0" i="1" lang="ru-RU" sz="2400" spc="-1" strike="noStrike">
                <a:solidFill>
                  <a:srgbClr val="984807"/>
                </a:solidFill>
                <a:latin typeface="Calibri"/>
              </a:rPr>
              <a:t>«Не лазоревым алым цветом, а собачьей бесилой, дурнопьяном придорожным цветёт поздняя бабья любовь. С лугового покоса переродилась Аксинья. Будто кто отметину сделал на лице, тавро выжег. Бабы при встрече с неё ехидно  ощерялись, качали головами вслед, девки завидовали, а она гордо и высоко несла свою счастливую, но срамную голову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6143760" y="1857240"/>
            <a:ext cx="27144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ли революция фоном, на котором развивается любовь героев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ли любовь средством «очеловечить», сделать интереснее и ближе роман о революции и гражданской войн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143080" y="3429000"/>
            <a:ext cx="4786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. Кожинов считает, что Любовь есть воплощение революции. Любовь изменяет, преобразует и самих героев, и окружающую их жизнь. Рождение этой любви отмечено страшной грозой, потрясшей Дон. Однако буквальное отождествление Любви и революции недопустимо. Речь идёт о том, что переворот совершается и здесь, и там; начинается именно с истории любв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571840" y="3714840"/>
            <a:ext cx="40813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Являются ли Григорий и Аксинья жертвами своей любви-стра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2357280" y="2500200"/>
            <a:ext cx="4357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04:42:23Z</dcterms:created>
  <dc:creator>Катька</dc:creator>
  <dc:description/>
  <dc:language>en-US</dc:language>
  <cp:lastModifiedBy>Admin</cp:lastModifiedBy>
  <dcterms:modified xsi:type="dcterms:W3CDTF">2012-05-06T02:38:26Z</dcterms:modified>
  <cp:revision>21</cp:revision>
  <dc:subject/>
  <dc:title>Михаил Александрович Шолохов </dc:title>
</cp:coreProperties>
</file>