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A9C-6AA9-4A18-B8C1-0E6067C6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81F-379A-4EE1-9327-88D5C089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044-A0D0-4AAF-8FC6-483DDC70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258-B55B-414A-A8FD-A635FFC6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A4B-D8CC-4510-8482-916204D4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864-92B8-4E5E-BED6-79CE7D95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D39-2D25-48DA-ABB8-AB70E06A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FA8-63F4-4128-AEDD-20E423F2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CDA-2A37-4A43-BB3E-331F9948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17B-9ED1-4DDE-A6B8-482C969A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137-7009-43A1-B56D-889D3E7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B48-23E4-4D3E-8909-C787997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FF83-03BE-449F-8F7C-28766787533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Рамка 5"/>
          <p:cNvSpPr/>
          <p:nvPr/>
        </p:nvSpPr>
        <p:spPr>
          <a:xfrm>
            <a:off x="3786120" y="0"/>
            <a:ext cx="2214720" cy="42876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Admin</cp:lastModifiedBy>
  <dcterms:modified xsi:type="dcterms:W3CDTF">2012-05-06T02:38:26Z</dcterms:modified>
  <cp:revision>21</cp:revision>
  <dc:subject/>
  <dc:title>Михаил Александрович Шолохов </dc:title>
</cp:coreProperties>
</file>