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FF1-1EE8-4DF4-8673-A545EA63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1030-8D70-495B-814F-EE2B36E9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B544-4582-4349-989C-598BEE76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8E7-9431-4378-8219-EC461F57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94A-3094-4B6E-9C43-5BB054C9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03D5-79ED-4477-B40B-89B2AA71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E18-7C1B-4D57-89DF-DB6FFAC8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D6F-FB5A-4859-8430-D87C5B21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B69A-3E3B-474C-936A-733B8998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059-1269-43F2-8C17-69A14E05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64F-FF0A-4907-9DBC-3D1A9D91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624-BFFA-4B3A-A89A-CB6922A0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D34A-6846-4A8D-AEB4-404BC9CE03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и функции пищеварительной систем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20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5077080" cy="6021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508720" y="260280"/>
            <a:ext cx="3519360" cy="4176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435640" y="4508640"/>
            <a:ext cx="3529080" cy="1971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06000" y="65898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9647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549360"/>
            <a:ext cx="7705800" cy="1871640"/>
          </a:xfrm>
          <a:custGeom>
            <a:avLst/>
            <a:gdLst>
              <a:gd name="textAreaLeft" fmla="*/ 0 w 7705800"/>
              <a:gd name="textAreaRight" fmla="*/ 7706160 w 7705800"/>
              <a:gd name="textAreaTop" fmla="*/ 468000 h 1871640"/>
              <a:gd name="textAreaBottom" fmla="*/ 140400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ы пищеварительн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242100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1989000"/>
            <a:ext cx="144720" cy="576360"/>
          </a:xfrm>
          <a:prstGeom prst="downArrow">
            <a:avLst>
              <a:gd name="adj1" fmla="val 50000"/>
              <a:gd name="adj2" fmla="val 995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8360" y="198900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1989000"/>
            <a:ext cx="144720" cy="576360"/>
          </a:xfrm>
          <a:prstGeom prst="downArrow">
            <a:avLst>
              <a:gd name="adj1" fmla="val 50000"/>
              <a:gd name="adj2" fmla="val 995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227664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2000" y="227664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6000" y="1989000"/>
            <a:ext cx="144360" cy="503280"/>
          </a:xfrm>
          <a:prstGeom prst="downArrow">
            <a:avLst>
              <a:gd name="adj1" fmla="val 50000"/>
              <a:gd name="adj2" fmla="val 8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2637000"/>
            <a:ext cx="1081080" cy="1584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то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47640" y="2637000"/>
            <a:ext cx="1079640" cy="1584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о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2924280"/>
            <a:ext cx="1079280" cy="18730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ще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213000"/>
            <a:ext cx="1224000" cy="21592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лу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2924280"/>
            <a:ext cx="1152360" cy="18730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н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04000" y="2708280"/>
            <a:ext cx="1079640" cy="158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ст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8000" y="2708280"/>
            <a:ext cx="971640" cy="158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620640"/>
            <a:ext cx="8136000" cy="1152720"/>
          </a:xfrm>
          <a:prstGeom prst="downArrowCallout">
            <a:avLst>
              <a:gd name="adj1" fmla="val -158897"/>
              <a:gd name="adj2" fmla="val 176452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ищеварительные желе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1413000"/>
            <a:ext cx="358920" cy="1008000"/>
          </a:xfrm>
          <a:prstGeom prst="downArrow">
            <a:avLst>
              <a:gd name="adj1" fmla="val 50000"/>
              <a:gd name="adj2" fmla="val 702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12000" y="1413000"/>
            <a:ext cx="289080" cy="1008000"/>
          </a:xfrm>
          <a:prstGeom prst="downArrow">
            <a:avLst>
              <a:gd name="adj1" fmla="val 50000"/>
              <a:gd name="adj2" fmla="val 87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1773360"/>
            <a:ext cx="358560" cy="647640"/>
          </a:xfrm>
          <a:prstGeom prst="downArrow">
            <a:avLst>
              <a:gd name="adj1" fmla="val 50000"/>
              <a:gd name="adj2" fmla="val 45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421000"/>
            <a:ext cx="2232000" cy="252072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юнные жел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колоуш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подъязы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поднижнечелюс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64000" y="2492280"/>
            <a:ext cx="2232000" cy="288000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ч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59640" y="2492280"/>
            <a:ext cx="2233440" cy="244944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желудоч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ел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ение стенки пищеварительного ка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77708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ерменты - биологически активные белковые вещества, которые катализируют химические реа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ждый фермент расщепляет питательные вещества только определенной группы /белки, жиры, углеводы/ и не расщепляют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ерменты действуют только в определённой  химической среде щелочной или  кисл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иболее активно действуют ферменты пр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тела, а при 70-100 С разруш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3726000" cy="4464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27480" y="1073160"/>
            <a:ext cx="311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27480" y="114444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27480" y="404640"/>
            <a:ext cx="3405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ВЛОВ Иван Петрович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849-1936)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ссийский физиолог, создатель материалистического учения о высшей нервной деятельности, крупнейшей физиологической школы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помощью разработанного им метода условных рефлексов установил, что в основе психической деятельности лежат физиологические процессы, происходящие в коре головного мозг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дукты, содержащие питательные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артинка 4 из 270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исать в правый столбик   продукты питания,  а в левый– питательные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пуста, фасоль, масло, минеральные со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с, колбаса, молоко, угле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леб, сало, сливки, жир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ок, витамины, рыба, мя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итательные вещества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это жизненно необходимые составные части пищи, используемые организмом как пластический материал для построения живого вещества клеток и служащие источником энергии, необходимой для его жизне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ищевые продукты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это продукты животного и растительного происхождения, используемые как в обработанном, так и в необработанном виде при питании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ищеварение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- сложный физиологический процесс, в ходе которого пища, поступающая в организм, подвергается химическим и физическим изменениям и всасывается в кровь или лимф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ищеварительная система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- это совокупность органов пищеварения и связанных с ними пищеварительных желе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ilecab3"/>
          <p:cNvSpPr/>
          <p:nvPr/>
        </p:nvSpPr>
        <p:spPr>
          <a:xfrm>
            <a:off x="1332000" y="333360"/>
            <a:ext cx="6912000" cy="9050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УНКЦИИ ПИЩЕВАРИТЕЛЬ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8000" y="12682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48360" y="1341360"/>
            <a:ext cx="215640" cy="358920"/>
          </a:xfrm>
          <a:prstGeom prst="down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24720" y="12682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irewall"/>
          <p:cNvSpPr/>
          <p:nvPr/>
        </p:nvSpPr>
        <p:spPr>
          <a:xfrm>
            <a:off x="900000" y="1628640"/>
            <a:ext cx="1809720" cy="9050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irewall"/>
          <p:cNvSpPr/>
          <p:nvPr/>
        </p:nvSpPr>
        <p:spPr>
          <a:xfrm>
            <a:off x="4067280" y="1700280"/>
            <a:ext cx="2170080" cy="90468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irewall"/>
          <p:cNvSpPr/>
          <p:nvPr/>
        </p:nvSpPr>
        <p:spPr>
          <a:xfrm>
            <a:off x="6659640" y="1700280"/>
            <a:ext cx="1809720" cy="90468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98360" y="17208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то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21640" y="1792440"/>
            <a:ext cx="17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крето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химическа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5840" y="1720800"/>
            <a:ext cx="14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то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механическа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2565360"/>
            <a:ext cx="71280" cy="287280"/>
          </a:xfrm>
          <a:prstGeom prst="downArrow">
            <a:avLst>
              <a:gd name="adj1" fmla="val 50000"/>
              <a:gd name="adj2" fmla="val 100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63640" y="2565360"/>
            <a:ext cx="71640" cy="216000"/>
          </a:xfrm>
          <a:prstGeom prst="downArrow">
            <a:avLst>
              <a:gd name="adj1" fmla="val 50000"/>
              <a:gd name="adj2" fmla="val 75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852640"/>
            <a:ext cx="900360" cy="2016360"/>
          </a:xfrm>
          <a:custGeom>
            <a:avLst/>
            <a:gdLst>
              <a:gd name="textAreaLeft" fmla="*/ 43920 w 900360"/>
              <a:gd name="textAreaRight" fmla="*/ 856440 w 900360"/>
              <a:gd name="textAreaTop" fmla="*/ 43920 h 2016360"/>
              <a:gd name="textAreaBottom" fmla="*/ 1972440 h 2016360"/>
            </a:gdLst>
            <a:ahLst/>
            <a:rect l="textAreaLeft" t="textAreaTop" r="textAreaRight" b="textAreaBottom"/>
            <a:pathLst>
              <a:path w="21600" h="48363">
                <a:moveTo>
                  <a:pt x="3600" y="0"/>
                </a:moveTo>
                <a:arcTo wR="3600" hR="3600" stAng="16200000" swAng="-5400000"/>
                <a:lnTo>
                  <a:pt x="0" y="44763"/>
                </a:lnTo>
                <a:arcTo wR="3600" hR="3600" stAng="10800000" swAng="-5400000"/>
                <a:lnTo>
                  <a:pt x="18000" y="48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2852640"/>
            <a:ext cx="1224000" cy="201636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2016360"/>
              <a:gd name="textAreaBottom" fmla="*/ 1956600 h 2016360"/>
            </a:gdLst>
            <a:ahLst/>
            <a:rect l="textAreaLeft" t="textAreaTop" r="textAreaRight" b="textAreaBottom"/>
            <a:pathLst>
              <a:path w="21600" h="35579">
                <a:moveTo>
                  <a:pt x="3600" y="0"/>
                </a:moveTo>
                <a:arcTo wR="3600" hR="3600" stAng="16200000" swAng="-5400000"/>
                <a:lnTo>
                  <a:pt x="0" y="31979"/>
                </a:lnTo>
                <a:arcTo wR="3600" hR="3600" stAng="10800000" swAng="-5400000"/>
                <a:lnTo>
                  <a:pt x="18000" y="355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56000" y="2852640"/>
            <a:ext cx="1079280" cy="201636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40348">
                <a:moveTo>
                  <a:pt x="3600" y="0"/>
                </a:moveTo>
                <a:arcTo wR="3600" hR="3600" stAng="16200000" swAng="-5400000"/>
                <a:lnTo>
                  <a:pt x="0" y="36748"/>
                </a:lnTo>
                <a:arcTo wR="3600" hR="3600" stAng="10800000" swAng="-5400000"/>
                <a:lnTo>
                  <a:pt x="18000" y="403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2637000"/>
            <a:ext cx="71280" cy="287280"/>
          </a:xfrm>
          <a:prstGeom prst="downArrow">
            <a:avLst>
              <a:gd name="adj1" fmla="val 50000"/>
              <a:gd name="adj2" fmla="val 100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24720" y="2637000"/>
            <a:ext cx="71640" cy="287280"/>
          </a:xfrm>
          <a:prstGeom prst="downArrow">
            <a:avLst>
              <a:gd name="adj1" fmla="val 50000"/>
              <a:gd name="adj2" fmla="val 100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2565360"/>
            <a:ext cx="71280" cy="287280"/>
          </a:xfrm>
          <a:prstGeom prst="downArrow">
            <a:avLst>
              <a:gd name="adj1" fmla="val 50000"/>
              <a:gd name="adj2" fmla="val 100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3016080"/>
            <a:ext cx="107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хани-ческое измельче-ние пи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58920" y="2851200"/>
            <a:ext cx="1081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ви-жение пищи вдоль пищевари-тельного тра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14760" y="3130560"/>
            <a:ext cx="18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56000" y="292428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27280" y="2995560"/>
            <a:ext cx="93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деле-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абот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ук-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2924280"/>
            <a:ext cx="1873080" cy="2017440"/>
          </a:xfrm>
          <a:custGeom>
            <a:avLst/>
            <a:gdLst>
              <a:gd name="textAreaLeft" fmla="*/ 91440 w 1873080"/>
              <a:gd name="textAreaRight" fmla="*/ 1781640 w 1873080"/>
              <a:gd name="textAreaTop" fmla="*/ 91440 h 2017440"/>
              <a:gd name="textAreaBottom" fmla="*/ 1926000 h 2017440"/>
            </a:gdLst>
            <a:ahLst/>
            <a:rect l="textAreaLeft" t="textAreaTop" r="textAreaRight" b="textAreaBottom"/>
            <a:pathLst>
              <a:path w="21600" h="23264">
                <a:moveTo>
                  <a:pt x="3600" y="0"/>
                </a:moveTo>
                <a:arcTo wR="3600" hR="3600" stAng="16200000" swAng="-5400000"/>
                <a:lnTo>
                  <a:pt x="0" y="19664"/>
                </a:lnTo>
                <a:arcTo wR="3600" hR="3600" stAng="10800000" swAng="-5400000"/>
                <a:lnTo>
                  <a:pt x="18000" y="23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7640" y="3139920"/>
            <a:ext cx="1800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работ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ермент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ищеваритель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ков (желудочного, кишечного), слюны и жел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88000" y="2997360"/>
            <a:ext cx="2016360" cy="194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3282840"/>
            <a:ext cx="194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асывание белк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жиров, углеводов, витаминов, минеральных веществ и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46716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оение органов пищеварения</a:t>
            </a:r>
            <a:br>
              <a:rPr sz="2400"/>
            </a:b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стема органов пищеварения состоит из пищеварительного тракта и пищеварительных желез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ищеварительный тракт человека имеет форму трубки длиной 8-10 м и подразделяется на следующие отделы: ротовая полость, глотка, пищевод, желудок и кишечник в котором выделят тонкую т толстую кишки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щеварительные железы: печень, поджелудочная железа, слюнные желе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95640" y="260280"/>
            <a:ext cx="482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7:29:24Z</dcterms:created>
  <dc:creator>*</dc:creator>
  <dc:description/>
  <dc:language>en-US</dc:language>
  <cp:lastModifiedBy>Ярослав</cp:lastModifiedBy>
  <dcterms:modified xsi:type="dcterms:W3CDTF">2008-01-27T14:20:48Z</dcterms:modified>
  <cp:revision>14</cp:revision>
  <dc:subject/>
  <dc:title>Слайд 1</dc:title>
</cp:coreProperties>
</file>