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143-BDD0-44DB-8F15-4D368E58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B7E-9134-43C8-AAD0-7BE79F43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AB1-E634-457A-B53A-DB850A7E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B5B-522E-456D-84CB-5136E016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B9A-F8DA-44E1-B363-7C4466E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1FE-B423-451A-B93C-68A6860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20A-986D-471A-B21B-E3EE343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EBD-85FE-468A-8D3A-A4A4691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9B1-32DB-42A5-9D98-89A16E3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7E4-42D6-4482-A9CF-15810A6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157-1736-414F-B52D-E0BA991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FEC-E998-4C1A-8AB6-F2BF9BF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7E7-AA74-4BFC-BB7B-23BB32A2E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функции пищеварительной систе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6021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51936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529080" cy="197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06000" y="65898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549360"/>
            <a:ext cx="7705800" cy="1871640"/>
          </a:xfrm>
          <a:custGeom>
            <a:avLst/>
            <a:gdLst>
              <a:gd name="textAreaLeft" fmla="*/ 0 w 7705800"/>
              <a:gd name="textAreaRight" fmla="*/ 7706160 w 7705800"/>
              <a:gd name="textAreaTop" fmla="*/ 468000 h 1871640"/>
              <a:gd name="textAreaBottom" fmla="*/ 1404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ы пищеваритель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421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1989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989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2276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198900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37000"/>
            <a:ext cx="108108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637000"/>
            <a:ext cx="1079640" cy="1584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924280"/>
            <a:ext cx="107928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213000"/>
            <a:ext cx="1224000" cy="21592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2924280"/>
            <a:ext cx="1152360" cy="187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2708280"/>
            <a:ext cx="1079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с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8000" y="2708280"/>
            <a:ext cx="97164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20640"/>
            <a:ext cx="8136000" cy="1152720"/>
          </a:xfrm>
          <a:prstGeom prst="downArrowCallout">
            <a:avLst>
              <a:gd name="adj1" fmla="val -158897"/>
              <a:gd name="adj2" fmla="val 176452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щеварительные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13000"/>
            <a:ext cx="358920" cy="1008000"/>
          </a:xfrm>
          <a:prstGeom prst="downArrow">
            <a:avLst>
              <a:gd name="adj1" fmla="val 50000"/>
              <a:gd name="adj2" fmla="val 702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2000" y="1413000"/>
            <a:ext cx="289080" cy="1008000"/>
          </a:xfrm>
          <a:prstGeom prst="downArrow">
            <a:avLst>
              <a:gd name="adj1" fmla="val 50000"/>
              <a:gd name="adj2" fmla="val 87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77336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421000"/>
            <a:ext cx="2232000" cy="25207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юнные жел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олоу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ъязы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однижнечелю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492280"/>
            <a:ext cx="2232000" cy="288000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492280"/>
            <a:ext cx="2233440" cy="24494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желудо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стенки пищеварительного 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- биологически активные белковые вещества, которые катализируют химически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фермент расщепляет питательные вещества только определенной группы /белки, жиры, углеводы/ и не расщепляют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действуют только в определённой  химической среде щелочной или  ки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иболее активно действуют ферменты пр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ела, а при 70-100 С разру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72600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7480" y="107316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27480" y="11444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7480" y="404640"/>
            <a:ext cx="340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ВЛОВ Иван Петрович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49-1936)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ий физиолог, создатель материалистического учения о высшей нервной деятельности, крупнейшей физиологической школы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омощью разработанного им метода условных рефлексов установил, что в основе психической деятельности лежат физиологические процессы, происходящие в коре головного моз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ы, содержащие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4 из 270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в правый столбик   продукты питания,  а в левый– питательн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пуста, фасоль, масло, минеральные со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, колбаса, молоко, угле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еб, сало, сливки, жир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ок, витамины, рыба, 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тательные вещества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жизненно необходимые составные части пищи, используемые организмом как пластический материал для построения живого вещества клеток и служащие источником энергии, необходимой для его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щевые продукты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то продукты животного и растительного происхождения, используемые как в обработанном, так и в необработанном виде при питани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ищеварени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 сложный физиологический процесс, в ходе которого пища, поступающая в организм, подвергается химическим и физическим изменениям и всасывается в кровь или лим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ищеварительная система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- это совокупность органов пищеварения и связанных с ними пищеварительных желе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lecab3"/>
          <p:cNvSpPr/>
          <p:nvPr/>
        </p:nvSpPr>
        <p:spPr>
          <a:xfrm>
            <a:off x="1332000" y="333360"/>
            <a:ext cx="691200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И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134136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1268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irewall"/>
          <p:cNvSpPr/>
          <p:nvPr/>
        </p:nvSpPr>
        <p:spPr>
          <a:xfrm>
            <a:off x="900000" y="1628640"/>
            <a:ext cx="1809720" cy="9050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rewall"/>
          <p:cNvSpPr/>
          <p:nvPr/>
        </p:nvSpPr>
        <p:spPr>
          <a:xfrm>
            <a:off x="4067280" y="1700280"/>
            <a:ext cx="217008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irewall"/>
          <p:cNvSpPr/>
          <p:nvPr/>
        </p:nvSpPr>
        <p:spPr>
          <a:xfrm>
            <a:off x="6659640" y="1700280"/>
            <a:ext cx="1809720" cy="9046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17208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21640" y="179244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кре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и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5840" y="172080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механ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2565360"/>
            <a:ext cx="71640" cy="216000"/>
          </a:xfrm>
          <a:prstGeom prst="downArrow">
            <a:avLst>
              <a:gd name="adj1" fmla="val 50000"/>
              <a:gd name="adj2" fmla="val 75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852640"/>
            <a:ext cx="900360" cy="2016360"/>
          </a:xfrm>
          <a:custGeom>
            <a:avLst/>
            <a:gdLst>
              <a:gd name="textAreaLeft" fmla="*/ 43920 w 900360"/>
              <a:gd name="textAreaRight" fmla="*/ 856440 w 900360"/>
              <a:gd name="textAreaTop" fmla="*/ 43920 h 2016360"/>
              <a:gd name="textAreaBottom" fmla="*/ 1972440 h 2016360"/>
            </a:gdLst>
            <a:ahLst/>
            <a:rect l="textAreaLeft" t="textAreaTop" r="textAreaRight" b="textAreaBottom"/>
            <a:pathLst>
              <a:path w="21600" h="48363">
                <a:moveTo>
                  <a:pt x="3600" y="0"/>
                </a:moveTo>
                <a:arcTo wR="3600" hR="3600" stAng="16200000" swAng="-5400000"/>
                <a:lnTo>
                  <a:pt x="0" y="44763"/>
                </a:lnTo>
                <a:arcTo wR="3600" hR="3600" stAng="10800000" swAng="-5400000"/>
                <a:lnTo>
                  <a:pt x="18000" y="48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2852640"/>
            <a:ext cx="1224000" cy="201636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016360"/>
              <a:gd name="textAreaBottom" fmla="*/ 1956600 h 2016360"/>
            </a:gdLst>
            <a:ahLst/>
            <a:rect l="textAreaLeft" t="textAreaTop" r="textAreaRight" b="textAreaBottom"/>
            <a:pathLst>
              <a:path w="21600" h="35579">
                <a:moveTo>
                  <a:pt x="3600" y="0"/>
                </a:moveTo>
                <a:arcTo wR="3600" hR="3600" stAng="16200000" swAng="-5400000"/>
                <a:lnTo>
                  <a:pt x="0" y="31979"/>
                </a:lnTo>
                <a:arcTo wR="3600" hR="3600" stAng="10800000" swAng="-5400000"/>
                <a:lnTo>
                  <a:pt x="18000" y="35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852640"/>
            <a:ext cx="1079280" cy="201636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40348">
                <a:moveTo>
                  <a:pt x="3600" y="0"/>
                </a:moveTo>
                <a:arcTo wR="3600" hR="3600" stAng="16200000" swAng="-5400000"/>
                <a:lnTo>
                  <a:pt x="0" y="36748"/>
                </a:lnTo>
                <a:arcTo wR="3600" hR="3600" stAng="10800000" swAng="-5400000"/>
                <a:lnTo>
                  <a:pt x="18000" y="403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63700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2637000"/>
            <a:ext cx="71640" cy="287280"/>
          </a:xfrm>
          <a:prstGeom prst="downArrow">
            <a:avLst>
              <a:gd name="adj1" fmla="val 50000"/>
              <a:gd name="adj2" fmla="val 10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2565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016080"/>
            <a:ext cx="10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хани-ческое измельче-ние пи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2851200"/>
            <a:ext cx="10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ви-жение пищи вдоль пищевари-тельного 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760" y="3130560"/>
            <a:ext cx="18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924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995560"/>
            <a:ext cx="93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е-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бот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ук-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924280"/>
            <a:ext cx="1873080" cy="201744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017440"/>
              <a:gd name="textAreaBottom" fmla="*/ 1926000 h 201744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3139920"/>
            <a:ext cx="180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ермент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щевари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ков (желудочного, кишечного), слюны и жел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997360"/>
            <a:ext cx="2016360" cy="194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328284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асывание бел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ров, углеводов, витаминов, минеральных веществ 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ение органов пищеварения</a:t>
            </a:r>
            <a:br>
              <a:rPr sz="2400"/>
            </a:b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органов пищеварения состоит из пищеварительного тракта и пищеварительных желез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ищеварительный тракт человека имеет форму трубки длиной 8-10 м и подразделяется на следующие отделы: ротовая полость, глотка, пищевод, желудок и кишечник в котором выделят тонкую т толстую кишк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щеварительные железы: печень, поджелудочная железа, слюнные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29:24Z</dcterms:created>
  <dc:creator>*</dc:creator>
  <dc:description/>
  <dc:language>en-US</dc:language>
  <cp:lastModifiedBy>Ярослав</cp:lastModifiedBy>
  <dcterms:modified xsi:type="dcterms:W3CDTF">2008-01-27T14:20:48Z</dcterms:modified>
  <cp:revision>14</cp:revision>
  <dc:subject/>
  <dc:title>Слайд 1</dc:title>
</cp:coreProperties>
</file>