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15.jpeg" ContentType="image/jpeg"/>
  <Override PartName="/ppt/media/image24.wmf" ContentType="image/x-wmf"/>
  <Override PartName="/ppt/media/image22.jpeg" ContentType="image/jpeg"/>
  <Override PartName="/ppt/media/image9.png" ContentType="image/png"/>
  <Override PartName="/ppt/media/image21.jpeg" ContentType="image/jpeg"/>
  <Override PartName="/ppt/media/image19.wmf" ContentType="image/x-wmf"/>
  <Override PartName="/ppt/media/image18.wmf" ContentType="image/x-wmf"/>
  <Override PartName="/ppt/media/image20.png" ContentType="image/png"/>
  <Override PartName="/ppt/media/image36.jpeg" ContentType="image/jpeg"/>
  <Override PartName="/ppt/media/image10.jpeg" ContentType="image/jpeg"/>
  <Override PartName="/ppt/media/image35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4.wmf" ContentType="image/x-wmf"/>
  <Override PartName="/ppt/media/image30.jpeg" ContentType="image/jpeg"/>
  <Override PartName="/ppt/media/image17.wmf" ContentType="image/x-wmf"/>
  <Override PartName="/ppt/media/image31.jpeg" ContentType="image/jpeg"/>
  <Override PartName="/ppt/media/image2.png" ContentType="image/png"/>
  <Override PartName="/ppt/media/image32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9.jpeg" ContentType="image/jpeg"/>
  <Override PartName="/ppt/media/image33.wmf" ContentType="image/x-wmf"/>
  <Override PartName="/ppt/media/image37.jpeg" ContentType="image/jpeg"/>
  <Override PartName="/ppt/media/image12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6.jpeg" ContentType="image/jpeg"/>
  <Override PartName="/ppt/media/image27.jpeg" ContentType="image/jpeg"/>
  <Override PartName="/ppt/media/image3.png" ContentType="image/png"/>
  <Override PartName="/ppt/media/image1.png" ContentType="image/png"/>
  <Override PartName="/ppt/media/image14.jpeg" ContentType="image/jpeg"/>
  <Override PartName="/ppt/media/image26.wmf" ContentType="image/x-wmf"/>
  <Override PartName="/ppt/media/image5.wmf" ContentType="image/x-wm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611-F286-4AA8-8ED1-03BDEEB7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45F-0BC4-4ACE-86DE-8E2EB09E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4BB-8221-4EC3-84A4-C4695E59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D60-4889-4A22-BE1C-F37755CD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74D6-BD2F-490D-839B-7CB80BD6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F7C9-99F5-41EA-B472-D89B904C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1B69-97C1-4B1A-9E4D-F18A5265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05B1-B615-46D6-9885-433568A6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1C21-AC0C-4AD1-B913-F0016C1A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8289-70C0-4F9D-81A3-2F2F9E1F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9D0E-C170-4C0D-B1C3-A080A45B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A5D-3F92-4D2D-916F-D26BE72E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8154-426F-4697-A29A-912D2B22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B0FE-E67A-4F16-894D-868D4F1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407D-EF6A-436F-9EA0-0862B087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22FA-6B9C-4477-9C54-D84BB6D0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9485-058B-4DBB-A8D8-F8D429A2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618-A6BA-4953-A3F7-72FBC7E4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40A-5D27-4144-B665-7EFFD7B6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001-1397-41A1-AE65-85817E40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03D-F054-4894-BD34-FC92F441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2D0-3602-489F-9264-34CCEDD0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ED0-5120-4915-AC76-830C934E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06D-7E00-4DCD-8A6E-6CB19125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CE6D-F408-4036-86D5-200C768B48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388C-80A1-449E-B6DF-CCC88DBCB1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2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60;&#1088;&#1072;&#1085;&#1094;&#1080;&#1103;" TargetMode="External"/><Relationship Id="rId3" Type="http://schemas.openxmlformats.org/officeDocument/2006/relationships/hyperlink" Target="http://ru.wikipedia.org/wiki/&#1052;&#1086;&#1088;&#1077;&#1072;&#1089;,_&#1046;&#1072;&#1085;" TargetMode="External"/><Relationship Id="rId4" Type="http://schemas.openxmlformats.org/officeDocument/2006/relationships/hyperlink" Target="http://ru.wikipedia.org/wiki/18_&#1089;&#1077;&#1085;&#1090;&#1103;&#1073;&#1088;&#1103;" TargetMode="External"/><Relationship Id="rId5" Type="http://schemas.openxmlformats.org/officeDocument/2006/relationships/hyperlink" Target="http://ru.wikipedia.org/wiki/1886_&#1075;&#1086;&#1076;" TargetMode="External"/><Relationship Id="rId6" Type="http://schemas.openxmlformats.org/officeDocument/2006/relationships/hyperlink" Target="http://ru.wikipedia.org/wiki/Le_Figaro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72;&#1076;&#1077;&#1085;&#1090;&#1089;&#1090;&#1074;&#1086;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ff00"/>
                </a:solidFill>
                <a:latin typeface="Georgia"/>
              </a:rPr>
              <a:t>Русский символизм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806436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имволизм в изобразительном искус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0_41f39_10ac3871_XL"/>
          <p:cNvPicPr/>
          <p:nvPr/>
        </p:nvPicPr>
        <p:blipFill>
          <a:blip r:embed="rId1"/>
          <a:stretch/>
        </p:blipFill>
        <p:spPr>
          <a:xfrm>
            <a:off x="0" y="1484280"/>
            <a:ext cx="3460680" cy="53737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"/>
          <p:cNvSpPr/>
          <p:nvPr/>
        </p:nvSpPr>
        <p:spPr>
          <a:xfrm>
            <a:off x="3635280" y="1273320"/>
            <a:ext cx="5508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ffffff"/>
                </a:solidFill>
                <a:latin typeface="Georgia"/>
              </a:rPr>
              <a:t>Основоположником символизма в русской живописи является </a:t>
            </a:r>
            <a:r>
              <a:rPr b="1" lang="ru-RU" sz="1900" spc="-1" strike="noStrike">
                <a:solidFill>
                  <a:srgbClr val="ffffff"/>
                </a:solidFill>
                <a:latin typeface="Georgia"/>
              </a:rPr>
              <a:t>М. Врубель</a:t>
            </a:r>
            <a:r>
              <a:rPr b="0" lang="ru-RU" sz="1900" spc="-1" strike="noStrike">
                <a:solidFill>
                  <a:srgbClr val="ffffff"/>
                </a:solidFill>
                <a:latin typeface="Georgia"/>
              </a:rPr>
              <a:t>. Напряженная, яркая, какая-то почти мозаичная живопись Врубеля монументальна, эпична, исполнена острым трагическим противоречием между реальностью и фантазией художника. Символизм его «Жемчужины» — целая вселенная, которая мерцает таинственными перламутровыми пастельными тонами, отражаясь в маленьком зернышке жемчуга. Пронзительный взгляд врубелевского «Демона» гипнотизирует, оставляет чувство некого внутреннего дискомфорта, почти страха, но вместе с тем от него невозможно оторвать глаз. Это одна из многих загадок художника, стремившегося постичь мир не только эстетически, но и нравственно-философск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32000" y="277560"/>
            <a:ext cx="6897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М. Вруб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85224790_20"/>
          <p:cNvPicPr/>
          <p:nvPr/>
        </p:nvPicPr>
        <p:blipFill>
          <a:blip r:embed="rId1"/>
          <a:stretch/>
        </p:blipFill>
        <p:spPr>
          <a:xfrm>
            <a:off x="179280" y="907920"/>
            <a:ext cx="4969080" cy="2816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71451153"/>
          <p:cNvPicPr/>
          <p:nvPr/>
        </p:nvPicPr>
        <p:blipFill>
          <a:blip r:embed="rId2"/>
          <a:stretch/>
        </p:blipFill>
        <p:spPr>
          <a:xfrm>
            <a:off x="2303640" y="3789360"/>
            <a:ext cx="6840360" cy="3068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435640" y="1197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«Демо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0" y="4221000"/>
            <a:ext cx="24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«Дем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верженны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2967120" y="0"/>
            <a:ext cx="345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М. Вруб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771806"/>
          <p:cNvPicPr/>
          <p:nvPr/>
        </p:nvPicPr>
        <p:blipFill>
          <a:blip r:embed="rId1"/>
          <a:stretch/>
        </p:blipFill>
        <p:spPr>
          <a:xfrm>
            <a:off x="250920" y="1052640"/>
            <a:ext cx="4762440" cy="3962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1075_or"/>
          <p:cNvPicPr/>
          <p:nvPr/>
        </p:nvPicPr>
        <p:blipFill>
          <a:blip r:embed="rId2"/>
          <a:stretch/>
        </p:blipFill>
        <p:spPr>
          <a:xfrm>
            <a:off x="5508720" y="692280"/>
            <a:ext cx="3376440" cy="54864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9"/>
          <p:cNvSpPr/>
          <p:nvPr/>
        </p:nvSpPr>
        <p:spPr>
          <a:xfrm>
            <a:off x="468360" y="537372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Демон и жемчужи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5651640" y="623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«Царевна-Лебед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6121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man Old Style"/>
              </a:rPr>
              <a:t>Предпосыл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250920" y="1773360"/>
            <a:ext cx="3311280" cy="1439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364000" y="1844640"/>
            <a:ext cx="3311640" cy="1440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2627280" y="4221000"/>
            <a:ext cx="3816360" cy="1944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187280" y="184464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900000" y="1989000"/>
            <a:ext cx="22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Философия Ницше, В.Соловьё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6012000" y="206064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Модернизм в европейском искусст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2916360" y="450864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рождение старых художественных систем (античность, средневековь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6" descr="Рисунок2"/>
          <p:cNvPicPr/>
          <p:nvPr/>
        </p:nvPicPr>
        <p:blipFill>
          <a:blip r:embed="rId1"/>
          <a:stretch/>
        </p:blipFill>
        <p:spPr>
          <a:xfrm>
            <a:off x="1763640" y="907920"/>
            <a:ext cx="285840" cy="99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7" descr="Рисунок2"/>
          <p:cNvPicPr/>
          <p:nvPr/>
        </p:nvPicPr>
        <p:blipFill>
          <a:blip r:embed="rId2"/>
          <a:stretch/>
        </p:blipFill>
        <p:spPr>
          <a:xfrm>
            <a:off x="6877080" y="981000"/>
            <a:ext cx="285840" cy="990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" descr="Рисунок2"/>
          <p:cNvPicPr/>
          <p:nvPr/>
        </p:nvPicPr>
        <p:blipFill>
          <a:blip r:embed="rId3"/>
          <a:stretch/>
        </p:blipFill>
        <p:spPr>
          <a:xfrm>
            <a:off x="4211640" y="1268280"/>
            <a:ext cx="431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eorgia"/>
              </a:rPr>
              <a:t>Теоретическое самоопределени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892 год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– лекция Д. Мережковского «О причинах упадка и новых течениях современной русской литератур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894 год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– три сборника «Русские символисты», ведущим автором которых был В. Брю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18326900"/>
          <p:cNvPicPr/>
          <p:nvPr/>
        </p:nvPicPr>
        <p:blipFill>
          <a:blip r:embed="rId3"/>
          <a:stretch/>
        </p:blipFill>
        <p:spPr>
          <a:xfrm>
            <a:off x="4932360" y="2924280"/>
            <a:ext cx="3076560" cy="3933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original_resized280"/>
          <p:cNvPicPr/>
          <p:nvPr/>
        </p:nvPicPr>
        <p:blipFill>
          <a:blip r:embed="rId4"/>
          <a:stretch/>
        </p:blipFill>
        <p:spPr>
          <a:xfrm>
            <a:off x="1187280" y="2924280"/>
            <a:ext cx="30528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897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Основное свой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4"/>
          <p:cNvSpPr/>
          <p:nvPr/>
        </p:nvSpPr>
        <p:spPr>
          <a:xfrm>
            <a:off x="1187280" y="1628640"/>
            <a:ext cx="6913800" cy="165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2340000" y="1700280"/>
            <a:ext cx="46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своение «вещей в себе» и идей, находящихся за пределами чувственного воспри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1619280" y="3213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В основе эсте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1187280" y="4797360"/>
            <a:ext cx="6913800" cy="1800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340000" y="515772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1476360" y="494172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имвол (он должен заменить конкретный образ). Считалось, что символ связывает земное с миром иным, духов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1" descr="Рисунок2"/>
          <p:cNvPicPr/>
          <p:nvPr/>
        </p:nvPicPr>
        <p:blipFill>
          <a:blip r:embed="rId1"/>
          <a:stretch/>
        </p:blipFill>
        <p:spPr>
          <a:xfrm>
            <a:off x="4572000" y="692280"/>
            <a:ext cx="285840" cy="99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Рисунок2"/>
          <p:cNvPicPr/>
          <p:nvPr/>
        </p:nvPicPr>
        <p:blipFill>
          <a:blip r:embed="rId2"/>
          <a:stretch/>
        </p:blipFill>
        <p:spPr>
          <a:xfrm>
            <a:off x="4572000" y="3860640"/>
            <a:ext cx="285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Особенности русского символизм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повышенное внимание к проблеме личности и истории, ко внутреннему миру личност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героико-трагическое переживание социальных и духовных конфликтов рубежа веков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сочетание противоречивых тенденций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многочисленные открытия в поэтике (обновление жанров лирики, новые принципы циклизации, смысловая полифония…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идея самоценности искусства, ухода от социальных задач; искусство – чисто художественное явле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таршее поколение символистов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80 – 90-е гг.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XIX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95280" y="2133720"/>
            <a:ext cx="3672000" cy="23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611280" y="2276640"/>
            <a:ext cx="3240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етербургское крыл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Д. Мережков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З. Гиппи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Н. Ми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4788000" y="2133720"/>
            <a:ext cx="3671640" cy="23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5076720" y="2421000"/>
            <a:ext cx="3167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Московское крыл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. Бальмо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. Брю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. Сологу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539640" y="5229360"/>
            <a:ext cx="345600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Символизм как философско-эстетическое те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4788000" y="537372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Символизм как чисто литературное я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12" descr="Рисунок2"/>
          <p:cNvPicPr/>
          <p:nvPr/>
        </p:nvPicPr>
        <p:blipFill>
          <a:blip r:embed="rId1"/>
          <a:stretch/>
        </p:blipFill>
        <p:spPr>
          <a:xfrm>
            <a:off x="2050920" y="4508640"/>
            <a:ext cx="217440" cy="91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Рисунок2"/>
          <p:cNvPicPr/>
          <p:nvPr/>
        </p:nvPicPr>
        <p:blipFill>
          <a:blip r:embed="rId2"/>
          <a:stretch/>
        </p:blipFill>
        <p:spPr>
          <a:xfrm>
            <a:off x="6516720" y="4508640"/>
            <a:ext cx="21744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620640"/>
            <a:ext cx="79786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таршее поколение символистов.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Петербургское крыл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12124537955969"/>
          <p:cNvPicPr/>
          <p:nvPr/>
        </p:nvPicPr>
        <p:blipFill>
          <a:blip r:embed="rId1"/>
          <a:stretch/>
        </p:blipFill>
        <p:spPr>
          <a:xfrm>
            <a:off x="468360" y="2060640"/>
            <a:ext cx="2835360" cy="3484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53454348_1262874535_1"/>
          <p:cNvPicPr/>
          <p:nvPr/>
        </p:nvPicPr>
        <p:blipFill>
          <a:blip r:embed="rId2"/>
          <a:stretch/>
        </p:blipFill>
        <p:spPr>
          <a:xfrm>
            <a:off x="3635280" y="1916280"/>
            <a:ext cx="2156040" cy="3673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2780"/>
          <p:cNvPicPr/>
          <p:nvPr/>
        </p:nvPicPr>
        <p:blipFill>
          <a:blip r:embed="rId3"/>
          <a:stretch/>
        </p:blipFill>
        <p:spPr>
          <a:xfrm>
            <a:off x="6156360" y="1989000"/>
            <a:ext cx="2725560" cy="3584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324000" y="5805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Д. Мережков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635280" y="5805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З. Гиппи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6372360" y="5805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Н. Ми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187280" y="0"/>
            <a:ext cx="66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таршее поколение символистов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осковское крыл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791"/>
          <p:cNvPicPr/>
          <p:nvPr/>
        </p:nvPicPr>
        <p:blipFill>
          <a:blip r:embed="rId1"/>
          <a:stretch/>
        </p:blipFill>
        <p:spPr>
          <a:xfrm>
            <a:off x="179280" y="1916280"/>
            <a:ext cx="2886120" cy="3787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0_566aa_6019b444_XL"/>
          <p:cNvPicPr/>
          <p:nvPr/>
        </p:nvPicPr>
        <p:blipFill>
          <a:blip r:embed="rId2"/>
          <a:stretch/>
        </p:blipFill>
        <p:spPr>
          <a:xfrm>
            <a:off x="3132000" y="1916280"/>
            <a:ext cx="2730600" cy="3817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sologub-11222007104908"/>
          <p:cNvPicPr/>
          <p:nvPr/>
        </p:nvPicPr>
        <p:blipFill>
          <a:blip r:embed="rId3"/>
          <a:stretch/>
        </p:blipFill>
        <p:spPr>
          <a:xfrm>
            <a:off x="5940360" y="2133720"/>
            <a:ext cx="3025800" cy="31604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0"/>
          <p:cNvSpPr/>
          <p:nvPr/>
        </p:nvSpPr>
        <p:spPr>
          <a:xfrm>
            <a:off x="250920" y="60930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. Бальмо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3276720" y="616572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276720" y="60930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. Брю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6300720" y="6093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. Сологу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Цели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ознакомить обучающихся с философско-эстетическими предпосылками возникновения символизм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раскрыть историю происхождения понятия «символизм», его содержание, основные групп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оказать значение символизма для развития русской литературы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ладосимволисты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1900 гг. – рубеж ве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2843280" y="1557360"/>
            <a:ext cx="3672000" cy="23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3132000" y="1989000"/>
            <a:ext cx="3024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.Ива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А. Бел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А. Бл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. Анне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2268360" y="4653000"/>
            <a:ext cx="48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«Апокалиптические» настроения парадоксально сочетаются с верой в приход «царства Софии» - эпохи вечной мудр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8" descr="Рисунок2"/>
          <p:cNvPicPr/>
          <p:nvPr/>
        </p:nvPicPr>
        <p:blipFill>
          <a:blip r:embed="rId1"/>
          <a:stretch/>
        </p:blipFill>
        <p:spPr>
          <a:xfrm>
            <a:off x="4500720" y="3860640"/>
            <a:ext cx="21744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971640" y="135000"/>
            <a:ext cx="77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ладосимволис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ivanov"/>
          <p:cNvPicPr/>
          <p:nvPr/>
        </p:nvPicPr>
        <p:blipFill>
          <a:blip r:embed="rId1"/>
          <a:stretch/>
        </p:blipFill>
        <p:spPr>
          <a:xfrm>
            <a:off x="250920" y="1413000"/>
            <a:ext cx="2778120" cy="3784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77625345_4514961_anlir"/>
          <p:cNvPicPr/>
          <p:nvPr/>
        </p:nvPicPr>
        <p:blipFill>
          <a:blip r:embed="rId2"/>
          <a:stretch/>
        </p:blipFill>
        <p:spPr>
          <a:xfrm>
            <a:off x="3348000" y="1413000"/>
            <a:ext cx="2658960" cy="3816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3183"/>
          <p:cNvPicPr/>
          <p:nvPr/>
        </p:nvPicPr>
        <p:blipFill>
          <a:blip r:embed="rId3"/>
          <a:stretch/>
        </p:blipFill>
        <p:spPr>
          <a:xfrm>
            <a:off x="6270480" y="1413000"/>
            <a:ext cx="2873520" cy="3743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8"/>
          <p:cNvSpPr/>
          <p:nvPr/>
        </p:nvSpPr>
        <p:spPr>
          <a:xfrm>
            <a:off x="468360" y="5734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. Ива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3348000" y="5734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. Анне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588000" y="57340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А. Бел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200" spc="-1" strike="noStrike">
                <a:solidFill>
                  <a:srgbClr val="ff0000"/>
                </a:solidFill>
                <a:latin typeface="Georgia"/>
              </a:rPr>
              <a:t>Младосимволисты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266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55640" y="119700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А.Блок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наиболее ярко выразил идеи младосимволистов. У поэта много стихов, явно ориентированных на идеи В. Соловьёва, особенно касающиеся темы Вечной Женственности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А. Блок считал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В. Соловьёва своим учителе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7" descr="48857777_1250251567_blok"/>
          <p:cNvPicPr/>
          <p:nvPr/>
        </p:nvPicPr>
        <p:blipFill>
          <a:blip r:embed="rId1"/>
          <a:stretch/>
        </p:blipFill>
        <p:spPr>
          <a:xfrm>
            <a:off x="324000" y="981000"/>
            <a:ext cx="3879720" cy="51847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9"/>
          <p:cNvSpPr/>
          <p:nvPr/>
        </p:nvSpPr>
        <p:spPr>
          <a:xfrm>
            <a:off x="755640" y="6237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А. Бл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292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Зна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50920" y="765000"/>
            <a:ext cx="889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Символизм обогатил русскую поэтическую культуру множеством открытий. Символисты придали слову невиданную ранее многозначность, открыли в нём множество дополнительных оттенков и смыслов. Поэзия символизма необычайно музыкальна, богата ассонансами и аллитерациями. Но главное, символизм пытался создать новую философию культуры, выработать новое мировоззрение, сделать искусство более личностным, наполнить его новым содержанием – сделать искусство объединяющим людей начал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8" descr="1004786071"/>
          <p:cNvPicPr/>
          <p:nvPr/>
        </p:nvPicPr>
        <p:blipFill>
          <a:blip r:embed="rId1"/>
          <a:stretch/>
        </p:blipFill>
        <p:spPr>
          <a:xfrm>
            <a:off x="971640" y="3860640"/>
            <a:ext cx="1903320" cy="2781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original_resized280"/>
          <p:cNvPicPr/>
          <p:nvPr/>
        </p:nvPicPr>
        <p:blipFill>
          <a:blip r:embed="rId2"/>
          <a:stretch/>
        </p:blipFill>
        <p:spPr>
          <a:xfrm>
            <a:off x="3492360" y="3860640"/>
            <a:ext cx="2087640" cy="2808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1000973240"/>
          <p:cNvPicPr/>
          <p:nvPr/>
        </p:nvPicPr>
        <p:blipFill>
          <a:blip r:embed="rId3"/>
          <a:stretch/>
        </p:blipFill>
        <p:spPr>
          <a:xfrm>
            <a:off x="6227640" y="3500280"/>
            <a:ext cx="22212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Источни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Журнал «Литература в школе» №3, 2002 год, стр.30 – 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Золотарёва И.В., Егорова Н.В. Универсальные поурочные разработки по литературе: 11 класс, - Москва «ВАКО»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Мещерякова М.И. Литература в таблицах и схемах. – М.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Айрис-пресс,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Русская литература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XX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ека. Учебное пособие для 11 класса ср. школы, - М., 19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www.erudition.ru/referat/printref/id.55954_1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ru.wikipedia.org/wiki/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yandex.ru/clck/redir/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www.vlasta-tula.ru/articles/simvolizm_v_jivopisi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се фото и иллюстрации с сайта: http://images.yandex.r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Символиз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(от греч.</a:t>
            </a: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symbolon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- «знак, примета»)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3848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А.Бло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 Испепеляющие годы! Безумья ль в вас, надежды ль есть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2060640"/>
            <a:ext cx="403848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В.Брюс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 Создание искусства – приотворённые двери в вечност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908000" y="508464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Ф.Сологуб</a:t>
            </a: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: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«Символ – окно в бесконечност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Georgia"/>
              </a:rPr>
              <a:t>Русский символизм</a:t>
            </a:r>
            <a:br>
              <a:rPr sz="5400"/>
            </a:b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Понят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Символизм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- литературно-художественное направление, считавшее целью искусства интуитивное постижение мирового единства через симво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539640" y="4508640"/>
            <a:ext cx="4103640" cy="1944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5076720" y="4581360"/>
            <a:ext cx="3816360" cy="1943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187280" y="4869000"/>
            <a:ext cx="230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Зародился в 60 – 70-е гг.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века во Фран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724360" y="494172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России получил распространение в 80 – 90-е гг.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ве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3" descr="Рисунок1"/>
          <p:cNvPicPr/>
          <p:nvPr/>
        </p:nvPicPr>
        <p:blipFill>
          <a:blip r:embed="rId1"/>
          <a:stretch/>
        </p:blipFill>
        <p:spPr>
          <a:xfrm>
            <a:off x="2556000" y="3645000"/>
            <a:ext cx="215640" cy="919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Рисунок1"/>
          <p:cNvPicPr/>
          <p:nvPr/>
        </p:nvPicPr>
        <p:blipFill>
          <a:blip r:embed="rId2"/>
          <a:stretch/>
        </p:blipFill>
        <p:spPr>
          <a:xfrm>
            <a:off x="6732720" y="3429000"/>
            <a:ext cx="2156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Философия и эстетика символизма складывались под влиянием различных теорий – от взглядов Платона до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 Ф. Ницше и В.Соловьё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26846930_platon"/>
          <p:cNvPicPr/>
          <p:nvPr/>
        </p:nvPicPr>
        <p:blipFill>
          <a:blip r:embed="rId1"/>
          <a:stretch/>
        </p:blipFill>
        <p:spPr>
          <a:xfrm>
            <a:off x="250920" y="2421000"/>
            <a:ext cx="2901960" cy="3240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nietzsche"/>
          <p:cNvPicPr/>
          <p:nvPr/>
        </p:nvPicPr>
        <p:blipFill>
          <a:blip r:embed="rId2"/>
          <a:stretch/>
        </p:blipFill>
        <p:spPr>
          <a:xfrm>
            <a:off x="3492360" y="2492280"/>
            <a:ext cx="2590920" cy="3240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solovev_vs"/>
          <p:cNvPicPr/>
          <p:nvPr/>
        </p:nvPicPr>
        <p:blipFill>
          <a:blip r:embed="rId3"/>
          <a:stretch/>
        </p:blipFill>
        <p:spPr>
          <a:xfrm>
            <a:off x="6300720" y="2492280"/>
            <a:ext cx="2695680" cy="3168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468360" y="6021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Пла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492360" y="6093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Ф. Ницш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516720" y="6093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. Соловьё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Истоки символиз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Jean_Mor%C3%A9as"/>
          <p:cNvPicPr/>
          <p:nvPr/>
        </p:nvPicPr>
        <p:blipFill>
          <a:blip r:embed="rId1"/>
          <a:stretch/>
        </p:blipFill>
        <p:spPr>
          <a:xfrm>
            <a:off x="662040" y="1700280"/>
            <a:ext cx="3022560" cy="4321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4067280" y="1413000"/>
            <a:ext cx="482580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Термин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«символизм»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 искусстве впервые был введён в обращение 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Georgia"/>
                <a:hlinkClick r:id="rId2"/>
              </a:rPr>
              <a:t>французски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поэтом 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Georgia"/>
                <a:hlinkClick r:id="rId3"/>
              </a:rPr>
              <a:t>Жаном Мореасо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 одноимённом манифесте — «Le Symbolisme», опубликованном 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Georgia"/>
                <a:hlinkClick r:id="rId4"/>
              </a:rPr>
              <a:t>18 сентябр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Georgia"/>
                <a:hlinkClick r:id="rId5"/>
              </a:rPr>
              <a:t>1886 года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 газете «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Georgia"/>
                <a:hlinkClick r:id="rId6"/>
              </a:rPr>
              <a:t>Le Figaro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». В частности, манифест провозглаша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«Символическая поэзия - враг поучений, риторики, ложной чувствительности и объективных описаний; она стремится облечь Идею в чувственно постижимую форму, однако эта форма - не самоцель, она служит выражению Идеи, не выходя из-под её власти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403280" y="60357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Жан Море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6372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К тому времени существовал другой, уже устойчивый термин «</a:t>
            </a:r>
            <a:r>
              <a:rPr b="0" lang="ru-RU" sz="2200" spc="-1" strike="noStrike" u="sng">
                <a:solidFill>
                  <a:srgbClr val="86d1ec"/>
                </a:solidFill>
                <a:uFillTx/>
                <a:latin typeface="Georgia"/>
                <a:hlinkClick r:id="rId1"/>
              </a:rPr>
              <a:t>декадентство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», которым пренебрежительно нарекали новые формы в поэзии их критики. «Символизм» стал первой теоретической попыткой самих декадентов, поэтому никаких резких разграничений и тем более эстетической конфронтации между декадентством и символизмом не устанавливалось. В России в 1890-е гг., после первых русских декадентских сочинений, эти термины стали противопоставлять: в символизме видели идеалы и духовность и соответственно так его манифестировали, а в декадентстве - безволие, безнравственность и увлечение лишь внешней формой. Так, известна эпиграмма Владимира Соловьёва в отношении декадентов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i="1" lang="ru-RU" sz="2200" spc="-1" strike="noStrike">
                <a:solidFill>
                  <a:srgbClr val="ffffff"/>
                </a:solidFill>
                <a:latin typeface="Georgia"/>
              </a:rPr>
              <a:t>Мандрагоры имманентные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Georgia"/>
              </a:rPr>
              <a:t>Зашуршали в камышах,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Georgia"/>
              </a:rPr>
              <a:t>А шершаво-декадентные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Georgia"/>
              </a:rPr>
              <a:t>Вирши — в вянущих уша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012000" y="549360"/>
            <a:ext cx="331308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Декаданс (от лат. «упадок») – тип сознания, характеризующийся настроением пассивности, безнадёжности, неприятием общественной жизни, стремлением замкнуться в мире своих душевных пережив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4739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Истоки символиз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3d2dc815baa89932e036b45e171_prev"/>
          <p:cNvPicPr/>
          <p:nvPr/>
        </p:nvPicPr>
        <p:blipFill>
          <a:blip r:embed="rId1"/>
          <a:stretch/>
        </p:blipFill>
        <p:spPr>
          <a:xfrm>
            <a:off x="250920" y="1197000"/>
            <a:ext cx="4087800" cy="51102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4500720" y="1125360"/>
            <a:ext cx="446400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Многие художественные открытия и философские идеи символизма были предсказаны выдающимся философом, поэтом, переводчиком В. Соловьёвым (1853 – 190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н верил в спасительную миссию Крас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осредником в достижении «всеединства» призвано было стать искусств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блик «всеединства» - мистический образ Души Ми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ечная Женственность – объект платонического культа и люб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684360" y="6461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Georgia"/>
              </a:rPr>
              <a:t>В. Соловьёв (1853 – 19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277920"/>
            <a:ext cx="799128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Символизм в музык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skriabin-12212007034912bFB"/>
          <p:cNvPicPr/>
          <p:nvPr/>
        </p:nvPicPr>
        <p:blipFill>
          <a:blip r:embed="rId1"/>
          <a:stretch/>
        </p:blipFill>
        <p:spPr>
          <a:xfrm>
            <a:off x="250920" y="1197000"/>
            <a:ext cx="3697200" cy="5040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4211640" y="1052640"/>
            <a:ext cx="475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Александр Николаевич Скрябин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- русский композитор и пианист. В его творчестве воплощены идеи экстатической устремленности к неведомым «космическим» сферам, идея преобразующей силы искусства. Музыке присущи напряженность тонуса, диапазон образов от одухотворенно-идеальных, утонченных до экспрессивно-героических. Яркий новатор музыкальных выразительных средств, главным образом гармонии; развивал идею светомузыки, впервые в музыкальной практике ввел в симфоническую поэму «Прометей» партию света. «Божественная поэма» (3-я симфония, 1904), «Поэма экстаза» (1907) для оркестра; 10 сонат, поэмы, прелюдии для фортепиано. Профессор Московской консерватории (1898-1904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68360" y="623736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Georgia"/>
              </a:rPr>
              <a:t>А.Н. Скрябин (1871 – 191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4:40:44Z</dcterms:created>
  <dc:creator>user</dc:creator>
  <dc:description/>
  <dc:language>en-US</dc:language>
  <cp:lastModifiedBy>Катя</cp:lastModifiedBy>
  <dcterms:modified xsi:type="dcterms:W3CDTF">2013-04-17T09:39:24Z</dcterms:modified>
  <cp:revision>51</cp:revision>
  <dc:subject/>
  <dc:title>Слайд 1</dc:title>
</cp:coreProperties>
</file>