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wmf" ContentType="image/x-wmf"/>
  <Override PartName="/ppt/media/image18.wmf" ContentType="image/x-wmf"/>
  <Override PartName="/ppt/media/image20.png" ContentType="image/png"/>
  <Override PartName="/ppt/media/image36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0.jpeg" ContentType="image/jpeg"/>
  <Override PartName="/ppt/media/image1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9.jpeg" ContentType="image/jpeg"/>
  <Override PartName="/ppt/media/image33.wmf" ContentType="image/x-wmf"/>
  <Override PartName="/ppt/media/image37.jpeg" ContentType="image/jpeg"/>
  <Override PartName="/ppt/media/image12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B66-2F85-4519-BC3E-AEA19B84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23A-C75C-4131-97A5-C732B98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292-546C-4937-AFAE-C73D1197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8DB-1053-456D-84B1-7383AF00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B065-4F90-46D6-8EA3-5A8B450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A982-6B59-45B9-B494-0C2DC8F9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CC5-8181-47CB-9960-08CB9E98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C8C2-C4DE-45C8-A1B0-972BE406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29E7-7B4E-49D7-BD1B-7191A059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EF9-267E-4C68-93B1-AA328A2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2534-77F4-479A-A472-02BAACAD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8A3-6061-4C87-896C-43ECE31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F8C-F531-48D3-B0CA-B8BBAA7C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B58-D1F1-462D-BC89-5E7316F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1C12-0430-464E-905A-701B5BE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696-411A-491F-81CB-4BE93349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0EA0-7B38-454D-A777-B7C8B25D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AFE-BB83-49BF-97C7-30377CB4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A96-3280-4386-9D38-DB6552C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5FB-DB8E-443D-B3B6-2C05FF7E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FD0-0FDB-414C-9E92-99F47DF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ED1-F7CA-46EE-9F11-76C9856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E47-A4A8-48A3-8D7E-F88A127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742-21D8-46CE-9F14-7AA2153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167-295D-4045-AED8-FE0462021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520-FC2B-4C83-96B2-06F5976CFA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2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88;&#1072;&#1085;&#1094;&#1080;&#1103;" TargetMode="External"/><Relationship Id="rId3" Type="http://schemas.openxmlformats.org/officeDocument/2006/relationships/hyperlink" Target="http://ru.wikipedia.org/wiki/&#1052;&#1086;&#1088;&#1077;&#1072;&#1089;,_&#1046;&#1072;&#1085;" TargetMode="External"/><Relationship Id="rId4" Type="http://schemas.openxmlformats.org/officeDocument/2006/relationships/hyperlink" Target="http://ru.wikipedia.org/wiki/18_&#1089;&#1077;&#1085;&#1090;&#1103;&#1073;&#1088;&#1103;" TargetMode="External"/><Relationship Id="rId5" Type="http://schemas.openxmlformats.org/officeDocument/2006/relationships/hyperlink" Target="http://ru.wikipedia.org/wiki/1886_&#1075;&#1086;&#1076;" TargetMode="External"/><Relationship Id="rId6" Type="http://schemas.openxmlformats.org/officeDocument/2006/relationships/hyperlink" Target="http://ru.wikipedia.org/wiki/Le_Figaro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72;&#1076;&#1077;&#1085;&#1090;&#1089;&#1090;&#1074;&#1086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ff00"/>
                </a:solidFill>
                <a:latin typeface="Georgia"/>
              </a:rPr>
              <a:t>Русский символиз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06436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имволизм в изобразительном искус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0_41f39_10ac3871_XL"/>
          <p:cNvPicPr/>
          <p:nvPr/>
        </p:nvPicPr>
        <p:blipFill>
          <a:blip r:embed="rId1"/>
          <a:stretch/>
        </p:blipFill>
        <p:spPr>
          <a:xfrm>
            <a:off x="0" y="1484280"/>
            <a:ext cx="3460680" cy="5373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3635280" y="1273320"/>
            <a:ext cx="5508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Основоположником символизма в русской живописи является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М. Врубель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. Напряженная, яркая, какая-то почти мозаичная живопись Врубеля монументальна, эпична, исполнена острым трагическим противоречием между реальностью и фантазией художника. Символизм его «Жемчужины» — целая вселенная, которая мерцает таинственными перламутровыми пастельными тонами, отражаясь в маленьком зернышке жемчуга. Пронзительный взгляд врубелевского «Демона» гипнотизирует, оставляет чувство некого внутреннего дискомфорта, почти страха, но вместе с тем от него невозможно оторвать глаз. Это одна из многих загадок художника, стремившегося постичь мир не только эстетически, но и нравственно-философс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6897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85224790_20"/>
          <p:cNvPicPr/>
          <p:nvPr/>
        </p:nvPicPr>
        <p:blipFill>
          <a:blip r:embed="rId1"/>
          <a:stretch/>
        </p:blipFill>
        <p:spPr>
          <a:xfrm>
            <a:off x="179280" y="907920"/>
            <a:ext cx="4969080" cy="281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71451153"/>
          <p:cNvPicPr/>
          <p:nvPr/>
        </p:nvPicPr>
        <p:blipFill>
          <a:blip r:embed="rId2"/>
          <a:stretch/>
        </p:blipFill>
        <p:spPr>
          <a:xfrm>
            <a:off x="2303640" y="3789360"/>
            <a:ext cx="6840360" cy="3068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435640" y="1197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«Дем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0" y="4221000"/>
            <a:ext cx="24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Де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верженны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967120" y="0"/>
            <a:ext cx="34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771806"/>
          <p:cNvPicPr/>
          <p:nvPr/>
        </p:nvPicPr>
        <p:blipFill>
          <a:blip r:embed="rId1"/>
          <a:stretch/>
        </p:blipFill>
        <p:spPr>
          <a:xfrm>
            <a:off x="250920" y="1052640"/>
            <a:ext cx="4762440" cy="396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1075_or"/>
          <p:cNvPicPr/>
          <p:nvPr/>
        </p:nvPicPr>
        <p:blipFill>
          <a:blip r:embed="rId2"/>
          <a:stretch/>
        </p:blipFill>
        <p:spPr>
          <a:xfrm>
            <a:off x="5508720" y="692280"/>
            <a:ext cx="33764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468360" y="5373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Демон и жемчужи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651640" y="623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Царевна-Лебед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121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man Old Style"/>
              </a:rPr>
              <a:t>Предпосыл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250920" y="1773360"/>
            <a:ext cx="3311280" cy="143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64000" y="1844640"/>
            <a:ext cx="33116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627280" y="4221000"/>
            <a:ext cx="381636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187280" y="184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900000" y="1989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Философия Ницше, В.Соловьё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012000" y="2060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одернизм в европейском искус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916360" y="450864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рождение старых художественных систем (античность, средневековь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6" descr="Рисунок2"/>
          <p:cNvPicPr/>
          <p:nvPr/>
        </p:nvPicPr>
        <p:blipFill>
          <a:blip r:embed="rId1"/>
          <a:stretch/>
        </p:blipFill>
        <p:spPr>
          <a:xfrm>
            <a:off x="1763640" y="90792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Рисунок2"/>
          <p:cNvPicPr/>
          <p:nvPr/>
        </p:nvPicPr>
        <p:blipFill>
          <a:blip r:embed="rId2"/>
          <a:stretch/>
        </p:blipFill>
        <p:spPr>
          <a:xfrm>
            <a:off x="6877080" y="98100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Рисунок2"/>
          <p:cNvPicPr/>
          <p:nvPr/>
        </p:nvPicPr>
        <p:blipFill>
          <a:blip r:embed="rId3"/>
          <a:stretch/>
        </p:blipFill>
        <p:spPr>
          <a:xfrm>
            <a:off x="4211640" y="1268280"/>
            <a:ext cx="43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eorgia"/>
              </a:rPr>
              <a:t>Теоретическое самоопредел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2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лекция Д. Мережковского «О причинах упадка и новых течениях современной русской литератур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4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три сборника «Русские символисты», ведущим автором которых был В. Брю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18326900"/>
          <p:cNvPicPr/>
          <p:nvPr/>
        </p:nvPicPr>
        <p:blipFill>
          <a:blip r:embed="rId3"/>
          <a:stretch/>
        </p:blipFill>
        <p:spPr>
          <a:xfrm>
            <a:off x="4932360" y="2924280"/>
            <a:ext cx="3076560" cy="39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original_resized280"/>
          <p:cNvPicPr/>
          <p:nvPr/>
        </p:nvPicPr>
        <p:blipFill>
          <a:blip r:embed="rId4"/>
          <a:stretch/>
        </p:blipFill>
        <p:spPr>
          <a:xfrm>
            <a:off x="1187280" y="2924280"/>
            <a:ext cx="3052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897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сновное свой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87280" y="1628640"/>
            <a:ext cx="6913800" cy="165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340000" y="170028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воение «вещей в себе» и идей, находящихся за пределами чувственного вос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619280" y="3213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 основе эст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1187280" y="4797360"/>
            <a:ext cx="6913800" cy="1800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340000" y="515772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476360" y="494172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имвол (он должен заменить конкретный образ). Считалось, что символ связывает земное с миром иным, духо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Рисунок2"/>
          <p:cNvPicPr/>
          <p:nvPr/>
        </p:nvPicPr>
        <p:blipFill>
          <a:blip r:embed="rId1"/>
          <a:stretch/>
        </p:blipFill>
        <p:spPr>
          <a:xfrm>
            <a:off x="4572000" y="692280"/>
            <a:ext cx="285840" cy="9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Рисунок2"/>
          <p:cNvPicPr/>
          <p:nvPr/>
        </p:nvPicPr>
        <p:blipFill>
          <a:blip r:embed="rId2"/>
          <a:stretch/>
        </p:blipFill>
        <p:spPr>
          <a:xfrm>
            <a:off x="4572000" y="3860640"/>
            <a:ext cx="285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Особенности русского символизм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вышенное внимание к проблеме личности и истории, ко внутреннему миру лич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героико-трагическое переживание социальных и духовных конфликтов рубежа век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сочетание противоречивых тенденц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ногочисленные открытия в поэтике (обновление жанров лирики, новые принципы циклизации, смысловая полифония…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идея самоценности искусства, ухода от социальных задач; искусство – чисто художественное яв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80 – 90-е гг.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XIX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95280" y="213372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1280" y="2276640"/>
            <a:ext cx="324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тербург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788000" y="2133720"/>
            <a:ext cx="367164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076720" y="2421000"/>
            <a:ext cx="3167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Москов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39640" y="5229360"/>
            <a:ext cx="3456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философско-эстетическое т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78800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чисто литературное я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Рисунок2"/>
          <p:cNvPicPr/>
          <p:nvPr/>
        </p:nvPicPr>
        <p:blipFill>
          <a:blip r:embed="rId1"/>
          <a:stretch/>
        </p:blipFill>
        <p:spPr>
          <a:xfrm>
            <a:off x="2050920" y="4508640"/>
            <a:ext cx="217440" cy="91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Рисунок2"/>
          <p:cNvPicPr/>
          <p:nvPr/>
        </p:nvPicPr>
        <p:blipFill>
          <a:blip r:embed="rId2"/>
          <a:stretch/>
        </p:blipFill>
        <p:spPr>
          <a:xfrm>
            <a:off x="6516720" y="4508640"/>
            <a:ext cx="2174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797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етербург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12124537955969"/>
          <p:cNvPicPr/>
          <p:nvPr/>
        </p:nvPicPr>
        <p:blipFill>
          <a:blip r:embed="rId1"/>
          <a:stretch/>
        </p:blipFill>
        <p:spPr>
          <a:xfrm>
            <a:off x="468360" y="2060640"/>
            <a:ext cx="2835360" cy="3484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53454348_1262874535_1"/>
          <p:cNvPicPr/>
          <p:nvPr/>
        </p:nvPicPr>
        <p:blipFill>
          <a:blip r:embed="rId2"/>
          <a:stretch/>
        </p:blipFill>
        <p:spPr>
          <a:xfrm>
            <a:off x="3635280" y="1916280"/>
            <a:ext cx="2156040" cy="3673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2780"/>
          <p:cNvPicPr/>
          <p:nvPr/>
        </p:nvPicPr>
        <p:blipFill>
          <a:blip r:embed="rId3"/>
          <a:stretch/>
        </p:blipFill>
        <p:spPr>
          <a:xfrm>
            <a:off x="6156360" y="1989000"/>
            <a:ext cx="2725560" cy="358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24000" y="580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635280" y="580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372360" y="5805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187280" y="0"/>
            <a:ext cx="66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сков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791"/>
          <p:cNvPicPr/>
          <p:nvPr/>
        </p:nvPicPr>
        <p:blipFill>
          <a:blip r:embed="rId1"/>
          <a:stretch/>
        </p:blipFill>
        <p:spPr>
          <a:xfrm>
            <a:off x="179280" y="1916280"/>
            <a:ext cx="2886120" cy="378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_566aa_6019b444_XL"/>
          <p:cNvPicPr/>
          <p:nvPr/>
        </p:nvPicPr>
        <p:blipFill>
          <a:blip r:embed="rId2"/>
          <a:stretch/>
        </p:blipFill>
        <p:spPr>
          <a:xfrm>
            <a:off x="3132000" y="1916280"/>
            <a:ext cx="2730600" cy="3817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sologub-11222007104908"/>
          <p:cNvPicPr/>
          <p:nvPr/>
        </p:nvPicPr>
        <p:blipFill>
          <a:blip r:embed="rId3"/>
          <a:stretch/>
        </p:blipFill>
        <p:spPr>
          <a:xfrm>
            <a:off x="5940360" y="2133720"/>
            <a:ext cx="3025800" cy="3160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50920" y="6093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276720" y="616572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276720" y="6093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300720" y="6093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Цели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знакомить обучающихся с философско-эстетическими предпосылками возникновения символ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раскрыть историю происхождения понятия «символизм», его содержание, основные груп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казать значение символизма для развития русской литературы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900 гг. – рубеж ве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843280" y="155736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32000" y="1989000"/>
            <a:ext cx="302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68360" y="4653000"/>
            <a:ext cx="48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Апокалиптические» настроения парадоксально сочетаются с верой в приход «царства Софии» - эпохи вечной мудр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Рисунок2"/>
          <p:cNvPicPr/>
          <p:nvPr/>
        </p:nvPicPr>
        <p:blipFill>
          <a:blip r:embed="rId1"/>
          <a:stretch/>
        </p:blipFill>
        <p:spPr>
          <a:xfrm>
            <a:off x="4500720" y="3860640"/>
            <a:ext cx="217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971640" y="13500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ivanov"/>
          <p:cNvPicPr/>
          <p:nvPr/>
        </p:nvPicPr>
        <p:blipFill>
          <a:blip r:embed="rId1"/>
          <a:stretch/>
        </p:blipFill>
        <p:spPr>
          <a:xfrm>
            <a:off x="250920" y="1413000"/>
            <a:ext cx="2778120" cy="3784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77625345_4514961_anlir"/>
          <p:cNvPicPr/>
          <p:nvPr/>
        </p:nvPicPr>
        <p:blipFill>
          <a:blip r:embed="rId2"/>
          <a:stretch/>
        </p:blipFill>
        <p:spPr>
          <a:xfrm>
            <a:off x="3348000" y="1413000"/>
            <a:ext cx="2658960" cy="38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3183"/>
          <p:cNvPicPr/>
          <p:nvPr/>
        </p:nvPicPr>
        <p:blipFill>
          <a:blip r:embed="rId3"/>
          <a:stretch/>
        </p:blipFill>
        <p:spPr>
          <a:xfrm>
            <a:off x="6270480" y="1413000"/>
            <a:ext cx="2873520" cy="37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68360" y="5734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34800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58800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55640" y="1197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А.Блок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иболее ярко выразил идеи младосимволистов. У поэта много стихов, явно ориентированных на идеи В. Соловьёва, особенно касающиеся темы Вечной Женственност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. Блок счита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В. Соловьёва своим учител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48857777_1250251567_blok"/>
          <p:cNvPicPr/>
          <p:nvPr/>
        </p:nvPicPr>
        <p:blipFill>
          <a:blip r:embed="rId1"/>
          <a:stretch/>
        </p:blipFill>
        <p:spPr>
          <a:xfrm>
            <a:off x="324000" y="981000"/>
            <a:ext cx="3879720" cy="518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755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292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50920" y="76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Символизм обогатил русскую поэтическую культуру множеством открытий. Символисты придали слову невиданную ранее многозначность, открыли в нём множество дополнительных оттенков и смыслов. Поэзия символизма необычайно музыкальна, богата ассонансами и аллитерациями. Но главное, символизм пытался создать новую философию культуры, выработать новое мировоззрение, сделать искусство более личностным, наполнить его новым содержанием – сделать искусство объединяющим людей начал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8" descr="1004786071"/>
          <p:cNvPicPr/>
          <p:nvPr/>
        </p:nvPicPr>
        <p:blipFill>
          <a:blip r:embed="rId1"/>
          <a:stretch/>
        </p:blipFill>
        <p:spPr>
          <a:xfrm>
            <a:off x="971640" y="3860640"/>
            <a:ext cx="1903320" cy="278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original_resized280"/>
          <p:cNvPicPr/>
          <p:nvPr/>
        </p:nvPicPr>
        <p:blipFill>
          <a:blip r:embed="rId2"/>
          <a:stretch/>
        </p:blipFill>
        <p:spPr>
          <a:xfrm>
            <a:off x="3492360" y="386064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1000973240"/>
          <p:cNvPicPr/>
          <p:nvPr/>
        </p:nvPicPr>
        <p:blipFill>
          <a:blip r:embed="rId3"/>
          <a:stretch/>
        </p:blipFill>
        <p:spPr>
          <a:xfrm>
            <a:off x="6227640" y="3500280"/>
            <a:ext cx="2221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Источн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Журнал «Литература в школе» №3, 2002 год, стр.30 – 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Золотарёва И.В., Егорова Н.В. Универсальные поурочные разработки по литературе: 11 класс, - Москва «ВАКО»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ещерякова М.И. Литература в таблицах и схемах. – М.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Айрис-пресс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Русская литератур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ека. Учебное пособие для 11 класса ср. школы, - М.,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erudition.ru/referat/printref/id.55954_1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yandex.ru/clck/redir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vlasta-tula.ru/articles/simvolizm_v_jivopisi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се фото и иллюстрации с сайта: http://images.yandex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Символиз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(от греч.</a:t>
            </a: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symbolon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 «знак, примета»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.Бл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Испепеляющие годы! Безумья ль в вас, надежды ль есть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.Брю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Создание искусства – приотворённые двери в в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908000" y="508464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Ф.Сологуб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Символ – окно в бескон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eorgia"/>
              </a:rPr>
              <a:t>Русский символизм</a:t>
            </a:r>
            <a:br>
              <a:rPr sz="54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Пон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Символизм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- литературно-художественное направление, считавшее целью искусства интуитивное постижение мирового единства через симв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539640" y="4508640"/>
            <a:ext cx="410364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076720" y="4581360"/>
            <a:ext cx="3816360" cy="1943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187280" y="4869000"/>
            <a:ext cx="230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родился в 60 – 7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во Фр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724360" y="494172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оссии получил распространение в 80 – 9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3" descr="Рисунок1"/>
          <p:cNvPicPr/>
          <p:nvPr/>
        </p:nvPicPr>
        <p:blipFill>
          <a:blip r:embed="rId1"/>
          <a:stretch/>
        </p:blipFill>
        <p:spPr>
          <a:xfrm>
            <a:off x="2556000" y="3645000"/>
            <a:ext cx="215640" cy="9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Рисунок1"/>
          <p:cNvPicPr/>
          <p:nvPr/>
        </p:nvPicPr>
        <p:blipFill>
          <a:blip r:embed="rId2"/>
          <a:stretch/>
        </p:blipFill>
        <p:spPr>
          <a:xfrm>
            <a:off x="6732720" y="3429000"/>
            <a:ext cx="215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Философия и эстетика символизма складывались под влиянием различных теорий – от взглядов Платона до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Ф. Ницше и В.Соловьё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26846930_platon"/>
          <p:cNvPicPr/>
          <p:nvPr/>
        </p:nvPicPr>
        <p:blipFill>
          <a:blip r:embed="rId1"/>
          <a:stretch/>
        </p:blipFill>
        <p:spPr>
          <a:xfrm>
            <a:off x="250920" y="2421000"/>
            <a:ext cx="2901960" cy="32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nietzsche"/>
          <p:cNvPicPr/>
          <p:nvPr/>
        </p:nvPicPr>
        <p:blipFill>
          <a:blip r:embed="rId2"/>
          <a:stretch/>
        </p:blipFill>
        <p:spPr>
          <a:xfrm>
            <a:off x="3492360" y="2492280"/>
            <a:ext cx="259092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olovev_vs"/>
          <p:cNvPicPr/>
          <p:nvPr/>
        </p:nvPicPr>
        <p:blipFill>
          <a:blip r:embed="rId3"/>
          <a:stretch/>
        </p:blipFill>
        <p:spPr>
          <a:xfrm>
            <a:off x="6300720" y="2492280"/>
            <a:ext cx="2695680" cy="3168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468360" y="602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ла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492360" y="609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16720" y="609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. Соловь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Jean_Mor%C3%A9as"/>
          <p:cNvPicPr/>
          <p:nvPr/>
        </p:nvPicPr>
        <p:blipFill>
          <a:blip r:embed="rId1"/>
          <a:stretch/>
        </p:blipFill>
        <p:spPr>
          <a:xfrm>
            <a:off x="662040" y="1700280"/>
            <a:ext cx="3022560" cy="4321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067280" y="1413000"/>
            <a:ext cx="48258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ермин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«символизм»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искусстве впервые был введён в обращение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2"/>
              </a:rPr>
              <a:t>французски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оэт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3"/>
              </a:rPr>
              <a:t>Жаном Мореас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одноимённом манифесте — «Le Symbolisme», опубликованн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4"/>
              </a:rPr>
              <a:t>18 сентябр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5"/>
              </a:rPr>
              <a:t>1886 года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газете «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6"/>
              </a:rPr>
              <a:t>Le Figaro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». В частности, манифест провозглаш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Символическая поэзия - враг поучений, риторики, ложной чувствительности и объективных описаний; она стремится облечь Идею в чувственно постижимую форму, однако эта форма - не самоцель, она служит выражению Идеи, не выходя из-под её власт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403280" y="60357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Жан Море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6372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К тому времени существовал другой, уже устойчивый термин «</a:t>
            </a:r>
            <a:r>
              <a:rPr b="0" lang="ru-RU" sz="2200" spc="-1" strike="noStrike" u="sng">
                <a:solidFill>
                  <a:srgbClr val="86d1ec"/>
                </a:solidFill>
                <a:uFillTx/>
                <a:latin typeface="Georgia"/>
                <a:hlinkClick r:id="rId1"/>
              </a:rPr>
              <a:t>декадентство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», которым пренебрежительно нарекали новые формы в поэзии их критики. «Символизм» стал первой теоретической попыткой самих декадентов, поэтому никаких резких разграничений и тем более эстетической конфронтации между декадентством и символизмом не устанавливалось. В России в 1890-е гг., после первых русских декадентских сочинений, эти термины стали противопоставлять: в символизме видели идеалы и духовность и соответственно так его манифестировали, а в декадентстве - безволие, безнравственность и увлечение лишь внешней формой. Так, известна эпиграмма Владимира Соловьёва в отношении декадент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Мандрагоры имман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Зашуршали в камышах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А шершаво-декад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Вирши — в вянущих уш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12000" y="549360"/>
            <a:ext cx="331308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каданс (от лат. «упадок») – тип сознания, характеризующийся настроением пассивности, безнадёжности, неприятием общественной жизни, стремлением замкнуться в мире своих душевных пережи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4739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3d2dc815baa89932e036b45e171_prev"/>
          <p:cNvPicPr/>
          <p:nvPr/>
        </p:nvPicPr>
        <p:blipFill>
          <a:blip r:embed="rId1"/>
          <a:stretch/>
        </p:blipFill>
        <p:spPr>
          <a:xfrm>
            <a:off x="250920" y="1197000"/>
            <a:ext cx="4087800" cy="5110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4500720" y="1125360"/>
            <a:ext cx="4464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ногие художественные открытия и философские идеи символизма были предсказаны выдающимся философом, поэтом, переводчиком В. Соловьёвым (1853 – 19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н верил в спасительную миссию Крас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средником в достижении «всеединства» призвано было стать искус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блик «всеединства» - мистический образ Души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ечная Женственность – объект платонического культа и люб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4360" y="6461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В. Соловьёв (1853 – 19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277920"/>
            <a:ext cx="79912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Символизм в музы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skriabin-12212007034912bFB"/>
          <p:cNvPicPr/>
          <p:nvPr/>
        </p:nvPicPr>
        <p:blipFill>
          <a:blip r:embed="rId1"/>
          <a:stretch/>
        </p:blipFill>
        <p:spPr>
          <a:xfrm>
            <a:off x="250920" y="1197000"/>
            <a:ext cx="3697200" cy="5040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211640" y="1052640"/>
            <a:ext cx="475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лександр Николаевич Скрябин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- русский композитор и пианист. В его творчестве воплощены идеи экстатической устремленности к неведомым «космическим» сферам, идея преобразующей силы искусства. Музыке присущи напряженность тонуса, диапазон образов от одухотворенно-идеальных, утонченных до экспрессивно-героических. Яркий новатор музыкальных выразительных средств, главным образом гармонии; развивал идею светомузыки, впервые в музыкальной практике ввел в симфоническую поэму «Прометей» партию света. «Божественная поэма» (3-я симфония, 1904), «Поэма экстаза» (1907) для оркестра; 10 сонат, поэмы, прелюдии для фортепиано. Профессор Московской консерватории (1898-1904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6237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А.Н. Скрябин (1871 – 19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4:40:44Z</dcterms:created>
  <dc:creator>user</dc:creator>
  <dc:description/>
  <dc:language>en-US</dc:language>
  <cp:lastModifiedBy>Катя</cp:lastModifiedBy>
  <dcterms:modified xsi:type="dcterms:W3CDTF">2013-04-17T09:39:24Z</dcterms:modified>
  <cp:revision>51</cp:revision>
  <dc:subject/>
  <dc:title>Слайд 1</dc:title>
</cp:coreProperties>
</file>