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1F6-F87E-4ABA-A4B6-9AE3E6F0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E4C-298F-4A7F-9255-814F98E9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9B3-01F3-49BB-9261-4E8273BB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C5A-F4C7-4E64-B954-D3CBA97C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FC4-3E2E-442E-B37E-E599EF8B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DFE-7F3F-41E8-A81A-967E36FF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438-9B73-4C4F-ABA9-D9A2142E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FEB-8074-46DA-A3AF-F119F3ED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EFE-F7BF-462C-A206-ADDB931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8FA-1820-432C-90F7-2C7267F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85A-2B38-460F-B807-B1396DAB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7D6-9C91-4A05-9B16-BA733CF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8EF2-DBAC-46C8-A446-266EE56D4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324240" cy="333396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3132000" y="692280"/>
            <a:ext cx="428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 rot="21211800">
            <a:off x="1258560" y="1700280"/>
            <a:ext cx="6697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1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1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1500120" y="3857760"/>
            <a:ext cx="67150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.Ю.Лермонт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0 лет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611280" y="44305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Весн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vjesna_n_0.tmp"/>
          <p:cNvPicPr/>
          <p:nvPr/>
        </p:nvPicPr>
        <p:blipFill>
          <a:blip r:embed="rId2"/>
          <a:stretch/>
        </p:blipFill>
        <p:spPr>
          <a:xfrm>
            <a:off x="2428920" y="928800"/>
            <a:ext cx="47149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41259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Вечер после дожд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8" descr="artlib_g_0.tmp"/>
          <p:cNvPicPr/>
          <p:nvPr/>
        </p:nvPicPr>
        <p:blipFill>
          <a:blip r:embed="rId2"/>
          <a:stretch/>
        </p:blipFill>
        <p:spPr>
          <a:xfrm>
            <a:off x="2000160" y="1000080"/>
            <a:ext cx="5305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611280" y="43120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Люблю я цепи синих гор…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8" descr="f_971850_0.tmp"/>
          <p:cNvPicPr/>
          <p:nvPr/>
        </p:nvPicPr>
        <p:blipFill>
          <a:blip r:embed="rId2"/>
          <a:stretch/>
        </p:blipFill>
        <p:spPr>
          <a:xfrm>
            <a:off x="2286000" y="928800"/>
            <a:ext cx="428616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14200" y="39034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Когда волнуется желтеющая нива…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8" descr="moya-rus_0.tmp"/>
          <p:cNvPicPr/>
          <p:nvPr/>
        </p:nvPicPr>
        <p:blipFill>
          <a:blip r:embed="rId2"/>
          <a:stretch/>
        </p:blipFill>
        <p:spPr>
          <a:xfrm>
            <a:off x="1214280" y="785880"/>
            <a:ext cx="5786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4716360" y="22968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Три пальмы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8" descr="13815677_0.tmp"/>
          <p:cNvPicPr/>
          <p:nvPr/>
        </p:nvPicPr>
        <p:blipFill>
          <a:blip r:embed="rId2"/>
          <a:stretch/>
        </p:blipFill>
        <p:spPr>
          <a:xfrm>
            <a:off x="857160" y="1357200"/>
            <a:ext cx="4286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700360" y="315756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258920" y="549360"/>
            <a:ext cx="691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042920" y="45687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Колыбельная песн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8" descr="94273387_0.tmp"/>
          <p:cNvPicPr/>
          <p:nvPr/>
        </p:nvPicPr>
        <p:blipFill>
          <a:blip r:embed="rId2"/>
          <a:stretch/>
        </p:blipFill>
        <p:spPr>
          <a:xfrm>
            <a:off x="2428920" y="857160"/>
            <a:ext cx="450036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476360" y="5157720"/>
            <a:ext cx="42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Со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a8c27446_0.tmp"/>
          <p:cNvPicPr/>
          <p:nvPr/>
        </p:nvPicPr>
        <p:blipFill>
          <a:blip r:embed="rId2"/>
          <a:stretch/>
        </p:blipFill>
        <p:spPr>
          <a:xfrm>
            <a:off x="2428920" y="1285920"/>
            <a:ext cx="44100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826920" y="4186080"/>
            <a:ext cx="76327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i?id=42345333&amp;tov=5"/>
          <p:cNvPicPr/>
          <p:nvPr/>
        </p:nvPicPr>
        <p:blipFill>
          <a:blip r:embed="rId2"/>
          <a:stretch/>
        </p:blipFill>
        <p:spPr>
          <a:xfrm>
            <a:off x="755640" y="1197000"/>
            <a:ext cx="326376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i?id=19650031&amp;tov=2"/>
          <p:cNvPicPr/>
          <p:nvPr/>
        </p:nvPicPr>
        <p:blipFill>
          <a:blip r:embed="rId3"/>
          <a:stretch/>
        </p:blipFill>
        <p:spPr>
          <a:xfrm>
            <a:off x="4214880" y="1285920"/>
            <a:ext cx="374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684360" y="548460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071800" y="4500720"/>
            <a:ext cx="58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0c294d6a_0.tmp"/>
          <p:cNvPicPr/>
          <p:nvPr/>
        </p:nvPicPr>
        <p:blipFill>
          <a:blip r:embed="rId2"/>
          <a:stretch/>
        </p:blipFill>
        <p:spPr>
          <a:xfrm>
            <a:off x="2571840" y="928800"/>
            <a:ext cx="41986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10"/>
          <p:cNvSpPr txBox="1"/>
          <p:nvPr/>
        </p:nvSpPr>
        <p:spPr>
          <a:xfrm>
            <a:off x="3564000" y="83664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иограф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564000" y="1413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хаил Юрьевич Лермонтов род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5 октября 1814г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564000" y="206064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ство Лермонтов провел в усадьбе своей бабушки Е.А.Арсеньево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. Тарханы Пензенской губер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льчик получил домашнее образование, с детства свободно владел французским и немецким языкам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827 г.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.Ю. Лермонтов переехал с    бабушкой в Моск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1332000" y="5661000"/>
            <a:ext cx="657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122640" cy="3958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9"/>
          <p:cNvSpPr/>
          <p:nvPr/>
        </p:nvSpPr>
        <p:spPr>
          <a:xfrm>
            <a:off x="3635280" y="429264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830г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Лермонтов поступил на нравственно-политическое отделение Московского университ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1071720" y="5143680"/>
            <a:ext cx="75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832 г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Лермонтов вынужден покинуть университет. Он переезжает в Петербург, где поступает в Школу гвардейских подпрапорщиков и кавалерийских юнк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954240" cy="554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3995640" y="1341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427640" y="1268280"/>
            <a:ext cx="4152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чив школу юнкеров уезжает на Кавказ, где принимает участие в военных действиях и обращает на себя внимание начальника отряда "расторопностью, верностью взгляда и пылким мужеством", за которое его представляют к нагр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lermontov"/>
          <p:cNvPicPr/>
          <p:nvPr/>
        </p:nvPicPr>
        <p:blipFill>
          <a:blip r:embed="rId2"/>
          <a:stretch/>
        </p:blipFill>
        <p:spPr>
          <a:xfrm>
            <a:off x="250920" y="1052640"/>
            <a:ext cx="4895640" cy="4387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995640" y="1689120"/>
            <a:ext cx="454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имый край Лермонтова – Кавказ, который, с детства вдохновлял поэта, был колыбелью его творчества, стал же местом его гиб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погиб на дуэли, которая произошла из-за ничтожного по нынешним понятиям пов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684360" y="4433040"/>
            <a:ext cx="7561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Когда поспорить вам придётся»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70acfd76_0.tmp"/>
          <p:cNvPicPr/>
          <p:nvPr/>
        </p:nvPicPr>
        <p:blipFill>
          <a:blip r:embed="rId2"/>
          <a:stretch/>
        </p:blipFill>
        <p:spPr>
          <a:xfrm>
            <a:off x="2643120" y="85716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26920" y="4439880"/>
            <a:ext cx="79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Утёс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karagach"/>
          <p:cNvPicPr/>
          <p:nvPr/>
        </p:nvPicPr>
        <p:blipFill>
          <a:blip r:embed="rId2"/>
          <a:stretch/>
        </p:blipFill>
        <p:spPr>
          <a:xfrm>
            <a:off x="1428840" y="1000080"/>
            <a:ext cx="3421080" cy="287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185113629"/>
          <p:cNvPicPr/>
          <p:nvPr/>
        </p:nvPicPr>
        <p:blipFill>
          <a:blip r:embed="rId3"/>
          <a:srcRect l="0" t="0" r="0" b="20385"/>
          <a:stretch/>
        </p:blipFill>
        <p:spPr>
          <a:xfrm>
            <a:off x="5214960" y="1214280"/>
            <a:ext cx="279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468360" y="455508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Горные вершины»</a:t>
            </a: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8" descr="112501_0.tmp"/>
          <p:cNvPicPr/>
          <p:nvPr/>
        </p:nvPicPr>
        <p:blipFill>
          <a:blip r:embed="rId2"/>
          <a:stretch/>
        </p:blipFill>
        <p:spPr>
          <a:xfrm>
            <a:off x="1857240" y="857160"/>
            <a:ext cx="5143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826920" y="403776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Бородино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Атака гвардейских егерей и матросов"/>
          <p:cNvPicPr/>
          <p:nvPr/>
        </p:nvPicPr>
        <p:blipFill>
          <a:blip r:embed="rId2"/>
          <a:stretch/>
        </p:blipFill>
        <p:spPr>
          <a:xfrm>
            <a:off x="1000080" y="1357200"/>
            <a:ext cx="334008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Бой на Бородинском поле"/>
          <p:cNvPicPr/>
          <p:nvPr/>
        </p:nvPicPr>
        <p:blipFill>
          <a:blip r:embed="rId3"/>
          <a:stretch/>
        </p:blipFill>
        <p:spPr>
          <a:xfrm>
            <a:off x="5072040" y="785880"/>
            <a:ext cx="242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1908000" y="1515960"/>
            <a:ext cx="651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286000" y="41004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Парус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Image3"/>
          <p:cNvPicPr/>
          <p:nvPr/>
        </p:nvPicPr>
        <p:blipFill>
          <a:blip r:embed="rId2"/>
          <a:stretch/>
        </p:blipFill>
        <p:spPr>
          <a:xfrm>
            <a:off x="1357200" y="1714680"/>
            <a:ext cx="667548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11:53:37Z</dcterms:created>
  <dc:creator>zz</dc:creator>
  <dc:description/>
  <dc:language>en-US</dc:language>
  <cp:lastModifiedBy>Светлана</cp:lastModifiedBy>
  <dcterms:modified xsi:type="dcterms:W3CDTF">2016-09-19T11:47:49Z</dcterms:modified>
  <cp:revision>24</cp:revision>
  <dc:subject/>
  <dc:title>Слайд 1</dc:title>
</cp:coreProperties>
</file>