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FEB-46DF-41E1-9B89-F54151C1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E50-5711-4C9D-82D7-2BC4EEC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DCD-2E9F-4F44-904E-6FCFD29F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4E2-A03F-4424-8FB0-2CB7CED8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D72-E63E-4C83-954D-E7ED69D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30D-199C-44DB-87C2-18A79D0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C00-212B-4C64-AB8C-B73F6F8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473-778E-48B5-BAB9-E3CF2644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FBF-81E2-4F06-873F-48A1388F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18C-99EB-4460-B478-1E50A2A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459-13AC-4093-949E-E74AB12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E92-40FA-4EB3-B22C-4BD9386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42D0-D388-482A-93B6-C8F7C2D28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324240" cy="333396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3132000" y="692280"/>
            <a:ext cx="428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 rot="21211800">
            <a:off x="1258560" y="170028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1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1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1500120" y="3857760"/>
            <a:ext cx="67150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Ю.Лермонт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 лет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611280" y="44305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Вес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vjesna_n_0.tmp"/>
          <p:cNvPicPr/>
          <p:nvPr/>
        </p:nvPicPr>
        <p:blipFill>
          <a:blip r:embed="rId2"/>
          <a:stretch/>
        </p:blipFill>
        <p:spPr>
          <a:xfrm>
            <a:off x="2428920" y="928800"/>
            <a:ext cx="4714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41259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Вечер после дожд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8" descr="artlib_g_0.tmp"/>
          <p:cNvPicPr/>
          <p:nvPr/>
        </p:nvPicPr>
        <p:blipFill>
          <a:blip r:embed="rId2"/>
          <a:stretch/>
        </p:blipFill>
        <p:spPr>
          <a:xfrm>
            <a:off x="2000160" y="1000080"/>
            <a:ext cx="5305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611280" y="43120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Люблю я цепи синих гор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8" descr="f_971850_0.tmp"/>
          <p:cNvPicPr/>
          <p:nvPr/>
        </p:nvPicPr>
        <p:blipFill>
          <a:blip r:embed="rId2"/>
          <a:stretch/>
        </p:blipFill>
        <p:spPr>
          <a:xfrm>
            <a:off x="2286000" y="928800"/>
            <a:ext cx="428616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14200" y="39034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гда волнуется желтеющая нива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moya-rus_0.tmp"/>
          <p:cNvPicPr/>
          <p:nvPr/>
        </p:nvPicPr>
        <p:blipFill>
          <a:blip r:embed="rId2"/>
          <a:stretch/>
        </p:blipFill>
        <p:spPr>
          <a:xfrm>
            <a:off x="1214280" y="785880"/>
            <a:ext cx="5786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716360" y="22968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Три пальмы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8" descr="13815677_0.tmp"/>
          <p:cNvPicPr/>
          <p:nvPr/>
        </p:nvPicPr>
        <p:blipFill>
          <a:blip r:embed="rId2"/>
          <a:stretch/>
        </p:blipFill>
        <p:spPr>
          <a:xfrm>
            <a:off x="857160" y="135720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700360" y="31575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258920" y="54936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042920" y="45687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лыбельная песн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94273387_0.tmp"/>
          <p:cNvPicPr/>
          <p:nvPr/>
        </p:nvPicPr>
        <p:blipFill>
          <a:blip r:embed="rId2"/>
          <a:stretch/>
        </p:blipFill>
        <p:spPr>
          <a:xfrm>
            <a:off x="2428920" y="857160"/>
            <a:ext cx="45003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476360" y="5157720"/>
            <a:ext cx="42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Со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a8c27446_0.tmp"/>
          <p:cNvPicPr/>
          <p:nvPr/>
        </p:nvPicPr>
        <p:blipFill>
          <a:blip r:embed="rId2"/>
          <a:stretch/>
        </p:blipFill>
        <p:spPr>
          <a:xfrm>
            <a:off x="2428920" y="1285920"/>
            <a:ext cx="4410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826920" y="4186080"/>
            <a:ext cx="7632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i?id=42345333&amp;tov=5"/>
          <p:cNvPicPr/>
          <p:nvPr/>
        </p:nvPicPr>
        <p:blipFill>
          <a:blip r:embed="rId2"/>
          <a:stretch/>
        </p:blipFill>
        <p:spPr>
          <a:xfrm>
            <a:off x="755640" y="1197000"/>
            <a:ext cx="32637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i?id=19650031&amp;tov=2"/>
          <p:cNvPicPr/>
          <p:nvPr/>
        </p:nvPicPr>
        <p:blipFill>
          <a:blip r:embed="rId3"/>
          <a:stretch/>
        </p:blipFill>
        <p:spPr>
          <a:xfrm>
            <a:off x="4214880" y="1285920"/>
            <a:ext cx="374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84360" y="54846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071800" y="4500720"/>
            <a:ext cx="58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0c294d6a_0.tmp"/>
          <p:cNvPicPr/>
          <p:nvPr/>
        </p:nvPicPr>
        <p:blipFill>
          <a:blip r:embed="rId2"/>
          <a:stretch/>
        </p:blipFill>
        <p:spPr>
          <a:xfrm>
            <a:off x="2571840" y="928800"/>
            <a:ext cx="41986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3564000" y="836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ограф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564000" y="141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хаил Юрьевич Лермонтов род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5 октября 1814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564000" y="206064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ство Лермонтов провел в усадьбе своей бабушки Е.А.Арсеньев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. Тарханы Пензенской губер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ьчик получил домашнее образование, с детства свободно владел французским и немецким языкам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27 г.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.Ю. Лермонтов переехал с    бабушкой в Моск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332000" y="5661000"/>
            <a:ext cx="65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12264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3635280" y="429264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30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ермонтов поступил на нравственно-политическое отделение Московского универс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1071720" y="5143680"/>
            <a:ext cx="75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832 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Лермонтов вынужден покинуть университет. Он переезжает в Петербург, где поступает в Школу гвардейских подпрапорщиков и кавалерийских юнк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954240" cy="554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3995640" y="1341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427640" y="1268280"/>
            <a:ext cx="4152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чив школу юнкеров уезжает на Кавказ, где принимает участие в военных действиях и обращает на себя внимание начальника отряда "расторопностью, верностью взгляда и пылким мужеством", за которое его представляют к на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lermontov"/>
          <p:cNvPicPr/>
          <p:nvPr/>
        </p:nvPicPr>
        <p:blipFill>
          <a:blip r:embed="rId2"/>
          <a:stretch/>
        </p:blipFill>
        <p:spPr>
          <a:xfrm>
            <a:off x="250920" y="1052640"/>
            <a:ext cx="4895640" cy="4387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995640" y="1689120"/>
            <a:ext cx="454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ый край Лермонтова – Кавказ, который, с детства вдохновлял поэта, был колыбелью его творчества, стал же местом его гиб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гиб на дуэли, которая произошла из-за ничтожного по нынешним понятиям пов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684360" y="4433040"/>
            <a:ext cx="7561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Когда поспорить вам придётся»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70acfd76_0.tmp"/>
          <p:cNvPicPr/>
          <p:nvPr/>
        </p:nvPicPr>
        <p:blipFill>
          <a:blip r:embed="rId2"/>
          <a:stretch/>
        </p:blipFill>
        <p:spPr>
          <a:xfrm>
            <a:off x="2643120" y="85716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26920" y="4439880"/>
            <a:ext cx="79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Утёс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karagach"/>
          <p:cNvPicPr/>
          <p:nvPr/>
        </p:nvPicPr>
        <p:blipFill>
          <a:blip r:embed="rId2"/>
          <a:stretch/>
        </p:blipFill>
        <p:spPr>
          <a:xfrm>
            <a:off x="1428840" y="1000080"/>
            <a:ext cx="3421080" cy="287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85113629"/>
          <p:cNvPicPr/>
          <p:nvPr/>
        </p:nvPicPr>
        <p:blipFill>
          <a:blip r:embed="rId3"/>
          <a:srcRect l="0" t="0" r="0" b="20385"/>
          <a:stretch/>
        </p:blipFill>
        <p:spPr>
          <a:xfrm>
            <a:off x="5214960" y="1214280"/>
            <a:ext cx="279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468360" y="455508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Горные вершины»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8" descr="112501_0.tmp"/>
          <p:cNvPicPr/>
          <p:nvPr/>
        </p:nvPicPr>
        <p:blipFill>
          <a:blip r:embed="rId2"/>
          <a:stretch/>
        </p:blipFill>
        <p:spPr>
          <a:xfrm>
            <a:off x="1857240" y="857160"/>
            <a:ext cx="5143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826920" y="40377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Бородино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Атака гвардейских егерей и матросов"/>
          <p:cNvPicPr/>
          <p:nvPr/>
        </p:nvPicPr>
        <p:blipFill>
          <a:blip r:embed="rId2"/>
          <a:stretch/>
        </p:blipFill>
        <p:spPr>
          <a:xfrm>
            <a:off x="1000080" y="1357200"/>
            <a:ext cx="33400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Бой на Бородинском поле"/>
          <p:cNvPicPr/>
          <p:nvPr/>
        </p:nvPicPr>
        <p:blipFill>
          <a:blip r:embed="rId3"/>
          <a:stretch/>
        </p:blipFill>
        <p:spPr>
          <a:xfrm>
            <a:off x="5072040" y="785880"/>
            <a:ext cx="242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_4eb45cf3660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908000" y="1515960"/>
            <a:ext cx="651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0" y="4100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Парус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Image3"/>
          <p:cNvPicPr/>
          <p:nvPr/>
        </p:nvPicPr>
        <p:blipFill>
          <a:blip r:embed="rId2"/>
          <a:stretch/>
        </p:blipFill>
        <p:spPr>
          <a:xfrm>
            <a:off x="1357200" y="1714680"/>
            <a:ext cx="66754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1:53:37Z</dcterms:created>
  <dc:creator>zz</dc:creator>
  <dc:description/>
  <dc:language>en-US</dc:language>
  <cp:lastModifiedBy>Светлана</cp:lastModifiedBy>
  <dcterms:modified xsi:type="dcterms:W3CDTF">2016-09-19T11:47:49Z</dcterms:modified>
  <cp:revision>24</cp:revision>
  <dc:subject/>
  <dc:title>Слайд 1</dc:title>
</cp:coreProperties>
</file>