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0AF-41FB-4219-B871-B4816E59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331-AD17-452A-BA5B-154721F9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806-AEBA-4E72-B926-C6EC6A9A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4BC-1E6C-43DC-B666-6FAD8F1A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239-5C15-460B-A7FF-B21A3F6E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345-52EE-426E-BF0E-D26E4BA3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007-CDE6-4BAA-B435-9A591FBF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630-B907-4D91-B5CE-2AEFD09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6FD-781B-45C1-9525-2BF2F49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CD7-4110-43CF-908A-EDBBF28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3B2-8213-4808-9D04-5A07462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786-5A7D-4574-A3A0-7A46F2D0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127-EB2A-4858-B00E-6E3F8C442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24240" cy="333396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132000" y="692280"/>
            <a:ext cx="428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 rot="21211800">
            <a:off x="1258560" y="170028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1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1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1500120" y="3857760"/>
            <a:ext cx="67150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Ю.Лермон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 лет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611280" y="44305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с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vjesna_n_0.tmp"/>
          <p:cNvPicPr/>
          <p:nvPr/>
        </p:nvPicPr>
        <p:blipFill>
          <a:blip r:embed="rId2"/>
          <a:stretch/>
        </p:blipFill>
        <p:spPr>
          <a:xfrm>
            <a:off x="2428920" y="928800"/>
            <a:ext cx="4714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41259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чер после дожд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" descr="artlib_g_0.tmp"/>
          <p:cNvPicPr/>
          <p:nvPr/>
        </p:nvPicPr>
        <p:blipFill>
          <a:blip r:embed="rId2"/>
          <a:stretch/>
        </p:blipFill>
        <p:spPr>
          <a:xfrm>
            <a:off x="2000160" y="1000080"/>
            <a:ext cx="5305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611280" y="43120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Люблю я цепи синих гор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8" descr="f_971850_0.tmp"/>
          <p:cNvPicPr/>
          <p:nvPr/>
        </p:nvPicPr>
        <p:blipFill>
          <a:blip r:embed="rId2"/>
          <a:stretch/>
        </p:blipFill>
        <p:spPr>
          <a:xfrm>
            <a:off x="2286000" y="928800"/>
            <a:ext cx="428616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14200" y="39034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волнуется желтеющая нива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moya-rus_0.tmp"/>
          <p:cNvPicPr/>
          <p:nvPr/>
        </p:nvPicPr>
        <p:blipFill>
          <a:blip r:embed="rId2"/>
          <a:stretch/>
        </p:blipFill>
        <p:spPr>
          <a:xfrm>
            <a:off x="1214280" y="785880"/>
            <a:ext cx="5786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716360" y="22968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Три пальмы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13815677_0.tmp"/>
          <p:cNvPicPr/>
          <p:nvPr/>
        </p:nvPicPr>
        <p:blipFill>
          <a:blip r:embed="rId2"/>
          <a:stretch/>
        </p:blipFill>
        <p:spPr>
          <a:xfrm>
            <a:off x="857160" y="135720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700360" y="31575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258920" y="54936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042920" y="45687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лыбельная песн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94273387_0.tmp"/>
          <p:cNvPicPr/>
          <p:nvPr/>
        </p:nvPicPr>
        <p:blipFill>
          <a:blip r:embed="rId2"/>
          <a:stretch/>
        </p:blipFill>
        <p:spPr>
          <a:xfrm>
            <a:off x="2428920" y="857160"/>
            <a:ext cx="45003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476360" y="5157720"/>
            <a:ext cx="42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Со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a8c27446_0.tmp"/>
          <p:cNvPicPr/>
          <p:nvPr/>
        </p:nvPicPr>
        <p:blipFill>
          <a:blip r:embed="rId2"/>
          <a:stretch/>
        </p:blipFill>
        <p:spPr>
          <a:xfrm>
            <a:off x="2428920" y="1285920"/>
            <a:ext cx="4410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826920" y="4186080"/>
            <a:ext cx="7632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i?id=42345333&amp;tov=5"/>
          <p:cNvPicPr/>
          <p:nvPr/>
        </p:nvPicPr>
        <p:blipFill>
          <a:blip r:embed="rId2"/>
          <a:stretch/>
        </p:blipFill>
        <p:spPr>
          <a:xfrm>
            <a:off x="755640" y="1197000"/>
            <a:ext cx="32637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i?id=19650031&amp;tov=2"/>
          <p:cNvPicPr/>
          <p:nvPr/>
        </p:nvPicPr>
        <p:blipFill>
          <a:blip r:embed="rId3"/>
          <a:stretch/>
        </p:blipFill>
        <p:spPr>
          <a:xfrm>
            <a:off x="4214880" y="1285920"/>
            <a:ext cx="374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84360" y="54846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071800" y="4500720"/>
            <a:ext cx="58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0c294d6a_0.tmp"/>
          <p:cNvPicPr/>
          <p:nvPr/>
        </p:nvPicPr>
        <p:blipFill>
          <a:blip r:embed="rId2"/>
          <a:stretch/>
        </p:blipFill>
        <p:spPr>
          <a:xfrm>
            <a:off x="2571840" y="928800"/>
            <a:ext cx="4198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3564000" y="836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граф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564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ил Юрьевич Лермонтов род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5 октября 1814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564000" y="20606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ство Лермонтов провел в усадьбе своей бабушки Е.А.Арсеньев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. Тарханы Пензенской губер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ьчик получил домашнее образование, с детства свободно владел французским и немецким языкам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27 г.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.Ю. Лермонтов переехал с    бабушкой в Моск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332000" y="5661000"/>
            <a:ext cx="65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12264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3635280" y="429264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0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ермонтов поступил на нравственно-политическое отделение Московского универс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1071720" y="5143680"/>
            <a:ext cx="75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2 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Лермонтов вынужден покинуть университет. Он переезжает в Петербург, где поступает в Школу гвардейских подпрапорщиков и кавалерийских юнк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954240" cy="554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995640" y="134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427640" y="1268280"/>
            <a:ext cx="4152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чив школу юнкеров уезжает на Кавказ, где принимает участие в военных действиях и обращает на себя внимание начальника отряда "расторопностью, верностью взгляда и пылким мужеством", за которое его представляют к на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lermontov"/>
          <p:cNvPicPr/>
          <p:nvPr/>
        </p:nvPicPr>
        <p:blipFill>
          <a:blip r:embed="rId2"/>
          <a:stretch/>
        </p:blipFill>
        <p:spPr>
          <a:xfrm>
            <a:off x="250920" y="1052640"/>
            <a:ext cx="4895640" cy="4387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995640" y="1689120"/>
            <a:ext cx="454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ый край Лермонтова – Кавказ, который, с детства вдохновлял поэта, был колыбелью его творчества, стал же местом его гиб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гиб на дуэли, которая произошла из-за ничтожного по нынешним понятиям пов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684360" y="4433040"/>
            <a:ext cx="7561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поспорить вам придётся»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70acfd76_0.tmp"/>
          <p:cNvPicPr/>
          <p:nvPr/>
        </p:nvPicPr>
        <p:blipFill>
          <a:blip r:embed="rId2"/>
          <a:stretch/>
        </p:blipFill>
        <p:spPr>
          <a:xfrm>
            <a:off x="2643120" y="85716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26920" y="4439880"/>
            <a:ext cx="79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Утёс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karagach"/>
          <p:cNvPicPr/>
          <p:nvPr/>
        </p:nvPicPr>
        <p:blipFill>
          <a:blip r:embed="rId2"/>
          <a:stretch/>
        </p:blipFill>
        <p:spPr>
          <a:xfrm>
            <a:off x="1428840" y="1000080"/>
            <a:ext cx="3421080" cy="287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85113629"/>
          <p:cNvPicPr/>
          <p:nvPr/>
        </p:nvPicPr>
        <p:blipFill>
          <a:blip r:embed="rId3"/>
          <a:srcRect l="0" t="0" r="0" b="20385"/>
          <a:stretch/>
        </p:blipFill>
        <p:spPr>
          <a:xfrm>
            <a:off x="5214960" y="1214280"/>
            <a:ext cx="279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468360" y="455508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Горные вершины»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8" descr="112501_0.tmp"/>
          <p:cNvPicPr/>
          <p:nvPr/>
        </p:nvPicPr>
        <p:blipFill>
          <a:blip r:embed="rId2"/>
          <a:stretch/>
        </p:blipFill>
        <p:spPr>
          <a:xfrm>
            <a:off x="1857240" y="857160"/>
            <a:ext cx="5143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826920" y="40377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Бородино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Атака гвардейских егерей и матросов"/>
          <p:cNvPicPr/>
          <p:nvPr/>
        </p:nvPicPr>
        <p:blipFill>
          <a:blip r:embed="rId2"/>
          <a:stretch/>
        </p:blipFill>
        <p:spPr>
          <a:xfrm>
            <a:off x="1000080" y="1357200"/>
            <a:ext cx="33400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Бой на Бородинском поле"/>
          <p:cNvPicPr/>
          <p:nvPr/>
        </p:nvPicPr>
        <p:blipFill>
          <a:blip r:embed="rId3"/>
          <a:stretch/>
        </p:blipFill>
        <p:spPr>
          <a:xfrm>
            <a:off x="5072040" y="785880"/>
            <a:ext cx="242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908000" y="1515960"/>
            <a:ext cx="651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0" y="4100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Парус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Image3"/>
          <p:cNvPicPr/>
          <p:nvPr/>
        </p:nvPicPr>
        <p:blipFill>
          <a:blip r:embed="rId2"/>
          <a:stretch/>
        </p:blipFill>
        <p:spPr>
          <a:xfrm>
            <a:off x="1357200" y="1714680"/>
            <a:ext cx="6675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1:53:37Z</dcterms:created>
  <dc:creator>zz</dc:creator>
  <dc:description/>
  <dc:language>en-US</dc:language>
  <cp:lastModifiedBy>Светлана</cp:lastModifiedBy>
  <dcterms:modified xsi:type="dcterms:W3CDTF">2016-09-19T11:47:49Z</dcterms:modified>
  <cp:revision>24</cp:revision>
  <dc:subject/>
  <dc:title>Слайд 1</dc:title>
</cp:coreProperties>
</file>