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E73-A3FE-430D-A8C0-90508DFB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A39-1860-4451-B5F3-E0B6E8F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818-CC1A-4664-8431-BFBEFF0B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8F8-A6D3-43DD-AFC4-BAFB8B1F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4AD-711D-4A65-B11E-437C4864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C96-7CC0-43CC-A756-54BBF0A4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78A-A376-4170-960E-FF73437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33F-62F3-4892-9DE0-20AB5F9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87F-7205-463C-925D-2CBA47E0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EC3-4E5B-4D40-82D6-719071E6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546-7C96-43B9-8FB6-DD73160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6BC-88D2-49EE-AA32-EE2A432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A516-3F0D-4916-9F4A-478C3D618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F90B-4150-462A-B77F-7DF9893BD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2276640"/>
            <a:ext cx="6048360" cy="122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сть Н.В.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3143160"/>
            <a:ext cx="3887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ос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414806"/>
          <p:cNvPicPr/>
          <p:nvPr/>
        </p:nvPicPr>
        <p:blipFill>
          <a:blip r:embed="rId3"/>
          <a:stretch/>
        </p:blipFill>
        <p:spPr>
          <a:xfrm>
            <a:off x="468360" y="4437000"/>
            <a:ext cx="2592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00000" y="1268280"/>
            <a:ext cx="7417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презент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ина Наталья Давидов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слове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БОУ ЦО № 80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488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История создан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00000" y="1052640"/>
            <a:ext cx="6264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ос» — сатирическая абсурдистская повесть, написанная Николаем Васильевичем Гоголем 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3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1833 год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35 году журнал «Московский наблюдатель» отказался напечатать повесть Гоголя, назвав её «плохой, пошлой и тривиальной». Но, в отличие от «Московского наблюдателя», Александр Сергеевич Пушкин считал, что в произведении «так много неожиданного, фантастического, весёлого и оригинального», что он уговорил автора опубликовать повесть в журнале «Современник» в 1836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сть «Нос» подвергалась жестокой и неоднократной критике, в результате ряд деталей в произведении переделывался автором: например, встреча майора Ковалёва с Носом была перенесена из Казанского собора в Гостиный двор, а финал повести менялся несколько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D3D7-E762-4AED-A15F-5AC0E6CDE8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B57-3A75-436C-9102-B304A3E75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92554814ae08"/>
          <p:cNvPicPr/>
          <p:nvPr/>
        </p:nvPicPr>
        <p:blipFill>
          <a:blip r:embed="rId2"/>
          <a:stretch/>
        </p:blipFill>
        <p:spPr>
          <a:xfrm>
            <a:off x="250920" y="1125360"/>
            <a:ext cx="27669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4537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мечательная повесть Н.В.Гоголя «Нос» состоит из трех частей и повествует об удивительных событиях, произошедших с коллежским асессором Ковалевы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Двадцать пятого марта петербургский цирюльник Иван Яковлевич обнаруживает в свежеиспеченном хлебе нос. Иван Яковлевич с удивлением узнает, что нос принадлежит одному из его клиентов, коллежскому асессору Ковалеву. Цирюльник пытается избавиться от носа: выбрасывает его, но ему постоянно указывают на то, что он что-то уронил. С большим трудом Ивану Яковлевичу удается бросить нос с моста в Нев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543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352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в это время коллежский асессор просыпается и не находит у себя носа. Он шокирован. Прикрыв лицо платком, Ковалев выходит на улицу. Он весьма расстроен произошедшим, так как теперь не сможет появляться в свете, да к тому же у него много знакомых дам, за некоторыми из которых он не прочь поволочиться. Неожиданно он встречает свой собственный нос, наряженный в мундир и панталоны, нос садится в карету. Ковалев спешит за носом, оказывается в собо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0008-012-Illjustratsii-povestej"/>
          <p:cNvPicPr/>
          <p:nvPr/>
        </p:nvPicPr>
        <p:blipFill>
          <a:blip r:embed="rId2"/>
          <a:stretch/>
        </p:blipFill>
        <p:spPr>
          <a:xfrm>
            <a:off x="3995640" y="692280"/>
            <a:ext cx="4897440" cy="587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64200" y="836640"/>
            <a:ext cx="43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2149"/>
                </a:solidFill>
                <a:latin typeface="Arial"/>
              </a:rPr>
              <a:t>Думается, Гоголь недаром сделал местом действия повести "Нос" Петербург. По его мнению, только здесь могли "произойти" обозначенные события, только в Петербурге за чином не видят самого человека. Гоголь довел ситуацию до абсурда – нос оказался чиновником пятого класса, и окружающие, несмотря на очевидность его "нечеловеческой" природы, ведут себя с ним как с нормальным человеком, соответственно его стат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3960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Нос ведет себя так, как и подобает "значительному лицу" в чине статского советника: делает визиты, молится в Казанском соборе "с выражением величайшей набожности", заезжает в департамент, собирается по чужому паспорту уехать в Ригу. Никого не интересует, откуда он взялся. Все видят в нем не только человека, но и важного чинов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Интересно, что сам Ковалев, несмотря на свои старания его разоблачить, со страхом подходит к нему в Казанском соборе и вообще относится к нему как к челове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19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4895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Гротеск в повести заключается еще и в неожиданности и, можно сказать, несуразности. С первой же строчки произведения мы видим четкое обозначение даты: "Марта 25 числа" – это сразу не предполагает никакой фантастики. И тут же – пропавший нос. Произошла какая-то резкая деформация обыденности, доведение ее до полной нереа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1721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Несуразица же заключается в столь же резком изменении размеров носа. Если на первых страницах он обнаруживается цирюльником Иваном Яковлевичем в пироге (т.е. имеет размер, вполне соответствующий человеческому носу), то в тот момент, когда его впервые видит майор Ковалев, нос одет в мундир, замшевые панталоны, шляпу и даже имеет при себе шпагу – а значит, ростом он с обычного мужчину.</a:t>
            </a:r>
            <a:br>
              <a:rPr sz="2000"/>
            </a:b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5192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754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нее появление носа в повести – и он опять маленький. Квартальный приносит его завернутым в бумажку. Гоголю неважно было, почему вдруг нос вырос до человеческих размеров, неважно и почему он опять уменьшился. Центральным моментом повести является как раз тот период, когда нос воспринимался как нормальный человек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razvarot8"/>
          <p:cNvPicPr/>
          <p:nvPr/>
        </p:nvPicPr>
        <p:blipFill>
          <a:blip r:embed="rId2"/>
          <a:stretch/>
        </p:blipFill>
        <p:spPr>
          <a:xfrm>
            <a:off x="5076720" y="1125360"/>
            <a:ext cx="3349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2149"/>
                </a:solidFill>
                <a:latin typeface="Times New Roman"/>
              </a:rPr>
              <a:t>Сюжет повести условен, сама идея – нелепа, но именно в этом и состоит гротеск Гоголя и, несмотря на это, является довольно реалистичным. Чернышевский говорил, что подлинный реализм возможен лишь при изображении жизни в "формах самой жизн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835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2149"/>
                </a:solidFill>
                <a:latin typeface="Times New Roman"/>
              </a:rPr>
              <a:t>Гоголь необычайно раздвинул границы условности и показал, что эта условность замечательно служит познанию жизни. Если в этом нелепом обществе все определяется чином, то почему же нельзя эту фантастически-нелепую организацию жизни воспроизвести в фантастическом сюжете? Гоголь показывает, что не только можно, но и вполне целесообразно. И таким образом формы искусства в конечном счете отражают формы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91080" y="981000"/>
            <a:ext cx="3268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0:54:37Z</dcterms:created>
  <dc:creator>Александрова З.В. (Aida_Alex)</dc:creator>
  <dc:description>http://aida.ucoz.ru</dc:description>
  <dc:language>en-US</dc:language>
  <cp:lastModifiedBy>лена</cp:lastModifiedBy>
  <dcterms:modified xsi:type="dcterms:W3CDTF">2014-02-16T14:01:53Z</dcterms:modified>
  <cp:revision>9</cp:revision>
  <dc:subject/>
  <dc:title>литература 2</dc:title>
</cp:coreProperties>
</file>