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39.png" ContentType="image/pn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D33-6E39-4ADC-B417-B7469DB9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C34-3473-452A-A146-A083CD0C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53F-AE63-45DB-8AF4-A899A114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1D5-4F65-4E83-81F4-1B9C7E7B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587-FA36-4D01-B235-766538A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19B-0A5A-4B73-A7BF-67CD77C1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F16-42A5-4B9F-BBF7-9993095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14E-C427-4017-A767-789B88DC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814-0C7F-4B26-A725-B5FDFCD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4D3-A805-4645-B136-8101896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BB8-6BD3-4B5B-88FD-633394C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885-37B9-450D-8789-247A5AA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0B2-272C-4E5F-9934-AFDD7F74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22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lomonosov.pomorsu.ru/img/zal3_img1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4" descr="collage"/>
          <p:cNvPicPr/>
          <p:nvPr/>
        </p:nvPicPr>
        <p:blipFill>
          <a:blip r:embed="rId2"/>
          <a:stretch/>
        </p:blipFill>
        <p:spPr>
          <a:xfrm>
            <a:off x="0" y="0"/>
            <a:ext cx="9036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611280" y="5805360"/>
            <a:ext cx="8072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Учитель русского языка и литературы Гончаро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МКОУ  «Морозовская СО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Тейковского муниципального района Ива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179280" y="11592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«Поэзия М.В.Ломонос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350px-Poltava"/>
          <p:cNvPicPr/>
          <p:nvPr/>
        </p:nvPicPr>
        <p:blipFill>
          <a:blip r:embed="rId2"/>
          <a:stretch/>
        </p:blipFill>
        <p:spPr>
          <a:xfrm>
            <a:off x="179280" y="3933720"/>
            <a:ext cx="475308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620640"/>
            <a:ext cx="903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Ломоносов начал с победно-патриотической «Оды на взятие Хотин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написанной в 1739 г. в Германии, сразу после захвата русскими войсками турецкой крепости Хотин в Молдавии. Эта блестящая победа произвела сильное впечатление в Европе и подняла международный престиж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 оде Ломоносова можно выделить 3 ча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ступление, изображение битвы и прославление побе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Картины боя даны в типичном для Ломоносова гиперболизированном стиле, воплотившем в себе напряженность и героику батальных сцен. Вершителем всех событий выведен русский солдат, «росс», как называет его автор. Над русским воинством появляются тени Петра I и Ивана Грозного, одержавших в свое время победы над магомета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Такие исторические параллели станут после Ломоносова одной из устойчивых черт одического жан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979640" y="115920"/>
            <a:ext cx="5695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а на взятие Хотин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572000" y="4507560"/>
            <a:ext cx="50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Крепит отечеств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Сынов российских дух и ру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Желает всяк пролить всю кр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От грозного бодрится зву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5">
            <a:hlinkClick r:id="rId3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258920" y="115920"/>
            <a:ext cx="7029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хвальные оды.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Петра I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79280" y="1197000"/>
            <a:ext cx="8856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Большая часть од Ломоносова была написана в связи с ежегодно отмечавшимся днем восшествия на престол того или иного монарха. Ломоносов писал оды, посвященные Анне Иоанновне, Иоанну Антоновичу, Елизавете Петровне, Петру III и Екатерине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ако содержание и значение похвальных од Ломоносова шире и важнее их официально-придворной роли. В каждой поэт развивал свои идеи и планы, связанные с судьбами русского государ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и торжественные оды Ломоносов писал с 1739-1764 г. и создал 20 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им из главных образов похвальных од становится Петр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глазах Ломоносова Петр — создатель новой Росс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ее национальный герой, неустанный труженик, просвет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Он жив, во все страны взир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вою Россию обновля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лки, законы, кораб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ам строит, правит и предводи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туру духом превосходит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Герой в морях и на земли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(Ода 1757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оде 1752 г. Ломоносов говорит о том, что Пе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свет открыл России всей»,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в оде 1761 г.— видит в Пет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защитника, отца, героя».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0Nate_Petr1VRycDosp"/>
          <p:cNvPicPr/>
          <p:nvPr/>
        </p:nvPicPr>
        <p:blipFill>
          <a:blip r:embed="rId6"/>
          <a:stretch/>
        </p:blipFill>
        <p:spPr>
          <a:xfrm>
            <a:off x="6732720" y="3357720"/>
            <a:ext cx="2352600" cy="3166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12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268360" y="26028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ма "Петр Великий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285264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Время действия относится к 1702 г. и связано с началом Северной войны. В первой песне говорится о походе Петра к Белому морю с тем, чтобы отогнать шведов от Архангельска, на который шведские войска напали с целью отвлечь русские силы от крепости Нотербург. Большое место в песне отведено рассказу Петра I о стрелецких бунтах, об анархии, в которую была ввергнута по воле царевны Софьи вся Москва. Вся эта предыстория вынесена в начало поэмы и служит контрастным фоном к эпохе просвещенного абсолютизма Петра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Содержанием второй песни является штурм и взятие крепости Нотербург. Большое место в поэме отведено подвигу рядовых воинов. Батальные сцены перемежаются лирическими отступлениями автора, обращенными то к шведам, то к русскому войс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Таким образом, основная тема двух песен, написанных Ломоносовым, — неустанная борьба, которую ведет Петр с внешними и внутренними врагами, препятствующими грандиозным преобразованиям в стране. Наиболее сложными врагами, по мысли Ломоносова, являются враги внутренние. В поэме Ломоносов говорит и о военной мощи России как залоге процветания в стране наук и искус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mage001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2592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32" name="Rectangle 8"/>
          <p:cNvSpPr/>
          <p:nvPr/>
        </p:nvSpPr>
        <p:spPr>
          <a:xfrm>
            <a:off x="2195640" y="98100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Гимном славы Петру должна была стать эпическая поэма «Петр Великий», из которой он написал только 2 песни (задумано было двадцать четыре). Но и из написанного ясно выступает замысел поэмы и облик ее героя. Петр в поэме Ломоносова — «строитель, плаватель, в полях, морях герой».</a:t>
            </a: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29760" y="6600960"/>
            <a:ext cx="500040" cy="257040"/>
          </a:xfrm>
          <a:custGeom>
            <a:avLst/>
            <a:gdLst>
              <a:gd name="textAreaLeft" fmla="*/ 16560 w 500040"/>
              <a:gd name="textAreaRight" fmla="*/ 483480 w 5000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41992" h="21600">
                <a:moveTo>
                  <a:pt x="0" y="0"/>
                </a:moveTo>
                <a:lnTo>
                  <a:pt x="41992" y="0"/>
                </a:lnTo>
                <a:lnTo>
                  <a:pt x="41992" y="21600"/>
                </a:lnTo>
                <a:lnTo>
                  <a:pt x="0" y="21600"/>
                </a:lnTo>
                <a:close/>
              </a:path>
              <a:path fill="lightenLess" w="41992" h="21600">
                <a:moveTo>
                  <a:pt x="0" y="0"/>
                </a:moveTo>
                <a:lnTo>
                  <a:pt x="41992" y="0"/>
                </a:lnTo>
                <a:lnTo>
                  <a:pt x="40592" y="1400"/>
                </a:lnTo>
                <a:lnTo>
                  <a:pt x="1400" y="1400"/>
                </a:lnTo>
                <a:close/>
              </a:path>
              <a:path fill="darken" w="41992" h="21600">
                <a:moveTo>
                  <a:pt x="41992" y="0"/>
                </a:moveTo>
                <a:lnTo>
                  <a:pt x="41992" y="21600"/>
                </a:lnTo>
                <a:lnTo>
                  <a:pt x="40592" y="20200"/>
                </a:lnTo>
                <a:lnTo>
                  <a:pt x="40592" y="1400"/>
                </a:lnTo>
                <a:close/>
              </a:path>
              <a:path fill="darkenLess" w="41992" h="21600">
                <a:moveTo>
                  <a:pt x="41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2" y="20200"/>
                </a:lnTo>
                <a:close/>
              </a:path>
              <a:path fill="lighten" w="41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92" h="21600">
                <a:moveTo>
                  <a:pt x="13989" y="3794"/>
                </a:moveTo>
                <a:lnTo>
                  <a:pt x="28002" y="10800"/>
                </a:lnTo>
                <a:lnTo>
                  <a:pt x="1398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79280" y="825480"/>
            <a:ext cx="8785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ольшая часть од Ломоносова была адресована Елизавете Петровне, это объясняется не только тем, что с ее царствованием совпали двадцать лет жизни самого поэта, но и тем, что она была дочерью Петра I, которой, по мнению Ломоносова, прежде всего надлежало продолжать дела от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под этим влиянием и создавал об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ы Петровны, идеализируя ее, изображ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кровительницей наук и искусст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садительницей просвещ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Молчите, пламенные зв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колебать престаньте с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Здесь в мире расширять на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зволила Елиса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И это об императрице, отличавшейся празднос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кучавшей во время ученых бесед, которым 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редпочитала развлечения, б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 воцарением Елизаветы Петровны, пис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, «Россия зрит конец бедам», и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а — наследницадел Пет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ому возможно опис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Твои доброты все подроб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 разве только указ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етре природу в том подоб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971640" y="115920"/>
            <a:ext cx="735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Елизаветы в одах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6" descr="c7664-007"/>
          <p:cNvPicPr/>
          <p:nvPr/>
        </p:nvPicPr>
        <p:blipFill>
          <a:blip r:embed="rId4"/>
          <a:stretch/>
        </p:blipFill>
        <p:spPr>
          <a:xfrm>
            <a:off x="5651640" y="2060640"/>
            <a:ext cx="3321000" cy="43196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721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0_f66e9_7c3724b7_XL"/>
          <p:cNvPicPr/>
          <p:nvPr/>
        </p:nvPicPr>
        <p:blipFill>
          <a:blip r:embed="rId2"/>
          <a:stretch/>
        </p:blipFill>
        <p:spPr>
          <a:xfrm>
            <a:off x="4356000" y="3429000"/>
            <a:ext cx="4572000" cy="3297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79280" y="441360"/>
            <a:ext cx="89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Россия в одах Ломоносова выступает в образе матери-родины, «небу равной» России. Прославляя военную мощь России, необходимую для упрочения ее государственной независимости, Ломоносов осуждает «губительные брани», воспевая мир и тишину. Воспевая победы русских, поэт подчеркивает, что русские обнажили «праведный меч», они хотят «войнами укротить войну», например в «Надписи на иллуминацию» 1748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Российска тишина пределы превос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льет избыток свой в окрестные стр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юет воинство Твое против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ружие Твое Европе мир привод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Только при «тишине» и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достичь расцвета в науке,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говорится в «Оде на день восше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на престол Елизаветы Петровн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1747г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Царей и царств земных от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злюбленная ти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Блаженство сел, градов ог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ль ты полезна и крас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857760" y="6357960"/>
            <a:ext cx="428400" cy="328680"/>
          </a:xfrm>
          <a:custGeom>
            <a:avLst/>
            <a:gdLst>
              <a:gd name="textAreaLeft" fmla="*/ 21240 w 428400"/>
              <a:gd name="textAreaRight" fmla="*/ 407160 w 42840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28146" h="21600">
                <a:moveTo>
                  <a:pt x="0" y="0"/>
                </a:moveTo>
                <a:lnTo>
                  <a:pt x="28146" y="0"/>
                </a:lnTo>
                <a:lnTo>
                  <a:pt x="28146" y="21600"/>
                </a:lnTo>
                <a:lnTo>
                  <a:pt x="0" y="21600"/>
                </a:lnTo>
                <a:close/>
              </a:path>
              <a:path fill="lightenLess" w="28146" h="21600">
                <a:moveTo>
                  <a:pt x="0" y="0"/>
                </a:moveTo>
                <a:lnTo>
                  <a:pt x="28146" y="0"/>
                </a:lnTo>
                <a:lnTo>
                  <a:pt x="26746" y="1400"/>
                </a:lnTo>
                <a:lnTo>
                  <a:pt x="1400" y="1400"/>
                </a:lnTo>
                <a:close/>
              </a:path>
              <a:path fill="darken" w="28146" h="21600">
                <a:moveTo>
                  <a:pt x="28146" y="0"/>
                </a:moveTo>
                <a:lnTo>
                  <a:pt x="28146" y="21600"/>
                </a:lnTo>
                <a:lnTo>
                  <a:pt x="26746" y="20200"/>
                </a:lnTo>
                <a:lnTo>
                  <a:pt x="26746" y="1400"/>
                </a:lnTo>
                <a:close/>
              </a:path>
              <a:path fill="darkenLess" w="28146" h="21600">
                <a:moveTo>
                  <a:pt x="28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6" y="20200"/>
                </a:lnTo>
                <a:close/>
              </a:path>
              <a:path fill="lighten" w="28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6" h="21600">
                <a:moveTo>
                  <a:pt x="7067" y="3794"/>
                </a:moveTo>
                <a:lnTo>
                  <a:pt x="21080" y="10800"/>
                </a:lnTo>
                <a:lnTo>
                  <a:pt x="706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0920" y="692280"/>
            <a:ext cx="8713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еличие России — в ее безмерных пространствах и в людях русских, о которых он пишет с наибольшей искренностью и воодушевлением. Глубокой верой в русский народ и твердым убеждением в его талантливости звучат слова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…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может собственных Пла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быстрых разумом Нев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оссийская земля рождать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 убеждению поэта, благо и слава Роди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—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развитии “божественных” нау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ханики, химии, астроном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ауки пользуют вез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реди народов и в пусты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градском шуму и наеди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покое сладком и в труде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Картину будущих грандиозных научных откр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начертал Ломоносов в оде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бращаясь к молодым ученым с призы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сследовать еще не исследова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 не откры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езде исследуйте всеч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то есть велико и прекр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его еще не видел све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этой и других его одах воплощ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чта поэта о техническом прогрессе России, ее величии и могуществе.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reshi_8624754"/>
          <p:cNvPicPr/>
          <p:nvPr/>
        </p:nvPicPr>
        <p:blipFill>
          <a:blip r:embed="rId2"/>
          <a:stretch/>
        </p:blipFill>
        <p:spPr>
          <a:xfrm>
            <a:off x="5435640" y="1628640"/>
            <a:ext cx="3456000" cy="476280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35796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2"/>
          <p:cNvSpPr/>
          <p:nvPr/>
        </p:nvSpPr>
        <p:spPr>
          <a:xfrm>
            <a:off x="4643280" y="2492280"/>
            <a:ext cx="417672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ажное место отводит поэт тропа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лицетворениям, метафор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ям и гиперболам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тличающимся ликующим харак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Соединение метафор переходи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ю, например в оде 1748 г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Заря багряною рук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 утренних спокойных 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ыводит с солнцем за соб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Твоей державы нов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11280" y="115920"/>
            <a:ext cx="813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ое своеобразие похвальных о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468360" y="2492280"/>
            <a:ext cx="381636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авторскую речь обильно ввод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типично ораторские приемы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опросы, восклиц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пример, начало оды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дресованное Елизавете Петров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ую радость ощуща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уда я ныне восхище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ебесну пищу я вкуша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а верьх Олимпа вознесен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2556000" y="5157720"/>
            <a:ext cx="374472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эт обильно использ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мифологические образ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олях кровавых Марс страш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й мечь в Петровых зря рук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с трепетом Нептун чуд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зирая на российский фл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611280" y="765000"/>
            <a:ext cx="8137440" cy="936720"/>
          </a:xfrm>
          <a:prstGeom prst="downArrowCallout">
            <a:avLst>
              <a:gd name="adj1" fmla="val -104845"/>
              <a:gd name="adj2" fmla="val 96202"/>
              <a:gd name="adj3" fmla="val 18384"/>
              <a:gd name="adj4" fmla="val 64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Художественное своеобразие похвальных од Ломоно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определяется их идейны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684360" y="1700280"/>
            <a:ext cx="799128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Каждая ода представляет с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вдохновенный монолог поэта в стихотвор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7">
            <a:hlinkClick r:id="rId4" action="ppaction://hlinksldjump"/>
          </p:cNvPr>
          <p:cNvSpPr/>
          <p:nvPr/>
        </p:nvSpPr>
        <p:spPr>
          <a:xfrm>
            <a:off x="8572680" y="635796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10800" y="8155"/>
                </a:moveTo>
                <a:lnTo>
                  <a:pt x="13376" y="10766"/>
                </a:ln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lnTo>
                  <a:pt x="17763" y="15118"/>
                </a:lnTo>
                <a:lnTo>
                  <a:pt x="16109" y="15118"/>
                </a:lnTo>
                <a:lnTo>
                  <a:pt x="16109" y="22307"/>
                </a:lnTo>
                <a:lnTo>
                  <a:pt x="5491" y="22307"/>
                </a:lnTo>
                <a:lnTo>
                  <a:pt x="5491" y="15118"/>
                </a:lnTo>
                <a:lnTo>
                  <a:pt x="3837" y="15118"/>
                </a:lnTo>
                <a:close/>
              </a:path>
              <a:path fill="darkenLess" w="21600" h="30236">
                <a:moveTo>
                  <a:pt x="13376" y="10766"/>
                </a:move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close/>
              </a:path>
              <a:path fill="darkenLess" w="21600" h="30236">
                <a:moveTo>
                  <a:pt x="9877" y="18617"/>
                </a:moveTo>
                <a:lnTo>
                  <a:pt x="11723" y="18617"/>
                </a:lnTo>
                <a:lnTo>
                  <a:pt x="11723" y="22307"/>
                </a:lnTo>
                <a:lnTo>
                  <a:pt x="16109" y="22307"/>
                </a:lnTo>
                <a:lnTo>
                  <a:pt x="16109" y="15118"/>
                </a:lnTo>
                <a:lnTo>
                  <a:pt x="5491" y="15118"/>
                </a:lnTo>
                <a:lnTo>
                  <a:pt x="5491" y="22307"/>
                </a:lnTo>
                <a:lnTo>
                  <a:pt x="9877" y="2230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79280" y="781200"/>
            <a:ext cx="8713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Ломоносов проявил себя также в области духовной 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стихотворные переложения библейских текстов с лирическим содержанием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ращаясь к Библии, поэты находили в ней т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близкие к собственным мыслям и настро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 духовных одах Ломоносова отчетливо прослеживаются две темы: восхищение гармонией, красотой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 гневное обличение гонителей, недоброжелателей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е темы имели свою биографическую основу. В сравнении с похвальными, духовные оды Ломоносова отличаются краткостью и простотой изложения. Язык духовных од лаконичен и лишен всякого рода «украш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Пушкин считал духовные оды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лучшими его произведения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«Они останутся вечными памят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русской словесности; 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которые из духовных од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али «кантами», т. е. народными песн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и пользовались популяр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 только в XVIII, но и в XIX в.</a:t>
            </a:r>
            <a:r>
              <a:rPr b="0" lang="en-US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13200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1" descr="Bibliya"/>
          <p:cNvPicPr/>
          <p:nvPr/>
        </p:nvPicPr>
        <p:blipFill>
          <a:blip r:embed="rId2"/>
          <a:stretch/>
        </p:blipFill>
        <p:spPr>
          <a:xfrm>
            <a:off x="5219640" y="4437000"/>
            <a:ext cx="3600360" cy="223056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72680" y="6458040"/>
            <a:ext cx="571320" cy="399960"/>
          </a:xfrm>
          <a:custGeom>
            <a:avLst/>
            <a:gdLst>
              <a:gd name="textAreaLeft" fmla="*/ 25920 w 571320"/>
              <a:gd name="textAreaRight" fmla="*/ 545400 w 5713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258920" y="98100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8000" y="981000"/>
            <a:ext cx="644364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вторы библейских псалмов, прославляя бога, восторженно воспевали созданный им бесконечно разнообразный в своих проявлениях мир. Горы и равнины, реки и моря, пустыни и леса — все это должно было доказать мощь и величие твор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у, ученому-естествоиспытателю, хорошо знакомому с грозными стихиями природы, была близка эта поэзия, и он охотно занимался переложением псалмов. В «Переложении псалма 103» он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деян чудной красо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Зарей божественного све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ы звезды распростер без 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Шатру подобно пред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иографична и вторая тема, представленная в переложении 26-го и 143-го псалм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первом из них поэт жалуется на свое раннее сиротство и одиночест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Меня оставил мой от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И мать еще в младенстве.</a:t>
            </a: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Затем он обращается к богу с просьбой защитить его от наглых и коварных враг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Меня в сей жизни не отд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Душам людей безбожн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воей десницей покры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т клеветаний лож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1295434261_b170"/>
          <p:cNvPicPr/>
          <p:nvPr/>
        </p:nvPicPr>
        <p:blipFill>
          <a:blip r:embed="rId2"/>
          <a:srcRect l="0" t="9826" r="3402" b="0"/>
          <a:stretch/>
        </p:blipFill>
        <p:spPr>
          <a:xfrm>
            <a:off x="6443640" y="3429000"/>
            <a:ext cx="2521080" cy="2881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298764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11" descr="orig_6_1297333041RrD3aD9kQz"/>
          <p:cNvPicPr/>
          <p:nvPr/>
        </p:nvPicPr>
        <p:blipFill>
          <a:blip r:embed="rId3"/>
          <a:stretch/>
        </p:blipFill>
        <p:spPr>
          <a:xfrm>
            <a:off x="6191280" y="333360"/>
            <a:ext cx="2952720" cy="2095560"/>
          </a:xfrm>
          <a:prstGeom prst="rect">
            <a:avLst/>
          </a:prstGeom>
          <a:ln w="0">
            <a:noFill/>
          </a:ln>
        </p:spPr>
      </p:pic>
      <p:sp>
        <p:nvSpPr>
          <p:cNvPr id="162" name="Управляющая кнопка: домой 6">
            <a:hlinkClick r:id="rId4" action="ppaction://hlinksldjump"/>
          </p:cNvPr>
          <p:cNvSpPr/>
          <p:nvPr/>
        </p:nvSpPr>
        <p:spPr>
          <a:xfrm>
            <a:off x="8501040" y="638640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836640"/>
            <a:ext cx="89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Свои обширные познания в области науки Ломоносов сделал предметом поэ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Его «научные» стихи — действительно поэзия, рожденная вдохновением, здесь поэтический восторг возбуждала пытливая мысль ученого. Стихотворения с научной тематикой Ломоносов посвятил явлениям природы, прежде всего космической теме. Так появились два тесно связанных между собой произведения: «Утреннее размышление о божием величестве» и «Вечернее размышление о божием величестве при случае великого северного сияния». Оба стихотворения написаны в 174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В каждом из «Размышлений» повторяется одна и та же композиция. Сначала изображаются явления, знакомые человеку по его ежедневным впечатлениям. Затем поэт-ученый приподнимает завесу над невидимой, скрытой областью Вселенной, вводящей читателя в новые, неизвестные ему м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258920" y="1890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ая поэз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8" descr="orig_6_1297333041RrD3aD9kQz"/>
          <p:cNvPicPr/>
          <p:nvPr/>
        </p:nvPicPr>
        <p:blipFill>
          <a:blip r:embed="rId3"/>
          <a:stretch/>
        </p:blipFill>
        <p:spPr>
          <a:xfrm>
            <a:off x="2700360" y="3827520"/>
            <a:ext cx="3983040" cy="303048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58040"/>
            <a:ext cx="571680" cy="399960"/>
          </a:xfrm>
          <a:custGeom>
            <a:avLst/>
            <a:gdLst>
              <a:gd name="textAreaLeft" fmla="*/ 25920 w 571680"/>
              <a:gd name="textAreaRight" fmla="*/ 545760 w 5716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65" h="21600">
                <a:moveTo>
                  <a:pt x="0" y="0"/>
                </a:moveTo>
                <a:lnTo>
                  <a:pt x="30865" y="0"/>
                </a:lnTo>
                <a:lnTo>
                  <a:pt x="30865" y="21600"/>
                </a:lnTo>
                <a:lnTo>
                  <a:pt x="0" y="21600"/>
                </a:lnTo>
                <a:close/>
              </a:path>
              <a:path fill="lightenLess" w="30865" h="21600">
                <a:moveTo>
                  <a:pt x="0" y="0"/>
                </a:moveTo>
                <a:lnTo>
                  <a:pt x="30865" y="0"/>
                </a:lnTo>
                <a:lnTo>
                  <a:pt x="29465" y="1400"/>
                </a:lnTo>
                <a:lnTo>
                  <a:pt x="1400" y="1400"/>
                </a:lnTo>
                <a:close/>
              </a:path>
              <a:path fill="darken" w="30865" h="21600">
                <a:moveTo>
                  <a:pt x="30865" y="0"/>
                </a:moveTo>
                <a:lnTo>
                  <a:pt x="30865" y="21600"/>
                </a:lnTo>
                <a:lnTo>
                  <a:pt x="29465" y="20200"/>
                </a:lnTo>
                <a:lnTo>
                  <a:pt x="29465" y="1400"/>
                </a:lnTo>
                <a:close/>
              </a:path>
              <a:path fill="darkenLess" w="30865" h="21600">
                <a:moveTo>
                  <a:pt x="30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5" y="20200"/>
                </a:lnTo>
                <a:close/>
              </a:path>
              <a:path fill="lighten" w="30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5" h="21600">
                <a:moveTo>
                  <a:pt x="8426" y="3794"/>
                </a:moveTo>
                <a:lnTo>
                  <a:pt x="22439" y="10800"/>
                </a:lnTo>
                <a:lnTo>
                  <a:pt x="842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79280" y="1916280"/>
            <a:ext cx="489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я основателя и отца русской поэзии по праву принадлежит этому великому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Натура преимущественно практичес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н был рожден реформа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 основ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lomonosov2.jpg"/>
          <p:cNvPicPr/>
          <p:nvPr/>
        </p:nvPicPr>
        <p:blipFill>
          <a:blip r:embed="rId2"/>
          <a:stretch/>
        </p:blipFill>
        <p:spPr>
          <a:xfrm>
            <a:off x="5000760" y="1714680"/>
            <a:ext cx="3960720" cy="4752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9"/>
          <p:cNvSpPr txBox="1"/>
          <p:nvPr/>
        </p:nvSpPr>
        <p:spPr>
          <a:xfrm>
            <a:off x="714240" y="214200"/>
            <a:ext cx="78296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зия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хаила Васильевича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0" y="115920"/>
            <a:ext cx="9144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первой строфе «Утреннего размышления» изображается восход солнца, наступление утра, пробуждение всей природы. Затем Ломоносов начинает говорить о физическом строении Солнца. Рисуется картина, доступная только вдохновенному взору ученого, способного умозрительно представить то, чего не может увидеть «бренное» человеческое «око», — раскаленную, бушующую поверхность сол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огненны валы стремя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И не находят бере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вихри пламенны крутя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Борющись множество ве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камни, как вода, кип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Горящи там дожди шумя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выступает в этом стихотворении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еликолепный популяризатор научн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Сложные явления он раскрывает с помощью обыч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земных» образов: «огненны валы», «вихри пламенн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горящи дожд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«вечернем» размышлении поэт обращается к явления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предстающим нам на небосводе с наступлением но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Лицо свое скрывает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Поля покрыла мрачна ноч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Открылась бездна звезд пол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Звездам числа нет, бездне д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пишет о бесконечности вселенной, в которой человек выглядит как малая песчинка в бездонном океане. Считать землю центром мироздания, это был совершенно новый взгляд на окружающий его мир. Ломоносов ставит вопрос о возможности жизни на других планетах, предлагает рад гипотез о физической природе северного си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800x600_YAEKQvJD9MgF2NcZodPv"/>
          <p:cNvPicPr/>
          <p:nvPr/>
        </p:nvPicPr>
        <p:blipFill>
          <a:blip r:embed="rId3"/>
          <a:stretch/>
        </p:blipFill>
        <p:spPr>
          <a:xfrm>
            <a:off x="6012000" y="1484280"/>
            <a:ext cx="2895480" cy="381780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4" action="ppaction://hlinksldjump"/>
          </p:cNvPr>
          <p:cNvSpPr/>
          <p:nvPr/>
        </p:nvSpPr>
        <p:spPr>
          <a:xfrm>
            <a:off x="8429760" y="6215040"/>
            <a:ext cx="500040" cy="47160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2" h="21600">
                <a:moveTo>
                  <a:pt x="11451" y="3837"/>
                </a:moveTo>
                <a:lnTo>
                  <a:pt x="14027" y="6448"/>
                </a:ln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lnTo>
                  <a:pt x="18414" y="10800"/>
                </a:lnTo>
                <a:lnTo>
                  <a:pt x="16760" y="10800"/>
                </a:lnTo>
                <a:lnTo>
                  <a:pt x="16760" y="17989"/>
                </a:lnTo>
                <a:lnTo>
                  <a:pt x="6142" y="17989"/>
                </a:lnTo>
                <a:lnTo>
                  <a:pt x="6142" y="10800"/>
                </a:lnTo>
                <a:lnTo>
                  <a:pt x="4488" y="10800"/>
                </a:lnTo>
                <a:close/>
              </a:path>
              <a:path fill="darkenLess" w="22902" h="21600">
                <a:moveTo>
                  <a:pt x="14027" y="6448"/>
                </a:move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close/>
              </a:path>
              <a:path fill="darkenLess" w="22902" h="21600">
                <a:moveTo>
                  <a:pt x="10528" y="14299"/>
                </a:moveTo>
                <a:lnTo>
                  <a:pt x="12373" y="14299"/>
                </a:lnTo>
                <a:lnTo>
                  <a:pt x="12373" y="17989"/>
                </a:lnTo>
                <a:lnTo>
                  <a:pt x="16760" y="17989"/>
                </a:lnTo>
                <a:lnTo>
                  <a:pt x="16760" y="10800"/>
                </a:lnTo>
                <a:lnTo>
                  <a:pt x="6142" y="10800"/>
                </a:lnTo>
                <a:lnTo>
                  <a:pt x="6142" y="17989"/>
                </a:lnTo>
                <a:lnTo>
                  <a:pt x="10528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3816360" cy="2206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3" name="WordArt 5"/>
          <p:cNvSpPr txBox="1"/>
          <p:nvPr/>
        </p:nvSpPr>
        <p:spPr>
          <a:xfrm>
            <a:off x="1258920" y="189000"/>
            <a:ext cx="66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тирическая поэзия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116000" y="836640"/>
            <a:ext cx="7058160" cy="7207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В борьбе с неучами и гонителями 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Ломоносов использовал порой шутку и даже сатиру</a:t>
            </a:r>
            <a:r>
              <a:rPr b="1" lang="en-US" sz="18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79280" y="1628640"/>
            <a:ext cx="4248360" cy="3025800"/>
          </a:xfrm>
          <a:custGeom>
            <a:avLst/>
            <a:gdLst>
              <a:gd name="textAreaLeft" fmla="*/ 207000 w 4248360"/>
              <a:gd name="textAreaRight" fmla="*/ 4041360 w 4248360"/>
              <a:gd name="textAreaTop" fmla="*/ 207000 h 3025800"/>
              <a:gd name="textAreaBottom" fmla="*/ 2818800 h 3025800"/>
            </a:gdLst>
            <a:ahLst/>
            <a:rect l="textAreaLeft" t="textAreaTop" r="textAreaRight" b="textAreaBottom"/>
            <a:pathLst>
              <a:path w="30326" h="21600">
                <a:moveTo>
                  <a:pt x="2093" y="0"/>
                </a:moveTo>
                <a:arcTo wR="2093" hR="2093" stAng="0" swAng="5400000"/>
                <a:lnTo>
                  <a:pt x="0" y="19507"/>
                </a:lnTo>
                <a:arcTo wR="2093" hR="2093" stAng="16200000" swAng="5400000"/>
                <a:lnTo>
                  <a:pt x="28233" y="21600"/>
                </a:lnTo>
                <a:arcTo wR="2093" hR="2093" stAng="10800000" swAng="5400000"/>
                <a:lnTo>
                  <a:pt x="30326" y="2093"/>
                </a:lnTo>
                <a:arcTo wR="2093" hR="209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 брошю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Явление Венеры на солнце»</a:t>
            </a: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он указывал на невозмож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мешательства церкви в дела нау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Поэт приводит притчу, об остроумной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гелиоцентрической системы Коперни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как-то на пиру спор ученых Копер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и Птолемея решает пова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Он дал такой отв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Что в том Коперник пра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Я правду докажу, на Солнце не бы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то видел простака из поваров так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оторый бы вертел очаг круг жарко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4716360" y="1628640"/>
            <a:ext cx="4248360" cy="3024360"/>
          </a:xfrm>
          <a:custGeom>
            <a:avLst/>
            <a:gdLst>
              <a:gd name="textAreaLeft" fmla="*/ 205920 w 4248360"/>
              <a:gd name="textAreaRight" fmla="*/ 4042440 w 4248360"/>
              <a:gd name="textAreaTop" fmla="*/ 205920 h 3024360"/>
              <a:gd name="textAreaBottom" fmla="*/ 2818440 h 3024360"/>
            </a:gdLst>
            <a:ahLst/>
            <a:rect l="textAreaLeft" t="textAreaTop" r="textAreaRight" b="textAreaBottom"/>
            <a:pathLst>
              <a:path w="30341" h="21600">
                <a:moveTo>
                  <a:pt x="2083" y="0"/>
                </a:moveTo>
                <a:arcTo wR="2083" hR="2083" stAng="0" swAng="5400000"/>
                <a:lnTo>
                  <a:pt x="0" y="19517"/>
                </a:lnTo>
                <a:arcTo wR="2083" hR="2083" stAng="16200000" swAng="5400000"/>
                <a:lnTo>
                  <a:pt x="28258" y="21600"/>
                </a:lnTo>
                <a:arcTo wR="2083" hR="2083" stAng="10800000" swAng="5400000"/>
                <a:lnTo>
                  <a:pt x="30341" y="2083"/>
                </a:lnTo>
                <a:arcTo wR="2083" hR="208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Более резко звучи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«Гимн бороде»,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водом к написанию котор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служили следующие обстоятель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ученик Ломоносова Николай Поп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ревел в стихах поэ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глийского просвет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лександра Попа «Опыт о человек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но Синод запрет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чатать эту кни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Ломоносов ответил на это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«Гимном бороде», одним из сам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смелых в XVIII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тиклерикальных произве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482480" cy="1801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13" descr="0_1f9e9_20a9c44c_XL"/>
          <p:cNvPicPr/>
          <p:nvPr/>
        </p:nvPicPr>
        <p:blipFill>
          <a:blip r:embed="rId4"/>
          <a:stretch/>
        </p:blipFill>
        <p:spPr>
          <a:xfrm>
            <a:off x="6948360" y="4797360"/>
            <a:ext cx="1597320" cy="1798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9" name="Управляющая кнопка: домой 8">
            <a:hlinkClick r:id="rId5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2"/>
          <a:srcRect l="7034" t="1755" r="9564" b="1592"/>
          <a:stretch/>
        </p:blipFill>
        <p:spPr>
          <a:xfrm>
            <a:off x="5435640" y="765000"/>
            <a:ext cx="3548160" cy="575964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sp>
        <p:nvSpPr>
          <p:cNvPr id="181" name="WordArt 5"/>
          <p:cNvSpPr txBox="1"/>
          <p:nvPr/>
        </p:nvSpPr>
        <p:spPr>
          <a:xfrm>
            <a:off x="900000" y="189000"/>
            <a:ext cx="777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ы. Анакреонтическая лир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765000"/>
            <a:ext cx="5580000" cy="5830920"/>
          </a:xfrm>
          <a:prstGeom prst="verticalScroll">
            <a:avLst>
              <a:gd name="adj" fmla="val 6643"/>
            </a:avLst>
          </a:prstGeom>
          <a:solidFill>
            <a:srgbClr val="ffffcc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ановление молодой русской литературы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 могло обойтись без использования опы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европейских писат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дной из форм были переводы как древн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так и новых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перевод несколь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ихотворений Анакре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Часть из них вошла в «Разговор с Анакреоном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ами Анакреона Ломоносов полож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ачало такому явлению в нашей литерату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как русская анакреонт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пыты Ломоносова отзовутся в начале XIX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 легкой поэзии Батюш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 лицейской лирике Пуш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также пер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на русский язык стихотворения Гор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«Я знак бессмертия себе воздвигнул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звестного под условным названием «Памятник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близок к оригин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которые стихи этого произведения оказал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озвучными жизни и деятельности Ломонос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знатный род поэта и заслуги в развит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течественной поэз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последствии уже не пере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а подражание «Памятнику» напиш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Державин, Пушкин и Брюсов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3794"/>
                </a:moveTo>
                <a:lnTo>
                  <a:pt x="19960" y="10800"/>
                </a:lnTo>
                <a:lnTo>
                  <a:pt x="594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6"/>
          <p:cNvSpPr txBox="1"/>
          <p:nvPr/>
        </p:nvSpPr>
        <p:spPr>
          <a:xfrm>
            <a:off x="684360" y="189000"/>
            <a:ext cx="8234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стихотворений «Разговор с Анакреоном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79280" y="692280"/>
            <a:ext cx="8642520" cy="107784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Это своеобразное произведение написано в последние годы твор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стоит из четырех пар стихотворений, представляющих пере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ды Анакреонта и свой стихотворный ответ, в котором  нашло отра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поэтическое кредо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108000" y="3789360"/>
            <a:ext cx="8858160" cy="295272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бственная позиция Ломоносова раскрыв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заключительном диалоге, где поэты просят «живописца» нарисовать портр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х «возлюбленных». Анакреон хотел бы увидеть точное подобие своей люб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озлюбленной Ломоносова оказывается его родина, Россия, которую он прос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ть в виде царственной женщины, сильной, здоровой и красив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 ей возраст зре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ид в довольствии весел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рады ясность по че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ознесенную гла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лужение матери-Родине Ломоносов понимает как твор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доставляющее человеку сознание своей полезности общест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132000" y="1844640"/>
            <a:ext cx="2735280" cy="1873440"/>
          </a:xfrm>
          <a:custGeom>
            <a:avLst/>
            <a:gdLst>
              <a:gd name="textAreaLeft" fmla="*/ 220680 w 2735280"/>
              <a:gd name="textAreaRight" fmla="*/ 2514600 w 2735280"/>
              <a:gd name="textAreaTop" fmla="*/ 220680 h 1873440"/>
              <a:gd name="textAreaBottom" fmla="*/ 1652760 h 1873440"/>
            </a:gdLst>
            <a:ahLst/>
            <a:rect l="textAreaLeft" t="textAreaTop" r="textAreaRight" b="textAreaBottom"/>
            <a:pathLst>
              <a:path w="315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935" y="21600"/>
                </a:lnTo>
                <a:arcTo wR="3600" hR="3600" stAng="10800000" swAng="5400000"/>
                <a:lnTo>
                  <a:pt x="31535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Мне струны понево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Звучат геройский шу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Не возмущайте бол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Любовны мысли, у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Хоть нежности серд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В любви я не лиш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Героев славой в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Я больше восхи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be_05fp0432"/>
          <p:cNvPicPr/>
          <p:nvPr/>
        </p:nvPicPr>
        <p:blipFill>
          <a:blip r:embed="rId4"/>
          <a:stretch/>
        </p:blipFill>
        <p:spPr>
          <a:xfrm>
            <a:off x="971640" y="1916280"/>
            <a:ext cx="148896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89" name="Picture 12" descr="images"/>
          <p:cNvPicPr/>
          <p:nvPr/>
        </p:nvPicPr>
        <p:blipFill>
          <a:blip r:embed="rId5"/>
          <a:stretch/>
        </p:blipFill>
        <p:spPr>
          <a:xfrm>
            <a:off x="6516720" y="1916280"/>
            <a:ext cx="151128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90" name="Управляющая кнопка: домой 7">
            <a:hlinkClick r:id="rId6" action="ppaction://hlinksldjump"/>
          </p:cNvPr>
          <p:cNvSpPr/>
          <p:nvPr/>
        </p:nvSpPr>
        <p:spPr>
          <a:xfrm>
            <a:off x="8429760" y="6143760"/>
            <a:ext cx="428400" cy="4712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71240"/>
              <a:gd name="textAreaBottom" fmla="*/ 443520 h 471240"/>
            </a:gdLst>
            <a:ahLst/>
            <a:rect l="textAreaLeft" t="textAreaTop" r="textAreaRight" b="textAreaBottom"/>
            <a:pathLst>
              <a:path w="21600" h="23758">
                <a:moveTo>
                  <a:pt x="0" y="0"/>
                </a:moveTo>
                <a:lnTo>
                  <a:pt x="21600" y="0"/>
                </a:lnTo>
                <a:lnTo>
                  <a:pt x="21600" y="23758"/>
                </a:lnTo>
                <a:lnTo>
                  <a:pt x="0" y="23758"/>
                </a:lnTo>
                <a:close/>
              </a:path>
              <a:path fill="lightenLess" w="21600" h="23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8">
                <a:moveTo>
                  <a:pt x="21600" y="0"/>
                </a:moveTo>
                <a:lnTo>
                  <a:pt x="21600" y="23758"/>
                </a:lnTo>
                <a:lnTo>
                  <a:pt x="20200" y="22358"/>
                </a:lnTo>
                <a:lnTo>
                  <a:pt x="20200" y="1400"/>
                </a:lnTo>
                <a:close/>
              </a:path>
              <a:path fill="darkenLess" w="21600" h="23758">
                <a:moveTo>
                  <a:pt x="21600" y="23758"/>
                </a:moveTo>
                <a:lnTo>
                  <a:pt x="0" y="23758"/>
                </a:lnTo>
                <a:lnTo>
                  <a:pt x="1400" y="22358"/>
                </a:lnTo>
                <a:lnTo>
                  <a:pt x="20200" y="22358"/>
                </a:lnTo>
                <a:close/>
              </a:path>
              <a:path fill="lighten" w="21600" h="23758">
                <a:moveTo>
                  <a:pt x="0" y="23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8"/>
                </a:lnTo>
                <a:close/>
              </a:path>
              <a:path fill="darken" w="21600" h="23758">
                <a:moveTo>
                  <a:pt x="10800" y="4916"/>
                </a:moveTo>
                <a:lnTo>
                  <a:pt x="13376" y="7527"/>
                </a:ln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lnTo>
                  <a:pt x="17763" y="11879"/>
                </a:lnTo>
                <a:lnTo>
                  <a:pt x="16109" y="11879"/>
                </a:lnTo>
                <a:lnTo>
                  <a:pt x="16109" y="19068"/>
                </a:lnTo>
                <a:lnTo>
                  <a:pt x="5491" y="19068"/>
                </a:lnTo>
                <a:lnTo>
                  <a:pt x="5491" y="11879"/>
                </a:lnTo>
                <a:lnTo>
                  <a:pt x="3837" y="11879"/>
                </a:lnTo>
                <a:close/>
              </a:path>
              <a:path fill="darkenLess" w="21600" h="23758">
                <a:moveTo>
                  <a:pt x="13376" y="7527"/>
                </a:move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close/>
              </a:path>
              <a:path fill="darkenLess" w="21600" h="23758">
                <a:moveTo>
                  <a:pt x="9877" y="15378"/>
                </a:moveTo>
                <a:lnTo>
                  <a:pt x="11723" y="15378"/>
                </a:lnTo>
                <a:lnTo>
                  <a:pt x="11723" y="19068"/>
                </a:lnTo>
                <a:lnTo>
                  <a:pt x="16109" y="19068"/>
                </a:lnTo>
                <a:lnTo>
                  <a:pt x="16109" y="11879"/>
                </a:lnTo>
                <a:lnTo>
                  <a:pt x="5491" y="11879"/>
                </a:lnTo>
                <a:lnTo>
                  <a:pt x="5491" y="19068"/>
                </a:lnTo>
                <a:lnTo>
                  <a:pt x="9877" y="1906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Прямоугольник 6" descr=""/>
          <p:cNvPicPr/>
          <p:nvPr/>
        </p:nvPicPr>
        <p:blipFill>
          <a:blip r:embed="rId2"/>
          <a:stretch/>
        </p:blipFill>
        <p:spPr>
          <a:xfrm>
            <a:off x="781200" y="-96840"/>
            <a:ext cx="7296120" cy="130320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7"/>
          <p:cNvSpPr/>
          <p:nvPr/>
        </p:nvSpPr>
        <p:spPr>
          <a:xfrm>
            <a:off x="214200" y="1143000"/>
            <a:ext cx="26434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 роли Ломоносова в истории русской литературы Белинский писа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3000240" y="1428840"/>
            <a:ext cx="30718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ам поэт понимал свое высокое назначение и, переводя строки знаменитой оды Горация,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Табличка 12"/>
          <p:cNvSpPr/>
          <p:nvPr/>
        </p:nvSpPr>
        <p:spPr>
          <a:xfrm>
            <a:off x="214200" y="2643120"/>
            <a:ext cx="2500560" cy="2500560"/>
          </a:xfrm>
          <a:custGeom>
            <a:avLst/>
            <a:gdLst>
              <a:gd name="textAreaLeft" fmla="*/ 188280 w 2500560"/>
              <a:gd name="textAreaRight" fmla="*/ 2312280 w 2500560"/>
              <a:gd name="textAreaTop" fmla="*/ 188280 h 2500560"/>
              <a:gd name="textAreaBottom" fmla="*/ 2312280 h 2500560"/>
            </a:gdLst>
            <a:ahLst/>
            <a:rect l="textAreaLeft" t="textAreaTop" r="textAreaRight" b="textAreaBottom"/>
            <a:pathLst>
              <a:path w="21600" h="21600">
                <a:moveTo>
                  <a:pt x="2303" y="0"/>
                </a:moveTo>
                <a:arcTo wR="2303" hR="2303" stAng="0" swAng="5400000"/>
                <a:lnTo>
                  <a:pt x="0" y="19297"/>
                </a:lnTo>
                <a:arcTo wR="2303" hR="2303" stAng="16200000" swAng="5400000"/>
                <a:lnTo>
                  <a:pt x="19297" y="21600"/>
                </a:lnTo>
                <a:arcTo wR="2303" hR="2303" stAng="10800000" swAng="5400000"/>
                <a:lnTo>
                  <a:pt x="21600" y="2303"/>
                </a:lnTo>
                <a:arcTo wR="2303" hR="2303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«С Ломоносова начинается наша литература: он был ее отцом и пестуном; он был ее Петром Велики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Табличка 14"/>
          <p:cNvSpPr/>
          <p:nvPr/>
        </p:nvSpPr>
        <p:spPr>
          <a:xfrm>
            <a:off x="2786040" y="2714760"/>
            <a:ext cx="3429000" cy="4000320"/>
          </a:xfrm>
          <a:custGeom>
            <a:avLst/>
            <a:gdLst>
              <a:gd name="textAreaLeft" fmla="*/ 288000 w 3429000"/>
              <a:gd name="textAreaRight" fmla="*/ 3141000 w 3429000"/>
              <a:gd name="textAreaTop" fmla="*/ 288000 h 4000320"/>
              <a:gd name="textAreaBottom" fmla="*/ 3712320 h 4000320"/>
            </a:gdLst>
            <a:ahLst/>
            <a:rect l="textAreaLeft" t="textAreaTop" r="textAreaRight" b="textAreaBottom"/>
            <a:pathLst>
              <a:path w="21600" h="25198">
                <a:moveTo>
                  <a:pt x="2568" y="0"/>
                </a:moveTo>
                <a:arcTo wR="2568" hR="2568" stAng="0" swAng="5400000"/>
                <a:lnTo>
                  <a:pt x="0" y="22630"/>
                </a:lnTo>
                <a:arcTo wR="2568" hR="2568" stAng="16200000" swAng="5400000"/>
                <a:lnTo>
                  <a:pt x="19032" y="25198"/>
                </a:lnTo>
                <a:arcTo wR="2568" hR="2568" stAng="10800000" swAng="5400000"/>
                <a:lnTo>
                  <a:pt x="21600" y="2568"/>
                </a:lnTo>
                <a:arcTo wR="2568" hR="2568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знак бессмертия себе воздвигну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ревыше пирамид и крепче мед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Что бурный Аквилон сотреть не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и множество веков, ни една дре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е вовсе я умру, но смерть остав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Велику часть мою, как жизнь сконча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буду возрастать повсюду сла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ока великий Рим владеет с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6"/>
          <p:cNvSpPr/>
          <p:nvPr/>
        </p:nvSpPr>
        <p:spPr>
          <a:xfrm>
            <a:off x="621504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громное влияние Ломоносова на русскую литературу и культуру отмечали Радищев и Пушк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Табличка 17"/>
          <p:cNvSpPr/>
          <p:nvPr/>
        </p:nvSpPr>
        <p:spPr>
          <a:xfrm>
            <a:off x="6286680" y="2643120"/>
            <a:ext cx="2857320" cy="2428920"/>
          </a:xfrm>
          <a:custGeom>
            <a:avLst/>
            <a:gdLst>
              <a:gd name="textAreaLeft" fmla="*/ 228240 w 2857320"/>
              <a:gd name="textAreaRight" fmla="*/ 2629080 w 2857320"/>
              <a:gd name="textAreaTop" fmla="*/ 228240 h 2428920"/>
              <a:gd name="textAreaBottom" fmla="*/ 2200680 h 2428920"/>
            </a:gdLst>
            <a:ahLst/>
            <a:rect l="textAreaLeft" t="textAreaTop" r="textAreaRight" b="textAreaBottom"/>
            <a:pathLst>
              <a:path w="25409" h="21600">
                <a:moveTo>
                  <a:pt x="2872" y="0"/>
                </a:moveTo>
                <a:arcTo wR="2872" hR="2872" stAng="0" swAng="5400000"/>
                <a:lnTo>
                  <a:pt x="0" y="18728"/>
                </a:lnTo>
                <a:arcTo wR="2872" hR="2872" stAng="16200000" swAng="5400000"/>
                <a:lnTo>
                  <a:pt x="22537" y="21600"/>
                </a:lnTo>
                <a:arcTo wR="2872" hR="2872" stAng="10800000" swAng="5400000"/>
                <a:lnTo>
                  <a:pt x="25409" y="2872"/>
                </a:lnTo>
                <a:arcTo wR="2872" hR="2872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Его произведения  «останутся вечными памятниками русской словес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:\ломоносов\copywrtie_235566777-252x300.jpg"/>
          <p:cNvPicPr/>
          <p:nvPr/>
        </p:nvPicPr>
        <p:blipFill>
          <a:blip r:embed="rId3"/>
          <a:stretch/>
        </p:blipFill>
        <p:spPr>
          <a:xfrm>
            <a:off x="642960" y="5286240"/>
            <a:ext cx="1520640" cy="135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F:\ломоносов\5462652_b7ad9fd2.png"/>
          <p:cNvPicPr/>
          <p:nvPr/>
        </p:nvPicPr>
        <p:blipFill>
          <a:blip r:embed="rId4"/>
          <a:stretch/>
        </p:blipFill>
        <p:spPr>
          <a:xfrm>
            <a:off x="7000920" y="521496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памятник Ломон"/>
          <p:cNvPicPr/>
          <p:nvPr/>
        </p:nvPicPr>
        <p:blipFill>
          <a:blip r:embed="rId5"/>
          <a:stretch/>
        </p:blipFill>
        <p:spPr>
          <a:xfrm>
            <a:off x="2786040" y="1285920"/>
            <a:ext cx="3417840" cy="5357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01" name="Управляющая кнопка: домой 20">
            <a:hlinkClick r:id="rId6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2" nodeType="afterEffect" fill="hold" presetClass="entr" presetID="19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7" nodeType="after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1071720" y="73296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Западав А. Отец русской поэзии. М.,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но-критические статьи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Полн. собр. соч.: В II т. М.; Л. 19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Соч. М., 1957. С. 2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Пушкин А. С. Полн. собр. соч. Т.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Русская литература и журналистика XVIII века. / Татаринова Л.Е. – М.: "Проспект", 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Стихотворения и оды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Тредиаковский В. К. Рассуждение об оде вообще // Тредиаковский В. К. Ода торжественная о сдаче города Гдань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Интернет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3857760" y="21420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249920" y="714240"/>
            <a:ext cx="3939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Творческий путь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90640" y="1143000"/>
            <a:ext cx="350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Заслуг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000080" y="15717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3. Ломоносов – теоретик русского стихос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1032840" y="2000160"/>
            <a:ext cx="44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4. Тематика поэзи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893160" y="242892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5. Оды Ломонос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1000080" y="2786040"/>
            <a:ext cx="6357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Героико-патриотическая «Ода а взятие Хотин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Похвальные оды: образ Петра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, образ Елизаветы, образ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Духовные 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237680" y="4572000"/>
            <a:ext cx="217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6. Научная поэзия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>
            <a:hlinkClick r:id="rId7" action="ppaction://hlinksldjump"/>
          </p:cNvPr>
          <p:cNvSpPr/>
          <p:nvPr/>
        </p:nvSpPr>
        <p:spPr>
          <a:xfrm>
            <a:off x="1000080" y="4929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7. Сатирическая поэ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1000080" y="52862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8. Переводы. Анакреонтическая 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1075680" y="5715000"/>
            <a:ext cx="435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9. Значение поэзии Ломоносова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омой 13"/>
          <p:cNvSpPr/>
          <p:nvPr/>
        </p:nvSpPr>
        <p:spPr>
          <a:xfrm>
            <a:off x="8286840" y="645804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28800" y="6000840"/>
            <a:ext cx="285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10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79280" y="1989000"/>
            <a:ext cx="61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Родился 8 (19) ноября 1711 г. в семье поморского крестьянина-рыбака. В декабре 1730 г «жажда знаний» привела 19-летнего Ломоносова в Москву, в Славяно-греко-латинскую акаде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числе лучших учеников в 1736 г. был отправлен в Петербургский университет, а затем — в Германию, в Марбургский университет. Круг интересов Ломоносова за границей был необычайно широк, Ломоносов становится крупнейшим ученым-энциклопедис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 возвращении в Россию в сентябре 1741 г. Ломоносов зачислен в штат Академии наук адъюнктом, а с 1745 г. — профессором. Развертывает бурную научную, организационную и литературную деятельность: за 23 года работы в Академии Ломоносов создал основы отечествен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скоропостижно скончался в самом зените славы 4 (15) апреля 1765 года. Похоронен Михаил Васильевич на Лазаревском кладбище Александро-Невской лавры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324000" y="0"/>
            <a:ext cx="5549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й путь Ломоносова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981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Михаил Васильевич Ломоносов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гениальный русский ученый, просветитель, поэт, худож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&quot;Юноша Ломоносов на пути в Москву&quot; Художник Н. И. Кисляко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260280"/>
            <a:ext cx="1714680" cy="223200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  <p:pic>
        <p:nvPicPr>
          <p:cNvPr id="65" name="Picture 6" descr="Рисунок1"/>
          <p:cNvPicPr/>
          <p:nvPr/>
        </p:nvPicPr>
        <p:blipFill>
          <a:blip r:embed="rId6"/>
          <a:stretch/>
        </p:blipFill>
        <p:spPr>
          <a:xfrm>
            <a:off x="6659640" y="2349360"/>
            <a:ext cx="1662120" cy="20163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6" name="Picture 13" descr="1"/>
          <p:cNvPicPr/>
          <p:nvPr/>
        </p:nvPicPr>
        <p:blipFill>
          <a:blip r:embed="rId7"/>
          <a:stretch/>
        </p:blipFill>
        <p:spPr>
          <a:xfrm>
            <a:off x="7236000" y="4221000"/>
            <a:ext cx="1728720" cy="23036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67" name="Управляющая кнопка: домой 7">
            <a:hlinkClick r:id="rId8" action="ppaction://hlinksldjump"/>
          </p:cNvPr>
          <p:cNvSpPr/>
          <p:nvPr/>
        </p:nvSpPr>
        <p:spPr>
          <a:xfrm>
            <a:off x="685800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800x600_YAEKQvJD9MgF2NcZodPv"/>
          <p:cNvPicPr/>
          <p:nvPr/>
        </p:nvPicPr>
        <p:blipFill>
          <a:blip r:embed="rId2"/>
          <a:stretch/>
        </p:blipFill>
        <p:spPr>
          <a:xfrm>
            <a:off x="7164360" y="4149720"/>
            <a:ext cx="1725480" cy="213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photo_56_big.jpg"/>
          <p:cNvPicPr/>
          <p:nvPr/>
        </p:nvPicPr>
        <p:blipFill>
          <a:blip r:embed="rId3"/>
          <a:stretch/>
        </p:blipFill>
        <p:spPr>
          <a:xfrm>
            <a:off x="3564000" y="1700280"/>
            <a:ext cx="22874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10010010.jpg"/>
          <p:cNvPicPr/>
          <p:nvPr/>
        </p:nvPicPr>
        <p:blipFill>
          <a:blip r:embed="rId4"/>
          <a:stretch/>
        </p:blipFill>
        <p:spPr>
          <a:xfrm>
            <a:off x="250920" y="549360"/>
            <a:ext cx="1466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image004.jpg"/>
          <p:cNvPicPr/>
          <p:nvPr/>
        </p:nvPicPr>
        <p:blipFill>
          <a:blip r:embed="rId5"/>
          <a:stretch/>
        </p:blipFill>
        <p:spPr>
          <a:xfrm>
            <a:off x="1619280" y="1989000"/>
            <a:ext cx="141768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lomonosov_krasnorechie.jpg"/>
          <p:cNvPicPr/>
          <p:nvPr/>
        </p:nvPicPr>
        <p:blipFill>
          <a:blip r:embed="rId6"/>
          <a:stretch/>
        </p:blipFill>
        <p:spPr>
          <a:xfrm>
            <a:off x="6156360" y="2060640"/>
            <a:ext cx="129708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школа\клип\Клип_24_измен.размер.jpg"/>
          <p:cNvPicPr/>
          <p:nvPr/>
        </p:nvPicPr>
        <p:blipFill>
          <a:blip r:embed="rId7"/>
          <a:stretch/>
        </p:blipFill>
        <p:spPr>
          <a:xfrm>
            <a:off x="7524720" y="404640"/>
            <a:ext cx="143028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3.jpg"/>
          <p:cNvPicPr/>
          <p:nvPr/>
        </p:nvPicPr>
        <p:blipFill>
          <a:blip r:embed="rId8"/>
          <a:stretch/>
        </p:blipFill>
        <p:spPr>
          <a:xfrm>
            <a:off x="179280" y="407664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75" name="WordArt 12"/>
          <p:cNvSpPr txBox="1"/>
          <p:nvPr/>
        </p:nvSpPr>
        <p:spPr>
          <a:xfrm>
            <a:off x="1908000" y="115920"/>
            <a:ext cx="525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слуг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79280" y="4081320"/>
            <a:ext cx="896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убликует научные работы, дел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ажнейшие открытия в химии и физ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первый в России химический 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роводит уникальные наблюдения прохождения  план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енера через диск сол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сследует электрические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азрабатывает план северного морского п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важнейшие труды в области культуры ре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усского литературного языка и стихосло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нициатор создания первого русского Москов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1692360" y="62064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ражает разносторонность научных интересов Ломоносова. Многие крупнейшие начинания середины века в области науки, искусства и просвещения связаны с именем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11">
            <a:hlinkClick r:id="rId9" action="ppaction://hlinksldjump"/>
          </p:cNvPr>
          <p:cNvSpPr/>
          <p:nvPr/>
        </p:nvSpPr>
        <p:spPr>
          <a:xfrm>
            <a:off x="8286840" y="62866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Program Files\Microsoft Office\Media\CntCD1\ClipArt3\j0237831.wmf"/>
          <p:cNvPicPr/>
          <p:nvPr/>
        </p:nvPicPr>
        <p:blipFill>
          <a:blip r:embed="rId2"/>
          <a:stretch/>
        </p:blipFill>
        <p:spPr>
          <a:xfrm>
            <a:off x="7148520" y="0"/>
            <a:ext cx="1855800" cy="191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4000" y="1413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MCj02900630000[1]"/>
          <p:cNvPicPr/>
          <p:nvPr/>
        </p:nvPicPr>
        <p:blipFill>
          <a:blip r:embed="rId3"/>
          <a:stretch/>
        </p:blipFill>
        <p:spPr>
          <a:xfrm>
            <a:off x="324000" y="0"/>
            <a:ext cx="1295280" cy="1657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5"/>
          <p:cNvSpPr/>
          <p:nvPr/>
        </p:nvSpPr>
        <p:spPr>
          <a:xfrm>
            <a:off x="6084720" y="4797360"/>
            <a:ext cx="2843280" cy="1657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показ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что тонический принци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долж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быть  распростран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на все стихи, независ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от количества с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1403280" y="2924280"/>
            <a:ext cx="6193080" cy="1511280"/>
          </a:xfrm>
          <a:custGeom>
            <a:avLst/>
            <a:gdLst>
              <a:gd name="textAreaLeft" fmla="*/ 1217520 w 6193080"/>
              <a:gd name="textAreaRight" fmla="*/ 4975560 w 6193080"/>
              <a:gd name="textAreaTop" fmla="*/ 377640 h 1511280"/>
              <a:gd name="textAreaBottom" fmla="*/ 1445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74443"/>
                <a:lnTo>
                  <a:pt x="4247" y="20650"/>
                </a:lnTo>
                <a:arcTo wR="21600" hR="20153" stAng="6530513" swAng="-2261027"/>
                <a:lnTo>
                  <a:pt x="17353" y="17950"/>
                </a:lnTo>
                <a:arcTo wR="21600" hR="20153" stAng="4269487" swAng="-774443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5213"/>
                <a:lnTo>
                  <a:pt x="14653" y="5077"/>
                </a:lnTo>
                <a:arcTo wR="21600" hR="20153" stAng="4740257" swAng="1319486"/>
                <a:lnTo>
                  <a:pt x="6947" y="2377"/>
                </a:lnTo>
                <a:arcTo wR="21600" hR="20153" stAng="6059743" swAng="1245213"/>
                <a:lnTo>
                  <a:pt x="2700" y="9329"/>
                </a:lnTo>
                <a:close/>
              </a:path>
              <a:path fill="none" w="21600" h="21600">
                <a:moveTo>
                  <a:pt x="6947" y="5077"/>
                </a:moveTo>
                <a:arcTo wR="21600" hR="20153" stAng="6059743" swAng="470770"/>
                <a:lnTo>
                  <a:pt x="6947" y="2377"/>
                </a:lnTo>
              </a:path>
              <a:path fill="none" w="21600" h="21600">
                <a:moveTo>
                  <a:pt x="14653" y="5077"/>
                </a:moveTo>
                <a:arcTo wR="21600" hR="20153" stAng="4740257" swAng="-470770"/>
                <a:lnTo>
                  <a:pt x="14653" y="2377"/>
                </a:lnTo>
              </a:path>
              <a:path fill="none" w="21600" h="21600">
                <a:moveTo>
                  <a:pt x="4247" y="17950"/>
                </a:moveTo>
                <a:lnTo>
                  <a:pt x="4247" y="4450"/>
                </a:lnTo>
              </a:path>
              <a:path fill="none" w="21600" h="21600">
                <a:moveTo>
                  <a:pt x="17353" y="17950"/>
                </a:moveTo>
                <a:lnTo>
                  <a:pt x="17353" y="445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Письмо о прави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оссийского стихотворства»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(173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 rot="16200000">
            <a:off x="4392360" y="461628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1"/>
          <p:cNvSpPr/>
          <p:nvPr/>
        </p:nvSpPr>
        <p:spPr>
          <a:xfrm>
            <a:off x="179280" y="4724280"/>
            <a:ext cx="2880000" cy="1717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указа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итмическое разнообраз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ус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и доказал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в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трехсложных  ст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3203640" y="4869000"/>
            <a:ext cx="2695680" cy="1295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предел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авноправнос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 стихах мужск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женской риф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3"/>
          <p:cNvSpPr/>
          <p:nvPr/>
        </p:nvSpPr>
        <p:spPr>
          <a:xfrm rot="18639000">
            <a:off x="1850040" y="4350600"/>
            <a:ext cx="690480" cy="142920"/>
          </a:xfrm>
          <a:prstGeom prst="leftArrow">
            <a:avLst>
              <a:gd name="adj1" fmla="val 50000"/>
              <a:gd name="adj2" fmla="val 120781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 rot="13798200">
            <a:off x="6592320" y="4360680"/>
            <a:ext cx="690480" cy="122040"/>
          </a:xfrm>
          <a:prstGeom prst="leftArrow">
            <a:avLst>
              <a:gd name="adj1" fmla="val 50000"/>
              <a:gd name="adj2" fmla="val 14144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9"/>
          <p:cNvGrpSpPr/>
          <p:nvPr/>
        </p:nvGrpSpPr>
        <p:grpSpPr>
          <a:xfrm>
            <a:off x="108000" y="189000"/>
            <a:ext cx="9036000" cy="2695320"/>
            <a:chOff x="108000" y="189000"/>
            <a:chExt cx="9036000" cy="2695320"/>
          </a:xfrm>
        </p:grpSpPr>
        <p:sp>
          <p:nvSpPr>
            <p:cNvPr id="90" name="Text Box 5"/>
            <p:cNvSpPr/>
            <p:nvPr/>
          </p:nvSpPr>
          <p:spPr>
            <a:xfrm>
              <a:off x="179280" y="1268280"/>
              <a:ext cx="89647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Литературная деятельность Ломоносо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протекала в русле классицизма.</a:t>
              </a: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Он сказал новое слово в области художественной практики и литературной теории, создал реальную систему стих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реформировал русский литературный язык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впервые достиг в своем творчестве единства формы и содержания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WordArt 6"/>
            <p:cNvSpPr txBox="1"/>
            <p:nvPr/>
          </p:nvSpPr>
          <p:spPr>
            <a:xfrm>
              <a:off x="1763640" y="189000"/>
              <a:ext cx="511200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Ломоносов-теорик 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усского стихосложения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" name="AutoShape 35"/>
            <p:cNvSpPr/>
            <p:nvPr/>
          </p:nvSpPr>
          <p:spPr>
            <a:xfrm>
              <a:off x="108000" y="1844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6"/>
            <p:cNvSpPr/>
            <p:nvPr/>
          </p:nvSpPr>
          <p:spPr>
            <a:xfrm>
              <a:off x="2627280" y="213372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7"/>
            <p:cNvSpPr/>
            <p:nvPr/>
          </p:nvSpPr>
          <p:spPr>
            <a:xfrm>
              <a:off x="2124000" y="2421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8"/>
            <p:cNvSpPr/>
            <p:nvPr/>
          </p:nvSpPr>
          <p:spPr>
            <a:xfrm>
              <a:off x="900000" y="2637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28684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3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Письмо …» было прислано Ломоносов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месте с одой «На взятие Хотина»,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4" descr="collage"/>
          <p:cNvPicPr/>
          <p:nvPr/>
        </p:nvPicPr>
        <p:blipFill>
          <a:blip r:embed="rId2"/>
          <a:stretch/>
        </p:blipFill>
        <p:spPr>
          <a:xfrm>
            <a:off x="214200" y="1500120"/>
            <a:ext cx="4718160" cy="3575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5"/>
          <p:cNvSpPr/>
          <p:nvPr/>
        </p:nvSpPr>
        <p:spPr>
          <a:xfrm>
            <a:off x="668520" y="5324400"/>
            <a:ext cx="75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се это дало возможность Белинск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енно с этой 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ести начало русской литературы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5072040" y="135720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написанной в соответствии со новыми теоретическими положе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ямбическим стихом, наиболее удачным для оды, ибо строй этого метра «возносится снизу вверх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создавая требуемое «великолепие», вызванное патриотическим пафосом победной героики и тор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5">
            <a:hlinkClick r:id="rId3" action="ppaction://hlinksldjump"/>
          </p:cNvPr>
          <p:cNvSpPr/>
          <p:nvPr/>
        </p:nvSpPr>
        <p:spPr>
          <a:xfrm>
            <a:off x="8143920" y="628668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9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9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03640" y="1844640"/>
            <a:ext cx="57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Он первым открыл в поэ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гражданственность и оптим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интерес к историческому прошлому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веру в ее светлое буду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Поэт-просветитель, Ломоносов видел в поэтической деятельности средство гражданского воспитания, средство воздействия на общ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Его поэтическая задача была подсказана самой ист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прославить мощь русского государ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дела Пе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начертать дальнейший путь развития отечественной науки и культуры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476360" y="260280"/>
            <a:ext cx="600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тика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Рисунок 1" descr="1233594658_lomonosov.jpg"/>
          <p:cNvPicPr/>
          <p:nvPr/>
        </p:nvPicPr>
        <p:blipFill>
          <a:blip r:embed="rId2"/>
          <a:stretch/>
        </p:blipFill>
        <p:spPr>
          <a:xfrm>
            <a:off x="250920" y="1916280"/>
            <a:ext cx="2913120" cy="3528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971640" y="907920"/>
            <a:ext cx="75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Для пользы общества коль радостно трудиться!» —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и слова Ломоносова раскр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жизнеутверждающую сущность его поэзии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640" y="5851440"/>
            <a:ext cx="904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о и определило своеобразие тематики поэзии Ломо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от легких стихотворений в духе ранней немецкой анакреон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до гражданской поэзии больших государственных тем.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омой 6">
            <a:hlinkClick r:id="rId3" action="ppaction://hlinksldjump"/>
          </p:cNvPr>
          <p:cNvSpPr/>
          <p:nvPr/>
        </p:nvSpPr>
        <p:spPr>
          <a:xfrm>
            <a:off x="8643960" y="6458040"/>
            <a:ext cx="285840" cy="39996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99960"/>
              <a:gd name="textAreaBottom" fmla="*/ 381600 h 399960"/>
            </a:gdLst>
            <a:ahLst/>
            <a:rect l="textAreaLeft" t="textAreaTop" r="textAreaRight" b="textAreaBottom"/>
            <a:pathLst>
              <a:path w="21600" h="30213">
                <a:moveTo>
                  <a:pt x="0" y="0"/>
                </a:moveTo>
                <a:lnTo>
                  <a:pt x="21600" y="0"/>
                </a:lnTo>
                <a:lnTo>
                  <a:pt x="21600" y="30213"/>
                </a:lnTo>
                <a:lnTo>
                  <a:pt x="0" y="30213"/>
                </a:lnTo>
                <a:close/>
              </a:path>
              <a:path fill="lightenLess" w="21600" h="302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13">
                <a:moveTo>
                  <a:pt x="21600" y="0"/>
                </a:moveTo>
                <a:lnTo>
                  <a:pt x="21600" y="30213"/>
                </a:lnTo>
                <a:lnTo>
                  <a:pt x="20200" y="28813"/>
                </a:lnTo>
                <a:lnTo>
                  <a:pt x="20200" y="1400"/>
                </a:lnTo>
                <a:close/>
              </a:path>
              <a:path fill="darkenLess" w="21600" h="30213">
                <a:moveTo>
                  <a:pt x="21600" y="30213"/>
                </a:moveTo>
                <a:lnTo>
                  <a:pt x="0" y="30213"/>
                </a:lnTo>
                <a:lnTo>
                  <a:pt x="1400" y="28813"/>
                </a:lnTo>
                <a:lnTo>
                  <a:pt x="20200" y="28813"/>
                </a:lnTo>
                <a:close/>
              </a:path>
              <a:path fill="lighten" w="21600" h="30213">
                <a:moveTo>
                  <a:pt x="0" y="302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13"/>
                </a:lnTo>
                <a:close/>
              </a:path>
              <a:path fill="darken" w="21600" h="30213">
                <a:moveTo>
                  <a:pt x="10800" y="8143"/>
                </a:moveTo>
                <a:lnTo>
                  <a:pt x="13376" y="10755"/>
                </a:ln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lnTo>
                  <a:pt x="17763" y="15106"/>
                </a:lnTo>
                <a:lnTo>
                  <a:pt x="16109" y="15106"/>
                </a:lnTo>
                <a:lnTo>
                  <a:pt x="16109" y="22296"/>
                </a:lnTo>
                <a:lnTo>
                  <a:pt x="5491" y="22296"/>
                </a:lnTo>
                <a:lnTo>
                  <a:pt x="5491" y="15106"/>
                </a:lnTo>
                <a:lnTo>
                  <a:pt x="3837" y="15106"/>
                </a:lnTo>
                <a:close/>
              </a:path>
              <a:path fill="darkenLess" w="21600" h="30213">
                <a:moveTo>
                  <a:pt x="13376" y="10755"/>
                </a:move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close/>
              </a:path>
              <a:path fill="darkenLess" w="21600" h="30213">
                <a:moveTo>
                  <a:pt x="9877" y="18605"/>
                </a:moveTo>
                <a:lnTo>
                  <a:pt x="11723" y="18605"/>
                </a:lnTo>
                <a:lnTo>
                  <a:pt x="11723" y="22296"/>
                </a:lnTo>
                <a:lnTo>
                  <a:pt x="16109" y="22296"/>
                </a:lnTo>
                <a:lnTo>
                  <a:pt x="16109" y="15106"/>
                </a:lnTo>
                <a:lnTo>
                  <a:pt x="5491" y="15106"/>
                </a:lnTo>
                <a:lnTo>
                  <a:pt x="5491" y="22296"/>
                </a:lnTo>
                <a:lnTo>
                  <a:pt x="9877" y="222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9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dhoedhndhdhdh-dhdhnfdhdhnoedhudhdhn-dhdhdhdhdhdhnfdhdh-dhndhnnndhdh-1962-dh"/>
          <p:cNvPicPr/>
          <p:nvPr/>
        </p:nvPicPr>
        <p:blipFill>
          <a:blip r:embed="rId2"/>
          <a:stretch/>
        </p:blipFill>
        <p:spPr>
          <a:xfrm>
            <a:off x="5508720" y="1916280"/>
            <a:ext cx="2257200" cy="26636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763640" y="11592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ы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-73080" y="7700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дачи гражданственности, которые ставил перед поэзией Ломоно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требовали постановки проблем, имеющих важное государственное зна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и этому как нельзя лучше соответствовал избранный им жанр 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900000" y="184464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да – лирический жан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ришедший в европейскую литературу из античной поэзии, подразделяется на т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бедно-патриотическая,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хв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философск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духов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анакреон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0800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-87840" y="6237360"/>
            <a:ext cx="92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се это стало оригинальным созданием Ломоносова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5170680" y="5805360"/>
            <a:ext cx="3973320" cy="432000"/>
            <a:chOff x="5170680" y="5805360"/>
            <a:chExt cx="3973320" cy="432000"/>
          </a:xfrm>
        </p:grpSpPr>
        <p:sp>
          <p:nvSpPr>
            <p:cNvPr id="115" name="AutoShape 19"/>
            <p:cNvSpPr/>
            <p:nvPr/>
          </p:nvSpPr>
          <p:spPr>
            <a:xfrm>
              <a:off x="5183280" y="5805360"/>
              <a:ext cx="3960720" cy="43200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83" y="0"/>
                  </a:lnTo>
                  <a:lnTo>
                    <a:pt x="21600" y="10800"/>
                  </a:lnTo>
                  <a:lnTo>
                    <a:pt x="17583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5170680" y="5805360"/>
              <a:ext cx="36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Специфическая тематика 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2"/>
          <p:cNvSpPr/>
          <p:nvPr/>
        </p:nvSpPr>
        <p:spPr>
          <a:xfrm>
            <a:off x="108000" y="4653000"/>
            <a:ext cx="7632720" cy="431640"/>
          </a:xfrm>
          <a:custGeom>
            <a:avLst/>
            <a:gdLst>
              <a:gd name="textAreaLeft" fmla="*/ 0 w 7632720"/>
              <a:gd name="textAreaRight" fmla="*/ 7633080 w 763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8" y="0"/>
                </a:lnTo>
                <a:lnTo>
                  <a:pt x="21600" y="10800"/>
                </a:lnTo>
                <a:lnTo>
                  <a:pt x="18788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Устойчивая строфика од – 10 стихов четырехстопного я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1835280" y="5229360"/>
            <a:ext cx="6624360" cy="4316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5" y="0"/>
                </a:lnTo>
                <a:lnTo>
                  <a:pt x="21600" y="10800"/>
                </a:lnTo>
                <a:lnTo>
                  <a:pt x="183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воеобразный величественный и напряженн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12">
            <a:hlinkClick r:id="rId6" action="ppaction://hlinksldjump"/>
          </p:cNvPr>
          <p:cNvSpPr/>
          <p:nvPr/>
        </p:nvSpPr>
        <p:spPr>
          <a:xfrm>
            <a:off x="8786880" y="6386400"/>
            <a:ext cx="357120" cy="4716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71600"/>
              <a:gd name="textAreaBottom" fmla="*/ 448560 h 471600"/>
            </a:gdLst>
            <a:ahLst/>
            <a:rect l="textAreaLeft" t="textAreaTop" r="textAreaRight" b="textAreaBottom"/>
            <a:pathLst>
              <a:path w="21600" h="28517">
                <a:moveTo>
                  <a:pt x="0" y="0"/>
                </a:moveTo>
                <a:lnTo>
                  <a:pt x="21600" y="0"/>
                </a:lnTo>
                <a:lnTo>
                  <a:pt x="21600" y="28517"/>
                </a:lnTo>
                <a:lnTo>
                  <a:pt x="0" y="28517"/>
                </a:lnTo>
                <a:close/>
              </a:path>
              <a:path fill="lightenLess" w="21600" h="28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17">
                <a:moveTo>
                  <a:pt x="21600" y="0"/>
                </a:moveTo>
                <a:lnTo>
                  <a:pt x="21600" y="28517"/>
                </a:lnTo>
                <a:lnTo>
                  <a:pt x="20200" y="27117"/>
                </a:lnTo>
                <a:lnTo>
                  <a:pt x="20200" y="1400"/>
                </a:lnTo>
                <a:close/>
              </a:path>
              <a:path fill="darkenLess" w="21600" h="28517">
                <a:moveTo>
                  <a:pt x="21600" y="28517"/>
                </a:moveTo>
                <a:lnTo>
                  <a:pt x="0" y="28517"/>
                </a:lnTo>
                <a:lnTo>
                  <a:pt x="1400" y="27117"/>
                </a:lnTo>
                <a:lnTo>
                  <a:pt x="20200" y="27117"/>
                </a:lnTo>
                <a:close/>
              </a:path>
              <a:path fill="lighten" w="21600" h="28517">
                <a:moveTo>
                  <a:pt x="0" y="28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17"/>
                </a:lnTo>
                <a:close/>
              </a:path>
              <a:path fill="darken" w="21600" h="28517">
                <a:moveTo>
                  <a:pt x="10800" y="7296"/>
                </a:moveTo>
                <a:lnTo>
                  <a:pt x="13376" y="9907"/>
                </a:ln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lnTo>
                  <a:pt x="17763" y="14259"/>
                </a:lnTo>
                <a:lnTo>
                  <a:pt x="16109" y="14259"/>
                </a:lnTo>
                <a:lnTo>
                  <a:pt x="16109" y="21448"/>
                </a:lnTo>
                <a:lnTo>
                  <a:pt x="5491" y="21448"/>
                </a:lnTo>
                <a:lnTo>
                  <a:pt x="5491" y="14259"/>
                </a:lnTo>
                <a:lnTo>
                  <a:pt x="3837" y="14259"/>
                </a:lnTo>
                <a:close/>
              </a:path>
              <a:path fill="darkenLess" w="21600" h="28517">
                <a:moveTo>
                  <a:pt x="13376" y="9907"/>
                </a:move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close/>
              </a:path>
              <a:path fill="darkenLess" w="21600" h="28517">
                <a:moveTo>
                  <a:pt x="9877" y="17757"/>
                </a:moveTo>
                <a:lnTo>
                  <a:pt x="11723" y="17757"/>
                </a:lnTo>
                <a:lnTo>
                  <a:pt x="11723" y="21448"/>
                </a:lnTo>
                <a:lnTo>
                  <a:pt x="16109" y="21448"/>
                </a:lnTo>
                <a:lnTo>
                  <a:pt x="16109" y="14259"/>
                </a:lnTo>
                <a:lnTo>
                  <a:pt x="5491" y="14259"/>
                </a:lnTo>
                <a:lnTo>
                  <a:pt x="5491" y="21448"/>
                </a:lnTo>
                <a:lnTo>
                  <a:pt x="9877" y="2144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1:53:58Z</dcterms:created>
  <dc:creator>User</dc:creator>
  <dc:description/>
  <dc:language>en-US</dc:language>
  <cp:lastModifiedBy>User</cp:lastModifiedBy>
  <dcterms:modified xsi:type="dcterms:W3CDTF">2013-06-12T12:23:31Z</dcterms:modified>
  <cp:revision>4</cp:revision>
  <dc:subject/>
  <dc:title>Слайд 1</dc:title>
</cp:coreProperties>
</file>