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164-FCCD-43D3-9255-790F8128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402-F11E-4862-8FEB-685E126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672-9DB2-49D1-91B8-19E0F109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13C-237D-4120-99A4-7A6EB23E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08CB-6206-4AA7-8C15-FA416AA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2BD7-B067-40E1-9AF0-6BBB6C1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54B-4C34-429C-9E88-017CAFD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7D6-AC48-4F70-B85E-4BFA2A5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DEF-119D-4820-AE59-69F8A5F2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AD0B-2E4B-4F1D-9A41-C373A3D2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792-9167-4806-B00B-E52A748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46A-7E04-40F5-8E87-91AA2B8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E82B-D99E-460E-97C5-0BD736E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1A23-6C65-4C3A-9025-2190D01E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9F9-16B9-4ABA-9371-345CAE2B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EDC0-7075-44F4-B969-76E4A36A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8B60-8C45-48B6-890C-EE406381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E4B-B578-4BC2-A4F4-75592004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510-5A8C-4A17-9BE5-33111EA5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2F3-22C7-4886-8D63-5D70221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15B-70B7-4971-9164-51B73204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DED-CC6D-494F-B132-B3C00D8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96B-AD28-4380-A4A6-D7C54E64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684-7B3A-4306-80F9-D764908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4F28-3A9C-4A5C-A0CB-2349647386B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548-F21F-441F-BC90-112B7B2627C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34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Урок на тему: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565360"/>
            <a:ext cx="806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собенности строени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мноводных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0" t="11766" r="8636" b="0"/>
          <a:stretch/>
        </p:blipFill>
        <p:spPr>
          <a:xfrm>
            <a:off x="395280" y="1628640"/>
            <a:ext cx="7993080" cy="485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7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021360"/>
            <a:ext cx="7207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00280"/>
            <a:ext cx="2376360" cy="1572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484280"/>
            <a:ext cx="43164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1628640"/>
            <a:ext cx="576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51640" y="2349360"/>
            <a:ext cx="4334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86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724280"/>
            <a:ext cx="5047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73408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021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997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Что обозначают цифр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пуча глаза сид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По-французски говор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-блошачьи прыгае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 человечьи плавает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9500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лягуш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82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4797360"/>
            <a:ext cx="248436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32777" t="12141" r="3628" b="11339"/>
          <a:stretch/>
        </p:blipFill>
        <p:spPr>
          <a:xfrm>
            <a:off x="971640" y="836640"/>
            <a:ext cx="68770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32773" t="15868" r="3628" b="13708"/>
          <a:stretch/>
        </p:blipFill>
        <p:spPr>
          <a:xfrm>
            <a:off x="684360" y="836640"/>
            <a:ext cx="7812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32773" t="17563" r="3628" b="12351"/>
          <a:stretch/>
        </p:blipFill>
        <p:spPr>
          <a:xfrm>
            <a:off x="539640" y="765000"/>
            <a:ext cx="7667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30845" t="18245" r="3628" b="11331"/>
          <a:stretch/>
        </p:blipFill>
        <p:spPr>
          <a:xfrm>
            <a:off x="1258920" y="981000"/>
            <a:ext cx="7164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0" t="2482" r="9047" b="8684"/>
          <a:stretch/>
        </p:blipFill>
        <p:spPr>
          <a:xfrm>
            <a:off x="539640" y="981000"/>
            <a:ext cx="831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испособленность лягушек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 среде обит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060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2060640"/>
          <a:ext cx="8893080" cy="3265560"/>
        </p:xfrm>
        <a:graphic>
          <a:graphicData uri="http://schemas.openxmlformats.org/drawingml/2006/table">
            <a:tbl>
              <a:tblPr/>
              <a:tblGrid>
                <a:gridCol w="2963880"/>
                <a:gridCol w="2965320"/>
                <a:gridCol w="29638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в во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на су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добыванию      пи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айти соответствие описания и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я особенностей стро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97000"/>
          <a:ext cx="9144000" cy="5769000"/>
        </p:xfrm>
        <a:graphic>
          <a:graphicData uri="http://schemas.openxmlformats.org/drawingml/2006/table">
            <a:tbl>
              <a:tblPr/>
              <a:tblGrid>
                <a:gridCol w="4973760"/>
                <a:gridCol w="41702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.Задняя конечность удлинена и представляет собой сложный рыча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Приспособление к восприятию звуков в воздушной сред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.Имеется широкий, длинный, липкий язык и хорошо развитое зре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Возможность дышать атмосферным воздухом и наблюдать, оставаясь под водо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Расположение глаз и ноздрей на верхней поверхности голов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Возможность быстрых и дальних прыж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.Имеется внутреннее и среднее ухо, закрытое барабанной перепонк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Средство защиты от хищни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Наблюдается выделение едкой жидкости из кожных желе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Добывание подвижных животн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45:07Z</dcterms:created>
  <dc:creator>User</dc:creator>
  <dc:description/>
  <dc:language>en-US</dc:language>
  <cp:lastModifiedBy>Гость</cp:lastModifiedBy>
  <dcterms:modified xsi:type="dcterms:W3CDTF">2008-02-15T10:37:34Z</dcterms:modified>
  <cp:revision>6</cp:revision>
  <dc:subject/>
  <dc:title>Урок на тему:</dc:title>
</cp:coreProperties>
</file>