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90EC-A63F-40F7-810D-27CC52EE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D238-C8F2-424A-B5FC-9E246F8B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EF53-1D77-4F9A-88E1-32A12AF7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26B9-01DC-4D56-BE66-6854B074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0A81-33E2-4157-962D-62308FE9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19CB-A483-4D28-95A5-499627BA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36DC-7995-4329-AF32-6826C53C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F2AF-ED5D-4A4C-A6E0-BFF9232E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47E4-F3E5-41DB-9CE4-4029653E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D38D-DB91-458D-A4CB-FAB605FD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B1B1-95B5-481E-8551-F9BD6D9F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9034-1378-420E-96F2-FDE557A4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A9E4-E11C-4F8B-8F61-5E842D80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A6A0-4590-4D9A-A259-1A1B40E3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6B59-269D-4FE0-96BF-21DBA5E6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2B4A-2EA1-43C3-BE42-FE390D76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6888-46E8-429A-AB36-A1CB7C1E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C0DF-4406-45B3-A1D5-7979FE45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63A-B311-408A-8464-609F23D9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EC5-49B9-4F6F-ACDF-99C12567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6C2E-73FE-45A8-B292-9E974E9D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9225-FBCD-45FB-8622-DD155CC4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6118-3D80-4EFB-AA42-E8BE4EC4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6234-7A4A-4D0F-8539-10493ACC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7491-F8BF-4F29-8FB0-2F948D470FE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7E37-9AE7-44F4-8737-AFACA150821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342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Урок на тему: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9640" y="2565360"/>
            <a:ext cx="806472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Особенности строения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емноводных"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rcRect l="0" t="11766" r="8636" b="0"/>
          <a:stretch/>
        </p:blipFill>
        <p:spPr>
          <a:xfrm>
            <a:off x="395280" y="1628640"/>
            <a:ext cx="7993080" cy="4859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667640" y="59500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67640" y="6021360"/>
            <a:ext cx="720720" cy="457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700280"/>
            <a:ext cx="2376360" cy="1572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11640" y="1484280"/>
            <a:ext cx="431640" cy="459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04000" y="1628640"/>
            <a:ext cx="57636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451640" y="2349360"/>
            <a:ext cx="43344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4869000"/>
            <a:ext cx="5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51280" y="4724280"/>
            <a:ext cx="50472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5734080"/>
            <a:ext cx="36036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6021360"/>
            <a:ext cx="36036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12000" y="2997360"/>
            <a:ext cx="36036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260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Что обозначают цифр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Выпуча глаза сидит,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       По-французски говорит,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    По-блошачьи прыгает,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    По человечьи плавает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595008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(лягушк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732720" y="0"/>
            <a:ext cx="2411280" cy="1773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16360" cy="1820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659640" y="4797360"/>
            <a:ext cx="2484360" cy="2060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0" y="4724280"/>
            <a:ext cx="2843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rcRect l="32777" t="12141" r="3628" b="11339"/>
          <a:stretch/>
        </p:blipFill>
        <p:spPr>
          <a:xfrm>
            <a:off x="971640" y="836640"/>
            <a:ext cx="68770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rcRect l="32773" t="15868" r="3628" b="13708"/>
          <a:stretch/>
        </p:blipFill>
        <p:spPr>
          <a:xfrm>
            <a:off x="684360" y="836640"/>
            <a:ext cx="7812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rcRect l="32773" t="17563" r="3628" b="12351"/>
          <a:stretch/>
        </p:blipFill>
        <p:spPr>
          <a:xfrm>
            <a:off x="539640" y="765000"/>
            <a:ext cx="7667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rcRect l="30845" t="18245" r="3628" b="11331"/>
          <a:stretch/>
        </p:blipFill>
        <p:spPr>
          <a:xfrm>
            <a:off x="1258920" y="981000"/>
            <a:ext cx="71643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rcRect l="0" t="2482" r="9047" b="8684"/>
          <a:stretch/>
        </p:blipFill>
        <p:spPr>
          <a:xfrm>
            <a:off x="539640" y="981000"/>
            <a:ext cx="8317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Приспособленность лягушек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к среде обитани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206064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2060640"/>
          <a:ext cx="8893080" cy="3265560"/>
        </p:xfrm>
        <a:graphic>
          <a:graphicData uri="http://schemas.openxmlformats.org/drawingml/2006/table">
            <a:tbl>
              <a:tblPr/>
              <a:tblGrid>
                <a:gridCol w="2963880"/>
                <a:gridCol w="2965320"/>
                <a:gridCol w="296388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 жизни в вод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 жизни на суш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 добыванию      пищ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Найти соответствие описания и</a:t>
            </a:r>
            <a:br>
              <a:rPr sz="32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значения особенностей строения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1197000"/>
          <a:ext cx="9144000" cy="5769000"/>
        </p:xfrm>
        <a:graphic>
          <a:graphicData uri="http://schemas.openxmlformats.org/drawingml/2006/table">
            <a:tbl>
              <a:tblPr/>
              <a:tblGrid>
                <a:gridCol w="4973760"/>
                <a:gridCol w="417024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.Задняя конечность удлинена и представляет собой сложный рычаг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Приспособление к восприятию звуков в воздушной среде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.Имеется широкий, длинный, липкий язык и хорошо развитое зрени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Возможность дышать атмосферным воздухом и наблюдать, оставаясь под водой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.Расположение глаз и ноздрей на верхней поверхности голов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Возможность быстрых и дальних прыжков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.Имеется внутреннее и среднее ухо, закрытое барабанной перепонкой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Средство защиты от хищников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.Наблюдается выделение едкой жидкости из кожных желез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.Добывание подвижных животны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07:45:07Z</dcterms:created>
  <dc:creator>User</dc:creator>
  <dc:description/>
  <dc:language>en-US</dc:language>
  <cp:lastModifiedBy>Гость</cp:lastModifiedBy>
  <dcterms:modified xsi:type="dcterms:W3CDTF">2008-02-15T10:37:34Z</dcterms:modified>
  <cp:revision>6</cp:revision>
  <dc:subject/>
  <dc:title>Урок на тему:</dc:title>
</cp:coreProperties>
</file>