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24E-B934-43A3-81D1-D797FE86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1BE-8798-4669-AE88-5A89A06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EE2-01E2-4CCA-842F-A0DA4DD5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6AD-3C01-4107-B0DE-513C913F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CF9E-0E2D-42EB-BCE6-00D3DCB4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F8C-9D89-47CD-BB43-5226CB5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8006-AAA9-4A56-BCB5-B660187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0F19-4482-4245-8B2E-6D36870D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DC1-A8B7-4469-979F-48F2A3E2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2271-9798-4AA6-96D7-BDCE38C7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9F2-AA38-41D9-B59E-F3286F4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B7A-BF8C-4A63-856F-B96C1BF3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EABD-E283-4EB8-920B-05EE5DE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D5EF-DACB-4C35-BFC9-F5E5B8C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49D5-E856-4679-8B4F-54ED87A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938-9427-4F7C-8A39-1EF485C8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C4A-4910-4E00-90D7-A074BD5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99C-CF77-4877-97EE-16A584B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762-35BE-48EC-AE47-AEEC8E5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643-76F5-4A70-B0BA-695AF6B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E15-9C20-4FB4-B236-5D60512E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FE7-E3C4-4FBA-B172-9A2466E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A1D-7118-4F54-A9EB-9CA7C08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509-0982-4057-B0FD-F7D61AF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17F-215D-420A-BCC2-A28E5268EE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01EB-0578-41FF-B9AD-E944E957BD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342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Урок на тему: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565360"/>
            <a:ext cx="8064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собенности строени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мноводных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0" t="11766" r="8636" b="0"/>
          <a:stretch/>
        </p:blipFill>
        <p:spPr>
          <a:xfrm>
            <a:off x="395280" y="1628640"/>
            <a:ext cx="7993080" cy="485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7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021360"/>
            <a:ext cx="7207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700280"/>
            <a:ext cx="2376360" cy="1572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484280"/>
            <a:ext cx="43164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1628640"/>
            <a:ext cx="576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51640" y="2349360"/>
            <a:ext cx="4334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86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724280"/>
            <a:ext cx="5047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73408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021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997360"/>
            <a:ext cx="3603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Что обозначают цифр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пуча глаза сид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По-французски говори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-блошачьи прыгает,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По человечьи плавает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9500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лягуш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82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4797360"/>
            <a:ext cx="248436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32777" t="12141" r="3628" b="11339"/>
          <a:stretch/>
        </p:blipFill>
        <p:spPr>
          <a:xfrm>
            <a:off x="971640" y="836640"/>
            <a:ext cx="68770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32773" t="15868" r="3628" b="13708"/>
          <a:stretch/>
        </p:blipFill>
        <p:spPr>
          <a:xfrm>
            <a:off x="684360" y="836640"/>
            <a:ext cx="7812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32773" t="17563" r="3628" b="12351"/>
          <a:stretch/>
        </p:blipFill>
        <p:spPr>
          <a:xfrm>
            <a:off x="539640" y="765000"/>
            <a:ext cx="7667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30845" t="18245" r="3628" b="11331"/>
          <a:stretch/>
        </p:blipFill>
        <p:spPr>
          <a:xfrm>
            <a:off x="1258920" y="981000"/>
            <a:ext cx="7164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0" t="2482" r="9047" b="8684"/>
          <a:stretch/>
        </p:blipFill>
        <p:spPr>
          <a:xfrm>
            <a:off x="539640" y="981000"/>
            <a:ext cx="831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испособленность лягушек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 среде обит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060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2060640"/>
          <a:ext cx="8893080" cy="3265560"/>
        </p:xfrm>
        <a:graphic>
          <a:graphicData uri="http://schemas.openxmlformats.org/drawingml/2006/table">
            <a:tbl>
              <a:tblPr/>
              <a:tblGrid>
                <a:gridCol w="2963880"/>
                <a:gridCol w="2965320"/>
                <a:gridCol w="296388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в во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жизни на су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добыванию      пи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айти соответствие описания и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я особенностей стро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97000"/>
          <a:ext cx="9144000" cy="5769000"/>
        </p:xfrm>
        <a:graphic>
          <a:graphicData uri="http://schemas.openxmlformats.org/drawingml/2006/table">
            <a:tbl>
              <a:tblPr/>
              <a:tblGrid>
                <a:gridCol w="4973760"/>
                <a:gridCol w="41702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.Задняя конечность удлинена и представляет собой сложный рыча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Приспособление к восприятию звуков в воздушной сред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.Имеется широкий, длинный, липкий язык и хорошо развитое зре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Возможность дышать атмосферным воздухом и наблюдать, оставаясь под водо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Расположение глаз и ноздрей на верхней поверхности голов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Возможность быстрых и дальних прыж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.Имеется внутреннее и среднее ухо, закрытое барабанной перепонк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Средство защиты от хищников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Наблюдается выделение едкой жидкости из кожных желе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Добывание подвижных животн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45:07Z</dcterms:created>
  <dc:creator>User</dc:creator>
  <dc:description/>
  <dc:language>en-US</dc:language>
  <cp:lastModifiedBy>Гость</cp:lastModifiedBy>
  <dcterms:modified xsi:type="dcterms:W3CDTF">2008-02-15T10:37:34Z</dcterms:modified>
  <cp:revision>6</cp:revision>
  <dc:subject/>
  <dc:title>Урок на тему:</dc:title>
</cp:coreProperties>
</file>