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B82-9A3A-4E44-A7F8-8AB8B658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EA5-E123-4830-B2B1-3BC7B2F0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463-C55B-4813-A309-8E183D57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916-1823-4821-902D-1CE9EC78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8D4E-2B39-4997-98BD-06511058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CCD7-CEAF-499A-ABEA-AE76CDD1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59C9-0A27-4649-947C-1B4E7F21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DC94-9C75-485E-B130-88E43505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5541-BF58-4B86-9A54-965C0610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E78B-B987-4B90-9267-12295744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3D6A-144F-4BFD-9C66-F83B532B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E7F-E809-425E-BB97-A829FA34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2B9E-DCB4-46FD-A178-B3F43C38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EB40-A10B-44D7-8F6E-736CC589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E44D-3AB9-4B9B-BE95-6D8F19F2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677E-753A-475C-A8C4-CE112873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9639-A730-4C34-BF43-B024B4A3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9AB-6294-4A53-B4FF-993B0043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2FC-056B-4AC6-BC6B-FF5B672A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DA88-9D1B-4696-88E1-29D7A3F3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8F3-A6F2-4433-BE12-6301E190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5BB-3DD4-414E-9264-D475BF7F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B95-B11C-4E72-B5F5-0BE77020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8D4-E2B7-4B8C-92EC-5F263133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EAA3-8A42-4B90-9332-C0F95912D1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9E3D-7D60-44EB-B142-3E34EB2536B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Тема</a:t>
            </a: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Тема:«Охрана природы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001"/>
          <p:cNvPicPr/>
          <p:nvPr/>
        </p:nvPicPr>
        <p:blipFill>
          <a:blip r:embed="rId1"/>
          <a:stretch/>
        </p:blipFill>
        <p:spPr>
          <a:xfrm>
            <a:off x="611280" y="189000"/>
            <a:ext cx="8245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МОРАЛЬ.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1. Не вредить окружающей сред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2. Относиться к природе ответственн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3. Делать что-то полезное для прир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4. Предвидеть последствия своего поступ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Запомни!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1.Каждый лично несёт ответственность за сохранение прир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2. Не причиняй зла живо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3. Помоги любо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7" descr="717182"/>
          <p:cNvPicPr/>
          <p:nvPr/>
        </p:nvPicPr>
        <p:blipFill>
          <a:blip r:embed="rId1"/>
          <a:stretch/>
        </p:blipFill>
        <p:spPr>
          <a:xfrm>
            <a:off x="6659640" y="357336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9"/>
          <p:cNvSpPr/>
          <p:nvPr/>
        </p:nvSpPr>
        <p:spPr>
          <a:xfrm>
            <a:off x="7380360" y="5805360"/>
            <a:ext cx="183960" cy="12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file.mobilmusic.ru/9d/53/02/717182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3203640" y="5516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file.mobilmusic.ru/9d/53/02/717182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ервым на защиту природы встал цар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ётр Первый и издал УКАЗ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об охране лес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запрет на отстре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осе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запрет на слив му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ра в реку Нев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7" descr="petr"/>
          <p:cNvPicPr/>
          <p:nvPr/>
        </p:nvPicPr>
        <p:blipFill>
          <a:blip r:embed="rId1"/>
          <a:stretch/>
        </p:blipFill>
        <p:spPr>
          <a:xfrm>
            <a:off x="6227640" y="2421000"/>
            <a:ext cx="2428920" cy="33336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6227640" y="479736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history-gatchina.ru/owners/dog/imgdog/petr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ecff"/>
                </a:solidFill>
                <a:latin typeface="Arial"/>
              </a:rPr>
              <a:t>20 век.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1. Создан Международный союз охраны прир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2. 1971г. – создана организация «ГРИНПИС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greenpeace-logo2"/>
          <p:cNvPicPr/>
          <p:nvPr/>
        </p:nvPicPr>
        <p:blipFill>
          <a:blip r:embed="rId1"/>
          <a:stretch/>
        </p:blipFill>
        <p:spPr>
          <a:xfrm>
            <a:off x="826920" y="3860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5148360" y="56610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mojeopinie.pl/img/zoom3/greenpeace-logo2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мотрю на глобус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шар зем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Такой прекрас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и род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И шепчут губы: «Я смогу, свою планет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берегу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8" descr="cut_300_300_91a6139ab7d1"/>
          <p:cNvPicPr/>
          <p:nvPr/>
        </p:nvPicPr>
        <p:blipFill>
          <a:blip r:embed="rId1"/>
          <a:stretch/>
        </p:blipFill>
        <p:spPr>
          <a:xfrm>
            <a:off x="900000" y="17002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9"/>
          <p:cNvSpPr/>
          <p:nvPr/>
        </p:nvSpPr>
        <p:spPr>
          <a:xfrm>
            <a:off x="900000" y="486900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obzor-smi.ru/images/articles/arts/cache/cut_300_300_91a6139ab7d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ecff"/>
                </a:solidFill>
                <a:latin typeface="Arial"/>
              </a:rPr>
              <a:t>Цель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знакомить с последствиями влияния человека на природу, экологическими проблемами, которые необходимо решать на современном этап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Автор: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Учитель начальных классов ФМОУ СОШ с. Троекурово в с. Урусово Березюк С. А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Липецкая обл.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Чаплыгинский район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Смотрю на глобус-ша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земн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вдруг вздохнул он, к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жив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шепчут мне матер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Ты береги нас, берег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В тревоге рощи и лес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Роса на травах, как сл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тихо просят род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Ты береги нас, берег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1200-globe"/>
          <p:cNvPicPr/>
          <p:nvPr/>
        </p:nvPicPr>
        <p:blipFill>
          <a:blip r:embed="rId1"/>
          <a:stretch/>
        </p:blipFill>
        <p:spPr>
          <a:xfrm>
            <a:off x="539640" y="18900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8"/>
          <p:cNvSpPr/>
          <p:nvPr/>
        </p:nvSpPr>
        <p:spPr>
          <a:xfrm>
            <a:off x="727200" y="3246480"/>
            <a:ext cx="247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cache.gawker.com/assets/images/lifehacker/2011/06/1200-glob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Мы часто слышим слово «ЭКОЛОГИЯ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А что  это тако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130648342086"/>
          <p:cNvPicPr/>
          <p:nvPr/>
        </p:nvPicPr>
        <p:blipFill>
          <a:blip r:embed="rId1"/>
          <a:stretch/>
        </p:blipFill>
        <p:spPr>
          <a:xfrm>
            <a:off x="179280" y="2276640"/>
            <a:ext cx="3486240" cy="33336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"/>
          <p:cNvSpPr/>
          <p:nvPr/>
        </p:nvSpPr>
        <p:spPr>
          <a:xfrm>
            <a:off x="539640" y="5229360"/>
            <a:ext cx="228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mignews.com.ua/files/pictures/201105/130648342086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9" descr="image"/>
          <p:cNvPicPr/>
          <p:nvPr/>
        </p:nvPicPr>
        <p:blipFill>
          <a:blip r:embed="rId2"/>
          <a:stretch/>
        </p:blipFill>
        <p:spPr>
          <a:xfrm>
            <a:off x="5219640" y="2421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0"/>
          <p:cNvSpPr/>
          <p:nvPr/>
        </p:nvSpPr>
        <p:spPr>
          <a:xfrm>
            <a:off x="5364000" y="4941720"/>
            <a:ext cx="173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pravdaurfo.ru/sites/default/files/image.jp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Экология – эт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наука о взаимоотношениях живых организмов между собой и окружающей средой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Organization Chart 7"/>
          <p:cNvGrpSpPr/>
          <p:nvPr/>
        </p:nvGrpSpPr>
        <p:grpSpPr>
          <a:xfrm>
            <a:off x="442800" y="333360"/>
            <a:ext cx="8208360" cy="6189480"/>
            <a:chOff x="442800" y="333360"/>
            <a:chExt cx="8208360" cy="6189480"/>
          </a:xfrm>
        </p:grpSpPr>
        <p:cxnSp>
          <p:nvCxnSpPr>
            <p:cNvPr id="228" name="_s1028"/>
            <p:cNvCxnSpPr>
              <a:stCxn id="229" idx="0"/>
              <a:endCxn id="230" idx="2"/>
            </p:cNvCxnSpPr>
            <p:nvPr/>
          </p:nvCxnSpPr>
          <p:spPr>
            <a:xfrm flipV="1" rot="16200000">
              <a:off x="5364360" y="1990800"/>
              <a:ext cx="1238400" cy="2873520"/>
            </a:xfrm>
            <a:prstGeom prst="bentConnector3">
              <a:avLst>
                <a:gd name="adj1" fmla="val 127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1029"/>
            <p:cNvCxnSpPr>
              <a:stCxn id="232" idx="0"/>
              <a:endCxn id="230" idx="2"/>
            </p:cNvCxnSpPr>
            <p:nvPr/>
          </p:nvCxnSpPr>
          <p:spPr>
            <a:xfrm flipV="1">
              <a:off x="4547160" y="2808720"/>
              <a:ext cx="3600" cy="1238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3" name="_s1030"/>
            <p:cNvCxnSpPr>
              <a:stCxn id="234" idx="0"/>
              <a:endCxn id="230" idx="2"/>
            </p:cNvCxnSpPr>
            <p:nvPr/>
          </p:nvCxnSpPr>
          <p:spPr>
            <a:xfrm flipH="1" flipV="1" rot="5400000">
              <a:off x="2491200" y="1991160"/>
              <a:ext cx="1238400" cy="2873520"/>
            </a:xfrm>
            <a:prstGeom prst="bentConnector3">
              <a:avLst>
                <a:gd name="adj1" fmla="val 127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0" name="_s1031"/>
            <p:cNvSpPr/>
            <p:nvPr/>
          </p:nvSpPr>
          <p:spPr>
            <a:xfrm>
              <a:off x="3315600" y="33336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трицате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езультаты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деятель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человек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1032"/>
            <p:cNvSpPr/>
            <p:nvPr/>
          </p:nvSpPr>
          <p:spPr>
            <a:xfrm>
              <a:off x="442800" y="404712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ырубка лесов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3315600" y="404712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грязнен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мировог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кеан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1034"/>
            <p:cNvSpPr/>
            <p:nvPr/>
          </p:nvSpPr>
          <p:spPr>
            <a:xfrm>
              <a:off x="6188760" y="404712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грязнен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оздух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Вдумаемся в эти данны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 год исчезает 50000 биологических видов в нашей экосисте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. исчезло свыше 250 видов позвоноч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 угрозой исчезновения находятся ещё более 20 тысяч ви до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ttp://zoo.rin.ru/images/parts/img_41_sm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8" descr="img_41_sm"/>
          <p:cNvPicPr/>
          <p:nvPr/>
        </p:nvPicPr>
        <p:blipFill>
          <a:blip r:embed="rId1"/>
          <a:stretch/>
        </p:blipFill>
        <p:spPr>
          <a:xfrm>
            <a:off x="6804000" y="3789360"/>
            <a:ext cx="19112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Страшные факты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Ежегодно сжигае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я млрд. тонн топли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атмосферу выбр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ывается млн. тонн сажи, золы, пы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Ежегодно попадает в почву сотни млр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нн бытовых сто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Нашу землю отравляют радиоактивные отх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9:36:00Z</dcterms:created>
  <dc:creator>света</dc:creator>
  <dc:description/>
  <dc:language>en-US</dc:language>
  <cp:lastModifiedBy>Admin</cp:lastModifiedBy>
  <dcterms:modified xsi:type="dcterms:W3CDTF">2012-12-21T14:38:50Z</dcterms:modified>
  <cp:revision>4</cp:revision>
  <dc:subject/>
  <dc:title>Тема:</dc:title>
</cp:coreProperties>
</file>