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261-5E43-4FBE-9B86-27CCAA68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472-201A-461A-A017-6233091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122-DC6A-4272-AA8C-940FA879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60F-E548-4BA5-B33F-888637E1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B09-AED8-4E31-8128-93B5B57A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FAA-B5A3-4D7D-B0C3-9D24AD43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6BE-E95C-4DF1-B3F0-8B825825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67A-208C-480B-AD87-28DBCA16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A03-B127-440E-BCE1-FD981097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92A-0108-4882-954D-AB97587E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30C2-1563-472E-B252-34F43EF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344-82E3-434F-95F4-0CBDC12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C5F-84F2-4C49-B0D1-C2F2A03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AC6-ADCA-464D-A162-6725E28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F42-9D33-4AFA-BD75-87B1F62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DC9-72CC-4AC2-A0AA-DA26C8D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54EA-9B4D-4536-AF29-451C48D6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C65-59EF-4217-8A4D-13B49FAC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7AD-E155-46C5-A833-950B9F5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19B-853B-42F0-B342-6384DF5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0B9-12A3-4427-A0D2-7FD0648C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97A-1351-4172-8302-DCB96A8C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53F-7BA3-420A-B924-B6B1E2F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71F-2503-438A-982C-0AB73776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BB0-0447-45B0-8167-50845ECF92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224-7BE7-4292-AD17-BD59799BB8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Тема</a:t>
            </a: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00"/>
                </a:solidFill>
                <a:latin typeface="Arial"/>
              </a:rPr>
              <a:t>Тема:«Охрана природы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001"/>
          <p:cNvPicPr/>
          <p:nvPr/>
        </p:nvPicPr>
        <p:blipFill>
          <a:blip r:embed="rId1"/>
          <a:stretch/>
        </p:blipFill>
        <p:spPr>
          <a:xfrm>
            <a:off x="611280" y="189000"/>
            <a:ext cx="82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МОРАЛЬ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1. Не вредить окружающей сре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2. Относиться к природе ответствен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3. Делать что-то полезное для прир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4. Предвидеть последствия своего поступ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Запомни!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1.Каждый лично несёт ответственность за сохранение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2. Не причиняй зла жив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3. Помоги люб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717182"/>
          <p:cNvPicPr/>
          <p:nvPr/>
        </p:nvPicPr>
        <p:blipFill>
          <a:blip r:embed="rId1"/>
          <a:stretch/>
        </p:blipFill>
        <p:spPr>
          <a:xfrm>
            <a:off x="6659640" y="3573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9"/>
          <p:cNvSpPr/>
          <p:nvPr/>
        </p:nvSpPr>
        <p:spPr>
          <a:xfrm>
            <a:off x="7380360" y="5805360"/>
            <a:ext cx="183960" cy="12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3203640" y="551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file.mobilmusic.ru/9d/53/02/717182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ервым на защиту природы встал ца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ётр Первый и издал УК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об охране лес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отстре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се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запрет на слив му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ра в реку Не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petr"/>
          <p:cNvPicPr/>
          <p:nvPr/>
        </p:nvPicPr>
        <p:blipFill>
          <a:blip r:embed="rId1"/>
          <a:stretch/>
        </p:blipFill>
        <p:spPr>
          <a:xfrm>
            <a:off x="6227640" y="24210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227640" y="479736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history-gatchina.ru/owners/dog/imgdog/petr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20 век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. Создан Международный союз охраны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2. 1971г. – создана организация «ГРИНПИС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greenpeace-logo2"/>
          <p:cNvPicPr/>
          <p:nvPr/>
        </p:nvPicPr>
        <p:blipFill>
          <a:blip r:embed="rId1"/>
          <a:stretch/>
        </p:blipFill>
        <p:spPr>
          <a:xfrm>
            <a:off x="82692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5148360" y="5661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mojeopinie.pl/img/zoom3/greenpeace-logo2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мотрю на глобу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шар зем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Такой прекрас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р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 шепчут губы: «Я смогу, свою планет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берег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8" descr="cut_300_300_91a6139ab7d1"/>
          <p:cNvPicPr/>
          <p:nvPr/>
        </p:nvPicPr>
        <p:blipFill>
          <a:blip r:embed="rId1"/>
          <a:stretch/>
        </p:blipFill>
        <p:spPr>
          <a:xfrm>
            <a:off x="900000" y="1700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900000" y="4869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obzor-smi.ru/images/articles/arts/cache/cut_300_300_91a6139ab7d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ecff"/>
                </a:solidFill>
                <a:latin typeface="Arial"/>
              </a:rPr>
              <a:t>Цел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накомить с последствиями влияния человека на природу, экологическими проблемами, которые необходимо решать на современном этап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ecff"/>
                </a:solidFill>
                <a:latin typeface="Arial"/>
              </a:rPr>
              <a:t>Автор: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Учитель начальных классов ФМОУ СОШ с. Троекурово в с. Урусово Березюк С. 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Липецкая обл.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Чаплыгинский район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мотрю на глобус-ша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земн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вдруг вздохнул он, к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шепчут мне матер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В тревоге рощи и 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Роса на травах, как с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 тихо просят род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Ты береги нас, берег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1200-globe"/>
          <p:cNvPicPr/>
          <p:nvPr/>
        </p:nvPicPr>
        <p:blipFill>
          <a:blip r:embed="rId1"/>
          <a:stretch/>
        </p:blipFill>
        <p:spPr>
          <a:xfrm>
            <a:off x="539640" y="18900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727200" y="3246480"/>
            <a:ext cx="247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ache.gawker.com/assets/images/lifehacker/2011/06/1200-globe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ы часто слышим слово «ЭКОЛОГИЯ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 что  это тако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130648342086"/>
          <p:cNvPicPr/>
          <p:nvPr/>
        </p:nvPicPr>
        <p:blipFill>
          <a:blip r:embed="rId1"/>
          <a:stretch/>
        </p:blipFill>
        <p:spPr>
          <a:xfrm>
            <a:off x="179280" y="227664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539640" y="5229360"/>
            <a:ext cx="228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mignews.com.ua/files/pictures/201105/130648342086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9" descr="image"/>
          <p:cNvPicPr/>
          <p:nvPr/>
        </p:nvPicPr>
        <p:blipFill>
          <a:blip r:embed="rId2"/>
          <a:stretch/>
        </p:blipFill>
        <p:spPr>
          <a:xfrm>
            <a:off x="5219640" y="2421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0"/>
          <p:cNvSpPr/>
          <p:nvPr/>
        </p:nvSpPr>
        <p:spPr>
          <a:xfrm>
            <a:off x="5364000" y="4941720"/>
            <a:ext cx="17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pravdaurfo.ru/sites/default/files/image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Экология – эт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наука о взаимоотношениях живых организмов между собой и окружающей средо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7"/>
          <p:cNvGrpSpPr/>
          <p:nvPr/>
        </p:nvGrpSpPr>
        <p:grpSpPr>
          <a:xfrm>
            <a:off x="442800" y="333360"/>
            <a:ext cx="8208360" cy="6189480"/>
            <a:chOff x="442800" y="333360"/>
            <a:chExt cx="8208360" cy="6189480"/>
          </a:xfrm>
        </p:grpSpPr>
        <p:cxnSp>
          <p:nvCxnSpPr>
            <p:cNvPr id="228" name="_s1028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364360" y="199080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29"/>
            <p:cNvCxnSpPr>
              <a:stCxn id="232" idx="0"/>
              <a:endCxn id="230" idx="2"/>
            </p:cNvCxnSpPr>
            <p:nvPr/>
          </p:nvCxnSpPr>
          <p:spPr>
            <a:xfrm flipV="1">
              <a:off x="4547160" y="2808720"/>
              <a:ext cx="3600" cy="1238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0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491200" y="1991160"/>
              <a:ext cx="1238400" cy="2873520"/>
            </a:xfrm>
            <a:prstGeom prst="bentConnector3">
              <a:avLst>
                <a:gd name="adj1" fmla="val 127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1031"/>
            <p:cNvSpPr/>
            <p:nvPr/>
          </p:nvSpPr>
          <p:spPr>
            <a:xfrm>
              <a:off x="3315600" y="33336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трицате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езультат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428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ырубка лесов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331560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мировог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Океан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88760" y="4047120"/>
              <a:ext cx="2462400" cy="2475720"/>
            </a:xfrm>
            <a:custGeom>
              <a:avLst/>
              <a:gdLst>
                <a:gd name="textAreaLeft" fmla="*/ 119880 w 2462400"/>
                <a:gd name="textAreaRight" fmla="*/ 2342520 w 2462400"/>
                <a:gd name="textAreaTop" fmla="*/ 119880 h 2475720"/>
                <a:gd name="textAreaBottom" fmla="*/ 2355840 h 2475720"/>
              </a:gdLst>
              <a:ahLst/>
              <a:rect l="textAreaLeft" t="textAreaTop" r="textAreaRight" b="textAreaBottom"/>
              <a:pathLst>
                <a:path w="21600" h="21717">
                  <a:moveTo>
                    <a:pt x="3600" y="0"/>
                  </a:moveTo>
                  <a:arcTo wR="3600" hR="3600" stAng="16200000" swAng="-5400000"/>
                  <a:lnTo>
                    <a:pt x="0" y="18117"/>
                  </a:lnTo>
                  <a:arcTo wR="3600" hR="3600" stAng="10800000" swAng="-5400000"/>
                  <a:lnTo>
                    <a:pt x="18000" y="217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грязнени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Воздух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Вдумаемся в эти данны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 год исчезает 50000 биологических видов в нашей экосисте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. исчезло свыше 250 видов позвоноч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угрозой исчезновения находятся ещё более 20 тысяч ви д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zoo.rin.ru/images/parts/img_41_sm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8" descr="img_41_sm"/>
          <p:cNvPicPr/>
          <p:nvPr/>
        </p:nvPicPr>
        <p:blipFill>
          <a:blip r:embed="rId1"/>
          <a:stretch/>
        </p:blipFill>
        <p:spPr>
          <a:xfrm>
            <a:off x="6804000" y="3789360"/>
            <a:ext cx="19112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рашные факты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Ежегодно сжига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я млрд. тонн топл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тмосферу выбр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ывается млн. тонн сажи, золы, пы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Ежегодно попадает в почву сотни млр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нн бытовых сто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Нашу землю отравляют радиоактивные отх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9:36:00Z</dcterms:created>
  <dc:creator>света</dc:creator>
  <dc:description/>
  <dc:language>en-US</dc:language>
  <cp:lastModifiedBy>Admin</cp:lastModifiedBy>
  <dcterms:modified xsi:type="dcterms:W3CDTF">2012-12-21T14:38:50Z</dcterms:modified>
  <cp:revision>4</cp:revision>
  <dc:subject/>
  <dc:title>Тема:</dc:title>
</cp:coreProperties>
</file>