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2925-C81C-41BA-A5C7-27BD11ED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82BE-FD56-4E62-B92D-5F58A573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5684-75ED-4E91-822F-A7FBFBC0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D53D-7B5A-4852-9D68-2E59E043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F9D61-DA34-4A13-BD72-248F62F4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049CC-204F-4C27-BF36-E2AF96C9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7A6F2-5139-4C5D-ACDE-DF70E5E3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5EB4D-6D0D-4FCE-8882-9C46A085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58EDA-51F3-444D-A482-E8CFFE2A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9B301-6F9F-485C-9533-630E5B90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81C69-FD11-4C5C-98CA-87EDB3CB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892E-91BD-4D43-B632-FA8923F9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00372-34CD-4F6D-A7FE-2B54E20E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6204B-94C8-4768-88C9-CF7B35D3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421BD-85CB-4186-90AC-9663850C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79448-DC0C-4C71-AF88-27AF1604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44C5C-6C86-43F1-89AE-486CB55B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5847-C255-4394-BE97-3945E69C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6A30-8DF2-477C-B61B-E40E57F5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720C-C4E8-4B68-ADE8-F0007AF0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D7B6-5B35-4603-A786-0F0EAEF8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7FBC-FDD8-40FC-BB8F-94026AAD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1535-641E-40B5-8E79-1BCB3D41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D1C2-76BA-482B-8066-7323808C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1651-F44A-44AB-8C48-8CB9D36348F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3963-6FCF-4166-B1F7-54F6F04CBD8A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97D7-6505-45E4-AE74-EB7DFA9AB90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3FD4-FBC4-4F20-8084-D40B9A12F04F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34D6-8743-402F-A2CC-6FFB8067D3FC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1370160"/>
            <a:ext cx="725472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c2305"/>
                </a:solidFill>
                <a:latin typeface="Verdana"/>
              </a:rPr>
              <a:t>Общество как сложная</a:t>
            </a:r>
            <a:r>
              <a:rPr b="1" lang="ru-RU" sz="4600" spc="-1" strike="noStrike">
                <a:solidFill>
                  <a:srgbClr val="5c2305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5c2305"/>
                </a:solidFill>
                <a:latin typeface="Verdana"/>
              </a:rPr>
              <a:t>динамичная система.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26920" y="4365360"/>
            <a:ext cx="588636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c2305"/>
                </a:solidFill>
                <a:latin typeface="Verdana"/>
              </a:rPr>
              <a:t>Софронова Л.В.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c2305"/>
                </a:solidFill>
                <a:latin typeface="Verdana"/>
              </a:rPr>
              <a:t>МОУ лицей  «Созвездие» 131г.Самара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3D37-99F5-4255-B0A3-C19700F58C16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Задание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0920" y="1754280"/>
            <a:ext cx="7615080" cy="41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Превратите план в тезисы, кратко сформулировав основные положения прочитанного текста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Например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1. Общественная система имеет сложный характер, так как включает в себя множество уровней, подсистем, элементов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19" name="Picture 4" descr="ag00029_"/>
          <p:cNvPicPr/>
          <p:nvPr/>
        </p:nvPicPr>
        <p:blipFill>
          <a:blip r:embed="rId1"/>
          <a:stretch/>
        </p:blipFill>
        <p:spPr>
          <a:xfrm>
            <a:off x="5940360" y="4437000"/>
            <a:ext cx="216072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6C2D-8A1B-4D95-B4C3-A72662562624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761832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Общество как система имеет сложный иерархичный характер, в нем можно выделить различные уровни в виде подсистем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22" name="Picture 4" descr="emblem"/>
          <p:cNvPicPr/>
          <p:nvPr/>
        </p:nvPicPr>
        <p:blipFill>
          <a:blip r:embed="rId1"/>
          <a:stretch/>
        </p:blipFill>
        <p:spPr>
          <a:xfrm>
            <a:off x="611280" y="836640"/>
            <a:ext cx="2736720" cy="2471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j0295150"/>
          <p:cNvPicPr/>
          <p:nvPr/>
        </p:nvPicPr>
        <p:blipFill>
          <a:blip r:embed="rId2"/>
          <a:stretch/>
        </p:blipFill>
        <p:spPr>
          <a:xfrm>
            <a:off x="6084720" y="1052640"/>
            <a:ext cx="2016360" cy="1712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is?nyFgH_MhzhMvvlXs_qsr6d3tSvsH8iHkH8K1qxNibmQ"/>
          <p:cNvPicPr/>
          <p:nvPr/>
        </p:nvPicPr>
        <p:blipFill>
          <a:blip r:embed="rId3"/>
          <a:stretch/>
        </p:blipFill>
        <p:spPr>
          <a:xfrm>
            <a:off x="5932440" y="2924280"/>
            <a:ext cx="2076480" cy="216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f82d37dbdec2460d4fd383c8a5518c85[1]"/>
          <p:cNvPicPr/>
          <p:nvPr/>
        </p:nvPicPr>
        <p:blipFill>
          <a:blip r:embed="rId4"/>
          <a:stretch/>
        </p:blipFill>
        <p:spPr>
          <a:xfrm>
            <a:off x="3348000" y="2997360"/>
            <a:ext cx="1944720" cy="194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j0295160"/>
          <p:cNvPicPr/>
          <p:nvPr/>
        </p:nvPicPr>
        <p:blipFill>
          <a:blip r:embed="rId5"/>
          <a:stretch/>
        </p:blipFill>
        <p:spPr>
          <a:xfrm>
            <a:off x="3492360" y="1197000"/>
            <a:ext cx="2094120" cy="13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46EE-3F61-47E8-9DB9-8D3616569AE6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837720"/>
            <a:ext cx="4248360" cy="503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Человек является универсальным компонентом социальных систем, он непременно включен в каждую из них, начиная с общества и заканчивая семьей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29" name="Picture 4" descr="ag00029_"/>
          <p:cNvPicPr/>
          <p:nvPr/>
        </p:nvPicPr>
        <p:blipFill>
          <a:blip r:embed="rId1"/>
          <a:stretch/>
        </p:blipFill>
        <p:spPr>
          <a:xfrm>
            <a:off x="4356000" y="1989000"/>
            <a:ext cx="42498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Дата 4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DE13-218D-4B92-90B2-C4B57FEC7407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92144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c2305"/>
                </a:solidFill>
                <a:latin typeface="Verdana"/>
              </a:rPr>
              <a:t>Социальные институты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1125360"/>
          <a:ext cx="8351640" cy="5183280"/>
        </p:xfrm>
        <a:graphic>
          <a:graphicData uri="http://schemas.openxmlformats.org/drawingml/2006/table">
            <a:tbl>
              <a:tblPr/>
              <a:tblGrid>
                <a:gridCol w="2784600"/>
                <a:gridCol w="3119400"/>
                <a:gridCol w="2447640"/>
              </a:tblGrid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Важнейшие жизненные потребнос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Основные виды деятельности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Главные социальные институт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требность в воспроизводстве рода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Семейно-бытовая деятельность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Институт семьи и брака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требность в безопасности и социальном порядке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литическая ,государственная деятельность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Политические институты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государство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требность в средства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существов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Экономическая деятельность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Экономические институты, производство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требность в получении знаний, социализации детей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Научная ,воспитательная образов. деятельность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Институты науки, образования, культур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Потребность в решении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духовных пробле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c2305"/>
                          </a:solidFill>
                          <a:latin typeface="Verdana"/>
                        </a:rPr>
                        <a:t>Религиозная деятельност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f4c0b"/>
                          </a:solidFill>
                          <a:latin typeface="Verdana"/>
                        </a:rPr>
                        <a:t>Институт религии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1959-37F6-4B89-A8B3-F60CF055CB02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837720"/>
            <a:ext cx="7618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Запомним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7615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Социальный институт возникает на основе </a:t>
            </a:r>
            <a:r>
              <a:rPr b="0" i="1" lang="ru-RU" sz="2200" spc="-1" strike="noStrike">
                <a:solidFill>
                  <a:srgbClr val="5c2305"/>
                </a:solidFill>
                <a:latin typeface="Verdana"/>
              </a:rPr>
              <a:t>совместной деятельности больших масс людей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Эта деятельность направлена на удовлетворение </a:t>
            </a:r>
            <a:r>
              <a:rPr b="0" i="1" lang="ru-RU" sz="2200" spc="-1" strike="noStrike">
                <a:solidFill>
                  <a:srgbClr val="5c2305"/>
                </a:solidFill>
                <a:latin typeface="Verdana"/>
              </a:rPr>
              <a:t>фундаментальных потребностей общества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Социальный институт представляет собой устойчивые формы организации подобной деятельности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Эти формы сложились </a:t>
            </a:r>
            <a:r>
              <a:rPr b="0" i="1" lang="ru-RU" sz="2200" spc="-1" strike="noStrike">
                <a:solidFill>
                  <a:srgbClr val="5c2305"/>
                </a:solidFill>
                <a:latin typeface="Verdana"/>
              </a:rPr>
              <a:t>исторически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Такая деятельность регулируется нормами, обычаями, традициями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B79F-FADE-4C5C-974F-556905EB8CB8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13600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2305"/>
                </a:solidFill>
                <a:latin typeface="Verdana"/>
              </a:rPr>
              <a:t>Обратившись к тексту параграфа, определите характерные черты института образования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6227640" y="981000"/>
            <a:ext cx="2306880" cy="3457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2297160" cy="345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j0424158[1]"/>
          <p:cNvPicPr/>
          <p:nvPr/>
        </p:nvPicPr>
        <p:blipFill>
          <a:blip r:embed="rId3"/>
          <a:stretch/>
        </p:blipFill>
        <p:spPr>
          <a:xfrm>
            <a:off x="3348000" y="1197000"/>
            <a:ext cx="27259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8E41-CE85-47BA-A4B9-5CC533A1D275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837720"/>
            <a:ext cx="7618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c2305"/>
                </a:solidFill>
                <a:uFillTx/>
                <a:latin typeface="Verdana"/>
              </a:rPr>
              <a:t>Домашнее задание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7615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Прочитать и осмыслить практические выводы к </a:t>
            </a:r>
            <a:r>
              <a:rPr b="0" lang="en-US" sz="2200" spc="-1" strike="noStrike">
                <a:solidFill>
                  <a:srgbClr val="5c2305"/>
                </a:solidFill>
                <a:latin typeface="Times New Roman"/>
                <a:ea typeface="Times New Roman"/>
              </a:rPr>
              <a:t>§</a:t>
            </a:r>
            <a:r>
              <a:rPr b="0" lang="ru-RU" sz="2200" spc="-1" strike="noStrike">
                <a:solidFill>
                  <a:srgbClr val="5c2305"/>
                </a:solidFill>
                <a:latin typeface="Times New Roman"/>
                <a:ea typeface="Times New Roman"/>
              </a:rPr>
              <a:t> 2.  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На что ориентирует каждый из практических выводов?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Самостоятельно изучить фрагменты из работы Э.Шилза, включенного в параграф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Опережающее д</a:t>
            </a: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/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з. Подобрать примеры взаимодействия человека и природы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77D2-81DB-4670-ADBF-9796A8143D0B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Практические выводы изученного материала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920" y="1754280"/>
            <a:ext cx="7183440" cy="41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Какие выводы можно сделать из того факта, что общество представляет собою совместную деятельность людей ( не менее 2-х выводов)?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Какие практические выводы вытекают из знаний о взаимозависимости общества и природной среды?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Как вы считаете, имеет ли значимость для вас изучение общественных дисциплин в школе? 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128C-621F-40B3-9330-8E4D20B5E8D1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5c2305"/>
                </a:solidFill>
                <a:uFillTx/>
                <a:latin typeface="Verdana"/>
              </a:rPr>
              <a:t>План изучения нового материала.</a:t>
            </a:r>
            <a:endParaRPr b="0" lang="en-US" sz="4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2923920"/>
            <a:ext cx="7254720" cy="30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spcBef>
                <a:spcPts val="799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2305"/>
                </a:solidFill>
                <a:latin typeface="Verdana"/>
              </a:rPr>
              <a:t>Общее понятие системы </a:t>
            </a: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799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2305"/>
                </a:solidFill>
                <a:latin typeface="Verdana"/>
              </a:rPr>
              <a:t>Характерные черты общества как системы.</a:t>
            </a: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2305"/>
                </a:solidFill>
                <a:latin typeface="Verdana"/>
              </a:rPr>
              <a:t>Социальные институты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A96E-A5F5-477C-85C8-CD5F9331FD49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3499920"/>
            <a:ext cx="4537080" cy="22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c2305"/>
                </a:solidFill>
                <a:latin typeface="Verdana"/>
              </a:rPr>
              <a:t>Понятие « система»относится как сложным объектам, так и механическим.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97" name="Picture 1028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017960" cy="2595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1" descr="j0432227[1]"/>
          <p:cNvPicPr/>
          <p:nvPr/>
        </p:nvPicPr>
        <p:blipFill>
          <a:blip r:embed="rId2"/>
          <a:stretch/>
        </p:blipFill>
        <p:spPr>
          <a:xfrm>
            <a:off x="5724360" y="3789360"/>
            <a:ext cx="2376720" cy="231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32" descr="j0430315[1]"/>
          <p:cNvPicPr/>
          <p:nvPr/>
        </p:nvPicPr>
        <p:blipFill>
          <a:blip r:embed="rId3"/>
          <a:stretch/>
        </p:blipFill>
        <p:spPr>
          <a:xfrm>
            <a:off x="4716360" y="1197000"/>
            <a:ext cx="3961080" cy="23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B906-A479-4EC1-B4F1-9ED5F38CDC04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4883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1377-A294-4C24-8336-D65DDD426D85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220640"/>
            <a:ext cx="763272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Являются ли  </a:t>
            </a:r>
            <a:r>
              <a:rPr b="0" i="1" lang="ru-RU" sz="2000" spc="-1" strike="noStrike">
                <a:solidFill>
                  <a:srgbClr val="5c2305"/>
                </a:solidFill>
                <a:latin typeface="Verdana"/>
              </a:rPr>
              <a:t>системой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отдельные детали водомера, разложенные на столе?</a:t>
            </a:r>
            <a:br>
              <a:rPr sz="2000"/>
            </a:b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В каком случае детали водомера осуществляют функцию системы?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400" y="1754280"/>
            <a:ext cx="5484600" cy="41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496728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6639-A292-4207-B36D-44F690CF3E13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1773000"/>
            <a:ext cx="7473960" cy="23763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c2305"/>
                </a:solidFill>
                <a:latin typeface="Verdana"/>
              </a:rPr>
              <a:t>Вывод: свойства системы принадлежат не ее отдельным частям, а только системе в целом.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76B2-3298-4914-BD4B-F367987C8722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838080"/>
            <a:ext cx="777708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9640" y="765000"/>
            <a:ext cx="79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c2305"/>
                </a:solidFill>
                <a:latin typeface="Times New Roman"/>
              </a:rPr>
              <a:t>Задание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c2305"/>
                </a:solidFill>
                <a:latin typeface="Times New Roman"/>
              </a:rPr>
              <a:t>Прочитайте пункт №2 параграфа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c2305"/>
                </a:solidFill>
                <a:latin typeface="Times New Roman"/>
              </a:rPr>
              <a:t>« Особенности социальной системы»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c2305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5c2305"/>
                </a:solidFill>
                <a:latin typeface="Times New Roman"/>
              </a:rPr>
              <a:t>Составьте простой план данного текста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ag00029_"/>
          <p:cNvPicPr/>
          <p:nvPr/>
        </p:nvPicPr>
        <p:blipFill>
          <a:blip r:embed="rId1"/>
          <a:stretch/>
        </p:blipFill>
        <p:spPr>
          <a:xfrm>
            <a:off x="6156360" y="4365720"/>
            <a:ext cx="216072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FD51-BB1A-4EAF-AA87-2DB5631B7078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837720"/>
            <a:ext cx="7689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                    </a:t>
            </a:r>
            <a:r>
              <a:rPr b="0" i="1" lang="ru-RU" sz="3200" spc="-1" strike="noStrike" u="sng">
                <a:solidFill>
                  <a:srgbClr val="5c2305"/>
                </a:solidFill>
                <a:uFillTx/>
                <a:latin typeface="Verdana"/>
              </a:rPr>
              <a:t>план</a:t>
            </a: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686720" cy="41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Сложный характер социальной системы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Наличие в составе системы разнокачественных элементов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Человек- основной элемент общественной системы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Постоянное изменение общественной системы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Интегративное качество системы как целого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Социальная система -самоуправляемая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Среда общества как системы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419040" indent="-419040">
              <a:lnSpc>
                <a:spcPct val="80000"/>
              </a:lnSpc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c2305"/>
                </a:solidFill>
                <a:latin typeface="Verdana"/>
              </a:rPr>
              <a:t>Функции общественной системы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3:58:30Z</dcterms:created>
  <dc:creator>Алексей Софронов</dc:creator>
  <dc:description/>
  <cp:keywords/>
  <dc:language>en-US</dc:language>
  <cp:lastModifiedBy>Олег</cp:lastModifiedBy>
  <cp:lastPrinted>1996-03-19T21:02:48Z</cp:lastPrinted>
  <dcterms:modified xsi:type="dcterms:W3CDTF">2012-01-17T17:13:25Z</dcterms:modified>
  <cp:revision>7</cp:revision>
  <dc:subject/>
  <dc:title>Общество как сложная  динамичная систем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871049</vt:lpwstr>
  </property>
</Properties>
</file>