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D543-C380-48B6-B21B-E081BAD0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4660-B826-41BB-B6E8-D92F5D3F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40A5-70A2-4014-97AE-D5E4A4D7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4576-1F38-48FA-938F-427EEAB6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5CC6B-0C0B-40EA-A956-3F0C020D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0396A-0784-486B-965F-9A5401B7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94B26-C4B3-4267-8325-FFD7AFCC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63E0B-0823-40BD-A96B-26728014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B4CBF-DE28-4931-9755-FDE684E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E9FD9-4411-4B7C-AA4F-A319A4EB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133BA-13AF-43B6-9EC7-00AE1A6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73A1-F94C-4D48-9A5D-EC800BF5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562BA-AC18-4609-9109-2613A56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C13F2-F93D-4D65-9A35-C0C19292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9AA26-8535-49A0-BD4A-DF8C551D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B9CC5-F969-44EE-84FD-41AA5319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2F3E2-7FB6-4A33-94AE-AF91F6D1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EFD9-1639-4D7B-9299-6DE39D8C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4DF7-CF86-461D-AFA1-EE7E4710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C9CF-3DD0-4D18-B0B7-BF768AD6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8716-DCA2-4276-86F2-1A447DF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0450-1782-4AD3-B56A-25ABC364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46E7-3D28-43FB-B238-459F7824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4DFF-A89F-40D3-B543-84D0B898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C78A-37B0-4E69-BA59-1EB413CC18D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38BB-7858-41D7-A6CB-0998E6026F36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BDEE-2443-4552-A1A6-8A7817F5EFA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63A-8059-4BAE-8108-89D3FEBD6EA1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DFD4-15CB-4F73-B1BC-1090511455DB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1370160"/>
            <a:ext cx="725472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c2305"/>
                </a:solidFill>
                <a:latin typeface="Verdana"/>
              </a:rPr>
              <a:t>Общество как сложная</a:t>
            </a:r>
            <a:r>
              <a:rPr b="1" lang="ru-RU" sz="4600" spc="-1" strike="noStrike">
                <a:solidFill>
                  <a:srgbClr val="5c2305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5c2305"/>
                </a:solidFill>
                <a:latin typeface="Verdana"/>
              </a:rPr>
              <a:t>динамичная система.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26920" y="4365360"/>
            <a:ext cx="588636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2305"/>
                </a:solidFill>
                <a:latin typeface="Verdana"/>
              </a:rPr>
              <a:t>Софронова Л.В.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2305"/>
                </a:solidFill>
                <a:latin typeface="Verdana"/>
              </a:rPr>
              <a:t>МОУ лицей  «Созвездие» 131г.Самара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C7E4-3438-4C32-82FB-D37294D800EA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Задание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1754280"/>
            <a:ext cx="761508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Превратите план в тезисы, кратко сформулировав основные положения прочитанного текста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Например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1. Общественная система имеет сложный характер, так как включает в себя множество уровней, подсистем, элементов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19" name="Picture 4" descr="ag00029_"/>
          <p:cNvPicPr/>
          <p:nvPr/>
        </p:nvPicPr>
        <p:blipFill>
          <a:blip r:embed="rId1"/>
          <a:stretch/>
        </p:blipFill>
        <p:spPr>
          <a:xfrm>
            <a:off x="5940360" y="4437000"/>
            <a:ext cx="216072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4E9B-4167-40B2-B90D-1F3CC35480AB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761832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Общество как система имеет сложный иерархичный характер, в нем можно выделить различные уровни в виде подсистем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22" name="Picture 4" descr="emblem"/>
          <p:cNvPicPr/>
          <p:nvPr/>
        </p:nvPicPr>
        <p:blipFill>
          <a:blip r:embed="rId1"/>
          <a:stretch/>
        </p:blipFill>
        <p:spPr>
          <a:xfrm>
            <a:off x="611280" y="836640"/>
            <a:ext cx="2736720" cy="2471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j0295150"/>
          <p:cNvPicPr/>
          <p:nvPr/>
        </p:nvPicPr>
        <p:blipFill>
          <a:blip r:embed="rId2"/>
          <a:stretch/>
        </p:blipFill>
        <p:spPr>
          <a:xfrm>
            <a:off x="6084720" y="1052640"/>
            <a:ext cx="2016360" cy="1712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is?nyFgH_MhzhMvvlXs_qsr6d3tSvsH8iHkH8K1qxNibmQ"/>
          <p:cNvPicPr/>
          <p:nvPr/>
        </p:nvPicPr>
        <p:blipFill>
          <a:blip r:embed="rId3"/>
          <a:stretch/>
        </p:blipFill>
        <p:spPr>
          <a:xfrm>
            <a:off x="5932440" y="2924280"/>
            <a:ext cx="2076480" cy="21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82d37dbdec2460d4fd383c8a5518c85[1]"/>
          <p:cNvPicPr/>
          <p:nvPr/>
        </p:nvPicPr>
        <p:blipFill>
          <a:blip r:embed="rId4"/>
          <a:stretch/>
        </p:blipFill>
        <p:spPr>
          <a:xfrm>
            <a:off x="3348000" y="2997360"/>
            <a:ext cx="1944720" cy="194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0295160"/>
          <p:cNvPicPr/>
          <p:nvPr/>
        </p:nvPicPr>
        <p:blipFill>
          <a:blip r:embed="rId5"/>
          <a:stretch/>
        </p:blipFill>
        <p:spPr>
          <a:xfrm>
            <a:off x="3492360" y="1197000"/>
            <a:ext cx="2094120" cy="13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6637-AB04-48D2-9EB2-3BE554834062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837720"/>
            <a:ext cx="4248360" cy="50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Человек является универсальным компонентом социальных систем, он непременно включен в каждую из них, начиная с общества и заканчивая семьей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29" name="Picture 4" descr="ag00029_"/>
          <p:cNvPicPr/>
          <p:nvPr/>
        </p:nvPicPr>
        <p:blipFill>
          <a:blip r:embed="rId1"/>
          <a:stretch/>
        </p:blipFill>
        <p:spPr>
          <a:xfrm>
            <a:off x="4356000" y="1989000"/>
            <a:ext cx="4249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76FF-3BF0-4892-BCC4-768AF5BAA6BA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92144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c2305"/>
                </a:solidFill>
                <a:latin typeface="Verdana"/>
              </a:rPr>
              <a:t>Социальные институты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125360"/>
          <a:ext cx="8351640" cy="5183280"/>
        </p:xfrm>
        <a:graphic>
          <a:graphicData uri="http://schemas.openxmlformats.org/drawingml/2006/table">
            <a:tbl>
              <a:tblPr/>
              <a:tblGrid>
                <a:gridCol w="2784600"/>
                <a:gridCol w="3119400"/>
                <a:gridCol w="2447640"/>
              </a:tblGrid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Важнейшие жизненные потребн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Основные виды деятельности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Главные социальные институт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воспроизводстве род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Семейно-бытовая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Институт семьи и брак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безопасности и социальном порядке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литическая ,государственная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Политические институты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государство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средства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существов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Экономическая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Экономические институты, производство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получении знаний, социализации детей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Научная ,воспитательная образов.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Институты науки, образования, культур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решении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духовных пробле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Религиозная деятель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Институт религии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BF9E-3DA7-47DA-A184-04FC9BAC5561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837720"/>
            <a:ext cx="7618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Запомним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7615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Социальный институт возникает на основе </a:t>
            </a:r>
            <a:r>
              <a:rPr b="0" i="1" lang="ru-RU" sz="2200" spc="-1" strike="noStrike">
                <a:solidFill>
                  <a:srgbClr val="5c2305"/>
                </a:solidFill>
                <a:latin typeface="Verdana"/>
              </a:rPr>
              <a:t>совместной деятельности больших масс людей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Эта деятельность направлена на удовлетворение </a:t>
            </a:r>
            <a:r>
              <a:rPr b="0" i="1" lang="ru-RU" sz="2200" spc="-1" strike="noStrike">
                <a:solidFill>
                  <a:srgbClr val="5c2305"/>
                </a:solidFill>
                <a:latin typeface="Verdana"/>
              </a:rPr>
              <a:t>фундаментальных потребностей общества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Социальный институт представляет собой устойчивые формы организации подобной деятельности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Эти формы сложились </a:t>
            </a:r>
            <a:r>
              <a:rPr b="0" i="1" lang="ru-RU" sz="2200" spc="-1" strike="noStrike">
                <a:solidFill>
                  <a:srgbClr val="5c2305"/>
                </a:solidFill>
                <a:latin typeface="Verdana"/>
              </a:rPr>
              <a:t>исторически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Такая деятельность регулируется нормами, обычаями, традициями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0CAA-6148-4F16-8146-757484AF566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360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2305"/>
                </a:solidFill>
                <a:latin typeface="Verdana"/>
              </a:rPr>
              <a:t>Обратившись к тексту параграфа, определите характерные черты института образования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6227640" y="981000"/>
            <a:ext cx="2306880" cy="3457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229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j0424158[1]"/>
          <p:cNvPicPr/>
          <p:nvPr/>
        </p:nvPicPr>
        <p:blipFill>
          <a:blip r:embed="rId3"/>
          <a:stretch/>
        </p:blipFill>
        <p:spPr>
          <a:xfrm>
            <a:off x="3348000" y="1197000"/>
            <a:ext cx="27259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FE7F-F78E-48A9-991F-6479E2A5FBB7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837720"/>
            <a:ext cx="7618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c2305"/>
                </a:solidFill>
                <a:uFillTx/>
                <a:latin typeface="Verdana"/>
              </a:rPr>
              <a:t>Домашнее задание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7615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Прочитать и осмыслить практические выводы к </a:t>
            </a:r>
            <a:r>
              <a:rPr b="0" lang="en-US" sz="2200" spc="-1" strike="noStrike">
                <a:solidFill>
                  <a:srgbClr val="5c2305"/>
                </a:solidFill>
                <a:latin typeface="Times New Roman"/>
                <a:ea typeface="Times New Roman"/>
              </a:rPr>
              <a:t>§</a:t>
            </a:r>
            <a:r>
              <a:rPr b="0" lang="ru-RU" sz="2200" spc="-1" strike="noStrike">
                <a:solidFill>
                  <a:srgbClr val="5c2305"/>
                </a:solidFill>
                <a:latin typeface="Times New Roman"/>
                <a:ea typeface="Times New Roman"/>
              </a:rPr>
              <a:t> 2.  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На что ориентирует каждый из практических выводов?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Самостоятельно изучить фрагменты из работы Э.Шилза, включенного в параграф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Опережающее д</a:t>
            </a: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/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з. Подобрать примеры взаимодействия человека и природы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5AB9-3F0D-4737-A535-CB8280A9B548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Практические выводы изученного материала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920" y="1754280"/>
            <a:ext cx="718344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Какие выводы можно сделать из того факта, что общество представляет собою совместную деятельность людей ( не менее 2-х выводов)?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Какие практические выводы вытекают из знаний о взаимозависимости общества и природной среды?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Как вы считаете, имеет ли значимость для вас изучение общественных дисциплин в школе? 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8457-D53B-42C2-83EA-37C7E54C6A17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5c2305"/>
                </a:solidFill>
                <a:uFillTx/>
                <a:latin typeface="Verdana"/>
              </a:rPr>
              <a:t>План изучения нового материала.</a:t>
            </a:r>
            <a:endParaRPr b="0" lang="en-US" sz="4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2923920"/>
            <a:ext cx="7254720" cy="30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799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2305"/>
                </a:solidFill>
                <a:latin typeface="Verdana"/>
              </a:rPr>
              <a:t>Общее понятие системы 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799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2305"/>
                </a:solidFill>
                <a:latin typeface="Verdana"/>
              </a:rPr>
              <a:t>Характерные черты общества как системы.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2305"/>
                </a:solidFill>
                <a:latin typeface="Verdana"/>
              </a:rPr>
              <a:t>Социальные институты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0263-8BD8-4DE6-A751-F6BDC6C1CE5E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3499920"/>
            <a:ext cx="4537080" cy="22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c2305"/>
                </a:solidFill>
                <a:latin typeface="Verdana"/>
              </a:rPr>
              <a:t>Понятие « система»относится как сложным объектам, так и механическим.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017960" cy="2595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1" descr="j0432227[1]"/>
          <p:cNvPicPr/>
          <p:nvPr/>
        </p:nvPicPr>
        <p:blipFill>
          <a:blip r:embed="rId2"/>
          <a:stretch/>
        </p:blipFill>
        <p:spPr>
          <a:xfrm>
            <a:off x="5724360" y="3789360"/>
            <a:ext cx="2376720" cy="231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32" descr="j0430315[1]"/>
          <p:cNvPicPr/>
          <p:nvPr/>
        </p:nvPicPr>
        <p:blipFill>
          <a:blip r:embed="rId3"/>
          <a:stretch/>
        </p:blipFill>
        <p:spPr>
          <a:xfrm>
            <a:off x="4716360" y="1197000"/>
            <a:ext cx="396108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D1E1-6A3F-4DD5-857A-44C695915F1C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4883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7023-C2B5-4AE5-A204-7C9446B1D29F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22064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Являются ли  </a:t>
            </a:r>
            <a:r>
              <a:rPr b="0" i="1" lang="ru-RU" sz="2000" spc="-1" strike="noStrike">
                <a:solidFill>
                  <a:srgbClr val="5c2305"/>
                </a:solidFill>
                <a:latin typeface="Verdana"/>
              </a:rPr>
              <a:t>системой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отдельные детали водомера, разложенные на столе?</a:t>
            </a:r>
            <a:br>
              <a:rPr sz="2000"/>
            </a:b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В каком случае детали водомера осуществляют функцию системы?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400" y="1754280"/>
            <a:ext cx="548460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49672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8F6F-A365-40C4-A740-436D7ECF5A09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1773000"/>
            <a:ext cx="7473960" cy="2376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c2305"/>
                </a:solidFill>
                <a:latin typeface="Verdana"/>
              </a:rPr>
              <a:t>Вывод: свойства системы принадлежат не ее отдельным частям, а только системе в целом.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CD3F-2337-46CE-A20D-711DC2AB837A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838080"/>
            <a:ext cx="777708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765000"/>
            <a:ext cx="79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Задание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Прочитайте пункт №2 параграфа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« Особенности социальной системы»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Составьте простой план данного текста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ag00029_"/>
          <p:cNvPicPr/>
          <p:nvPr/>
        </p:nvPicPr>
        <p:blipFill>
          <a:blip r:embed="rId1"/>
          <a:stretch/>
        </p:blipFill>
        <p:spPr>
          <a:xfrm>
            <a:off x="6156360" y="4365720"/>
            <a:ext cx="216072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D7D2-F4C3-46E8-A0EE-F44D10CDDDDA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837720"/>
            <a:ext cx="7689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                    </a:t>
            </a:r>
            <a:r>
              <a:rPr b="0" i="1" lang="ru-RU" sz="3200" spc="-1" strike="noStrike" u="sng">
                <a:solidFill>
                  <a:srgbClr val="5c2305"/>
                </a:solidFill>
                <a:uFillTx/>
                <a:latin typeface="Verdana"/>
              </a:rPr>
              <a:t>план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68672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Сложный характер социаль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Наличие в составе системы разнокачественных элементов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Человек- основной элемент обществен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Постоянное изменение обществен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Интегративное качество системы как целого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Социальная система -самоуправляемая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Среда общества как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Функции обществен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3:58:30Z</dcterms:created>
  <dc:creator>Алексей Софронов</dc:creator>
  <dc:description/>
  <cp:keywords/>
  <dc:language>en-US</dc:language>
  <cp:lastModifiedBy>Олег</cp:lastModifiedBy>
  <cp:lastPrinted>1996-03-19T21:02:48Z</cp:lastPrinted>
  <dcterms:modified xsi:type="dcterms:W3CDTF">2012-01-17T17:13:25Z</dcterms:modified>
  <cp:revision>7</cp:revision>
  <dc:subject/>
  <dc:title>Общество как сложная  динамичная систем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