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14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06E6F-57FD-4E16-8340-57884C0C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2194-CF95-41F5-8299-EA048DB8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C818-498B-4F37-B339-24056E50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BF12-0124-4FFE-9C77-A87D6204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FC622-27F6-4064-A545-427D1B7A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E5282-7A4D-4C90-98D9-EE412DDD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314E7-8CC4-4A20-98E7-B8185E74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98085-86EC-4113-9229-7537C36F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76136-7157-49DE-9C5A-7FA15172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6FF64-58F2-4189-B90F-95D62C0C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7806D-3B28-4E50-A8FB-8E5E2739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8EE5-B3B0-4306-BEB5-8F9A41FA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45B55-763F-491A-A2B7-A4625638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5ECEB-2D17-4DC7-B58D-972FA4E8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1BA8D-B3B8-4642-A69A-47AEAF94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6F81F-3D4A-494A-A4F1-73C9CCA4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4778E-51A9-429D-A6C6-49017F7B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EFC1-7203-49F7-8DD6-658AF78F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ED38-9C28-4A84-9EDC-029BDA15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B5DB-2051-4FA1-AB97-EE1A40F6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78CB-26F6-4F6A-8718-5B86F3BE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8D03-4361-4037-8AEC-9801EDFB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01E1-CE09-45C6-A291-68798E61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2F5CA-FCCA-4DE6-BBBD-6250A07F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1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AFEA-15CC-4D58-99E1-BCB7852BDD7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A06F-0E75-40A3-91C9-A6FD998C5D12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5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2B56-D5DF-4037-BF50-00E9BF7DFF0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dt" idx="6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E948-F4EC-4E8A-AAAA-CE711D6AC025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4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F76A-E06B-4DE1-9600-A6C406117659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640" y="1370160"/>
            <a:ext cx="725472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c2305"/>
                </a:solidFill>
                <a:latin typeface="Verdana"/>
              </a:rPr>
              <a:t>Общество как сложная</a:t>
            </a:r>
            <a:r>
              <a:rPr b="1" lang="ru-RU" sz="4600" spc="-1" strike="noStrike">
                <a:solidFill>
                  <a:srgbClr val="5c2305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5c2305"/>
                </a:solidFill>
                <a:latin typeface="Verdana"/>
              </a:rPr>
              <a:t>динамичная система.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26920" y="4365360"/>
            <a:ext cx="588636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c2305"/>
                </a:solidFill>
                <a:latin typeface="Verdana"/>
              </a:rPr>
              <a:t>Софронова Л.В.</a:t>
            </a: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c2305"/>
                </a:solidFill>
                <a:latin typeface="Verdana"/>
              </a:rPr>
              <a:t>МОУ лицей  «Созвездие» 131г.Самара</a:t>
            </a: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12D4-CE88-4BAE-8582-684EBBFFD0AC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Задание.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0920" y="1754280"/>
            <a:ext cx="7615080" cy="41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Превратите план в тезисы, кратко сформулировав основные положения прочитанного текста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Например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1. Общественная система имеет сложный характер, так как включает в себя множество уровней, подсистем, элементов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19" name="Picture 4" descr="ag00029_"/>
          <p:cNvPicPr/>
          <p:nvPr/>
        </p:nvPicPr>
        <p:blipFill>
          <a:blip r:embed="rId1"/>
          <a:stretch/>
        </p:blipFill>
        <p:spPr>
          <a:xfrm>
            <a:off x="5940360" y="4437000"/>
            <a:ext cx="2160720" cy="17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A27B-5DB5-47FD-A82A-00E68AC59976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761832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Общество как система имеет сложный иерархичный характер, в нем можно выделить различные уровни в виде подсистем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22" name="Picture 4" descr="emblem"/>
          <p:cNvPicPr/>
          <p:nvPr/>
        </p:nvPicPr>
        <p:blipFill>
          <a:blip r:embed="rId1"/>
          <a:stretch/>
        </p:blipFill>
        <p:spPr>
          <a:xfrm>
            <a:off x="611280" y="836640"/>
            <a:ext cx="2736720" cy="2471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j0295150"/>
          <p:cNvPicPr/>
          <p:nvPr/>
        </p:nvPicPr>
        <p:blipFill>
          <a:blip r:embed="rId2"/>
          <a:stretch/>
        </p:blipFill>
        <p:spPr>
          <a:xfrm>
            <a:off x="6084720" y="1052640"/>
            <a:ext cx="2016360" cy="1712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is?nyFgH_MhzhMvvlXs_qsr6d3tSvsH8iHkH8K1qxNibmQ"/>
          <p:cNvPicPr/>
          <p:nvPr/>
        </p:nvPicPr>
        <p:blipFill>
          <a:blip r:embed="rId3"/>
          <a:stretch/>
        </p:blipFill>
        <p:spPr>
          <a:xfrm>
            <a:off x="5932440" y="2924280"/>
            <a:ext cx="2076480" cy="216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f82d37dbdec2460d4fd383c8a5518c85[1]"/>
          <p:cNvPicPr/>
          <p:nvPr/>
        </p:nvPicPr>
        <p:blipFill>
          <a:blip r:embed="rId4"/>
          <a:stretch/>
        </p:blipFill>
        <p:spPr>
          <a:xfrm>
            <a:off x="3348000" y="2997360"/>
            <a:ext cx="1944720" cy="1944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j0295160"/>
          <p:cNvPicPr/>
          <p:nvPr/>
        </p:nvPicPr>
        <p:blipFill>
          <a:blip r:embed="rId5"/>
          <a:stretch/>
        </p:blipFill>
        <p:spPr>
          <a:xfrm>
            <a:off x="3492360" y="1197000"/>
            <a:ext cx="2094120" cy="13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1CBE-0B55-4140-8220-619CBB300425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837720"/>
            <a:ext cx="4248360" cy="503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Человек является универсальным компонентом социальных систем, он непременно включен в каждую из них, начиная с общества и заканчивая семьей.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29" name="Picture 4" descr="ag00029_"/>
          <p:cNvPicPr/>
          <p:nvPr/>
        </p:nvPicPr>
        <p:blipFill>
          <a:blip r:embed="rId1"/>
          <a:stretch/>
        </p:blipFill>
        <p:spPr>
          <a:xfrm>
            <a:off x="4356000" y="1989000"/>
            <a:ext cx="42498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Дата 4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1533-75A5-4BEA-8771-977B1A0409C9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92144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c2305"/>
                </a:solidFill>
                <a:latin typeface="Verdana"/>
              </a:rPr>
              <a:t>Социальные институты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1125360"/>
          <a:ext cx="8351640" cy="5183280"/>
        </p:xfrm>
        <a:graphic>
          <a:graphicData uri="http://schemas.openxmlformats.org/drawingml/2006/table">
            <a:tbl>
              <a:tblPr/>
              <a:tblGrid>
                <a:gridCol w="2784600"/>
                <a:gridCol w="3119400"/>
                <a:gridCol w="2447640"/>
              </a:tblGrid>
              <a:tr h="86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Важнейшие жизненные потребнос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Основные виды деятельности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Главные социальные институт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Потребность в воспроизводстве рода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Семейно-бытовая деятельность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f4c0b"/>
                          </a:solidFill>
                          <a:latin typeface="Verdana"/>
                        </a:rPr>
                        <a:t>Институт семьи и брака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Потребность в безопасности и социальном порядке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Политическая ,государственная деятельность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f4c0b"/>
                          </a:solidFill>
                          <a:latin typeface="Verdana"/>
                        </a:rPr>
                        <a:t>Политические институты,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f4c0b"/>
                          </a:solidFill>
                          <a:latin typeface="Verdana"/>
                        </a:rPr>
                        <a:t>государство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Потребность в средства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существовани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Экономическая деятельность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f4c0b"/>
                          </a:solidFill>
                          <a:latin typeface="Verdana"/>
                        </a:rPr>
                        <a:t>Экономические институты, производство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Потребность в получении знаний, социализации детей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Научная ,воспитательная образов. деятельность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f4c0b"/>
                          </a:solidFill>
                          <a:latin typeface="Verdana"/>
                        </a:rPr>
                        <a:t>Институты науки, образования, культур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Потребность в решении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духовных проблем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Религиозная деятельност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f4c0b"/>
                          </a:solidFill>
                          <a:latin typeface="Verdana"/>
                        </a:rPr>
                        <a:t>Институт религии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E9FC-E51F-48F4-91DA-1B72FF07099C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837720"/>
            <a:ext cx="7618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Запомним.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752480"/>
            <a:ext cx="76150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Социальный институт возникает на основе </a:t>
            </a:r>
            <a:r>
              <a:rPr b="0" i="1" lang="ru-RU" sz="2200" spc="-1" strike="noStrike">
                <a:solidFill>
                  <a:srgbClr val="5c2305"/>
                </a:solidFill>
                <a:latin typeface="Verdana"/>
              </a:rPr>
              <a:t>совместной деятельности больших масс людей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Эта деятельность направлена на удовлетворение </a:t>
            </a:r>
            <a:r>
              <a:rPr b="0" i="1" lang="ru-RU" sz="2200" spc="-1" strike="noStrike">
                <a:solidFill>
                  <a:srgbClr val="5c2305"/>
                </a:solidFill>
                <a:latin typeface="Verdana"/>
              </a:rPr>
              <a:t>фундаментальных потребностей общества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Социальный институт представляет собой устойчивые формы организации подобной деятельности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Эти формы сложились </a:t>
            </a:r>
            <a:r>
              <a:rPr b="0" i="1" lang="ru-RU" sz="2200" spc="-1" strike="noStrike">
                <a:solidFill>
                  <a:srgbClr val="5c2305"/>
                </a:solidFill>
                <a:latin typeface="Verdana"/>
              </a:rPr>
              <a:t>исторически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Такая деятельность регулируется нормами, обычаями, традициями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A493-C4B2-4039-B8FC-23F0C1CB2E8F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13600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2305"/>
                </a:solidFill>
                <a:latin typeface="Verdana"/>
              </a:rPr>
              <a:t>Обратившись к тексту параграфа, определите характерные черты института образования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6227640" y="981000"/>
            <a:ext cx="2306880" cy="3457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2297160" cy="345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j0424158[1]"/>
          <p:cNvPicPr/>
          <p:nvPr/>
        </p:nvPicPr>
        <p:blipFill>
          <a:blip r:embed="rId3"/>
          <a:stretch/>
        </p:blipFill>
        <p:spPr>
          <a:xfrm>
            <a:off x="3348000" y="1197000"/>
            <a:ext cx="27259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C634-C0F5-47EA-9680-651954953B84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837720"/>
            <a:ext cx="7618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c2305"/>
                </a:solidFill>
                <a:uFillTx/>
                <a:latin typeface="Verdana"/>
              </a:rPr>
              <a:t>Домашнее задание.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0920" y="1752480"/>
            <a:ext cx="76150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Прочитать и осмыслить практические выводы к </a:t>
            </a:r>
            <a:r>
              <a:rPr b="0" lang="en-US" sz="2200" spc="-1" strike="noStrike">
                <a:solidFill>
                  <a:srgbClr val="5c2305"/>
                </a:solidFill>
                <a:latin typeface="Times New Roman"/>
                <a:ea typeface="Times New Roman"/>
              </a:rPr>
              <a:t>§</a:t>
            </a:r>
            <a:r>
              <a:rPr b="0" lang="ru-RU" sz="2200" spc="-1" strike="noStrike">
                <a:solidFill>
                  <a:srgbClr val="5c2305"/>
                </a:solidFill>
                <a:latin typeface="Times New Roman"/>
                <a:ea typeface="Times New Roman"/>
              </a:rPr>
              <a:t> 2.  </a:t>
            </a: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На что ориентирует каждый из практических выводов?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Самостоятельно изучить фрагменты из работы Э.Шилза, включенного в параграф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Опережающее д</a:t>
            </a: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/</a:t>
            </a: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з. Подобрать примеры взаимодействия человека и природы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51C3-021E-456D-9327-F85F61D34344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Практические выводы изученного материала.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920" y="1754280"/>
            <a:ext cx="7183440" cy="41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Какие выводы можно сделать из того факта, что общество представляет собою совместную деятельность людей ( не менее 2-х выводов)?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Какие практические выводы вытекают из знаний о взаимозависимости общества и природной среды?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Как вы считаете, имеет ли значимость для вас изучение общественных дисциплин в школе? 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A8C4-8AFB-4761-9E54-2DEAA379CD31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5c2305"/>
                </a:solidFill>
                <a:uFillTx/>
                <a:latin typeface="Verdana"/>
              </a:rPr>
              <a:t>План изучения нового материала.</a:t>
            </a:r>
            <a:endParaRPr b="0" lang="en-US" sz="4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640" y="2923920"/>
            <a:ext cx="7254720" cy="30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spcBef>
                <a:spcPts val="799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2305"/>
                </a:solidFill>
                <a:latin typeface="Verdana"/>
              </a:rPr>
              <a:t>Общее понятие системы </a:t>
            </a: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799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2305"/>
                </a:solidFill>
                <a:latin typeface="Verdana"/>
              </a:rPr>
              <a:t>Характерные черты общества как системы.</a:t>
            </a: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2305"/>
                </a:solidFill>
                <a:latin typeface="Verdana"/>
              </a:rPr>
              <a:t>Социальные институты</a:t>
            </a: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F998-51E9-47CC-8178-4BB7792DFD25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3499920"/>
            <a:ext cx="4537080" cy="22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c2305"/>
                </a:solidFill>
                <a:latin typeface="Verdana"/>
              </a:rPr>
              <a:t>Понятие « система»относится как сложным объектам, так и механическим.</a:t>
            </a: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97" name="Picture 1028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017960" cy="2595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1" descr="j0432227[1]"/>
          <p:cNvPicPr/>
          <p:nvPr/>
        </p:nvPicPr>
        <p:blipFill>
          <a:blip r:embed="rId2"/>
          <a:stretch/>
        </p:blipFill>
        <p:spPr>
          <a:xfrm>
            <a:off x="5724360" y="3789360"/>
            <a:ext cx="2376720" cy="231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32" descr="j0430315[1]"/>
          <p:cNvPicPr/>
          <p:nvPr/>
        </p:nvPicPr>
        <p:blipFill>
          <a:blip r:embed="rId3"/>
          <a:stretch/>
        </p:blipFill>
        <p:spPr>
          <a:xfrm>
            <a:off x="4716360" y="1197000"/>
            <a:ext cx="3961080" cy="23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7182-7326-48DF-9C9F-22776B6707C6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48836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41B9-A944-49E0-BE21-E05B5604ACF7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220640"/>
            <a:ext cx="763272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Являются ли  </a:t>
            </a:r>
            <a:r>
              <a:rPr b="0" i="1" lang="ru-RU" sz="2000" spc="-1" strike="noStrike">
                <a:solidFill>
                  <a:srgbClr val="5c2305"/>
                </a:solidFill>
                <a:latin typeface="Verdana"/>
              </a:rPr>
              <a:t>системой 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отдельные детали водомера, разложенные на столе?</a:t>
            </a:r>
            <a:br>
              <a:rPr sz="2000"/>
            </a:b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В каком случае детали водомера осуществляют функцию системы?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400" y="1754280"/>
            <a:ext cx="5484600" cy="41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496728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B8C0-4FF3-4B32-92AD-DEEC973D1A7E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1773000"/>
            <a:ext cx="7473960" cy="23763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5c2305"/>
                </a:solidFill>
                <a:latin typeface="Verdana"/>
              </a:rPr>
              <a:t>Вывод: свойства системы принадлежат не ее отдельным частям, а только системе в целом.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20DA-7C4A-4970-B56B-0D0B5FBFBCA3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838080"/>
            <a:ext cx="777708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39640" y="765000"/>
            <a:ext cx="79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c2305"/>
                </a:solidFill>
                <a:latin typeface="Times New Roman"/>
              </a:rPr>
              <a:t>Задание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c2305"/>
                </a:solidFill>
                <a:latin typeface="Times New Roman"/>
              </a:rPr>
              <a:t>Прочитайте пункт №2 параграфа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c2305"/>
                </a:solidFill>
                <a:latin typeface="Times New Roman"/>
              </a:rPr>
              <a:t>« Особенности социальной системы»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c2305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5c2305"/>
                </a:solidFill>
                <a:latin typeface="Times New Roman"/>
              </a:rPr>
              <a:t>Составьте простой план данного текста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ag00029_"/>
          <p:cNvPicPr/>
          <p:nvPr/>
        </p:nvPicPr>
        <p:blipFill>
          <a:blip r:embed="rId1"/>
          <a:stretch/>
        </p:blipFill>
        <p:spPr>
          <a:xfrm>
            <a:off x="6156360" y="4365720"/>
            <a:ext cx="2160720" cy="17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201E-134A-4ABD-9FA0-8326E98B62E9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837720"/>
            <a:ext cx="7689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                    </a:t>
            </a:r>
            <a:r>
              <a:rPr b="0" i="1" lang="ru-RU" sz="3200" spc="-1" strike="noStrike" u="sng">
                <a:solidFill>
                  <a:srgbClr val="5c2305"/>
                </a:solidFill>
                <a:uFillTx/>
                <a:latin typeface="Verdana"/>
              </a:rPr>
              <a:t>план</a:t>
            </a: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686720" cy="41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Сложный характер социальной системы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Наличие в составе системы разнокачественных элементов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Человек- основной элемент общественной системы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Постоянное изменение общественной системы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Интегративное качество системы как целого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Социальная система -самоуправляемая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Среда общества как системы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Функции общественной системы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3:58:30Z</dcterms:created>
  <dc:creator>Алексей Софронов</dc:creator>
  <dc:description/>
  <cp:keywords/>
  <dc:language>en-US</dc:language>
  <cp:lastModifiedBy>Олег</cp:lastModifiedBy>
  <cp:lastPrinted>1996-03-19T21:02:48Z</cp:lastPrinted>
  <dcterms:modified xsi:type="dcterms:W3CDTF">2012-01-17T17:13:25Z</dcterms:modified>
  <cp:revision>7</cp:revision>
  <dc:subject/>
  <dc:title>Общество как сложная  динамичная систем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871049</vt:lpwstr>
  </property>
</Properties>
</file>