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11.jpeg" ContentType="image/jpeg"/>
  <Override PartName="/ppt/media/image18.jpeg" ContentType="image/jpeg"/>
  <Override PartName="/ppt/media/image17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431-C9DE-4805-BA34-F9C5C0CD9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EC87-5BA5-4BB3-9D0A-E7D0C4BD0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A36B-D550-4C05-A904-DA35EF464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945-517F-47AA-9539-39959596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B07-2E18-479E-BF24-73C97DA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88C-CF20-4988-86BD-353F25B0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43-9F1F-434B-BC35-07184A80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AD1-46FF-42C5-A049-F27AD79C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D236-86B3-4210-A908-F3E9DAE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385D-750D-46C1-BE7F-29FACAE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9ABD-B726-46A1-9D70-FC647DCA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20F5-D593-4EFB-A3A6-1EE95C3E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5E6B-FB78-4B94-B507-1C2C46E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B660-ADB8-474D-8FCE-04D28A7B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BBE-07FB-4615-B933-95DE108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54E-63DB-474D-A6EC-EFF77D7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78DE-2839-43DD-A730-2AA4246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A029-4FA8-4F2C-8D09-C916D02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9C1-D930-448E-86C8-0C8A6D43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6342-9F56-4A01-ADDC-6F754AFF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2F92-3B1B-4E81-B323-D3494FB7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A451-0803-4E22-A3EC-CC464BC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51A1-C263-4C96-95F4-CEF4EC2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95B0-C41D-4731-B02D-F20032F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153E-2FA0-4E97-8EF1-9B528EA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991-FCC4-4C6B-ACA7-E9FB949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096A-E88F-4F57-98FC-991F4A67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C450-279E-42EF-B1C9-7A7340A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9D379-22B5-426B-8E5F-A7ECB4B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3B53-262B-4CFD-ADC5-5D2ABC2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4C52-2195-41B8-A67F-0FC06015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4A92-2D77-43B7-81D2-4178EB9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09CA-180B-4B4B-A5D0-D1A6A33D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0C44-0FCD-4837-808B-452C32C5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9FD8-ECAD-4967-88D5-D6D15CD0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8F73-96F5-42AD-AB08-2EEFB3B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B06-3683-4C53-9D4E-BC6FCCD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F802-ABB5-42AE-A217-CB5C6FB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DA363-1762-4C55-A1B0-F1D5B24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CC06F-44B1-43D5-8299-0F93CD46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108D-6D5F-4856-B391-57FE0BA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AC47-8FCA-4157-940F-BDA00E5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B801-FA58-49A5-BEF7-B46A922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4D0F-A66C-4394-BE5C-76414D7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A6D9-F2D4-478E-97EB-0A128EA6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022B-4E31-4F53-855D-01315CCA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D2D13-11CF-4E99-A6A2-4652A5FC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DFA-B7CD-4967-9E6C-4A58529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FD12-497C-4EEE-8481-D24956FA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A356-418C-41E6-895A-63C02DA2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E7BC-D7B7-4AB2-BE6F-B382312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3996-780D-46D8-8D32-5861A9B1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48EE-A96A-4BB6-AA6F-4A1279A5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57CC-2565-43A6-A027-4686D43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6E72E-51B5-4B89-A5C3-9B17E8C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391E-8DEB-424E-BD75-3FF10599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39CC-BF2B-4204-BC0D-0136B3DA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9B9E-806A-4742-9017-9A453C2A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F4D-235D-424A-BE27-E4CFDCB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8375-EBBE-46C3-9305-E7137060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7ED-A0A6-4A7B-8C40-3AE7C41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29E-14F0-492F-BE71-EF913D9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BC3-86C3-4EED-BCE5-4006F01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9165-E4E4-426F-BADF-F9E482985986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CCB-86D4-412C-9CD2-B61AC9BCCE4F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76C8-DCCB-4068-95AE-A9BC57C92FC9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406F-AC61-417F-945B-0FBC8468B69B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A99-E20E-4F79-ABE0-60AB67B8473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yabs.yandex.ru/count/40p76txEUUW40000gO10ZhWWBtC5KfK1cm9kGxS198Yo7IoX0ucljzrYc1gUdbO2dQktVmMcEOgk-ZQFtACLPiwzgwPPnQekfQMQ-G6D0Tq1tf0az96sRYD61vVmEC4JrY-R_GAFlB-9TmIVlxGho0MJXGsYWGwP1KACcztSjfX2GhMG9pYWgvzR0Q-RtTopa65Oj90dEDchdri1sf1XM9IKUmEdcMKOgAUXrMgam0000Ae5hlo_GCUxj1mr0h41ie0GkQktVmMx_vwbPZmPz1q1mV__________3yBttEvHRn4RnWB5Zm_I0Tlu3krQawfbP07VXGry7G00?q=&#1073;&#1086;&#1075;&#1072;&#1090;&#1089;&#1090;&#1074;&#1086;+&#1103;&#1079;&#1099;&#1082;&#1072;+&#1080;+&#1086;&#1088;&#1072;&#1090;&#1086;&#1088;&#1089;&#1082;&#1086;&#1077;+&#1080;&#1089;&#1082;&#1091;&#1089;&#1089;&#1090;&#1074;&#1086;+&#1096;&#1083;&#1080;+&#1088;&#1103;&#1076;&#1086;&#1084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МБОУ гимназия имени  Ф. К. Салманова 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г Сургут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Нравственные ценности человека</a:t>
            </a:r>
            <a:br>
              <a:rPr sz="2000"/>
            </a:br>
            <a:r>
              <a:rPr b="1" lang="ru-RU" sz="2000" spc="-1" strike="noStrike">
                <a:solidFill>
                  <a:srgbClr val="f96a1b"/>
                </a:solidFill>
                <a:latin typeface="Times New Roman"/>
                <a:ea typeface="Calibri"/>
              </a:rPr>
              <a:t> учебное занятие по русскому языку для учащихся 6 класса</a:t>
            </a:r>
            <a:br>
              <a:rPr sz="3600"/>
            </a:b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                                      </a:t>
            </a: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Авторы: Леонова Светлана Петровна, 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учитель русского языка литературы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3160" y="1142640"/>
            <a:ext cx="567864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714400" cy="4000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3929040" y="428760"/>
            <a:ext cx="4857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не пойдет в ногу с образованием, не будет отвечать современным потребностям, если не дадут ему выработаться из своего сока и корня, перебродить на своих дрожж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572160" y="3714840"/>
            <a:ext cx="2028960" cy="26524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 rot="11076000">
            <a:off x="1136160" y="4679640"/>
            <a:ext cx="2765520" cy="1719360"/>
          </a:xfrm>
          <a:prstGeom prst="cloudCallout">
            <a:avLst>
              <a:gd name="adj1" fmla="val -126879"/>
              <a:gd name="adj2" fmla="val 5129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 милосердии, сострадани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357200" y="492912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Тот, кто не имеет сострадания, жесто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309920" cy="29527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5429160" y="214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 flipH="1">
            <a:off x="1214280" y="357192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, утешь, поддержи – и мир станет чуточку доб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1973520" cy="25812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/>
          <p:cNvSpPr/>
          <p:nvPr/>
        </p:nvSpPr>
        <p:spPr>
          <a:xfrm rot="989400">
            <a:off x="307656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хран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Не беречь поросли, не видать и дерева</a:t>
            </a: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162000" y="214200"/>
            <a:ext cx="4695840" cy="62150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0"/>
          <p:cNvSpPr/>
          <p:nvPr/>
        </p:nvSpPr>
        <p:spPr>
          <a:xfrm>
            <a:off x="5857920" y="164304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ранять природу – значить охранять Ро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Приш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4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6643800" y="3429000"/>
            <a:ext cx="2138400" cy="27957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285920" y="278604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книги, чтения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a7ab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3214800" y="10000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 книге ищи не буквы, а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57800" y="999720"/>
            <a:ext cx="43574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9" name="Рисунок 5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29040" cy="5072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4643280" y="64296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ть – это еще ничего не значит; что читать и как  понимать читаемое – вот в чем главн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http://www.uiwp.illinois.edu/porfolio_2008/erin_ludwick/BOOK.jpg"/>
          <p:cNvPicPr/>
          <p:nvPr/>
        </p:nvPicPr>
        <p:blipFill>
          <a:blip r:embed="rId2"/>
          <a:stretch/>
        </p:blipFill>
        <p:spPr>
          <a:xfrm>
            <a:off x="4214880" y="4214880"/>
            <a:ext cx="4929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785880" y="268200"/>
            <a:ext cx="7200360" cy="6000480"/>
            <a:chOff x="785880" y="268200"/>
            <a:chExt cx="7200360" cy="6000480"/>
          </a:xfrm>
        </p:grpSpPr>
        <p:sp>
          <p:nvSpPr>
            <p:cNvPr id="303" name="Rectangle 5"/>
            <p:cNvSpPr/>
            <p:nvPr/>
          </p:nvSpPr>
          <p:spPr>
            <a:xfrm>
              <a:off x="1900800" y="1708200"/>
              <a:ext cx="501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785880" y="268200"/>
              <a:ext cx="7200360" cy="6000480"/>
            </a:xfrm>
            <a:custGeom>
              <a:avLst/>
              <a:gdLst>
                <a:gd name="textAreaLeft" fmla="*/ 1054800 w 7200360"/>
                <a:gd name="textAreaRight" fmla="*/ 6145560 w 7200360"/>
                <a:gd name="textAreaTop" fmla="*/ 878400 h 6000480"/>
                <a:gd name="textAreaBottom" fmla="*/ 5122080 h 60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"/>
          <p:cNvGrpSpPr/>
          <p:nvPr/>
        </p:nvGrpSpPr>
        <p:grpSpPr>
          <a:xfrm>
            <a:off x="357120" y="0"/>
            <a:ext cx="7854120" cy="6627600"/>
            <a:chOff x="357120" y="0"/>
            <a:chExt cx="7854120" cy="6627600"/>
          </a:xfrm>
        </p:grpSpPr>
        <p:pic>
          <p:nvPicPr>
            <p:cNvPr id="306" name="Picture 8" descr="pe01758_"/>
            <p:cNvPicPr/>
            <p:nvPr/>
          </p:nvPicPr>
          <p:blipFill>
            <a:blip r:embed="rId1"/>
            <a:stretch/>
          </p:blipFill>
          <p:spPr>
            <a:xfrm>
              <a:off x="5286960" y="0"/>
              <a:ext cx="198612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0" descr="bd07226_"/>
            <p:cNvPicPr/>
            <p:nvPr/>
          </p:nvPicPr>
          <p:blipFill>
            <a:blip r:embed="rId2"/>
            <a:stretch/>
          </p:blipFill>
          <p:spPr>
            <a:xfrm>
              <a:off x="7000200" y="2428200"/>
              <a:ext cx="12110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1" descr="pe01821_"/>
            <p:cNvPicPr/>
            <p:nvPr/>
          </p:nvPicPr>
          <p:blipFill>
            <a:blip r:embed="rId3"/>
            <a:stretch/>
          </p:blipFill>
          <p:spPr>
            <a:xfrm>
              <a:off x="5572800" y="4929120"/>
              <a:ext cx="1672200" cy="16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2" descr="pe02654_"/>
            <p:cNvPicPr/>
            <p:nvPr/>
          </p:nvPicPr>
          <p:blipFill>
            <a:blip r:embed="rId4"/>
            <a:stretch/>
          </p:blipFill>
          <p:spPr>
            <a:xfrm>
              <a:off x="357120" y="4785840"/>
              <a:ext cx="207648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3" descr="bd07214_"/>
            <p:cNvPicPr/>
            <p:nvPr/>
          </p:nvPicPr>
          <p:blipFill>
            <a:blip r:embed="rId5"/>
            <a:stretch/>
          </p:blipFill>
          <p:spPr>
            <a:xfrm>
              <a:off x="571320" y="428040"/>
              <a:ext cx="1344600" cy="13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Rectangle 15"/>
          <p:cNvSpPr/>
          <p:nvPr/>
        </p:nvSpPr>
        <p:spPr>
          <a:xfrm>
            <a:off x="1676520" y="1899360"/>
            <a:ext cx="528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понимать основную мысль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сворачивать и разворачива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отбирать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выступать пуб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2975040" y="871560"/>
            <a:ext cx="185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6a1b"/>
                </a:solidFill>
                <a:latin typeface="Arial"/>
              </a:rPr>
              <a:t>УУ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2370600" y="875880"/>
            <a:ext cx="2742480" cy="1753200"/>
            <a:chOff x="2370600" y="875880"/>
            <a:chExt cx="2742480" cy="1753200"/>
          </a:xfrm>
        </p:grpSpPr>
        <p:sp>
          <p:nvSpPr>
            <p:cNvPr id="314" name="Freeform 3"/>
            <p:cNvSpPr/>
            <p:nvPr/>
          </p:nvSpPr>
          <p:spPr>
            <a:xfrm rot="390600">
              <a:off x="2460240" y="96300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 rot="390600">
              <a:off x="4205880" y="1898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 rot="390600">
              <a:off x="3258720" y="205812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 rot="390600">
              <a:off x="2435760" y="101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4039560" y="4069080"/>
            <a:ext cx="2121480" cy="1724400"/>
            <a:chOff x="4039560" y="4069080"/>
            <a:chExt cx="2121480" cy="1724400"/>
          </a:xfrm>
        </p:grpSpPr>
        <p:sp>
          <p:nvSpPr>
            <p:cNvPr id="319" name="Freeform 8"/>
            <p:cNvSpPr/>
            <p:nvPr/>
          </p:nvSpPr>
          <p:spPr>
            <a:xfrm rot="11936400">
              <a:off x="4886280" y="4860000"/>
              <a:ext cx="1089360" cy="7740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rot="11936400">
              <a:off x="4317120" y="4145400"/>
              <a:ext cx="564120" cy="5529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 rot="11936400">
              <a:off x="4883040" y="4353480"/>
              <a:ext cx="674280" cy="344160"/>
            </a:xfrm>
            <a:custGeom>
              <a:avLst/>
              <a:gdLst>
                <a:gd name="textAreaLeft" fmla="*/ 0 w 674280"/>
                <a:gd name="textAreaRight" fmla="*/ 674640 w 6742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 rot="11936400">
              <a:off x="4158720" y="4467240"/>
              <a:ext cx="1882800" cy="104904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2"/>
          <p:cNvGrpSpPr/>
          <p:nvPr/>
        </p:nvGrpSpPr>
        <p:grpSpPr>
          <a:xfrm>
            <a:off x="970920" y="1556280"/>
            <a:ext cx="2855520" cy="2799360"/>
            <a:chOff x="970920" y="1556280"/>
            <a:chExt cx="2855520" cy="2799360"/>
          </a:xfrm>
        </p:grpSpPr>
        <p:sp>
          <p:nvSpPr>
            <p:cNvPr id="324" name="Freeform 13"/>
            <p:cNvSpPr/>
            <p:nvPr/>
          </p:nvSpPr>
          <p:spPr>
            <a:xfrm rot="18787200">
              <a:off x="1087920" y="276012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 rot="18787200">
              <a:off x="2916360" y="226440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18787200">
              <a:off x="2344320" y="311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 rot="18787200">
              <a:off x="1034280" y="23025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1826640" y="3318120"/>
            <a:ext cx="1903320" cy="2890080"/>
            <a:chOff x="1826640" y="3318120"/>
            <a:chExt cx="1903320" cy="2890080"/>
          </a:xfrm>
        </p:grpSpPr>
        <p:sp>
          <p:nvSpPr>
            <p:cNvPr id="329" name="Freeform 18"/>
            <p:cNvSpPr/>
            <p:nvPr/>
          </p:nvSpPr>
          <p:spPr>
            <a:xfrm rot="15354000">
              <a:off x="1994040" y="487296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rot="15354000">
              <a:off x="2618640" y="3437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15354000">
              <a:off x="2877480" y="437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15354000">
              <a:off x="1472400" y="412920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4422960" y="638280"/>
            <a:ext cx="2750040" cy="2900160"/>
            <a:chOff x="4422960" y="638280"/>
            <a:chExt cx="2750040" cy="2900160"/>
          </a:xfrm>
        </p:grpSpPr>
        <p:sp>
          <p:nvSpPr>
            <p:cNvPr id="334" name="Freeform 23"/>
            <p:cNvSpPr/>
            <p:nvPr/>
          </p:nvSpPr>
          <p:spPr>
            <a:xfrm rot="2773800">
              <a:off x="4783320" y="10396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4"/>
            <p:cNvSpPr/>
            <p:nvPr/>
          </p:nvSpPr>
          <p:spPr>
            <a:xfrm rot="2773800">
              <a:off x="5700600" y="267336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5"/>
            <p:cNvSpPr/>
            <p:nvPr/>
          </p:nvSpPr>
          <p:spPr>
            <a:xfrm rot="2773800">
              <a:off x="4934880" y="22698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rot="2773800">
              <a:off x="4492080" y="137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5901120" y="1960560"/>
            <a:ext cx="2002320" cy="2833560"/>
            <a:chOff x="5901120" y="1960560"/>
            <a:chExt cx="2002320" cy="2833560"/>
          </a:xfrm>
        </p:grpSpPr>
        <p:sp>
          <p:nvSpPr>
            <p:cNvPr id="339" name="Freeform 28"/>
            <p:cNvSpPr/>
            <p:nvPr/>
          </p:nvSpPr>
          <p:spPr>
            <a:xfrm rot="6157800">
              <a:off x="6507000" y="23968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"/>
            <p:cNvSpPr/>
            <p:nvPr/>
          </p:nvSpPr>
          <p:spPr>
            <a:xfrm rot="6157800">
              <a:off x="5931000" y="382284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0"/>
            <p:cNvSpPr/>
            <p:nvPr/>
          </p:nvSpPr>
          <p:spPr>
            <a:xfrm rot="6157800">
              <a:off x="5917680" y="30834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1"/>
            <p:cNvSpPr/>
            <p:nvPr/>
          </p:nvSpPr>
          <p:spPr>
            <a:xfrm rot="6157800">
              <a:off x="5674680" y="27237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34"/>
          <p:cNvSpPr/>
          <p:nvPr/>
        </p:nvSpPr>
        <p:spPr>
          <a:xfrm>
            <a:off x="6321600" y="1089000"/>
            <a:ext cx="278604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, бережное отношение к родн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5"/>
          <p:cNvSpPr/>
          <p:nvPr/>
        </p:nvSpPr>
        <p:spPr>
          <a:xfrm>
            <a:off x="3811680" y="5477040"/>
            <a:ext cx="2900160" cy="1013040"/>
          </a:xfrm>
          <a:prstGeom prst="roundRect">
            <a:avLst>
              <a:gd name="adj" fmla="val 7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Сострадание, милосердие, доброта, отзыв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6"/>
          <p:cNvSpPr/>
          <p:nvPr/>
        </p:nvSpPr>
        <p:spPr>
          <a:xfrm>
            <a:off x="0" y="357120"/>
            <a:ext cx="3052800" cy="14554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природе, Родине, защита и сохранение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7"/>
          <p:cNvSpPr/>
          <p:nvPr/>
        </p:nvSpPr>
        <p:spPr>
          <a:xfrm>
            <a:off x="0" y="3429000"/>
            <a:ext cx="258300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слову, к чтению, к прекрас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8"/>
          <p:cNvSpPr/>
          <p:nvPr/>
        </p:nvSpPr>
        <p:spPr>
          <a:xfrm>
            <a:off x="3000240" y="2500200"/>
            <a:ext cx="3357720" cy="649800"/>
          </a:xfrm>
          <a:prstGeom prst="ellipse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9" name="Picture 4" descr="фотки 051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3"/>
          <p:cNvSpPr/>
          <p:nvPr/>
        </p:nvSpPr>
        <p:spPr>
          <a:xfrm>
            <a:off x="1143000" y="4143240"/>
            <a:ext cx="6786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Домашнее задание </a:t>
            </a:r>
            <a:br>
              <a:rPr sz="2800"/>
            </a:b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сочин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а  те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«Нравственные ценности моей семь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3143160" y="42876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астлив тот, кто счастл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ебя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Н.Толсто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51280" y="750600"/>
            <a:ext cx="506736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Calibri"/>
                <a:ea typeface="Calibri"/>
              </a:rPr>
              <a:t>НРАВСТВЕННОСТЬ </a:t>
            </a:r>
            <a:r>
              <a:rPr b="1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-  ЭТО «ПРАВИЛА, ОПРЕДЕЛЯЮЩИЕ ПОВЕДЕНИЕ; ДУХОВНЫЕ И ДУШЕВНЫЕ КАЧЕСТВА, НЕОБХОДИМЫЕ ЧЕЛОВЕКУ В ОБЩЕСТВЕ, А ТАКЖЕ ВЫПОЛНЕНИЕ ЭТИХ ПРАВИЛ, ПРОЯВЛЯЮЩИХСЯ В ЕГО ПОВЕДЕНИИ И ПОСТУПКАХ»</a:t>
            </a:r>
            <a:br>
              <a:rPr sz="2300"/>
            </a:br>
            <a:r>
              <a:rPr b="0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             С.И.ОЖЕГОВ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8" descr="http://im3-tub-ru.yandex.net/i?id=92748106-70-72&amp;n=21"/>
          <p:cNvPicPr/>
          <p:nvPr/>
        </p:nvPicPr>
        <p:blipFill>
          <a:blip r:embed="rId1"/>
          <a:stretch/>
        </p:blipFill>
        <p:spPr>
          <a:xfrm>
            <a:off x="228600" y="692280"/>
            <a:ext cx="32180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СОЧИНЕНИЕ НА ТЕМУ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«НРАВСТВЕННЫЕ ЦЕННОСТИ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МОЕЙ СЕМЬИ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3" name="Picture 2" descr="C:\Users\Irina\Мои рисунки\Стих в прозе\a23a33366562.jpg"/>
          <p:cNvPicPr/>
          <p:nvPr/>
        </p:nvPicPr>
        <p:blipFill>
          <a:blip r:embed="rId1"/>
          <a:stretch/>
        </p:blipFill>
        <p:spPr>
          <a:xfrm>
            <a:off x="0" y="0"/>
            <a:ext cx="9431280" cy="703584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3"/>
          <p:cNvSpPr/>
          <p:nvPr/>
        </p:nvSpPr>
        <p:spPr>
          <a:xfrm flipV="1" rot="10800000">
            <a:off x="1643040" y="4680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857160" y="10717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a67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857160" y="6429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214200" y="15001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И.  Толковый словарь. –  Екатеринбрг:  «Урал – Советы »,  1994.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 _x000b_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УНИВЕРСАЛЬНЫХ УЧЕБНЫХ ДЕЙСТВИЙ ДЛЯ НАЧАЛЬ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П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abel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42840" y="458640"/>
            <a:ext cx="52498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БОГАТСТВО ЯЗЫКА И ОРАТОРСКОЕ   ИСКУССТВО Ш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ли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ВО ВСЕ ВРЕМЕНА И РЯДОМ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А.П.ЧЕХО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Picture 4" descr="http://im3-tub-ru.yandex.net/i?id=46887882-42-72&amp;n=21"/>
          <p:cNvPicPr/>
          <p:nvPr/>
        </p:nvPicPr>
        <p:blipFill>
          <a:blip r:embed="rId1"/>
          <a:stretch/>
        </p:blipFill>
        <p:spPr>
          <a:xfrm>
            <a:off x="214200" y="428760"/>
            <a:ext cx="3286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333360"/>
            <a:ext cx="87886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96a1b"/>
                </a:solidFill>
                <a:latin typeface="Calibri"/>
                <a:ea typeface="Calibri"/>
              </a:rPr>
              <a:t>Цель: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alibri"/>
                <a:ea typeface="Calibri"/>
              </a:rPr>
              <a:t>подготовить публичное выступление  по выбранной теме, используя различные источники информации.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6" descr="j0088956"/>
          <p:cNvPicPr/>
          <p:nvPr/>
        </p:nvPicPr>
        <p:blipFill>
          <a:blip r:embed="rId1"/>
          <a:stretch/>
        </p:blipFill>
        <p:spPr>
          <a:xfrm>
            <a:off x="2786040" y="3071880"/>
            <a:ext cx="4503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428760"/>
            <a:ext cx="63579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6a1b"/>
                </a:solidFill>
                <a:latin typeface="Calibri"/>
              </a:rPr>
              <a:t>Роли в групп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окладчик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– докладывает о результ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рганизат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рганизует работу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гистратор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записывает результаты работы в групп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блюдатель – хронометри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аблюдает за временем, оценивает работу каждого учас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http://www.uiwp.illinois.edu/porfolio_2008/erin_ludwick/BOOK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2895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95640" y="1125360"/>
            <a:ext cx="573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286000" y="1125360"/>
            <a:ext cx="63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52280" y="62460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А) Язык не кинжал, ранит – не залечи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Б) Тот, кто не имеет сострадания, жесток (Бернард Мандеви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В) Не беречь поросли, не видать и дере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Г) В книге ищи не буквы, а мы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036880" y="558972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Пословицы и высказ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24000" y="158760"/>
            <a:ext cx="2087280" cy="240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1409760" y="1913040"/>
            <a:ext cx="2585880" cy="28112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"/>
          <p:cNvPicPr/>
          <p:nvPr/>
        </p:nvPicPr>
        <p:blipFill>
          <a:blip r:embed="rId3"/>
          <a:stretch/>
        </p:blipFill>
        <p:spPr>
          <a:xfrm>
            <a:off x="6659640" y="158760"/>
            <a:ext cx="2233440" cy="2406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285912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Arial"/>
              </a:rPr>
              <a:t>Публичное высту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4"/>
          <a:stretch/>
        </p:blipFill>
        <p:spPr>
          <a:xfrm>
            <a:off x="5148360" y="1933560"/>
            <a:ext cx="2592360" cy="279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5"/>
          <a:stretch/>
        </p:blipFill>
        <p:spPr>
          <a:xfrm>
            <a:off x="3132000" y="4245120"/>
            <a:ext cx="3095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1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6572160" y="2786040"/>
            <a:ext cx="2365560" cy="30942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79004"/>
              <a:gd name="adj2" fmla="val 9098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c0a2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357200" y="2786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языка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357200" y="5143680"/>
            <a:ext cx="196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3214800" y="107172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Язык не кинжал, ранит – не залеч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19:52Z</dcterms:created>
  <dc:creator>Студент</dc:creator>
  <dc:description/>
  <dc:language>en-US</dc:language>
  <cp:lastModifiedBy>пользователь</cp:lastModifiedBy>
  <dcterms:modified xsi:type="dcterms:W3CDTF">2016-05-11T13:12:06Z</dcterms:modified>
  <cp:revision>113</cp:revision>
  <dc:subject/>
  <dc:title>ПРОГРАММА РАЗВИТИЯ УНИВЕРСАЛЬНЫХ УЧЕБНЫХ ДЕЙСТВИЙ ДЛЯ НАЧАЛЬНОГО ОБЩЕГО ОБРАЗОВАНИЯ</dc:title>
</cp:coreProperties>
</file>