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11.jpeg" ContentType="image/jpeg"/>
  <Override PartName="/ppt/media/image18.jpeg" ContentType="image/jpeg"/>
  <Override PartName="/ppt/media/image17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724E-C91D-4195-82D3-19908C97C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8F0-236E-42D8-A911-1B4A93210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DF68-FB70-4334-9935-3BAE5F369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B9D-4B28-4DB5-91C7-478EC1B8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221-45FB-4BA1-91EE-7282B75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C32-C712-42C7-8992-6CF9EF33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CC0-009A-4615-BACA-F4D46EBB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BF6B-6869-4CDE-A8CD-8D20E091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AC00-ED48-4692-A14C-F7A27B9E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355-FC46-4F1A-B1BD-84B0E01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7ECA-A40D-47AD-904F-A7444287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7D52-965B-4B70-A3E2-143B3C5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E7D-33B1-4090-911A-E831CC80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FFF-1ABC-4CFD-8AAE-9F57EC0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615-261E-49CA-B357-5801067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6A33-77F4-4160-9DCA-F1C004DD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1CA-B656-4E1F-A965-6AF8140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D334-8B44-42D6-AEB6-703F22F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829-CA05-493D-BBD2-122FAD71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E45B-0EF8-489A-8FD1-C2AED0BB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A1A9-E977-4C85-8BF5-F308A78F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FB9B-8AC2-494A-8288-BDF3029F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B61A-35C2-492B-93FC-FD4B911F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3764-C974-4C73-B989-AF7FA26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17E5-F0CB-4C95-B163-2A3A738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75A-7901-4B4D-80CA-F215A72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4B79-CB1A-4181-B5E9-6EE8AFA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5B77-6DBB-4426-9A17-2A1BAE1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2C83-DB82-4448-BA38-CB6A33DB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28DE-4671-4CE5-A1E4-B280822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EACB-2510-45A6-A00B-39710368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8B46-4D55-4BA7-B11C-3FA891C9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74E2-1CA8-4E17-980E-C163478C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2116-0C2E-4CDA-AAA8-4462AB8F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D37B-D3BC-493E-BC37-F3436D3C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7923-4315-48D2-B7A8-4BC30EBA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96-C2B7-4B28-8B10-9DD4EF0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B9A0-4801-4469-8E44-37DE6C29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CC66-7594-4B5C-95C4-2D5E852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9C97-7CA5-49D8-92B0-ED8BE9F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D6AB-04F3-476B-A0B5-B0D8795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94EF-4551-4881-AFBE-06FCC36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D30F-41B3-48B7-9DB5-446D5FE7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DB93-C5DC-41EE-B97C-64BDB15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CDE0-B464-4853-97A4-08BC8AC3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A65F-C06B-4704-B56B-62BB5979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3EEC-95E9-411E-ABC2-A65501EE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92C-B569-494E-894E-44D24CB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83A86-F9E4-4245-980D-D1007A2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E938-7359-4C53-B8B1-3772F1A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30FE9-1C19-4A1B-A700-F2276721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C266-13CC-41A7-8677-2251BF8F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5F52-EB3A-4CDB-B37C-3ECD5467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95C0-9E77-4281-AA50-5BF6F1A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0425-5042-4BB5-A591-DCFE8D8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B2A3-F4FF-4948-AD7B-476665A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31F7-351A-4FF2-88B1-7CE76419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8581-3439-4695-818E-E11E7AF7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F5F-639F-4929-AFE9-0908A566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B219-BC32-4EF9-8647-8E7B7C4D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E0C-ED95-4523-8C20-3B763F1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2B9-551E-4C7F-919F-8EB1B91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7CC-BE3F-4BDC-B27C-EDB7B02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09A-1C43-4003-95F8-18C6A17C4299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7FEC-6E34-4CA1-BF06-86038A495F0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6A1F-8C03-457D-A95E-2172DA440C2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3141-5F95-49BC-B88E-6779F3E8400F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879C-DFAC-41B1-9229-52DAF40FEA8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yabs.yandex.ru/count/40p76txEUUW40000gO10ZhWWBtC5KfK1cm9kGxS198Yo7IoX0ucljzrYc1gUdbO2dQktVmMcEOgk-ZQFtACLPiwzgwPPnQekfQMQ-G6D0Tq1tf0az96sRYD61vVmEC4JrY-R_GAFlB-9TmIVlxGho0MJXGsYWGwP1KACcztSjfX2GhMG9pYWgvzR0Q-RtTopa65Oj90dEDchdri1sf1XM9IKUmEdcMKOgAUXrMgam0000Ae5hlo_GCUxj1mr0h41ie0GkQktVmMx_vwbPZmPz1q1mV__________3yBttEvHRn4RnWB5Zm_I0Tlu3krQawfbP07VXGry7G00?q=&#1073;&#1086;&#1075;&#1072;&#1090;&#1089;&#1090;&#1074;&#1086;+&#1103;&#1079;&#1099;&#1082;&#1072;+&#1080;+&#1086;&#1088;&#1072;&#1090;&#1086;&#1088;&#1089;&#1082;&#1086;&#1077;+&#1080;&#1089;&#1082;&#1091;&#1089;&#1089;&#1090;&#1074;&#1086;+&#1096;&#1083;&#1080;+&#1088;&#1103;&#1076;&#1086;&#1084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МБОУ гимназия имени  Ф. К. Салманова </a:t>
            </a:r>
            <a:br>
              <a:rPr sz="2800"/>
            </a:b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г Сургут</a:t>
            </a:r>
            <a:br>
              <a:rPr sz="2800"/>
            </a:br>
            <a:r>
              <a:rPr b="1" lang="ru-RU" sz="2800" spc="-1" strike="noStrike">
                <a:solidFill>
                  <a:srgbClr val="f96a1b"/>
                </a:solidFill>
                <a:latin typeface="Times New Roman"/>
                <a:ea typeface="Calibri"/>
              </a:rPr>
              <a:t>Нравственные ценности человека</a:t>
            </a:r>
            <a:br>
              <a:rPr sz="2000"/>
            </a:br>
            <a:r>
              <a:rPr b="1" lang="ru-RU" sz="2000" spc="-1" strike="noStrike">
                <a:solidFill>
                  <a:srgbClr val="f96a1b"/>
                </a:solidFill>
                <a:latin typeface="Times New Roman"/>
                <a:ea typeface="Calibri"/>
              </a:rPr>
              <a:t> учебное занятие по русскому языку для учащихся 6 класса</a:t>
            </a:r>
            <a:br>
              <a:rPr sz="3600"/>
            </a:br>
            <a:r>
              <a:rPr b="1" lang="ru-RU" sz="3600" spc="-1" strike="noStrike">
                <a:solidFill>
                  <a:srgbClr val="f96a1b"/>
                </a:solidFill>
                <a:latin typeface="Calibri"/>
                <a:ea typeface="Calibri"/>
              </a:rPr>
              <a:t>                                      </a:t>
            </a: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Авторы: Леонова Светлана Петровна, </a:t>
            </a:r>
            <a:br>
              <a:rPr sz="1800"/>
            </a:b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                                                                      учитель русского языка литературы</a:t>
            </a:r>
            <a:br>
              <a:rPr sz="1800"/>
            </a:br>
            <a:r>
              <a:rPr b="1" lang="ru-RU" sz="1800" spc="-1" strike="noStrike">
                <a:solidFill>
                  <a:srgbClr val="f96a1b"/>
                </a:solidFill>
                <a:latin typeface="Times New Roman"/>
                <a:ea typeface="Calibri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3160" y="1142640"/>
            <a:ext cx="567864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714400" cy="4000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3929040" y="428760"/>
            <a:ext cx="4857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не пойдет в ногу с образованием, не будет отвечать современным потребностям, если не дадут ему выработаться из своего сока и корня, перебродить на своих дрожж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2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572160" y="3714840"/>
            <a:ext cx="2028960" cy="265248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 rot="11076000">
            <a:off x="1136160" y="4679640"/>
            <a:ext cx="2765520" cy="1719360"/>
          </a:xfrm>
          <a:prstGeom prst="cloudCallout">
            <a:avLst>
              <a:gd name="adj1" fmla="val -126879"/>
              <a:gd name="adj2" fmla="val 5129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357200" y="2786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 милосердии, сострадани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357200" y="492912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3214800" y="100008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Тот, кто не имеет сострадания, жесто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4" name="Рисунок 4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4309920" cy="29527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"/>
          <p:cNvPicPr/>
          <p:nvPr/>
        </p:nvPicPr>
        <p:blipFill>
          <a:blip r:embed="rId2"/>
          <a:stretch/>
        </p:blipFill>
        <p:spPr>
          <a:xfrm>
            <a:off x="5429160" y="214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 flipH="1">
            <a:off x="1214280" y="357192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, утешь, поддержи – и мир станет чуточку доб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3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1973520" cy="25812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/>
          <p:cNvSpPr/>
          <p:nvPr/>
        </p:nvSpPr>
        <p:spPr>
          <a:xfrm rot="989400">
            <a:off x="307656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357200" y="2786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храна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1357200" y="49291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3214800" y="100008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Не беречь поросли, не видать и дерева</a:t>
            </a:r>
            <a:r>
              <a:rPr b="1" lang="ru-RU" sz="1800" spc="-1" strike="noStrike">
                <a:solidFill>
                  <a:srgbClr val="5acef9"/>
                </a:solidFill>
                <a:latin typeface="Calibri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162000" y="214200"/>
            <a:ext cx="4695840" cy="62150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0"/>
          <p:cNvSpPr/>
          <p:nvPr/>
        </p:nvSpPr>
        <p:spPr>
          <a:xfrm>
            <a:off x="5857920" y="164304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ранять природу – значить охранять Ро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Приш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4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6643800" y="3429000"/>
            <a:ext cx="2138400" cy="27957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84842"/>
              <a:gd name="adj2" fmla="val 8236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285920" y="278604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оль книги, чтения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a7ab"/>
                </a:solidFill>
                <a:latin typeface="Franklin Gothic Medium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357200" y="49291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1"/>
          <p:cNvSpPr/>
          <p:nvPr/>
        </p:nvSpPr>
        <p:spPr>
          <a:xfrm>
            <a:off x="3214800" y="10000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cef9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В книге ищи не буквы, а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57800" y="999720"/>
            <a:ext cx="43574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9" name="Рисунок 5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29040" cy="5072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4643280" y="64296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ть – это еще ничего не значит; что читать и как  понимать читаемое – вот в чем главн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http://www.uiwp.illinois.edu/porfolio_2008/erin_ludwick/BOOK.jpg"/>
          <p:cNvPicPr/>
          <p:nvPr/>
        </p:nvPicPr>
        <p:blipFill>
          <a:blip r:embed="rId2"/>
          <a:stretch/>
        </p:blipFill>
        <p:spPr>
          <a:xfrm>
            <a:off x="4214880" y="4214880"/>
            <a:ext cx="4929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785880" y="268200"/>
            <a:ext cx="7200360" cy="6000480"/>
            <a:chOff x="785880" y="268200"/>
            <a:chExt cx="7200360" cy="6000480"/>
          </a:xfrm>
        </p:grpSpPr>
        <p:sp>
          <p:nvSpPr>
            <p:cNvPr id="303" name="Rectangle 5"/>
            <p:cNvSpPr/>
            <p:nvPr/>
          </p:nvSpPr>
          <p:spPr>
            <a:xfrm>
              <a:off x="1900800" y="1708200"/>
              <a:ext cx="501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6"/>
            <p:cNvSpPr/>
            <p:nvPr/>
          </p:nvSpPr>
          <p:spPr>
            <a:xfrm>
              <a:off x="785880" y="268200"/>
              <a:ext cx="7200360" cy="6000480"/>
            </a:xfrm>
            <a:custGeom>
              <a:avLst/>
              <a:gdLst>
                <a:gd name="textAreaLeft" fmla="*/ 1054800 w 7200360"/>
                <a:gd name="textAreaRight" fmla="*/ 6145560 w 7200360"/>
                <a:gd name="textAreaTop" fmla="*/ 878400 h 6000480"/>
                <a:gd name="textAreaBottom" fmla="*/ 5122080 h 60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"/>
          <p:cNvGrpSpPr/>
          <p:nvPr/>
        </p:nvGrpSpPr>
        <p:grpSpPr>
          <a:xfrm>
            <a:off x="357120" y="0"/>
            <a:ext cx="7854120" cy="6627600"/>
            <a:chOff x="357120" y="0"/>
            <a:chExt cx="7854120" cy="6627600"/>
          </a:xfrm>
        </p:grpSpPr>
        <p:pic>
          <p:nvPicPr>
            <p:cNvPr id="306" name="Picture 8" descr="pe01758_"/>
            <p:cNvPicPr/>
            <p:nvPr/>
          </p:nvPicPr>
          <p:blipFill>
            <a:blip r:embed="rId1"/>
            <a:stretch/>
          </p:blipFill>
          <p:spPr>
            <a:xfrm>
              <a:off x="5286960" y="0"/>
              <a:ext cx="198612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0" descr="bd07226_"/>
            <p:cNvPicPr/>
            <p:nvPr/>
          </p:nvPicPr>
          <p:blipFill>
            <a:blip r:embed="rId2"/>
            <a:stretch/>
          </p:blipFill>
          <p:spPr>
            <a:xfrm>
              <a:off x="7000200" y="2428200"/>
              <a:ext cx="12110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1" descr="pe01821_"/>
            <p:cNvPicPr/>
            <p:nvPr/>
          </p:nvPicPr>
          <p:blipFill>
            <a:blip r:embed="rId3"/>
            <a:stretch/>
          </p:blipFill>
          <p:spPr>
            <a:xfrm>
              <a:off x="5572800" y="4929120"/>
              <a:ext cx="1672200" cy="16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2" descr="pe02654_"/>
            <p:cNvPicPr/>
            <p:nvPr/>
          </p:nvPicPr>
          <p:blipFill>
            <a:blip r:embed="rId4"/>
            <a:stretch/>
          </p:blipFill>
          <p:spPr>
            <a:xfrm>
              <a:off x="357120" y="4785840"/>
              <a:ext cx="207648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3" descr="bd07214_"/>
            <p:cNvPicPr/>
            <p:nvPr/>
          </p:nvPicPr>
          <p:blipFill>
            <a:blip r:embed="rId5"/>
            <a:stretch/>
          </p:blipFill>
          <p:spPr>
            <a:xfrm>
              <a:off x="571320" y="428040"/>
              <a:ext cx="1344600" cy="13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Rectangle 15"/>
          <p:cNvSpPr/>
          <p:nvPr/>
        </p:nvSpPr>
        <p:spPr>
          <a:xfrm>
            <a:off x="1676520" y="1899360"/>
            <a:ext cx="528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понимать основную мысль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сворачивать и разворачивать текстовую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отбирать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мение выступать пуб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2975040" y="871560"/>
            <a:ext cx="185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96a1b"/>
                </a:solidFill>
                <a:latin typeface="Arial"/>
              </a:rPr>
              <a:t>УУ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2370600" y="875880"/>
            <a:ext cx="2742480" cy="1753200"/>
            <a:chOff x="2370600" y="875880"/>
            <a:chExt cx="2742480" cy="1753200"/>
          </a:xfrm>
        </p:grpSpPr>
        <p:sp>
          <p:nvSpPr>
            <p:cNvPr id="314" name="Freeform 3"/>
            <p:cNvSpPr/>
            <p:nvPr/>
          </p:nvSpPr>
          <p:spPr>
            <a:xfrm rot="390600">
              <a:off x="2460240" y="96300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 rot="390600">
              <a:off x="4205880" y="189828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 rot="390600">
              <a:off x="3258720" y="205812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 rot="390600">
              <a:off x="2435760" y="101952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4039560" y="4069080"/>
            <a:ext cx="2121480" cy="1724400"/>
            <a:chOff x="4039560" y="4069080"/>
            <a:chExt cx="2121480" cy="1724400"/>
          </a:xfrm>
        </p:grpSpPr>
        <p:sp>
          <p:nvSpPr>
            <p:cNvPr id="319" name="Freeform 8"/>
            <p:cNvSpPr/>
            <p:nvPr/>
          </p:nvSpPr>
          <p:spPr>
            <a:xfrm rot="11936400">
              <a:off x="4886280" y="4860000"/>
              <a:ext cx="1089360" cy="7740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rot="11936400">
              <a:off x="4317120" y="4145400"/>
              <a:ext cx="564120" cy="5529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 rot="11936400">
              <a:off x="4883040" y="4353480"/>
              <a:ext cx="674280" cy="344160"/>
            </a:xfrm>
            <a:custGeom>
              <a:avLst/>
              <a:gdLst>
                <a:gd name="textAreaLeft" fmla="*/ 0 w 674280"/>
                <a:gd name="textAreaRight" fmla="*/ 674640 w 6742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 rot="11936400">
              <a:off x="4158720" y="4467240"/>
              <a:ext cx="1882800" cy="104904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2"/>
          <p:cNvGrpSpPr/>
          <p:nvPr/>
        </p:nvGrpSpPr>
        <p:grpSpPr>
          <a:xfrm>
            <a:off x="970920" y="1556280"/>
            <a:ext cx="2855520" cy="2799360"/>
            <a:chOff x="970920" y="1556280"/>
            <a:chExt cx="2855520" cy="2799360"/>
          </a:xfrm>
        </p:grpSpPr>
        <p:sp>
          <p:nvSpPr>
            <p:cNvPr id="324" name="Freeform 13"/>
            <p:cNvSpPr/>
            <p:nvPr/>
          </p:nvSpPr>
          <p:spPr>
            <a:xfrm rot="18787200">
              <a:off x="1087920" y="276012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 rot="18787200">
              <a:off x="2916360" y="226440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18787200">
              <a:off x="2344320" y="311148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 rot="18787200">
              <a:off x="1034280" y="23025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1826640" y="3318120"/>
            <a:ext cx="1903320" cy="2890080"/>
            <a:chOff x="1826640" y="3318120"/>
            <a:chExt cx="1903320" cy="2890080"/>
          </a:xfrm>
        </p:grpSpPr>
        <p:sp>
          <p:nvSpPr>
            <p:cNvPr id="329" name="Freeform 18"/>
            <p:cNvSpPr/>
            <p:nvPr/>
          </p:nvSpPr>
          <p:spPr>
            <a:xfrm rot="15354000">
              <a:off x="1994040" y="487296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 rot="15354000">
              <a:off x="2618640" y="343728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15354000">
              <a:off x="2877480" y="437148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15354000">
              <a:off x="1472400" y="412920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4422960" y="638280"/>
            <a:ext cx="2750040" cy="2900160"/>
            <a:chOff x="4422960" y="638280"/>
            <a:chExt cx="2750040" cy="2900160"/>
          </a:xfrm>
        </p:grpSpPr>
        <p:sp>
          <p:nvSpPr>
            <p:cNvPr id="334" name="Freeform 23"/>
            <p:cNvSpPr/>
            <p:nvPr/>
          </p:nvSpPr>
          <p:spPr>
            <a:xfrm rot="2773800">
              <a:off x="4783320" y="10396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4"/>
            <p:cNvSpPr/>
            <p:nvPr/>
          </p:nvSpPr>
          <p:spPr>
            <a:xfrm rot="2773800">
              <a:off x="5700600" y="267336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5"/>
            <p:cNvSpPr/>
            <p:nvPr/>
          </p:nvSpPr>
          <p:spPr>
            <a:xfrm rot="2773800">
              <a:off x="4934880" y="226980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6"/>
            <p:cNvSpPr/>
            <p:nvPr/>
          </p:nvSpPr>
          <p:spPr>
            <a:xfrm rot="2773800">
              <a:off x="4492080" y="137952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5901120" y="1960560"/>
            <a:ext cx="2002320" cy="2833560"/>
            <a:chOff x="5901120" y="1960560"/>
            <a:chExt cx="2002320" cy="2833560"/>
          </a:xfrm>
        </p:grpSpPr>
        <p:sp>
          <p:nvSpPr>
            <p:cNvPr id="339" name="Freeform 28"/>
            <p:cNvSpPr/>
            <p:nvPr/>
          </p:nvSpPr>
          <p:spPr>
            <a:xfrm rot="6157800">
              <a:off x="6507000" y="23968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9"/>
            <p:cNvSpPr/>
            <p:nvPr/>
          </p:nvSpPr>
          <p:spPr>
            <a:xfrm rot="6157800">
              <a:off x="5931000" y="382284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0"/>
            <p:cNvSpPr/>
            <p:nvPr/>
          </p:nvSpPr>
          <p:spPr>
            <a:xfrm rot="6157800">
              <a:off x="5917680" y="308340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1"/>
            <p:cNvSpPr/>
            <p:nvPr/>
          </p:nvSpPr>
          <p:spPr>
            <a:xfrm rot="6157800">
              <a:off x="5674680" y="27237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34"/>
          <p:cNvSpPr/>
          <p:nvPr/>
        </p:nvSpPr>
        <p:spPr>
          <a:xfrm>
            <a:off x="6321600" y="1089000"/>
            <a:ext cx="2786040" cy="11174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, бережное отношение к родн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5"/>
          <p:cNvSpPr/>
          <p:nvPr/>
        </p:nvSpPr>
        <p:spPr>
          <a:xfrm>
            <a:off x="3811680" y="5477040"/>
            <a:ext cx="2900160" cy="1013040"/>
          </a:xfrm>
          <a:prstGeom prst="roundRect">
            <a:avLst>
              <a:gd name="adj" fmla="val 73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Сострадание, милосердие, доброта, отзыв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6"/>
          <p:cNvSpPr/>
          <p:nvPr/>
        </p:nvSpPr>
        <p:spPr>
          <a:xfrm>
            <a:off x="0" y="357120"/>
            <a:ext cx="3052800" cy="14554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 к природе, Родине, защита и сохранение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7"/>
          <p:cNvSpPr/>
          <p:nvPr/>
        </p:nvSpPr>
        <p:spPr>
          <a:xfrm>
            <a:off x="0" y="3429000"/>
            <a:ext cx="2583000" cy="111744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Любовь к слову, к чтению, к прекрас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8"/>
          <p:cNvSpPr/>
          <p:nvPr/>
        </p:nvSpPr>
        <p:spPr>
          <a:xfrm>
            <a:off x="3000240" y="2500200"/>
            <a:ext cx="3357720" cy="649800"/>
          </a:xfrm>
          <a:prstGeom prst="ellipse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ТЕМЫ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.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РОЛЬ ЯЗЫКА В ЖИЗНИ ЧЕЛОВЕКА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МИЛОСЕРДИЕ, СОСТРАДАНИЕ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СОХРАНЕНИЕ ПРИРОДЫ И ЕЕ   БОГАТСТВ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4.РОЛЬ КНИГИ В ЖИЗНИ ЧЕЛОВЕКА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9" name="Picture 4" descr="фотки 051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3"/>
          <p:cNvSpPr/>
          <p:nvPr/>
        </p:nvSpPr>
        <p:spPr>
          <a:xfrm>
            <a:off x="1143000" y="4143240"/>
            <a:ext cx="6786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Домашнее задание </a:t>
            </a:r>
            <a:br>
              <a:rPr sz="2800"/>
            </a:br>
            <a:r>
              <a:rPr b="0" lang="ru-RU" sz="2800" spc="-1" strike="noStrike">
                <a:solidFill>
                  <a:srgbClr val="91dffb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исать сочин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на  тем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«Нравственные ценности моей семь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3143160" y="428760"/>
            <a:ext cx="42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астлив тот, кто счастл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ебя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.Н.Толсто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51280" y="750600"/>
            <a:ext cx="506736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Calibri"/>
                <a:ea typeface="Calibri"/>
              </a:rPr>
              <a:t>НРАВСТВЕННОСТЬ </a:t>
            </a:r>
            <a:r>
              <a:rPr b="1" i="1" lang="ru-RU" sz="2300" spc="-1" strike="noStrike">
                <a:solidFill>
                  <a:srgbClr val="002060"/>
                </a:solidFill>
                <a:latin typeface="Calibri"/>
                <a:ea typeface="Calibri"/>
              </a:rPr>
              <a:t>-  ЭТО «ПРАВИЛА, ОПРЕДЕЛЯЮЩИЕ ПОВЕДЕНИЕ; ДУХОВНЫЕ И ДУШЕВНЫЕ КАЧЕСТВА, НЕОБХОДИМЫЕ ЧЕЛОВЕКУ В ОБЩЕСТВЕ, А ТАКЖЕ ВЫПОЛНЕНИЕ ЭТИХ ПРАВИЛ, ПРОЯВЛЯЮЩИХСЯ В ЕГО ПОВЕДЕНИИ И ПОСТУПКАХ»</a:t>
            </a:r>
            <a:br>
              <a:rPr sz="2300"/>
            </a:br>
            <a:r>
              <a:rPr b="0" i="1" lang="ru-RU" sz="23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                С.И.ОЖЕГОВ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8" descr="http://im3-tub-ru.yandex.net/i?id=92748106-70-72&amp;n=21"/>
          <p:cNvPicPr/>
          <p:nvPr/>
        </p:nvPicPr>
        <p:blipFill>
          <a:blip r:embed="rId1"/>
          <a:stretch/>
        </p:blipFill>
        <p:spPr>
          <a:xfrm>
            <a:off x="228600" y="692280"/>
            <a:ext cx="32180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СОЧИНЕНИЕ НА ТЕМУ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«НРАВСТВЕННЫЕ ЦЕННОСТИ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Franklin Gothic Medium"/>
              </a:rPr>
              <a:t>МОЕЙ СЕМЬИ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53" name="Picture 2" descr="C:\Users\Irina\Мои рисунки\Стих в прозе\a23a33366562.jpg"/>
          <p:cNvPicPr/>
          <p:nvPr/>
        </p:nvPicPr>
        <p:blipFill>
          <a:blip r:embed="rId1"/>
          <a:stretch/>
        </p:blipFill>
        <p:spPr>
          <a:xfrm>
            <a:off x="0" y="0"/>
            <a:ext cx="9431280" cy="703584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3"/>
          <p:cNvSpPr/>
          <p:nvPr/>
        </p:nvSpPr>
        <p:spPr>
          <a:xfrm flipV="1" rot="10800000">
            <a:off x="1643040" y="4680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857160" y="10717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a67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857160" y="6429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214200" y="150012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И.  Толковый словарь. –  Екатеринбрг:  «Урал – Советы »,  1994.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 _x000b_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УНИВЕРСАЛЬНЫХ УЧЕБНЫХ ДЕЙСТВИЙ ДЛЯ НАЧАЛЬНОГО ОБЩЕ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П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abel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42840" y="458640"/>
            <a:ext cx="52498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БОГАТСТВО ЯЗЫКА И ОРАТОРСКОЕ   ИСКУССТВО Ш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ли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ВО ВСЕ ВРЕМЕНА И РЯДОМ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   А.П.ЧЕХОВ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Picture 4" descr="http://im3-tub-ru.yandex.net/i?id=46887882-42-72&amp;n=21"/>
          <p:cNvPicPr/>
          <p:nvPr/>
        </p:nvPicPr>
        <p:blipFill>
          <a:blip r:embed="rId1"/>
          <a:stretch/>
        </p:blipFill>
        <p:spPr>
          <a:xfrm>
            <a:off x="214200" y="428760"/>
            <a:ext cx="3286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333360"/>
            <a:ext cx="87886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96a1b"/>
                </a:solidFill>
                <a:latin typeface="Calibri"/>
                <a:ea typeface="Calibri"/>
              </a:rPr>
              <a:t>Цель: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Calibri"/>
                <a:ea typeface="Calibri"/>
              </a:rPr>
              <a:t>подготовить публичное выступление  по выбранной теме, используя различные источники информации.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6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6" descr="j0088956"/>
          <p:cNvPicPr/>
          <p:nvPr/>
        </p:nvPicPr>
        <p:blipFill>
          <a:blip r:embed="rId1"/>
          <a:stretch/>
        </p:blipFill>
        <p:spPr>
          <a:xfrm>
            <a:off x="2786040" y="3071880"/>
            <a:ext cx="45036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428760"/>
            <a:ext cx="63579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6a1b"/>
                </a:solidFill>
                <a:latin typeface="Calibri"/>
              </a:rPr>
              <a:t>Роли в групп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окладчик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– докладывает о результа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рганизато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рганизует работу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гистратор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записывает результаты работы в групп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блюдатель – хронометрис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наблюдает за временем, оценивает работу каждого учас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1" descr="http://www.uiwp.illinois.edu/porfolio_2008/erin_ludwick/BOOK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289548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95640" y="1125360"/>
            <a:ext cx="573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286000" y="1125360"/>
            <a:ext cx="63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52280" y="62460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А) Язык не кинжал, ранит – не залечиш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Б) Тот, кто не имеет сострадания, жесток (Бернард Мандеви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В) Не беречь поросли, не видать и дере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Г) В книге ищи не буквы, а мы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036880" y="558972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Calibri"/>
                <a:ea typeface="Calibri"/>
              </a:rPr>
              <a:t>Пословицы и высказ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3930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ТЕМЫ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.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РОЛЬ ЯЗЫКА В ЖИЗНИ ЧЕЛОВЕКА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МИЛОСЕРДИЕ, СОСТРАДАНИЕ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СОХРАНЕНИЕ ПРИРОДЫ И ЕЕ   БОГАТСТВ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4.РОЛЬ КНИГИ В ЖИЗНИ ЧЕЛОВЕКА.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324000" y="158760"/>
            <a:ext cx="2087280" cy="2406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2"/>
          <a:stretch/>
        </p:blipFill>
        <p:spPr>
          <a:xfrm>
            <a:off x="1409760" y="1913040"/>
            <a:ext cx="2585880" cy="28112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"/>
          <p:cNvPicPr/>
          <p:nvPr/>
        </p:nvPicPr>
        <p:blipFill>
          <a:blip r:embed="rId3"/>
          <a:stretch/>
        </p:blipFill>
        <p:spPr>
          <a:xfrm>
            <a:off x="6659640" y="158760"/>
            <a:ext cx="2233440" cy="24066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285912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6a1b"/>
                </a:solidFill>
                <a:latin typeface="Arial"/>
              </a:rPr>
              <a:t>Публичное высту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3" descr=""/>
          <p:cNvPicPr/>
          <p:nvPr/>
        </p:nvPicPr>
        <p:blipFill>
          <a:blip r:embed="rId4"/>
          <a:stretch/>
        </p:blipFill>
        <p:spPr>
          <a:xfrm>
            <a:off x="5148360" y="1933560"/>
            <a:ext cx="2592360" cy="279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5"/>
          <a:stretch/>
        </p:blipFill>
        <p:spPr>
          <a:xfrm>
            <a:off x="3132000" y="4245120"/>
            <a:ext cx="3095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1 ГРУПП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6572160" y="2786040"/>
            <a:ext cx="2365560" cy="30942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/>
          <p:cNvSpPr/>
          <p:nvPr/>
        </p:nvSpPr>
        <p:spPr>
          <a:xfrm rot="989400">
            <a:off x="3092400" y="380880"/>
            <a:ext cx="2989440" cy="2084400"/>
          </a:xfrm>
          <a:prstGeom prst="cloudCallout">
            <a:avLst>
              <a:gd name="adj1" fmla="val 79004"/>
              <a:gd name="adj2" fmla="val 9098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 rot="11076000">
            <a:off x="1018800" y="4709520"/>
            <a:ext cx="2765520" cy="1719000"/>
          </a:xfrm>
          <a:prstGeom prst="cloudCallout">
            <a:avLst>
              <a:gd name="adj1" fmla="val -100805"/>
              <a:gd name="adj2" fmla="val 47921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c0a2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 rot="13199400">
            <a:off x="1135080" y="2128680"/>
            <a:ext cx="2712960" cy="2075040"/>
          </a:xfrm>
          <a:prstGeom prst="cloudCallout">
            <a:avLst>
              <a:gd name="adj1" fmla="val -126217"/>
              <a:gd name="adj2" fmla="val 61828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332000" y="22971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357200" y="27860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Роль языка в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357200" y="5143680"/>
            <a:ext cx="196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3214800" y="107172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Язык не кинжал, ранит – не залечи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19:52Z</dcterms:created>
  <dc:creator>Студент</dc:creator>
  <dc:description/>
  <dc:language>en-US</dc:language>
  <cp:lastModifiedBy>пользователь</cp:lastModifiedBy>
  <dcterms:modified xsi:type="dcterms:W3CDTF">2016-05-11T13:12:06Z</dcterms:modified>
  <cp:revision>113</cp:revision>
  <dc:subject/>
  <dc:title>ПРОГРАММА РАЗВИТИЯ УНИВЕРСАЛЬНЫХ УЧЕБНЫХ ДЕЙСТВИЙ ДЛЯ НАЧАЛЬНОГО ОБЩЕГО ОБРАЗОВАНИЯ</dc:title>
</cp:coreProperties>
</file>