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9DC-8460-4C10-B9BC-C5A59DBB4C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226-B264-4E24-BEED-49A6AD2F4990}" type="slidenum"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C7D-944B-4F97-B773-6FF08CA6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AB7-C405-476F-9A94-6D18075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0EB-4B18-4BD4-BE59-DA2D3427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F10-A154-406A-81DA-1FFE464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2749-8B06-457B-B03E-698FD72A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6A77-524D-4D99-9BAF-BA26D799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C59-3726-49B2-891C-5795102F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E1AD-6A7A-4892-8007-78FB6BC5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2516-A406-4F6B-838D-BF785ECC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0EB9-C509-4B2C-A4E0-CC6FDDF3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7628-A732-4075-8570-D608A92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324-0449-4C4A-8032-23475CA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68C-C0C5-4A87-81EC-054E04E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95F-89D1-41D5-BAFB-5F88234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62FA-6F8D-4F6F-BB74-387742E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2E35-A2BF-43E5-A0AB-7CA29CEC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8A14-C908-4F80-ACF9-81D1916F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E75-C04C-40F4-86BB-F3B4A9C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640-E5EA-486F-8341-C5B4196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333-63CF-41C4-9EB3-509FA0E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AFE-C8A6-484C-B9B4-713168E7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96F-DEE4-49E1-80DD-D8F207F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28B-803C-4971-8584-EC27FD3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31B-9B4B-4D08-8408-2EA411C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76A1-DFCB-4BAE-9AF5-06B3E9140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7707-A004-4335-AD93-6AC02AD6A4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Непросто говорить                   </a:t>
            </a:r>
            <a:br>
              <a:rPr sz="5400"/>
            </a:b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                        о Шукшине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04"/>
          <p:cNvPicPr/>
          <p:nvPr/>
        </p:nvPicPr>
        <p:blipFill>
          <a:blip r:embed="rId1"/>
          <a:stretch/>
        </p:blipFill>
        <p:spPr>
          <a:xfrm>
            <a:off x="179280" y="1984320"/>
            <a:ext cx="4873680" cy="48736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29" name="TextBox 4"/>
          <p:cNvSpPr/>
          <p:nvPr/>
        </p:nvSpPr>
        <p:spPr>
          <a:xfrm>
            <a:off x="5219640" y="5157720"/>
            <a:ext cx="416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ыполнила Дружинина Мария – ученица 10 класса МБОУ «Арбузовская СОШ» Павловского района Алтайского края Руководитель – Муравьева Н.А.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Вячеслав-Семенов-Калина-красная-памяти-Василия-Шукшина(muzofon.com).mp3" descr=""/>
          <p:cNvPicPr/>
          <p:nvPr/>
        </p:nvPicPr>
        <p:blipFill>
          <a:blip r:embed="rId2"/>
          <a:stretch/>
        </p:blipFill>
        <p:spPr>
          <a:xfrm>
            <a:off x="478800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rezentacii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4" descr="sh.jpg"/>
          <p:cNvPicPr/>
          <p:nvPr/>
        </p:nvPicPr>
        <p:blipFill>
          <a:blip r:embed="rId1"/>
          <a:stretch/>
        </p:blipFill>
        <p:spPr>
          <a:xfrm>
            <a:off x="6608880" y="0"/>
            <a:ext cx="2535120" cy="40006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71" name=""/>
          <p:cNvSpPr txBox="1"/>
          <p:nvPr/>
        </p:nvSpPr>
        <p:spPr>
          <a:xfrm>
            <a:off x="0" y="335736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Трудно понять, но как где скажут «Алтай», так вздрогнешь, сердце лизнет до боли мгновенное горячее чувство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гда буду помирать, в последний момент успею подумать о матери, о детях, и о родине, которая живет во мне. Дороже у меня ничего нет.»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.М. Шукш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C:\Users\1\Desktop\Новая папка (2)\mama1973.jpg"/>
          <p:cNvPicPr/>
          <p:nvPr/>
        </p:nvPicPr>
        <p:blipFill>
          <a:blip r:embed="rId2"/>
          <a:stretch/>
        </p:blipFill>
        <p:spPr>
          <a:xfrm>
            <a:off x="0" y="0"/>
            <a:ext cx="4533840" cy="348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29-52-2b"/>
          <p:cNvPicPr/>
          <p:nvPr/>
        </p:nvPicPr>
        <p:blipFill>
          <a:blip r:embed="rId1"/>
          <a:stretch/>
        </p:blipFill>
        <p:spPr>
          <a:xfrm>
            <a:off x="179280" y="189000"/>
            <a:ext cx="5210280" cy="367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214960" y="188640"/>
            <a:ext cx="392904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фильмы Шукшина снимались на Алтае. Односельчане участвовали в эпизодах и массовых сцен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250920" y="4005360"/>
            <a:ext cx="4752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землякам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6" descr="C:\Users\1\Desktop\Новая папка (2)\pechki.jpg"/>
          <p:cNvPicPr/>
          <p:nvPr/>
        </p:nvPicPr>
        <p:blipFill>
          <a:blip r:embed="rId2"/>
          <a:stretch/>
        </p:blipFill>
        <p:spPr>
          <a:xfrm>
            <a:off x="5003640" y="4292640"/>
            <a:ext cx="3969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10" descr="kk1"/>
          <p:cNvPicPr/>
          <p:nvPr/>
        </p:nvPicPr>
        <p:blipFill>
          <a:blip r:embed="rId1"/>
          <a:stretch/>
        </p:blipFill>
        <p:spPr>
          <a:xfrm>
            <a:off x="285840" y="3143160"/>
            <a:ext cx="3714840" cy="30560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79" name="Picture 8" descr="78_04_003_shukshin"/>
          <p:cNvPicPr/>
          <p:nvPr/>
        </p:nvPicPr>
        <p:blipFill>
          <a:blip r:embed="rId2"/>
          <a:stretch/>
        </p:blipFill>
        <p:spPr>
          <a:xfrm>
            <a:off x="4857840" y="785880"/>
            <a:ext cx="4083120" cy="31431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14920" y="29286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Уозер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аш сын и бра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Живет такой парен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ечки-лавоч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алина крас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6354720"/>
            <a:ext cx="500364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дры из фильмов В.М. Шукшина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Рисунок 12" descr="07.jpg"/>
          <p:cNvPicPr/>
          <p:nvPr/>
        </p:nvPicPr>
        <p:blipFill>
          <a:blip r:embed="rId3"/>
          <a:stretch/>
        </p:blipFill>
        <p:spPr>
          <a:xfrm>
            <a:off x="214200" y="214200"/>
            <a:ext cx="4762440" cy="26193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4" descr="1974.jpg"/>
          <p:cNvPicPr/>
          <p:nvPr/>
        </p:nvPicPr>
        <p:blipFill>
          <a:blip r:embed="rId1"/>
          <a:stretch/>
        </p:blipFill>
        <p:spPr>
          <a:xfrm>
            <a:off x="0" y="3038400"/>
            <a:ext cx="5297400" cy="3819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300816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сказ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Верую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Дядя Ермола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Жена мужа в Париж провожал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«Мой зять украл машину др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C:\Users\1\Desktop\Новая папка (2)\minuta.jpg"/>
          <p:cNvPicPr/>
          <p:nvPr/>
        </p:nvPicPr>
        <p:blipFill>
          <a:blip r:embed="rId2"/>
          <a:stretch/>
        </p:blipFill>
        <p:spPr>
          <a:xfrm>
            <a:off x="5219640" y="1052640"/>
            <a:ext cx="392436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Заголовок 9"/>
          <p:cNvSpPr/>
          <p:nvPr/>
        </p:nvSpPr>
        <p:spPr>
          <a:xfrm>
            <a:off x="3600360" y="18900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71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Рисунок 7" descr="shukshinvasmakar07_17b.jpg"/>
          <p:cNvPicPr/>
          <p:nvPr/>
        </p:nvPicPr>
        <p:blipFill>
          <a:blip r:embed="rId1"/>
          <a:stretch/>
        </p:blipFill>
        <p:spPr>
          <a:xfrm>
            <a:off x="6227640" y="1557360"/>
            <a:ext cx="2916360" cy="4476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90" name="Picture 8" descr="C:\Users\1\Desktop\Новая папка (2)\dochki.jpg"/>
          <p:cNvPicPr/>
          <p:nvPr/>
        </p:nvPicPr>
        <p:blipFill>
          <a:blip r:embed="rId2"/>
          <a:stretch/>
        </p:blipFill>
        <p:spPr>
          <a:xfrm>
            <a:off x="0" y="0"/>
            <a:ext cx="3156120" cy="4292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shukshinvasmakar07_30b.jpg"/>
          <p:cNvPicPr/>
          <p:nvPr/>
        </p:nvPicPr>
        <p:blipFill>
          <a:blip r:embed="rId3"/>
          <a:stretch/>
        </p:blipFill>
        <p:spPr>
          <a:xfrm>
            <a:off x="395280" y="3500280"/>
            <a:ext cx="4762440" cy="29624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92" name="Picture 7" descr="138803"/>
          <p:cNvPicPr/>
          <p:nvPr/>
        </p:nvPicPr>
        <p:blipFill>
          <a:blip r:embed="rId4"/>
          <a:stretch/>
        </p:blipFill>
        <p:spPr>
          <a:xfrm>
            <a:off x="3132000" y="260280"/>
            <a:ext cx="3942000" cy="2679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93" name="Rectangle 8"/>
          <p:cNvSpPr/>
          <p:nvPr/>
        </p:nvSpPr>
        <p:spPr>
          <a:xfrm>
            <a:off x="826920" y="6281640"/>
            <a:ext cx="803124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женой и дочерьми Олей и Машей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Users\1\Desktop\Новая папка (2)\zarodinu.jpg"/>
          <p:cNvPicPr/>
          <p:nvPr/>
        </p:nvPicPr>
        <p:blipFill>
          <a:blip r:embed="rId1"/>
          <a:stretch/>
        </p:blipFill>
        <p:spPr>
          <a:xfrm>
            <a:off x="4133880" y="2428920"/>
            <a:ext cx="5010120" cy="442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1\Desktop\Новая папка (2)\nasemkah.jpg"/>
          <p:cNvPicPr/>
          <p:nvPr/>
        </p:nvPicPr>
        <p:blipFill>
          <a:blip r:embed="rId2"/>
          <a:stretch/>
        </p:blipFill>
        <p:spPr>
          <a:xfrm>
            <a:off x="0" y="0"/>
            <a:ext cx="3581280" cy="5334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1\Desktop\Новая папка (2)\091.jpg"/>
          <p:cNvPicPr/>
          <p:nvPr/>
        </p:nvPicPr>
        <p:blipFill>
          <a:blip r:embed="rId3"/>
          <a:stretch/>
        </p:blipFill>
        <p:spPr>
          <a:xfrm>
            <a:off x="4716360" y="0"/>
            <a:ext cx="4021200" cy="26812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6"/>
          <p:cNvSpPr/>
          <p:nvPr/>
        </p:nvSpPr>
        <p:spPr>
          <a:xfrm>
            <a:off x="179280" y="5732640"/>
            <a:ext cx="2737080" cy="649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а съемках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Содержимое 6" descr="46734103_SHukshin_.jpg"/>
          <p:cNvPicPr/>
          <p:nvPr/>
        </p:nvPicPr>
        <p:blipFill>
          <a:blip r:embed="rId1"/>
          <a:stretch/>
        </p:blipFill>
        <p:spPr>
          <a:xfrm>
            <a:off x="428760" y="500040"/>
            <a:ext cx="3555720" cy="588636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sp>
        <p:nvSpPr>
          <p:cNvPr id="200" name=""/>
          <p:cNvSpPr txBox="1"/>
          <p:nvPr/>
        </p:nvSpPr>
        <p:spPr>
          <a:xfrm>
            <a:off x="4284720" y="1412640"/>
            <a:ext cx="46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ропостижно скончался во время съёмок фильма «Они сражались за Родин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хоронен в Москве на Новодевичьем кладбищ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Заголовок 9"/>
          <p:cNvSpPr/>
          <p:nvPr/>
        </p:nvSpPr>
        <p:spPr>
          <a:xfrm>
            <a:off x="3929040" y="285840"/>
            <a:ext cx="5214960" cy="1571400"/>
          </a:xfrm>
          <a:custGeom>
            <a:avLst/>
            <a:gdLst>
              <a:gd name="textAreaLeft" fmla="*/ 1303560 w 5214960"/>
              <a:gd name="textAreaRight" fmla="*/ 3911400 w 5214960"/>
              <a:gd name="textAreaTop" fmla="*/ 392760 h 1571400"/>
              <a:gd name="textAreaBottom" fmla="*/ 152496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0000"/>
          </a:soli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3333"/>
                </a:solidFill>
                <a:latin typeface="Times New Roman"/>
              </a:rPr>
              <a:t>2 октября 1974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8" descr="C:\Users\1\Desktop\Новая папка (2)\111.jpg"/>
          <p:cNvPicPr/>
          <p:nvPr/>
        </p:nvPicPr>
        <p:blipFill>
          <a:blip r:embed="rId2"/>
          <a:stretch/>
        </p:blipFill>
        <p:spPr>
          <a:xfrm>
            <a:off x="5580000" y="4389480"/>
            <a:ext cx="3379680" cy="22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6" descr="shukshinvasmakar07_161b.jpg"/>
          <p:cNvPicPr/>
          <p:nvPr/>
        </p:nvPicPr>
        <p:blipFill>
          <a:blip r:embed="rId1"/>
          <a:srcRect l="0" t="9432" r="0" b="0"/>
          <a:stretch/>
        </p:blipFill>
        <p:spPr>
          <a:xfrm>
            <a:off x="357120" y="214200"/>
            <a:ext cx="4038840" cy="27432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00360" y="188640"/>
            <a:ext cx="442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блака плывут над голово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небо обнимается с Пикет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мне опя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круче веков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дужить наступающим рассве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настроенной сторожко тиши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уша гори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режась как бере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просто говорить о Шукшин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вое слово подобрать непрост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это происходит оттог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сам быва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ним слепым заряд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бунтари и "чудики"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всей земле со мною жили ря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ще держу связующую ни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и о спуске думаю отлог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Шукшине непросто говори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нем бы пе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еть высоким слогом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Михаил Борис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Рисунок 7" descr="shukshinvasmakar07_163b.jpg"/>
          <p:cNvPicPr/>
          <p:nvPr/>
        </p:nvPicPr>
        <p:blipFill>
          <a:blip r:embed="rId2"/>
          <a:stretch/>
        </p:blipFill>
        <p:spPr>
          <a:xfrm>
            <a:off x="1071720" y="3143160"/>
            <a:ext cx="2787480" cy="371484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чная память Василию Макаровичу Шукшину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2" descr="C:\Users\1\Desktop\Новая папка (2)\061.jpg"/>
          <p:cNvPicPr/>
          <p:nvPr/>
        </p:nvPicPr>
        <p:blipFill>
          <a:blip r:embed="rId1"/>
          <a:stretch/>
        </p:blipFill>
        <p:spPr>
          <a:xfrm>
            <a:off x="1763640" y="2421000"/>
            <a:ext cx="5580000" cy="37209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Prezentacii.com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0" descr="shukshin_1"/>
          <p:cNvPicPr/>
          <p:nvPr/>
        </p:nvPicPr>
        <p:blipFill>
          <a:blip r:embed="rId1"/>
          <a:srcRect l="0" t="0" r="-161" b="-1215"/>
          <a:stretch/>
        </p:blipFill>
        <p:spPr>
          <a:xfrm>
            <a:off x="285840" y="255600"/>
            <a:ext cx="7547040" cy="569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hukshin1"/>
          <p:cNvPicPr/>
          <p:nvPr/>
        </p:nvPicPr>
        <p:blipFill>
          <a:blip r:embed="rId2"/>
          <a:srcRect l="0" t="35335" r="0" b="10433"/>
          <a:stretch/>
        </p:blipFill>
        <p:spPr>
          <a:xfrm>
            <a:off x="4932360" y="5214960"/>
            <a:ext cx="40384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9" descr="dom"/>
          <p:cNvPicPr/>
          <p:nvPr/>
        </p:nvPicPr>
        <p:blipFill>
          <a:blip r:embed="rId1"/>
          <a:stretch/>
        </p:blipFill>
        <p:spPr>
          <a:xfrm>
            <a:off x="214200" y="142920"/>
            <a:ext cx="4554720" cy="3143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29120" y="1267920"/>
            <a:ext cx="42148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дился в селе Сростки Бийского района Алтайского кр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429000"/>
            <a:ext cx="493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м – музей В.М. Шукшина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ростках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Рисунок 7" descr="shukshinvasmakar07_1b.jpg"/>
          <p:cNvPicPr/>
          <p:nvPr/>
        </p:nvPicPr>
        <p:blipFill>
          <a:blip r:embed="rId2"/>
          <a:stretch/>
        </p:blipFill>
        <p:spPr>
          <a:xfrm>
            <a:off x="5429160" y="2643120"/>
            <a:ext cx="3181320" cy="4214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40" name="Круглая лента лицом вниз 8"/>
          <p:cNvSpPr/>
          <p:nvPr/>
        </p:nvSpPr>
        <p:spPr>
          <a:xfrm>
            <a:off x="3786120" y="214200"/>
            <a:ext cx="5357880" cy="1044720"/>
          </a:xfrm>
          <a:custGeom>
            <a:avLst/>
            <a:gdLst>
              <a:gd name="textAreaLeft" fmla="*/ 1339560 w 5357880"/>
              <a:gd name="textAreaRight" fmla="*/ 4018680 w 5357880"/>
              <a:gd name="textAreaTop" fmla="*/ 261000 h 1044720"/>
              <a:gd name="textAreaBottom" fmla="*/ 101376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25 июля 1929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5076720" y="6300720"/>
            <a:ext cx="3816360" cy="557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ленький Вася с мамой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0" y="4929120"/>
            <a:ext cx="57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й сибирский. Пейзаж неброский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ьёт о берег Катуни волн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нает каждый в России, что Сростки-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Родина Шукшина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Users\1\Desktop\Новая папка (2)\rod.jpg"/>
          <p:cNvPicPr/>
          <p:nvPr/>
        </p:nvPicPr>
        <p:blipFill>
          <a:blip r:embed="rId1"/>
          <a:stretch/>
        </p:blipFill>
        <p:spPr>
          <a:xfrm>
            <a:off x="950760" y="-237960"/>
            <a:ext cx="7358040" cy="740700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9"/>
          <p:cNvCxnSpPr/>
          <p:nvPr/>
        </p:nvCxnSpPr>
        <p:spPr>
          <a:xfrm>
            <a:off x="1763280" y="2565000"/>
            <a:ext cx="180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7" descr="shukshinvasmakar07_3b.jpg"/>
          <p:cNvPicPr/>
          <p:nvPr/>
        </p:nvPicPr>
        <p:blipFill>
          <a:blip r:embed="rId1"/>
          <a:stretch/>
        </p:blipFill>
        <p:spPr>
          <a:xfrm>
            <a:off x="179280" y="189000"/>
            <a:ext cx="4373640" cy="56880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ончил сельскую семилетнюю школу в Сростках.                Поступил в Бий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мобильный техникум.                     Сменил несколько професс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6093000"/>
            <a:ext cx="4392720" cy="765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в молодост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146920" y="474480"/>
            <a:ext cx="2664720" cy="823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943 год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ужил на Балтийском и Черноморском фл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shukshin"/>
          <p:cNvPicPr/>
          <p:nvPr/>
        </p:nvPicPr>
        <p:blipFill>
          <a:blip r:embed="rId1"/>
          <a:stretch/>
        </p:blipFill>
        <p:spPr>
          <a:xfrm>
            <a:off x="4643280" y="2714760"/>
            <a:ext cx="4038840" cy="3030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54" name="Rectangle 8"/>
          <p:cNvSpPr/>
          <p:nvPr/>
        </p:nvSpPr>
        <p:spPr>
          <a:xfrm>
            <a:off x="4427640" y="5857920"/>
            <a:ext cx="44654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М. Шукшин с сослуживцами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7" descr="shukshinvasmakar07_2b.jpg"/>
          <p:cNvPicPr/>
          <p:nvPr/>
        </p:nvPicPr>
        <p:blipFill>
          <a:blip r:embed="rId2"/>
          <a:stretch/>
        </p:blipFill>
        <p:spPr>
          <a:xfrm>
            <a:off x="357120" y="625320"/>
            <a:ext cx="3429000" cy="55753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56" name=""/>
          <p:cNvSpPr txBox="1"/>
          <p:nvPr/>
        </p:nvSpPr>
        <p:spPr>
          <a:xfrm>
            <a:off x="4985640" y="571320"/>
            <a:ext cx="2772360" cy="823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949 - 195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подает русский язык, литературу, историю в Сросткинской школе сельской молодежи, одновременно              является директором шк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tel"/>
          <p:cNvPicPr/>
          <p:nvPr/>
        </p:nvPicPr>
        <p:blipFill>
          <a:blip r:embed="rId1"/>
          <a:stretch/>
        </p:blipFill>
        <p:spPr>
          <a:xfrm>
            <a:off x="246240" y="476280"/>
            <a:ext cx="3894120" cy="6264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60" name="Заголовок 9"/>
          <p:cNvSpPr/>
          <p:nvPr/>
        </p:nvSpPr>
        <p:spPr>
          <a:xfrm>
            <a:off x="3600360" y="28584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53 - 1954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859280" y="189000"/>
            <a:ext cx="428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а во ВГИКе на режиссерском факультет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58 В. Шукшин снялся в первой своей главной роли в фильме М. Хуциева «Два Федор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58 в журнале «Смена», № 15 напечатан рассказ «Двое на телеге» — первая публикация В. Шукшина в центральной печ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Рисунок 6" descr="shukshinvasmakar07_31b.jpg"/>
          <p:cNvPicPr/>
          <p:nvPr/>
        </p:nvPicPr>
        <p:blipFill>
          <a:blip r:embed="rId1"/>
          <a:stretch/>
        </p:blipFill>
        <p:spPr>
          <a:xfrm>
            <a:off x="0" y="428760"/>
            <a:ext cx="4714920" cy="328608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9"/>
          <p:cNvSpPr/>
          <p:nvPr/>
        </p:nvSpPr>
        <p:spPr>
          <a:xfrm>
            <a:off x="0" y="0"/>
            <a:ext cx="5148360" cy="1143000"/>
          </a:xfrm>
          <a:custGeom>
            <a:avLst/>
            <a:gdLst>
              <a:gd name="textAreaLeft" fmla="*/ 1287000 w 5148360"/>
              <a:gd name="textAreaRight" fmla="*/ 3861360 w 514836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54 - 1960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192442"/>
          <p:cNvPicPr/>
          <p:nvPr/>
        </p:nvPicPr>
        <p:blipFill>
          <a:blip r:embed="rId2"/>
          <a:srcRect l="12470" t="34126" r="6170" b="35316"/>
          <a:stretch/>
        </p:blipFill>
        <p:spPr>
          <a:xfrm rot="20370600">
            <a:off x="0" y="3857400"/>
            <a:ext cx="4815000" cy="22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:\Users\1\Desktop\Новая папка (2)\60e.jpg"/>
          <p:cNvPicPr/>
          <p:nvPr/>
        </p:nvPicPr>
        <p:blipFill>
          <a:blip r:embed="rId3"/>
          <a:stretch/>
        </p:blipFill>
        <p:spPr>
          <a:xfrm>
            <a:off x="5508720" y="4470480"/>
            <a:ext cx="309564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Содержимое 6" descr="shukshinvasmakar07_29b.jpg"/>
          <p:cNvPicPr/>
          <p:nvPr/>
        </p:nvPicPr>
        <p:blipFill>
          <a:blip r:embed="rId1"/>
          <a:stretch/>
        </p:blipFill>
        <p:spPr>
          <a:xfrm>
            <a:off x="306360" y="476280"/>
            <a:ext cx="3978360" cy="62136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31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 Шукшин — режиссер киностудии имени М. Горького. снимает по своему сценарию первый фильм                  «Живет такой парен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шла первая книга «Сельские жител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Заголовок 9"/>
          <p:cNvSpPr/>
          <p:nvPr/>
        </p:nvSpPr>
        <p:spPr>
          <a:xfrm>
            <a:off x="3600360" y="285840"/>
            <a:ext cx="5543640" cy="1143000"/>
          </a:xfrm>
          <a:custGeom>
            <a:avLst/>
            <a:gdLst>
              <a:gd name="textAreaLeft" fmla="*/ 1385640 w 5543640"/>
              <a:gd name="textAreaRight" fmla="*/ 4158000 w 5543640"/>
              <a:gd name="textAreaTop" fmla="*/ 285840 h 1143000"/>
              <a:gd name="textAreaBottom" fmla="*/ 11091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1963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8:07Z</dcterms:created>
  <dc:creator>User</dc:creator>
  <dc:description/>
  <dc:language>en-US</dc:language>
  <cp:lastModifiedBy>Admin</cp:lastModifiedBy>
  <dcterms:modified xsi:type="dcterms:W3CDTF">2012-07-18T08:32:10Z</dcterms:modified>
  <cp:revision>36</cp:revision>
  <dc:subject/>
  <dc:title>Непросто говорить                   о Шукшине…</dc:title>
</cp:coreProperties>
</file>