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A3DB-3A48-44D4-B79E-E936E2867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4E44-9736-4B56-9B45-DA07B81E1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F58B-7246-4C52-B0B6-BA93697C3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E077-99EB-47EB-A894-BD0EB4AD6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5985F-6329-4FEC-82B8-FAAEA72DC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28E85-8B3F-463C-9D2B-24D24D0BC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9B8E8-E51C-4C2C-B208-5DF449BA7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5F39C-ACF2-4480-8B60-5E799EBA9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BBA17-DC21-4AE8-B2F0-486FE4DA4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1FAEC-B506-4EA5-9457-5D27B1A7E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93A93-BB7F-4CE2-A8FA-6E4BE9DF0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C555-6AC3-4EBD-8431-95A30646A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EE190-6107-4FB9-AC10-DD0372D19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09428-3094-4304-B216-F5385928D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304C9-4A44-4462-A548-B328F424A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304F5-817F-48CD-8549-DA89E0470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932EA-603C-4ED3-84A8-36E563F7F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D72B-D2BC-46C8-BA7F-7897C6E74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13E7-EC17-40D1-89CA-8A41E3538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1E07-E2DA-4C04-9F39-EC23B25D3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4598-6F19-4F23-A99F-46D117EB5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A49C-351C-4DF5-99F6-19F93DA8C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513F-1725-4889-8623-AB53D75EE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D25A-FE88-44FE-A93D-AE618AE1B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D2B17-34A0-4F08-A53E-381C1A577E1E}" type="slidenum"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6666ff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6817E-DA33-4164-B38D-A952B8162A98}" type="slidenum"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6666ff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МОДЕЛИРОВАНИЕ И ФОРМАЛИЗАЦИЯ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5D51F-2A1B-4755-8284-4EF9C43E3D4E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Пример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707920"/>
            <a:ext cx="7696080" cy="277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         </a:t>
            </a:r>
            <a:r>
              <a:rPr b="0" lang="ru-RU" sz="3600" spc="-1" strike="noStrike">
                <a:solidFill>
                  <a:srgbClr val="ffffff"/>
                </a:solidFill>
                <a:latin typeface="Comic Sans MS"/>
              </a:rPr>
              <a:t>Х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^</a:t>
            </a:r>
            <a:r>
              <a:rPr b="0" lang="ru-RU" sz="3600" spc="-1" strike="noStrike">
                <a:solidFill>
                  <a:srgbClr val="ffffff"/>
                </a:solidFill>
                <a:latin typeface="Comic Sans MS"/>
              </a:rPr>
              <a:t>3-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sin x -0,5 = 0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mic Sans MS"/>
              </a:rPr>
              <a:t>Учебник (страница 377)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AE06-18CC-47C9-AC18-DE38963010C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10920" y="2205000"/>
            <a:ext cx="6870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ff"/>
                </a:solidFill>
                <a:latin typeface="Comic Sans MS"/>
              </a:rPr>
              <a:t>Системный подход в моделировании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3C67-F22D-4CB9-8E52-B20C0DDF623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79280" y="333360"/>
            <a:ext cx="8640720" cy="621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67AC-AD8E-4598-8DB8-72D5A41AB57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468360" y="2924280"/>
            <a:ext cx="7775640" cy="57600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611280" y="333360"/>
            <a:ext cx="7696080" cy="51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Любая информационная модель является </a:t>
            </a:r>
            <a:r>
              <a:rPr b="0" i="1" lang="en-US" sz="3200" spc="-1" strike="noStrike">
                <a:solidFill>
                  <a:srgbClr val="ffcc00"/>
                </a:solidFill>
                <a:latin typeface="Comic Sans MS"/>
              </a:rPr>
              <a:t>системой</a:t>
            </a: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99"/>
                </a:solidFill>
                <a:latin typeface="Comic Sans MS"/>
              </a:rPr>
              <a:t>Система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Candara"/>
              </a:rPr>
              <a:t>является совокупностью взаимосвязанных объектов, которые называются элементами системы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Comic Sans MS"/>
              </a:rPr>
              <a:t>Система = элементы + связи между ними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Системы бывают: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материальные (человек, самолет, дерево);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нематериальные (человеческий язык, математика);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смешанные (школьная система)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3E5D-E335-4F6E-B599-56345AF8276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Comic Sans MS"/>
              </a:rPr>
              <a:t>Классификация моделей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7" name=""/>
          <p:cNvSpPr/>
          <p:nvPr/>
        </p:nvSpPr>
        <p:spPr>
          <a:xfrm>
            <a:off x="684360" y="1125360"/>
            <a:ext cx="72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С УЧЕТОМ ФАКТОРА ВРЕМЕН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179280" y="1844640"/>
            <a:ext cx="8064720" cy="4286880"/>
            <a:chOff x="179280" y="1844640"/>
            <a:chExt cx="8064720" cy="4286880"/>
          </a:xfrm>
        </p:grpSpPr>
        <p:sp>
          <p:nvSpPr>
            <p:cNvPr id="189" name=""/>
            <p:cNvSpPr/>
            <p:nvPr/>
          </p:nvSpPr>
          <p:spPr>
            <a:xfrm>
              <a:off x="1835280" y="1844640"/>
              <a:ext cx="3960720" cy="647640"/>
            </a:xfrm>
            <a:prstGeom prst="roundRect">
              <a:avLst>
                <a:gd name="adj" fmla="val 16667"/>
              </a:avLst>
            </a:prstGeom>
            <a:solidFill>
              <a:srgbClr val="85afe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omic Sans MS"/>
                </a:rPr>
                <a:t>МОДЕЛИ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780000" y="2852640"/>
              <a:ext cx="3743280" cy="647640"/>
            </a:xfrm>
            <a:prstGeom prst="roundRect">
              <a:avLst>
                <a:gd name="adj" fmla="val 16667"/>
              </a:avLst>
            </a:prstGeom>
            <a:solidFill>
              <a:srgbClr val="85afe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mic Sans MS"/>
                </a:rPr>
                <a:t>ДИНАМИЧЕСКИ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24000" y="2852640"/>
              <a:ext cx="3168360" cy="647640"/>
            </a:xfrm>
            <a:prstGeom prst="roundRect">
              <a:avLst>
                <a:gd name="adj" fmla="val 16667"/>
              </a:avLst>
            </a:prstGeom>
            <a:solidFill>
              <a:srgbClr val="85afe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mic Sans MS"/>
                </a:rPr>
                <a:t>СТАТИЧЕСКИ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484360" y="4005360"/>
              <a:ext cx="2737080" cy="647640"/>
            </a:xfrm>
            <a:prstGeom prst="roundRect">
              <a:avLst>
                <a:gd name="adj" fmla="val 16667"/>
              </a:avLst>
            </a:prstGeom>
            <a:solidFill>
              <a:srgbClr val="85afe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mic Sans MS"/>
                </a:rPr>
                <a:t>ДИСКРЕТНЫ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508720" y="4005360"/>
              <a:ext cx="2735280" cy="647640"/>
            </a:xfrm>
            <a:prstGeom prst="roundRect">
              <a:avLst>
                <a:gd name="adj" fmla="val 16667"/>
              </a:avLst>
            </a:prstGeom>
            <a:solidFill>
              <a:srgbClr val="85afe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mic Sans MS"/>
                </a:rPr>
                <a:t>НЕПРЕРЫВНЫ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340000" y="2492280"/>
              <a:ext cx="0" cy="360360"/>
            </a:xfrm>
            <a:prstGeom prst="line">
              <a:avLst/>
            </a:prstGeom>
            <a:ln w="38160">
              <a:solidFill>
                <a:srgbClr val="85af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32360" y="2492280"/>
              <a:ext cx="0" cy="360360"/>
            </a:xfrm>
            <a:prstGeom prst="line">
              <a:avLst/>
            </a:prstGeom>
            <a:ln w="38160">
              <a:solidFill>
                <a:srgbClr val="85af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427640" y="3500280"/>
              <a:ext cx="0" cy="505080"/>
            </a:xfrm>
            <a:prstGeom prst="line">
              <a:avLst/>
            </a:prstGeom>
            <a:ln w="38160">
              <a:solidFill>
                <a:srgbClr val="85af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227640" y="3500280"/>
              <a:ext cx="0" cy="505080"/>
            </a:xfrm>
            <a:prstGeom prst="line">
              <a:avLst/>
            </a:prstGeom>
            <a:ln w="38160">
              <a:solidFill>
                <a:srgbClr val="85af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79280" y="3645000"/>
              <a:ext cx="2232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ffffff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РОСТ УЧЕНИКОВ КЛАССА В ДЕНЬ ИССЛЕДОВАНИ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484360" y="4797360"/>
              <a:ext cx="2735280" cy="133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ffffff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РОСТ УЧЕНИКОВ ДАННОГО КЛАССА ЗА 10 ЛЕТ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ffffff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АЛГОРИТМЫ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508720" y="4797360"/>
              <a:ext cx="2735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ffffff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ИЗМЕНЕНИЕ АТМОСФЕРНОГО ДАВЛЕНИЯ В ТЕЧЕНИЕ ДН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C4A6-9A12-4B40-B40D-CB6A5F813B2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5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Статистические модели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2852640"/>
            <a:ext cx="7696080" cy="26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      </a:t>
            </a:r>
            <a:r>
              <a:rPr b="1" lang="en-US" sz="3200" spc="-1" strike="noStrike">
                <a:solidFill>
                  <a:srgbClr val="ffffff"/>
                </a:solidFill>
                <a:latin typeface="Castellar"/>
              </a:rPr>
              <a:t>Модели, описывающие состояние системы в определенный момент времени, называются </a:t>
            </a:r>
            <a:r>
              <a:rPr b="1" lang="en-US" sz="3200" spc="-1" strike="noStrike">
                <a:solidFill>
                  <a:srgbClr val="33ccff"/>
                </a:solidFill>
                <a:latin typeface="Castellar"/>
              </a:rPr>
              <a:t>статическими информационными моделями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306E-F9F5-459B-AEC5-EBE0D761792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Динамические модели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23640" y="2565360"/>
            <a:ext cx="8057880" cy="292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        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Модели, описывающие процессы изменения и развития систем, называются </a:t>
            </a:r>
            <a:r>
              <a:rPr b="1" lang="en-US" sz="3200" spc="-1" strike="noStrike">
                <a:solidFill>
                  <a:srgbClr val="33ccff"/>
                </a:solidFill>
                <a:latin typeface="Comic Sans MS"/>
              </a:rPr>
              <a:t>динамическими информационными моделями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A3EE-C8B3-49AB-B571-C6104FC476E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ff"/>
                </a:solidFill>
                <a:latin typeface="Comic Sans MS"/>
              </a:rPr>
              <a:t>Что такое моделирование?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834920" y="2781360"/>
            <a:ext cx="6546600" cy="27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Comic Sans MS"/>
              </a:rPr>
              <a:t>Моделирование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– это метод познания, состоящий в создании и исследовании моделей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4F7B-D5B8-47C3-9B31-74C180A223B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475920"/>
            <a:ext cx="6870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Что такое модель?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476000" y="1484280"/>
            <a:ext cx="7343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      </a:t>
            </a:r>
            <a:r>
              <a:rPr b="0" lang="en-US" sz="3200" spc="-1" strike="noStrike" u="sng">
                <a:solidFill>
                  <a:srgbClr val="ffff99"/>
                </a:solidFill>
                <a:uFillTx/>
                <a:latin typeface="Comic Sans MS"/>
                <a:hlinkClick r:id="rId1" action="ppaction://hlinksldjump"/>
              </a:rPr>
              <a:t>Модель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– это некий новый объект, который отражает некоторые существенные свойства изучаемого явления или процесса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Модель сохраняет </a:t>
            </a:r>
            <a:r>
              <a:rPr b="1" i="1" lang="en-US" sz="2800" spc="-1" strike="noStrike">
                <a:solidFill>
                  <a:srgbClr val="ffcc00"/>
                </a:solidFill>
                <a:latin typeface="Comic Sans MS"/>
              </a:rPr>
              <a:t>наиболее важные характеристики и свойства оригинала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7D8B-9D74-4A6B-8A6D-66F5CC123536}" type="slidenum">
              <a:t>3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99"/>
                </a:solidFill>
                <a:latin typeface="Comic Sans MS"/>
              </a:rPr>
              <a:t>           </a:t>
            </a:r>
            <a:r>
              <a:rPr b="0" lang="en-US" sz="4000" spc="-1" strike="noStrike">
                <a:solidFill>
                  <a:srgbClr val="ffcc99"/>
                </a:solidFill>
                <a:latin typeface="Comic Sans MS"/>
              </a:rPr>
              <a:t>Один и тот же объект может иметь 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множество моделей</a:t>
            </a:r>
            <a:r>
              <a:rPr b="0" lang="en-US" sz="4000" spc="-1" strike="noStrike">
                <a:solidFill>
                  <a:srgbClr val="ffcc99"/>
                </a:solidFill>
                <a:latin typeface="Comic Sans MS"/>
              </a:rPr>
              <a:t>, а разные объекты могут описываться 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одной моделью</a:t>
            </a:r>
            <a:r>
              <a:rPr b="1" lang="en-US" sz="4000" spc="-1" strike="noStrike">
                <a:solidFill>
                  <a:srgbClr val="ffcc99"/>
                </a:solidFill>
                <a:latin typeface="Comic Sans MS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87DA-74D7-470F-9780-DAF549CA631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Comic Sans MS"/>
              </a:rPr>
              <a:t>Классификация моделей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0" name=""/>
          <p:cNvSpPr/>
          <p:nvPr/>
        </p:nvSpPr>
        <p:spPr>
          <a:xfrm>
            <a:off x="826920" y="836640"/>
            <a:ext cx="712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ПО СПОСОБУ ПРЕДСТАВЛ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24000" y="1484280"/>
            <a:ext cx="8424720" cy="3379320"/>
            <a:chOff x="324000" y="1484280"/>
            <a:chExt cx="8424720" cy="3379320"/>
          </a:xfrm>
        </p:grpSpPr>
        <p:sp>
          <p:nvSpPr>
            <p:cNvPr id="162" name=""/>
            <p:cNvSpPr/>
            <p:nvPr/>
          </p:nvSpPr>
          <p:spPr>
            <a:xfrm>
              <a:off x="2268360" y="1484280"/>
              <a:ext cx="4608720" cy="649440"/>
            </a:xfrm>
            <a:prstGeom prst="roundRect">
              <a:avLst>
                <a:gd name="adj" fmla="val 16667"/>
              </a:avLst>
            </a:prstGeom>
            <a:solidFill>
              <a:srgbClr val="85afe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omic Sans MS"/>
                </a:rPr>
                <a:t>МОДЕЛИ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24000" y="2492280"/>
              <a:ext cx="3240000" cy="649440"/>
            </a:xfrm>
            <a:prstGeom prst="roundRect">
              <a:avLst>
                <a:gd name="adj" fmla="val 16667"/>
              </a:avLst>
            </a:prstGeom>
            <a:solidFill>
              <a:srgbClr val="85afe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mic Sans MS"/>
                </a:rPr>
                <a:t>МАТЕРИАЛЬНЫ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219640" y="2492280"/>
              <a:ext cx="3384720" cy="649440"/>
            </a:xfrm>
            <a:prstGeom prst="roundRect">
              <a:avLst>
                <a:gd name="adj" fmla="val 16667"/>
              </a:avLst>
            </a:prstGeom>
            <a:solidFill>
              <a:srgbClr val="85afe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mic Sans MS"/>
                </a:rPr>
                <a:t>ИНФОРМАЦИОННЫ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492360" y="3500280"/>
              <a:ext cx="2519640" cy="649440"/>
            </a:xfrm>
            <a:prstGeom prst="roundRect">
              <a:avLst>
                <a:gd name="adj" fmla="val 16667"/>
              </a:avLst>
            </a:prstGeom>
            <a:solidFill>
              <a:srgbClr val="85afe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mic Sans MS"/>
                </a:rPr>
                <a:t>ОБРАЗНЫ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516720" y="3500280"/>
              <a:ext cx="2232000" cy="649440"/>
            </a:xfrm>
            <a:prstGeom prst="roundRect">
              <a:avLst>
                <a:gd name="adj" fmla="val 16667"/>
              </a:avLst>
            </a:prstGeom>
            <a:solidFill>
              <a:srgbClr val="85afe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mic Sans MS"/>
                </a:rPr>
                <a:t>ЗНАКОВЫ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948360" y="4221000"/>
              <a:ext cx="165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НА ЛЮБОМ ЯЗЫКЕ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508720" y="3141720"/>
              <a:ext cx="0" cy="358560"/>
            </a:xfrm>
            <a:prstGeom prst="line">
              <a:avLst/>
            </a:prstGeom>
            <a:ln w="38160">
              <a:solidFill>
                <a:srgbClr val="85af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164360" y="3141720"/>
              <a:ext cx="0" cy="358560"/>
            </a:xfrm>
            <a:prstGeom prst="line">
              <a:avLst/>
            </a:prstGeom>
            <a:ln w="38160">
              <a:solidFill>
                <a:srgbClr val="85af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771640" y="2133720"/>
              <a:ext cx="0" cy="358560"/>
            </a:xfrm>
            <a:prstGeom prst="line">
              <a:avLst/>
            </a:prstGeom>
            <a:ln w="38160">
              <a:solidFill>
                <a:srgbClr val="85af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300720" y="2133720"/>
              <a:ext cx="0" cy="358560"/>
            </a:xfrm>
            <a:prstGeom prst="line">
              <a:avLst/>
            </a:prstGeom>
            <a:ln w="38160">
              <a:solidFill>
                <a:srgbClr val="85af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324000" y="3284640"/>
            <a:ext cx="259236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ИГРУШ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ГЛОБУ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ЧУЧЕЛО ПТИЦ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ФИЗИЧЕСКИЕ ИЛИ ХИМИЧЕСКИЕ ОПЫ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7CE6-CD51-46C7-9826-83C3865696B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omic Sans MS"/>
              </a:rPr>
              <a:t>ИНФОРМАЦИОННЫЕ МОДЕЛИ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Информационная модель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– описание реального объекта (процесса, явления) на одном из языков (разговорном или формальном)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0D29-8A23-42D0-B7EA-85B68D8104C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8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685800" y="1196640"/>
            <a:ext cx="769608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entury"/>
              </a:rPr>
              <a:t>        </a:t>
            </a:r>
            <a:r>
              <a:rPr b="1" lang="en-US" sz="3000" spc="-1" strike="noStrike">
                <a:solidFill>
                  <a:srgbClr val="ffffff"/>
                </a:solidFill>
                <a:latin typeface="Century"/>
              </a:rPr>
              <a:t>Естественные языки служат для создания </a:t>
            </a:r>
            <a:r>
              <a:rPr b="1" i="1" lang="en-US" sz="3000" spc="-1" strike="noStrike">
                <a:solidFill>
                  <a:srgbClr val="ffff66"/>
                </a:solidFill>
                <a:latin typeface="Century"/>
              </a:rPr>
              <a:t>описательных информационных моделей</a:t>
            </a:r>
            <a:r>
              <a:rPr b="1" lang="en-US" sz="3000" spc="-1" strike="noStrike">
                <a:solidFill>
                  <a:srgbClr val="ffffff"/>
                </a:solidFill>
                <a:latin typeface="Century"/>
              </a:rPr>
              <a:t>, а формальные языки – </a:t>
            </a:r>
            <a:r>
              <a:rPr b="1" lang="en-US" sz="3000" spc="-1" strike="noStrike">
                <a:solidFill>
                  <a:srgbClr val="ffff66"/>
                </a:solidFill>
                <a:latin typeface="Century"/>
              </a:rPr>
              <a:t>формальных информационных моделей</a:t>
            </a:r>
            <a:r>
              <a:rPr b="1" lang="en-US" sz="3000" spc="-1" strike="noStrike">
                <a:solidFill>
                  <a:srgbClr val="ffffff"/>
                </a:solidFill>
                <a:latin typeface="Century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552C-CA6F-425C-AD0D-F3817117EB5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8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9640" y="1413000"/>
            <a:ext cx="687096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omic Sans MS"/>
              </a:rPr>
              <a:t>Формализация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– процесс построения информационных моделей с помощью формальных языков.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6EAA-AB78-46DD-9C87-E8962FB7C73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78120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Comic Sans MS"/>
              </a:rPr>
              <a:t>Основные этапы моделирования на компьютере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341360"/>
            <a:ext cx="76960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-578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Comic Sans MS"/>
              </a:rPr>
              <a:t>Построение модели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 обычно описание информационной модели)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578880" indent="-578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Comic Sans MS"/>
              </a:rPr>
              <a:t>Формализация модели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запись на каком – либо формальном языке)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578880" indent="-578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Comic Sans MS"/>
              </a:rPr>
              <a:t>Построение компьютерной модели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на языке программирования или с использованием прикладной программы)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578880" indent="-5788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Comic Sans MS"/>
              </a:rPr>
              <a:t>Проведение компьютерного эксперимента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578880" indent="-5788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Comic Sans MS"/>
              </a:rPr>
              <a:t>Анализ результатов моделирования и корректировка исследуемой модели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8D41-F5CE-4203-AFA1-99E2B7843BE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8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8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8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8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8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4T12:21:37Z</dcterms:created>
  <dc:creator>Admin</dc:creator>
  <dc:description/>
  <dc:language>en-US</dc:language>
  <cp:lastModifiedBy>АиО</cp:lastModifiedBy>
  <dcterms:modified xsi:type="dcterms:W3CDTF">2009-11-25T19:36:00Z</dcterms:modified>
  <cp:revision>10</cp:revision>
  <dc:subject/>
  <dc:title>МОДЕЛИРОВАНИЕ И ФОРМАЛИЗАЦИЯ</dc:title>
</cp:coreProperties>
</file>