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AE6-CB70-4EB2-81E3-3FCD07A5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705-7D7F-442F-8A0E-283B3A0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A15-B866-4B48-81E2-7E03DD13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317-16B7-4BD1-9FE7-4BAFEBD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BF98-094D-4812-BF9F-AFE25AA1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039D-3185-4677-AA63-C80B83A9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284-82C9-43DD-B65E-4FBB7A0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FD8-E83A-4B4C-A85A-3D1372B0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89B8-5B71-43CE-8D58-8D2E3F2F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5E05-CBF9-4E3A-947D-9976C57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BBA1-8AA3-493D-AD4E-B4A514A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38A-F874-450D-85F0-33094F3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E49-759D-4B74-80F6-B2C1B0B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3C8D-68F6-4271-9CDF-3F56044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00B-FD66-4499-ABF5-4F653429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ECD-81CA-45B5-BBF3-0904A60E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EAEB-FF51-4F3A-A768-293D3863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6146-624C-4735-9858-11FD09F7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72A-E454-4D50-BA1B-9ED2FBE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3E6-6698-4735-BBCC-3A0DB256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AE4-8BF8-4C8E-9360-5C10F21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5B3-FC74-4BB0-AA0E-6E8D1F32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502-6C6C-48C3-B2D0-06CE133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107-3138-49AF-B40E-999176D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9DB2-F719-43FB-A569-39BB52BA193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397-C5B6-404D-94FF-99AEFEB3B4A6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549F-F9BF-48F8-9FEF-2CA9987A14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69608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Х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^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3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 x -0,5 = 0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Учебник (страница 377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8D7-9C42-4101-9258-1DBE4A58E2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Системный подход в моделировани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716-FAB0-4075-8581-ECD7E819D1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21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C1E-CA7B-4E3E-8E6B-F466B538EB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Любая информационная модель является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системой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99"/>
                </a:solidFill>
                <a:latin typeface="Comic Sans MS"/>
              </a:rPr>
              <a:t>Система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ndara"/>
              </a:rPr>
              <a:t>является совокупностью взаимосвязанных объектов, которые называются элементами системы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D38-D438-4E65-8CA2-82B373E33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8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E95-2FD2-430D-8E41-AA15E277AC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Статист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Модели, описывающие состояние системы в определенный момент времени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astellar"/>
              </a:rPr>
              <a:t>стат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239-F0B7-47BA-9B2F-C9F14981E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намически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0578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Модели, описывающие процессы изменения и развития систем, называются </a:t>
            </a: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динамическими информационными моделями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342-0F02-4C2B-AAAE-431FFE8906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Comic Sans MS"/>
              </a:rPr>
              <a:t>Что такое моделирование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34920" y="2781360"/>
            <a:ext cx="6546600" cy="27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Моделирован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метод познания, состоящий в создании и исследовании моделе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3C6-70C2-4865-8592-CC5F60318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6870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Что такое модель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484280"/>
            <a:ext cx="7343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  <a:hlinkClick r:id="rId1" action="ppaction://hlinksldjump"/>
              </a:rPr>
              <a:t>Модел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это некий новый объект, который отражает некоторые существенные свойства изучаемого явления или процесс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Модель сохраняет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D32-7582-438A-9B5F-A856BE2114C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Один и тот же объект может иметь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множество моделей</a:t>
            </a:r>
            <a:r>
              <a:rPr b="0" lang="en-US" sz="4000" spc="-1" strike="noStrike">
                <a:solidFill>
                  <a:srgbClr val="ffcc99"/>
                </a:solidFill>
                <a:latin typeface="Comic Sans MS"/>
              </a:rPr>
              <a:t>, а разные объекты могут описываться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одной моделью</a:t>
            </a:r>
            <a:r>
              <a:rPr b="1" lang="en-US" sz="4000" spc="-1" strike="noStrike">
                <a:solidFill>
                  <a:srgbClr val="ffcc9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8BB-0FB7-484A-A5C7-F018AD236A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1484280"/>
            <a:ext cx="8424720" cy="3379320"/>
            <a:chOff x="324000" y="1484280"/>
            <a:chExt cx="8424720" cy="3379320"/>
          </a:xfrm>
        </p:grpSpPr>
        <p:sp>
          <p:nvSpPr>
            <p:cNvPr id="162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24000" y="3284640"/>
            <a:ext cx="259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ИГР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ГЛОБ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УЧЕЛО 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ФИЗИЧЕСКИЕ ИЛИ ХИМИЧЕСКИЕ ОПЫ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B62-E299-4C86-8380-108EE55441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E57-4360-47D1-ABBA-2EDBEF959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        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Естественные языки служат для создания </a:t>
            </a:r>
            <a:r>
              <a:rPr b="1" i="1" lang="en-US" sz="3000" spc="-1" strike="noStrike">
                <a:solidFill>
                  <a:srgbClr val="ffff66"/>
                </a:solidFill>
                <a:latin typeface="Century"/>
              </a:rPr>
              <a:t>описате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, а формальные языки – </a:t>
            </a:r>
            <a:r>
              <a:rPr b="1" lang="en-US" sz="3000" spc="-1" strike="noStrike">
                <a:solidFill>
                  <a:srgbClr val="ffff66"/>
                </a:solidFill>
                <a:latin typeface="Century"/>
              </a:rPr>
              <a:t>формальных информационных моделей</a:t>
            </a:r>
            <a:r>
              <a:rPr b="1" lang="en-US" sz="30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15E-6074-4254-A85A-304159F3D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68709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– процесс построения информационных моделей с помощью формальных языков.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85B-1E4A-40F8-9B74-D380D8D3CF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Анализ результатов моделирования и корректировка исследуемой модел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32F-A4B0-4983-BD1C-15C7557E94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АиО</cp:lastModifiedBy>
  <dcterms:modified xsi:type="dcterms:W3CDTF">2009-11-25T19:36:00Z</dcterms:modified>
  <cp:revision>10</cp:revision>
  <dc:subject/>
  <dc:title>МОДЕЛИРОВАНИЕ И ФОРМАЛИЗАЦИЯ</dc:title>
</cp:coreProperties>
</file>