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38D-F151-40D6-8DAE-E99BC685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963-1BA1-45E2-AC84-B8BC08E0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7A1-AC19-4590-8152-54B47631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0A4-B97D-41AA-AE0A-5BF923D7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6F6B-3B49-4D7C-A4A5-A563B6A5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4BFF-0F8D-4ECC-BBDB-941F3B79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5EB0-11F7-4D60-920D-C17C1D68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95B2-9E7C-48B7-B664-1EE5936F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34DB-8E17-4BD7-B705-A92A4611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3C2C-FA57-4C31-81BD-B3249285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362A-65A0-4FB3-A9D9-44C9A124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EE6-4542-40C5-A90D-843A5821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10E7-D654-4819-8E01-1595CF7D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FFB7-EE39-469E-AC49-0D89683F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5F0B-2C37-4120-A67D-E3F66B39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E1B4-952A-4B9D-8A51-32C68769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DE9B-67C2-40E9-82BB-007EBB5F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76E-1DB7-44C0-8625-2CA16726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2B4-4B48-4CF5-A41A-43285FBC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3DC-AB28-44F9-959A-691DBE05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CD9-8A82-49C1-9F7B-D8418C1E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9CA-6CC5-4DFB-A8B5-E266D550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92A-2197-4302-B133-D71A6D20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1EEF-EB02-4E95-904C-06C9EA13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F6B4-0719-433A-B3B5-EFEE8F6937AA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656E-13F5-4D5E-A85D-DD2B9C6B0508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ОДЕЛИРОВАНИЕ И ФОРМАЛИЗАЦ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E0C7-A13C-4024-A23F-2AA995CDAB1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769608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^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3-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in x -0,5 = 0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Учебник (страница 377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623-9F0C-4B2B-8414-A74D0BA135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6870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Comic Sans MS"/>
              </a:rPr>
              <a:t>Системный подход в моделировани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7886-01A7-41BC-9B22-5E49DA771B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40720" cy="621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7C03-35E4-458A-81CA-DD3DB89D87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2924280"/>
            <a:ext cx="7775640" cy="5760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Любая информационная модель является </a:t>
            </a: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системой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99"/>
                </a:solidFill>
                <a:latin typeface="Comic Sans MS"/>
              </a:rPr>
              <a:t>Система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ndara"/>
              </a:rPr>
              <a:t>является совокупностью взаимосвязанных объектов, которые называются элементами системы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Система = элементы + связи между ним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истемы бывают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материальные (человек, самолет, дерево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нематериальные (человеческий язык, математика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мешанные (школьная система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426-CCEE-487A-BA73-5351A0F65B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Классификация моделей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1125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С УЧЕТОМ ФАКТОРА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79280" y="1844640"/>
            <a:ext cx="8064720" cy="4286880"/>
            <a:chOff x="179280" y="1844640"/>
            <a:chExt cx="8064720" cy="4286880"/>
          </a:xfrm>
        </p:grpSpPr>
        <p:sp>
          <p:nvSpPr>
            <p:cNvPr id="189" name=""/>
            <p:cNvSpPr/>
            <p:nvPr/>
          </p:nvSpPr>
          <p:spPr>
            <a:xfrm>
              <a:off x="1835280" y="1844640"/>
              <a:ext cx="396072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МОДЕЛ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80000" y="2852640"/>
              <a:ext cx="37432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ДИНАМИЧЕ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4000" y="2852640"/>
              <a:ext cx="316836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СТАТИЧЕ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84360" y="4005360"/>
              <a:ext cx="27370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ДИСКРЕ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08720" y="4005360"/>
              <a:ext cx="27352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НЕПРЕРЫВ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40000" y="2492280"/>
              <a:ext cx="0" cy="360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32360" y="2492280"/>
              <a:ext cx="0" cy="360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27640" y="3500280"/>
              <a:ext cx="0" cy="5050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27640" y="3500280"/>
              <a:ext cx="0" cy="5050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9280" y="3645000"/>
              <a:ext cx="223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РОСТ УЧЕНИКОВ КЛАССА В ДЕНЬ ИССЛЕД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84360" y="4797360"/>
              <a:ext cx="27352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РОСТ УЧЕНИКОВ ДАННОГО КЛАССА ЗА 10 ЛЕ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АЛГОРИТМ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8720" y="479736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ИЗМЕНЕНИЕ АТМОСФЕРНОГО ДАВЛЕНИЯ В ТЕЧЕНИЕ ДН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C14D-0446-4B61-82CD-B967D56239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Статистические мод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69608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Модели, описывающие состояние системы в определенный момент времени, называются </a:t>
            </a:r>
            <a:r>
              <a:rPr b="1" lang="en-US" sz="3200" spc="-1" strike="noStrike">
                <a:solidFill>
                  <a:srgbClr val="33ccff"/>
                </a:solidFill>
                <a:latin typeface="Castellar"/>
              </a:rPr>
              <a:t>статическими информационными моделям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26A-2093-4C7F-9A8F-713295F847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Динамические мод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3640" y="2565360"/>
            <a:ext cx="8057880" cy="29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Модели, описывающие процессы изменения и развития систем, называются </a:t>
            </a:r>
            <a:r>
              <a:rPr b="1" lang="en-US" sz="3200" spc="-1" strike="noStrike">
                <a:solidFill>
                  <a:srgbClr val="33ccff"/>
                </a:solidFill>
                <a:latin typeface="Comic Sans MS"/>
              </a:rPr>
              <a:t>динамическими информационными моделям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A9F-2263-4FF3-A29C-FB43DC09E2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Comic Sans MS"/>
              </a:rPr>
              <a:t>Что такое моделирование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34920" y="2781360"/>
            <a:ext cx="6546600" cy="27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Моделировани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это метод познания, состоящий в создании и исследовании моделей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C0F-386D-4B8D-A711-27F4A28A10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Что такое модель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343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  <a:hlinkClick r:id="rId1" action="ppaction://hlinksldjump"/>
              </a:rPr>
              <a:t>Модель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это некий новый объект, который отражает некоторые существенные свойства изучаемого явления или процесс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Модель сохраняет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наиболее важные характеристики и свойства оригинал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374-E994-49AD-A88C-38F5B5C22613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ffcc99"/>
                </a:solidFill>
                <a:latin typeface="Comic Sans MS"/>
              </a:rPr>
              <a:t>Один и тот же объект может иметь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множество моделей</a:t>
            </a:r>
            <a:r>
              <a:rPr b="0" lang="en-US" sz="4000" spc="-1" strike="noStrike">
                <a:solidFill>
                  <a:srgbClr val="ffcc99"/>
                </a:solidFill>
                <a:latin typeface="Comic Sans MS"/>
              </a:rPr>
              <a:t>, а разные объекты могут описываться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одной моделью</a:t>
            </a:r>
            <a:r>
              <a:rPr b="1" lang="en-US" sz="40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6E19-6160-4CBF-9F3E-4FB963DBE3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Классификация моделей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8366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О СПОСОБУ ПРЕДСТ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4000" y="1484280"/>
            <a:ext cx="8424720" cy="3379320"/>
            <a:chOff x="324000" y="1484280"/>
            <a:chExt cx="8424720" cy="3379320"/>
          </a:xfrm>
        </p:grpSpPr>
        <p:sp>
          <p:nvSpPr>
            <p:cNvPr id="162" name=""/>
            <p:cNvSpPr/>
            <p:nvPr/>
          </p:nvSpPr>
          <p:spPr>
            <a:xfrm>
              <a:off x="2268360" y="1484280"/>
              <a:ext cx="4608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МОДЕЛ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2492280"/>
              <a:ext cx="3240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МАТЕРИ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19640" y="249228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ИНФОРМАЦИОН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2360" y="3500280"/>
              <a:ext cx="251964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ОБРАЗ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6720" y="3500280"/>
              <a:ext cx="2232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ЗНАКО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48360" y="422100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НА ЛЮБОМ ЯЗЫК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08720" y="3141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64360" y="3141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71640" y="2133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00720" y="2133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24000" y="3284640"/>
            <a:ext cx="259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ГРУ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ГЛОБ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ЧУЧЕЛО ПТ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ФИЗИЧЕСКИЕ ИЛИ ХИМИЧЕСКИЕ ОПЫ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290-C324-41CB-B415-7CBF66516F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ИНФОРМАЦИОННЫЕ МОД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Информационная модель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– описание реального объекта (процесса, явления) на одном из языков (разговорном или формальном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F7F2-EE8A-4B9B-8668-B8FEC89454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Естественные языки служат для создания </a:t>
            </a:r>
            <a:r>
              <a:rPr b="1" i="1" lang="en-US" sz="3000" spc="-1" strike="noStrike">
                <a:solidFill>
                  <a:srgbClr val="ffff66"/>
                </a:solidFill>
                <a:latin typeface="Century"/>
              </a:rPr>
              <a:t>описательных информационных моделей</a:t>
            </a: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, а формальные языки – </a:t>
            </a:r>
            <a:r>
              <a:rPr b="1" lang="en-US" sz="3000" spc="-1" strike="noStrike">
                <a:solidFill>
                  <a:srgbClr val="ffff66"/>
                </a:solidFill>
                <a:latin typeface="Century"/>
              </a:rPr>
              <a:t>формальных информационных моделей</a:t>
            </a: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702-B3F7-4250-BFB1-A9506686B8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68709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Формализация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– процесс построения информационных моделей с помощью формальных языков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7E1-B851-455D-8331-8C7285C167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812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Основные этапы моделирования на компьютер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Построение модели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 обычно описание информационной модели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Формализация модели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запись на каком – либо формальном языке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Построение компьютерной модели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на языке программирования или с использованием прикладной программы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Проведение компьютерного эксперимент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Анализ результатов моделирования и корректировка исследуемой модел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EDA-CF74-4C1F-8425-431E6AB889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2:21:37Z</dcterms:created>
  <dc:creator>Admin</dc:creator>
  <dc:description/>
  <dc:language>en-US</dc:language>
  <cp:lastModifiedBy>АиО</cp:lastModifiedBy>
  <dcterms:modified xsi:type="dcterms:W3CDTF">2009-11-25T19:36:00Z</dcterms:modified>
  <cp:revision>10</cp:revision>
  <dc:subject/>
  <dc:title>МОДЕЛИРОВАНИЕ И ФОРМАЛИЗАЦИЯ</dc:title>
</cp:coreProperties>
</file>