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EE0-BD3F-455E-8769-65EBFB6D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13F-6109-4720-B819-A45DB679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C5B-F6D4-4DCD-AE6C-E5946EC0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945-6F01-4D96-BAF3-03114521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AF53E-6B9E-4EC9-B16F-4E2FE083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EB712-0891-480B-B747-429ED65F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D3A96-C90C-4EE9-87FF-6F1B0A4C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E8131-8496-410D-9215-3E5358F1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CE17B-75BE-4A68-8613-69018465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48170-5367-40F3-A039-FD65293C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E40BA-8797-4B8A-8765-73552E09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1C5-F942-43C8-A8DE-9258F1EC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7EA61-35F0-4CB0-8D53-1B8F538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09AAD-5A0B-4E38-97B4-2F158D0E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91015-23E4-4074-9A6E-9ABE8D75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32FD3-0017-480C-AFAA-D2129082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EA276-8BAF-477F-9C83-4EA2BD66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18D-D055-467A-A699-003D60E5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BBA-1685-4CFB-B2CF-18AAA754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9B6-7FB4-4421-9B23-ECB6A950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02D-54AF-4F7F-888E-4D300C4B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71D-BDCF-48DC-892A-73C37FAD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A08-AAB3-459C-948F-BF5B5F7C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D2D-E97D-429F-B3F9-9F1742B9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9AE8-5A5A-4E57-B1B4-242D95A39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FE2C-88E3-4657-B9C6-48C0E1CFD0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miles.33b.ru/smile.104337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Метрика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стих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Практикум по определ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стихотвор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разме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219640" y="70812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56000" y="6350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ahoma"/>
              </a:rPr>
              <a:t>Светлана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3399"/>
                </a:solidFill>
                <a:latin typeface="Tahoma"/>
              </a:rPr>
              <a:t>Тимофеевна Лапш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book"/>
          <p:cNvPicPr/>
          <p:nvPr/>
        </p:nvPicPr>
        <p:blipFill>
          <a:blip r:embed="rId1"/>
          <a:stretch/>
        </p:blipFill>
        <p:spPr>
          <a:xfrm>
            <a:off x="324000" y="5157720"/>
            <a:ext cx="12952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мфибрах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(греч. 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hibrachy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буквально – с обеих сторон кратк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рёхсложной стопе ударение на втором сло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в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т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р б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у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ш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т 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д б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напес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греч. 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paisto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буквально – отражённый назад 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рёхсложной стопе ударение на третьем слог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я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т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ч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г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ск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ж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Четырёхсложные разм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зависимости от места ударения они делятся 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Первый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м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лень-ка-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торо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фо-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ри-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Трети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Ли-за-в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Четвёрт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пе-ре-вер-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пятисложник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по месту удар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К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к сх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д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л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с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я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, с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л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с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Дольник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(паузник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ходный размер от силлабо-тонического к тоническ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опулярный 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)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тором при равном количестве ударений безударные интервалы могут быть как в один, так и в два сло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В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чером с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им, в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чером л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ны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- 2 – 1 – 2 -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Тактовик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(акцентник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о ударений в строке одинако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фма несёт дополнительную организацию сти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Спок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йно тр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бку докур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л до конц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1 – 1- 3 – 2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примеры – у В. Маяковског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99"/>
                </a:solidFill>
                <a:latin typeface="Tahoma"/>
              </a:rPr>
              <a:t>Памятк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ставьте уда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дчеркните ударные гласные чер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Безударные гласные – подк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смотрите, что повтор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зделите вертикальной чертой повторяющиеся промежу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Определите разм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считайте сто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Как ныне сбирается вещий Олег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Золото, золото падает с неб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Поживёшь и попразднуешь вволю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Любви, надежды, тихой слав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ccff"/>
                </a:solidFill>
                <a:latin typeface="Tahoma"/>
              </a:rPr>
              <a:t>Ветер по морю гуляет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Полумилорд, полукупец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Цветочная проснулась в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тырёхстопный ямб мне надо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 пишет всякий. Мальчикам в забаву пора б его оставить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ь рифмы запросто со мной жив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е придут сами, третью привед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95400" y="836640"/>
            <a:ext cx="4573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547640" y="2205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асибо за работ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6" descr="e5413e915f3dddb80ec369a286f956e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933720"/>
            <a:ext cx="106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Метри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–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учение о стихотворных размер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ническая система стихос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ллабическая система стихос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ллабо-тоническая система стихос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оническая сис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лькл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равное количество ударен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уют риф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ллабическая сис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жно только количество слог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фма тоже е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э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тиоха Кантемира сотоварищ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5076720" y="1905120"/>
            <a:ext cx="361008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ллабо-тоническая сис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ум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русского стихос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.В. Ломон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К. Тредиаковски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и по сей д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74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Двусложны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размер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Хорей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греч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reio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буквально - плясовой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хотворный метр с сильными мес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ечётных - 1, 3, 5 - слога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и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я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мгл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ю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кр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Ямб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bo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стихотворный метр с сильными слогами на чётных  - 2,4,6 …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гах стиха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Сл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в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б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ы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в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ю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т р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зн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ы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В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двусложном размере бываю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иррихий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yrricheo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облегчённая стопа из двух безударных сл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тв</a:t>
            </a: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о - 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те м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 тем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пондей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pondeios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тяжелённая стопа из двух ударных сл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чь. 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У - 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л</a:t>
            </a: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ц</a:t>
            </a: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. Фо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рь. Апт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рёхсложные размеры стих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Дактил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(греч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ktylo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буквально -палец) – стихотворный метр с ударением на первом слоге 3-сложной сто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Т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чк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ы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, в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ч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ы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 стр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н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к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8:34:50Z</dcterms:created>
  <dc:creator>Лапшин</dc:creator>
  <dc:description/>
  <dc:language>en-US</dc:language>
  <cp:lastModifiedBy>Лапшин Владимир Иванович</cp:lastModifiedBy>
  <dcterms:modified xsi:type="dcterms:W3CDTF">2014-02-01T10:11:40Z</dcterms:modified>
  <cp:revision>17</cp:revision>
  <dc:subject/>
  <dc:title>Метрика  стиха</dc:title>
</cp:coreProperties>
</file>