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B0C-FA5F-455A-929C-D3624719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73A-5501-4E06-883C-7BE539D3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F70-8D6B-4452-B816-9024BB1D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D9C-4F3D-43AC-901C-C185309A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4AC5C-55CC-4187-B1AE-402B3323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FA2F3-69F0-4490-A87D-11A9309E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C3774-AA8A-4F5A-937C-ACECB4D4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8B29B-4BA4-40F5-BEF5-C5B08929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52686-1879-4678-9AB5-DB1DE25A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ABC14-4A63-4BBC-92F1-E2D59A1E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A0B6D-752A-4D32-9EBC-D6E63B46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849-1A81-4FB5-9212-9034D4EC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65111-5DA3-4D0B-9A40-0064B82C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BB255-6D88-4F4D-8F35-2F872B5C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E8089-D4B7-405E-9943-4852923B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C3E36-C750-487C-B9FB-545B8B1F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E47D8-E7F3-4566-95E2-209A85D9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AD6-8D3F-48CB-944C-D5522AA8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78E-A29B-46D2-87A3-A1C3F500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BED-8341-48E0-9A21-E153E7FB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2B4-C981-4884-BD19-70EBF3C1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C01-0FC1-47B7-A292-F9970D8D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804-162F-45E7-AF68-8688127C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063-4F7E-4201-BB35-7782084C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97AE-0FA3-4E14-B22E-21E17565B0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3E25-102F-44AE-9244-16D6823D5D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miles.33b.ru/smile.104337.html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ahoma"/>
              </a:rPr>
              <a:t>Метрика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ru-RU" sz="8800" spc="-1" strike="noStrike">
                <a:solidFill>
                  <a:srgbClr val="ffff00"/>
                </a:solidFill>
                <a:latin typeface="Tahoma"/>
              </a:rPr>
              <a:t>стиха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Практикум по определен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стихотвор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разме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5219640" y="708120"/>
            <a:ext cx="31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56000" y="6350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ahoma"/>
              </a:rPr>
              <a:t>Светлана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3399"/>
                </a:solidFill>
                <a:latin typeface="Tahoma"/>
              </a:rPr>
              <a:t>Тимофеевна Лапш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" descr="book"/>
          <p:cNvPicPr/>
          <p:nvPr/>
        </p:nvPicPr>
        <p:blipFill>
          <a:blip r:embed="rId1"/>
          <a:stretch/>
        </p:blipFill>
        <p:spPr>
          <a:xfrm>
            <a:off x="324000" y="5157720"/>
            <a:ext cx="12952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мфибрахи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(греч. 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hibrachy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буквально – с обеих сторон кратки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трёхсложной стопе ударение на втором слог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Н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 в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т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р б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у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ш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т н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а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д б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р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напест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греч. 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paisto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буквально – отражённый назад 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трёхсложной стопе ударение на третьем слоге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я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 т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б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 н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ч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г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 н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 ск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а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ж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Четырёхсложные разме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зависимости от места ударения они делятся 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Первый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еон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м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лень-ка-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Второ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ео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фо-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ри-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Трети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ео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Ли-за-в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Четвёрты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ео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пе-ре-вер-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пятисложник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нтон №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по месту ударен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нтон №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нтон №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К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а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к сх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д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л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с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я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, с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б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р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л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с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нтон №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нтон №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Дольник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(паузник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ходный размер от силлабо-тонического к тоническ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популярный с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а)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отором при равном количестве ударений безударные интервалы могут быть как в один, так и в два сло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В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чером с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ним, в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чером л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нны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- 2 – 1 – 2 -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Тактовик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(акцентник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ичество ударений в строке одинаков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фма несёт дополнительную организацию сти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Спок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йно тр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бку докур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л до конц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1 – 1- 3 – 2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примеры – у В. Маяковског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99"/>
                </a:solidFill>
                <a:latin typeface="Tahoma"/>
              </a:rPr>
              <a:t>Памятк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ставьте уда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дчеркните ударные гласные черт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Безударные гласные – подк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Рассмотрите, что повторя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Разделите вертикальной чертой повторяющиеся промежу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Определите разм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считайте сто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60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Как ныне сбирается вещий Олег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ffff"/>
                </a:solidFill>
                <a:latin typeface="Tahoma"/>
              </a:rPr>
              <a:t>Золото, золото падает с неб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Поживёшь и попразднуешь вволю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Любви, надежды, тихой славы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ccff"/>
                </a:solidFill>
                <a:latin typeface="Tahoma"/>
              </a:rPr>
              <a:t>Ветер по морю гуляет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Полумилорд, полукупец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Цветочная проснулась в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88000" y="1905120"/>
            <a:ext cx="389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тырёхстопный ямб мне надо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 пишет всякий. Мальчикам в забаву пора б его оставить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дь рифмы запросто со мной живу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е придут сами, третью привед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tretch/>
        </p:blipFill>
        <p:spPr>
          <a:xfrm>
            <a:off x="95400" y="836640"/>
            <a:ext cx="4573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547640" y="22050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пасибо за работ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26" descr="e5413e915f3dddb80ec369a286f956e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933720"/>
            <a:ext cx="10670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Метрик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– 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учение о стихотворных размер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ническая система стихос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ллабическая система стихос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ллабо-тоническая система стихос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оническая сист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лькл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жн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лько равное количество ударен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утствуют риф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ллабическая сист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жно только количество слог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фма тоже е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оэ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тиоха Кантемира сотоварищ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5076720" y="1905120"/>
            <a:ext cx="361008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ллабо-тоническая сист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дума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русского стихос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.В. Ломон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вы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К. Тредиаковски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ществует и по сей д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374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Двусложны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размер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Хорей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греч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reio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буквально - плясовой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хотворный метр с сильными мест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нечётных - 1, 3, 5 - слога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и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Б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р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я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 мгл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ю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 н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б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 кр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Ямб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mbo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стихотворный метр с сильными слогами на чётных  - 2,4,6 …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гах стиха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Сл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в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 б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ы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в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ю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т р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зн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ы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В 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двусложном размере бываю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иррихий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yrricheo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облегчённая стопа из двух безударных слог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тв</a:t>
            </a:r>
            <a:r>
              <a:rPr b="1" i="1" lang="ru-RU" sz="3200" spc="-1" strike="noStrike">
                <a:solidFill>
                  <a:srgbClr val="ccffff"/>
                </a:solidFill>
                <a:latin typeface="Tahoma"/>
              </a:rPr>
              <a:t>о - 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р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те м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 тем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ц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пондей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spondeios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тяжелённая стопа из двух ударных слог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чь. 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У - 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л</a:t>
            </a:r>
            <a:r>
              <a:rPr b="1" i="1" lang="ru-RU" sz="32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ц</a:t>
            </a:r>
            <a:r>
              <a:rPr b="1" i="1" lang="ru-RU" sz="3200" spc="-1" strike="noStrike">
                <a:solidFill>
                  <a:srgbClr val="ccffff"/>
                </a:solidFill>
                <a:latin typeface="Tahoma"/>
              </a:rPr>
              <a:t>а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. Фо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рь. Апт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рёхсложные размеры стих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Дактил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(греч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ktylo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буквально -палец) – стихотворный метр с ударением на первом слоге 3-сложной сто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Т</a:t>
            </a:r>
            <a:r>
              <a:rPr b="0" lang="ru-RU" sz="44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чк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 н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б</a:t>
            </a:r>
            <a:r>
              <a:rPr b="0" lang="ru-RU" sz="44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сн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ые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, в</a:t>
            </a:r>
            <a:r>
              <a:rPr b="0" lang="ru-RU" sz="44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чн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ые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 стр</a:t>
            </a:r>
            <a:r>
              <a:rPr b="0" lang="ru-RU" sz="44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нн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к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08:34:50Z</dcterms:created>
  <dc:creator>Лапшин</dc:creator>
  <dc:description/>
  <dc:language>en-US</dc:language>
  <cp:lastModifiedBy>Лапшин Владимир Иванович</cp:lastModifiedBy>
  <dcterms:modified xsi:type="dcterms:W3CDTF">2014-02-01T10:11:40Z</dcterms:modified>
  <cp:revision>17</cp:revision>
  <dc:subject/>
  <dc:title>Метрика  стиха</dc:title>
</cp:coreProperties>
</file>