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A948-3A50-4521-BB0A-7B6F2B7D3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4B8D-A1FC-46A0-BC80-7801C085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046A-1E5C-42DA-9CA6-8BD754835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8CC4-FCC0-4F43-AE18-85A1E8EF6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4446-8B9F-480C-BCC3-7B344ED4C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7033-5310-48B2-8C81-3E8579EB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82FB-D37A-4CCE-9EA2-1653C92C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27344-04AA-4ED5-919D-41A5C976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6A41-4539-4049-8C41-F26EF31E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B25AD-1145-45FE-826C-3E268BDC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33F4-AD08-4FAC-8289-481CB079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69E5-0ECF-4402-B400-9F0BA35A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062E-ED39-4EE2-A4F8-0CC5E23A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9CA8-E597-4A0F-9103-761F9825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C5A2-332E-408D-A1D9-EF33DD92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9754-D2BC-45E4-BC09-34DE0A381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1EAE-9AAB-4755-97B6-29A574867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7F2C-0835-4CD3-86C1-DFF06AF5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EF2F-B207-4D81-BA5D-8FDAF8BB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A65A-26CC-494A-9A42-7DF2A8A3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C502-87E3-45C2-9663-FC4A3367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9176-83AA-44ED-8A89-76E34D36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1899-59B6-4A7F-9FB7-6CA40DE7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5CA3-E04B-4361-9CFA-E51A3694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EA4BC-6194-40AB-8189-2C4F15E04121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4230-1EB8-42C1-A03E-A4995CDA14D3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Литература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XXVII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ве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042920" y="3933360"/>
            <a:ext cx="5640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Курс лекций Гильмулиной Е.А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 advTm="5000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-4140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476280"/>
            <a:ext cx="738648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рагедии «Гораций», «Цинна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рнель – первый основатель французской комедии характеро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медия характеров «Лжец» Корнел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«Лжец» послужил творческим импульсом, который дал таланту Мольера верное направление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Жан Расин (1639-1699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77407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остановка  трагедии «Андромаха» (1677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орнелю было тогда 61 г., Расину -28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овременник Корнеля и Расина Лабрюйер писал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«Корнель нас подчиняет своим характерам, своим идеям. Расин роднит их с нашими. Тот рисует людей такими, какие они должны быть, этот – такими, какие они есть… Один возвышает, дивит, господствует, учит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;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другой нравится, волнует, трогает… Корнель поучителен, Расин человечен, один подражал Софоклу, второй более обязан Еврипиду»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"/>
                            </p:stCondLst>
                            <p:childTnLst>
                              <p:par>
                                <p:cTn id="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-4140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476280"/>
            <a:ext cx="78120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рагедия Расина «Федра» раскрывает картину нравственного разлада личност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литические трагедии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«Британник», «Баязет», «Аталия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емы политических трагедий – пороки деспотизма, злоупотребление властью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асин противопоставил личность государству и встал на сторону личност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Мольер (1622-1673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7650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здатель национальной французской комед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пецифика комического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нятие «высокой комедии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Эстетические взгляды Мольер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медия «Смешные жеманницы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«Тартюф» (1665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, «Дон Жуан» (1665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«Мещанин во дворянстве» (1670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Классицистическая проза. Лафонтен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50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асн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казки и  стихотворные новеллы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ух жизнерадостной простоты  человеческих отношений и чувственност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Основные течения в литературе   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                   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XVII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в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нцепция мира и человека в искусстве классицизма и барокко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лассицизм – значение термина, эстетика классицизма, основной конфлик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скусство барокко, жанр, стиль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Литература  Франци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598400"/>
            <a:ext cx="76500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Франция в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XVII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столетии самая могущественная страна в Западной Европ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з трех стилевых направлений, которые господствовали в западноевропейской литературе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XVII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в., во Франции восторжествовал классицизм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лассицизм достиг своего высшего совершенств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6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-4140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-360" y="475920"/>
            <a:ext cx="766764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Французские классицисты сумели сочетать опыт античной литературы с национальными традициями своего народ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Традиции ренессансного реализма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XVI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в. были продолжены в художественной прозе, главным образом в романе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Философская основа художественного метода классицизма нашла подтверждение в философии Декарта и Пьера Гассенд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Декарт – основатель рационализма. Разум становился единственным источником истины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Основные принципы классицизм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7650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Рационализм – главенствующее качество классицистического искусств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Требование соблюдения  художественных законов античност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Заимствование у Аристотеля принципа правдивого изображения действительност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Глубочайшие реалистические прозрения  классицистов в области психологии человек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еликие мастера-классицисты достигли вершин искусства многогранно изображая господствующую черту характера человек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-20808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260280"/>
            <a:ext cx="778176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раеугольный камень теории классицизма – учение о вечности, абсолютности идеала прекрасного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трогие правила необходимые художнику-классицисту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- строго регламентированная иерархия литературных жанров (эпопеи, трагедии, комедии и др.)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- установление точных границ каждого жанра, его особенностей, приличествующий каждому жанру язык и геро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-576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549000"/>
            <a:ext cx="7386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ля трагедии – возвышенный, патетический язык, возвышенные чувства, героические личност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ля комедии – сниженно бытовые персонажи, просторечие и т.д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чение о разуме как важнейшем критерии художественной правды и прекрасного в искусств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чение о воспитательной роли искусств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Корнель (1606-1684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7650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ьер Корнель родился в Руане 6 июля 1606 г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рнель «Создал школу величия души», - писал Вольтер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здатель трагедии «Сид», открывшей собой славную историю французского национального театр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еобыкновенная слава пьесы. Крылатое выражение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«Прекрасно как Сид»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Трагедия «Сид»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качестве источника Корнель использовал пьесу испанского драматурга Гильена де Кастро о юности и подвигах Сид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1T15:48:09Z</dcterms:created>
  <dc:creator>Грим</dc:creator>
  <dc:description/>
  <dc:language>en-US</dc:language>
  <cp:lastModifiedBy>Oleg</cp:lastModifiedBy>
  <dcterms:modified xsi:type="dcterms:W3CDTF">2007-01-25T00:54:33Z</dcterms:modified>
  <cp:revision>41</cp:revision>
  <dc:subject/>
  <dc:title>Презентация по зарубежной литературе на тему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