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C54-CCDB-4288-A34D-542E7DD2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5E3-B0DF-4DB0-81C0-DA54E63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779-177A-468C-963E-891FBEF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7E0-BC50-4463-A93E-955FC8CC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16B8-B863-4E30-8F34-42E76744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398-3293-403C-96D7-83723EC4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259-525D-4412-B231-6AEF5505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AB73-B988-45B2-9A77-BE1841AE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291-64A2-4862-87B6-FFBB7BF9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1AAD-07E3-4B70-BC10-8B9B9208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7CBD-7528-460A-AE79-67DB806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865-2D7C-463E-A1CE-2CC78F91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0145-B79B-4B88-B8F3-9DBDB79A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032E-F424-4C67-B9E4-01E3CCC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483-34F3-45F5-BF2A-70D358D2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054-2E06-43A9-93BC-8D4968C0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6201-4982-47B1-A764-095B622E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25C-3C1F-4AD7-A242-45F5771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E04-86B3-4801-93C2-57F6C3FA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BED-5F0D-4FC1-A99F-6853F3E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498-C38E-4DD2-AA62-26F3E0E4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E2B-B393-44C3-83C5-7FE17FB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3FC-9E60-4374-B34E-B9A622B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055-8D56-43C5-BCA6-14A87FE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7206-CCF5-47B4-A47A-87746FEF181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7DFF-D3BC-442F-A913-1150319EFC6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XXVII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ве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42920" y="3933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Курс лекций Гильмулиной Е.А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и «Гораций», «Цинн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– первый основатель французской комедии характер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характеров «Лжец» Корн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Лжец» послужил творческим импульсом, который дал таланту Мольера верное направлени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Жан Расин (1639-1699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7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ановка  трагедии «Андромаха» (1677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рнелю было тогда 61 г., Расину -28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временник Корнеля и Расина Лабрюйер писа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Корнель нас подчиняет своим характерам, своим идеям. Расин роднит их с нашими. Тот рисует людей такими, какие они должны быть, этот – такими, какие они есть… Один возвышает, дивит, господствует, учи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ругой нравится, волнует, трогает… Корнель поучителен, Расин человечен, один подражал Софоклу, второй более обязан Еврипиду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7812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я Расина «Федра» раскрывает картину нравственного разлада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литические трагед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Британник», «Баязет», «Атали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ы политических трагедий – пороки деспотизма, злоупотребление власть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ин противопоставил личность государству и встал на сторону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льер (1622-1673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5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национальной французской коме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пецифика комическ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нятие «высокой комеди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тетические взгляды Молье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«Смешные жеманниц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Тартюф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«Дон Жуан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Мещанин во дворянстве» (1670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лассицистическая проза. Лафонте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ас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азки и  стихотворные новелл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ух жизнерадостной простоты  человеческих отношений и чувствен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течения в литературе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V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цепция мира и человека в искусстве классицизма и барокк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– значение термина, эстетика классицизма, основной конфли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кусство барокко, жанр, стил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тература  Фран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ранция в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толетии самая могущественная страна в Западной Европ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трех стилевых направлений, которые господствовали в западноевропейской литературе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., во Франции восторжествовал классициз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достиг своего высшего совершен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766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ранцузские классицисты сумели сочетать опыт античной литературы с национальными традициями своего нар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адиции ренессансного реализм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в. были продолжены в художественной прозе, главным образом в роман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илософская основа художественного метода классицизма нашла подтверждение в философии Декарта и Пьера Гассенд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карт – основатель рационализма. Разум становился единственным источником ист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принципы классицизм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65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ционализм – главенствующее качество классицистического искус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ебование соблюдения  художественных законов антич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имствование у Аристотеля принципа правдивого изображения действи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лубочайшие реалистические прозрения  классицистов в области психологи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ликие мастера-классицисты достигли вершин искусства многогранно изображая господствующую черту характера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8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аеугольный камень теории классицизма – учение о вечности, абсолютности идеала прекрасн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рогие правила необходимые художнику-классицист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строго регламентированная иерархия литературных жанров (эпопеи, трагедии, комедии и др.)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становление точных границ каждого жанра, его особенностей, приличествующий каждому жанру язык и геро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трагедии – возвышенный, патетический язык, возвышенные чувства, героические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комедии – сниженно бытовые персонажи, просторечие и т.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разуме как важнейшем критерии художественной правды и прекрасного в искус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воспитательной роли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рнель (1606-1684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5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ьер Корнель родился в Руане 6 июля 1606 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«Создал школу величия души», - писал Вольтер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трагедии «Сид», открывшей собой славную историю французского национального теат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ыкновенная слава пьесы. Крылатое выражен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Прекрасно как Сид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агедия «Сид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честве источника Корнель использовал пьесу испанского драматурга Гильена де Кастро о юности и подвигах Си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48:09Z</dcterms:created>
  <dc:creator>Грим</dc:creator>
  <dc:description/>
  <dc:language>en-US</dc:language>
  <cp:lastModifiedBy>Oleg</cp:lastModifiedBy>
  <dcterms:modified xsi:type="dcterms:W3CDTF">2007-01-25T00:54:33Z</dcterms:modified>
  <cp:revision>41</cp:revision>
  <dc:subject/>
  <dc:title>Презентация по зарубежной литературе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