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20598-C383-4549-A111-2FE206544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838D4-7C7C-4E95-BD05-DD7FE9BF7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74342-4D4C-4D8F-A7B1-9D5F5A677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1D606-74EE-4675-8FA4-C43200D02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D9FA5-9C32-4417-9BF9-62FEE9A93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CF5B9-08B7-4C42-B116-4733323E6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0F906-92CE-46A5-9750-1E78306F6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9AD17-7FEC-43AD-AC47-D9A89A159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4FE1D-26DF-455D-A82E-98A3C9005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C11D5-CED3-40FC-A5C2-C9D420E76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B3C2A-4EEC-40DC-9A25-518CB6EA0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49C96-8056-4AFB-88A7-80B4A1685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25270-BE6B-4A8A-BFCF-4E0EF2782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2803E-E554-42B8-8679-759E12C83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87F1E-DC0D-4700-9183-D47A2B36A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F4C21-48D7-41F0-B19D-F31149443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6D490-660F-44A0-87FD-2B70E84A2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F6F01-F031-49CD-9B25-C05AC03FA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6044F-FFD9-43F8-BA2D-1149A678C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BB380-36A5-4F81-A62E-D91723BBD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914FA-BCD6-4D17-91AF-DCD14BA71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018CF-BA5D-4AC1-B078-DD35103EC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381CB-6E75-48A9-8BA4-5AEF571FB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332FF-C9AF-45DB-B113-CFD37D72A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BB1C7-23F5-4337-817A-4F0B8630827E}" type="slidenum">
              <a:rPr b="0" lang="ru-RU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CFD35-4C0B-49CA-93F1-D7BCED1FAA0F}" type="slidenum">
              <a:rPr b="0" lang="ru-RU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f1311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f131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Литература </a:t>
            </a: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XXVII </a:t>
            </a: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 века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042920" y="3933360"/>
            <a:ext cx="56404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f1311"/>
                </a:solidFill>
                <a:latin typeface="Arial"/>
              </a:rPr>
              <a:t>Курс лекций Гильмулиной Е.А.</a:t>
            </a: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med" advTm="5000"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18880" y="-41400"/>
            <a:ext cx="74768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63520" y="476280"/>
            <a:ext cx="7386480" cy="56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Трагедии «Гораций», «Цинна»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Корнель – первый основатель французской комедии характеров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Комедия характеров «Лжец» Корнеля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«Лжец» послужил творческим импульсом, который дал таланту Мольера верное направление.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Жан Расин (1639-1699)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0" y="1125360"/>
            <a:ext cx="774072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Постановка  трагедии «Андромаха» (1677)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Корнелю было тогда 61 г., Расину -28.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Современник Корнеля и Расина Лабрюйер писал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:</a:t>
            </a: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 «Корнель нас подчиняет своим характерам, своим идеям. Расин роднит их с нашими. Тот рисует людей такими, какие они должны быть, этот – такими, какие они есть… Один возвышает, дивит, господствует, учит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;</a:t>
            </a: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 другой нравится, волнует, трогает… Корнель поучителен, Расин человечен, один подражал Софоклу, второй более обязан Еврипиду»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0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600"/>
                            </p:stCondLst>
                            <p:childTnLst>
                              <p:par>
                                <p:cTn id="6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4" dur="5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9" dur="500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3" dur="500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18880" y="-41400"/>
            <a:ext cx="74768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0" y="476280"/>
            <a:ext cx="7812000" cy="61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Трагедия Расина «Федра» раскрывает картину нравственного разлада личности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Политические трагедии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: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«Британник», «Баязет», «Аталия»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Темы политических трагедий – пороки деспотизма, злоупотребление властью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Расин противопоставил личность государству и встал на сторону личности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684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Мольер (1622-1673)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76500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Создатель национальной французской комедии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Специфика комического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Понятие «высокой комедии»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Эстетические взгляды Мольера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Комедия «Смешные жеманницы»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«Тартюф» (1665)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, «Дон Жуан» (1665)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«Мещанин во дворянстве» (1670)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Классицистическая проза. Лафонтен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50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Басни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Сказки и  стихотворные новеллы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Дух жизнерадостной простоты  человеческих отношений и чувственности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  </a:t>
            </a: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Основные течения в литературе   </a:t>
            </a:r>
            <a:br>
              <a:rPr sz="3600"/>
            </a:b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                       </a:t>
            </a: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XVII</a:t>
            </a: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 в.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Концепция мира и человека в искусстве классицизма и барокко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Классицизм – значение термина, эстетика классицизма, основной конфликт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Искусство барокко, жанр, стиль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Литература  Франции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0" y="1598400"/>
            <a:ext cx="7650000" cy="52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Франция в 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XVII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столетии самая могущественная страна в Западной Европе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Из трех стилевых направлений, которые господствовали в западноевропейской литературе 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XVII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в., во Франции восторжествовал классицизм.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Классицизм достиг своего высшего совершенства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600"/>
                            </p:stCondLst>
                            <p:childTnLst>
                              <p:par>
                                <p:cTn id="20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18880" y="-41400"/>
            <a:ext cx="74768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-360" y="475920"/>
            <a:ext cx="7667640" cy="63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Французские классицисты сумели сочетать опыт античной литературы с национальными традициями своего народа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Традиции ренессансного реализма 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XVI</a:t>
            </a: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 в. были продолжены в художественной прозе, главным образом в романе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Философская основа художественного метода классицизма нашла подтверждение в философии Декарта и Пьера Гассенди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Декарт – основатель рационализма. Разум становился единственным источником истины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Основные принципы классицизма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0" y="1196640"/>
            <a:ext cx="76500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Рационализм – главенствующее качество классицистического искусства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Требование соблюдения  художественных законов античности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Заимствование у Аристотеля принципа правдивого изображения действительности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Глубочайшие реалистические прозрения  классицистов в области психологии человека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Великие мастера-классицисты достигли вершин искусства многогранно изображая господствующую черту характера человека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18880" y="-208080"/>
            <a:ext cx="74768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0" y="260280"/>
            <a:ext cx="7781760" cy="63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Краеугольный камень теории классицизма – учение о вечности, абсолютности идеала прекрасного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Строгие правила необходимые художнику-классицисту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- строго регламентированная иерархия литературных жанров (эпопеи, трагедии, комедии и др.),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- установление точных границ каждого жанра, его особенностей, приличествующий каждому жанру язык и герои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18880" y="-5760"/>
            <a:ext cx="74768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63520" y="549000"/>
            <a:ext cx="7386480" cy="55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Для трагедии – возвышенный, патетический язык, возвышенные чувства, героические личности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Для комедии – сниженно бытовые персонажи, просторечие и т.д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Учение о разуме как важнейшем критерии художественной правды и прекрасного в искусстве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Учение о воспитательной роли искусства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Корнель (1606-1684)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0" y="1125360"/>
            <a:ext cx="76500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Пьер Корнель родился в Руане 6 июля 1606 г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Корнель «Создал школу величия души», - писал Вольтер.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Создатель трагедии «Сид», открывшей собой славную историю французского национального театра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Необыкновенная слава пьесы. Крылатое выражение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: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«Прекрасно как Сид».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           </a:t>
            </a: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Трагедия «Сид».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В качестве источника Корнель использовал пьесу испанского драматурга Гильена де Кастро о юности и подвигах Сида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31T15:48:09Z</dcterms:created>
  <dc:creator>Грим</dc:creator>
  <dc:description/>
  <dc:language>en-US</dc:language>
  <cp:lastModifiedBy>Oleg</cp:lastModifiedBy>
  <dcterms:modified xsi:type="dcterms:W3CDTF">2007-01-25T00:54:33Z</dcterms:modified>
  <cp:revision>41</cp:revision>
  <dc:subject/>
  <dc:title>Презентация по зарубежной литературе на тему: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3</vt:r8>
  </property>
</Properties>
</file>