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82B-4DB9-49EC-BDE4-1DE928CB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2A5-06E6-48D1-89BE-4B62F90E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CD9-214E-4D59-A6B1-FABC7660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EA1-AD4A-4FB5-A7A7-08EF06BC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E8E-FA78-4DC6-B0A9-95398E7E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150-9645-40B0-B3D3-58691D42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1CE-C611-4134-BE14-80B8174E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992-7E94-4D37-9CB2-E8E06E0D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2E3-BF3B-4C01-9BEA-0AC3DC9D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5D4-2AF8-4D86-A233-8113FF77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40D-3262-40E1-87BB-99D0C0E4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0E2-C2C5-4179-B323-A36393D7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BF2C-30EE-4FD0-8B4D-DBAF7CBD8B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Times New Roman"/>
              </a:rPr>
              <a:t>Окружающий мир</a:t>
            </a:r>
            <a:br>
              <a:rPr sz="7200"/>
            </a:b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4 класс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716112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Габдрафикова Елена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учитель начальных классов    МОУСОШ №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с. Александровское Том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ff"/>
                </a:solidFill>
                <a:latin typeface="Arial"/>
              </a:rPr>
              <a:t>2008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4914720"/>
            <a:ext cx="815796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Arial"/>
              </a:rPr>
              <a:t>И даст вам природа здоровье и радость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755640" y="189000"/>
            <a:ext cx="56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Любите природу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476360" y="1125360"/>
            <a:ext cx="56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Храните природу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340000" y="206064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d6fc7"/>
                </a:solidFill>
                <a:latin typeface="Arial"/>
              </a:rPr>
              <a:t>Не жгите траву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843280" y="299736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Не ломайте кусты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95280" y="378936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Arial"/>
              </a:rPr>
              <a:t>Не сыпьте на землю всякую гадос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9933"/>
                </a:solidFill>
                <a:latin typeface="Times New Roman"/>
              </a:rPr>
              <a:t>Викторина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Какое хвойное дерево осенью теряет игол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Какой лес шумит, а какой шелести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Из древесины какого дерева делают карандаш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Что за дерево такое: никто ее не пугает, а она вся дрожи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Какое дерево боятся насекомы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- нарисовать лесного жител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Рефлекс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Продолжите предложенную фраз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На уроке я узнал, что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Мне понравилось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не было приятн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ть с вам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395280" y="3789360"/>
            <a:ext cx="84247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ЛЬШОЕ  ВАМ  СПАСИБ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33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уровский В.Н. Элементы экологии на уроках в начальной школе. – ЗАТО Северск, 200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тросова Р.А. Природоведение.- Москва, 199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Ушакова О.Д. Загадки, считалки и скороговорки.- Санкт-Петербург, 200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cc66"/>
                </a:solidFill>
                <a:latin typeface="Times New Roman"/>
              </a:rPr>
              <a:t>Содержание: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Загадки о деревья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Животные ле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Виктор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лес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539640" y="549360"/>
            <a:ext cx="8136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icrosoft Sans Serif"/>
              </a:rPr>
              <a:t>ЛЕС  и   ЧЕЛОВЕК</a:t>
            </a:r>
            <a:endParaRPr b="1" lang="en-US" sz="1800" spc="1" strike="noStrike">
              <a:ln w="12600">
                <a:solidFill>
                  <a:srgbClr val="ccffff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icrosoft Sans Serif"/>
              <a:ea typeface="Microsoft Sans Serif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1280" y="1989000"/>
            <a:ext cx="853272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дравствуй лес, дремучий лес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Полный сказок и чудес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Медведь2"/>
          <p:cNvPicPr/>
          <p:nvPr/>
        </p:nvPicPr>
        <p:blipFill>
          <a:blip r:embed="rId2"/>
          <a:stretch/>
        </p:blipFill>
        <p:spPr>
          <a:xfrm>
            <a:off x="395280" y="4724280"/>
            <a:ext cx="2206800" cy="176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1"/>
          <p:cNvPicPr/>
          <p:nvPr/>
        </p:nvPicPr>
        <p:blipFill>
          <a:blip r:embed="rId3"/>
          <a:stretch/>
        </p:blipFill>
        <p:spPr>
          <a:xfrm>
            <a:off x="4643280" y="3500280"/>
            <a:ext cx="4211640" cy="315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ic008"/>
          <p:cNvPicPr/>
          <p:nvPr/>
        </p:nvPicPr>
        <p:blipFill>
          <a:blip r:embed="rId4"/>
          <a:stretch/>
        </p:blipFill>
        <p:spPr>
          <a:xfrm>
            <a:off x="7020000" y="189000"/>
            <a:ext cx="1385640" cy="2038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синица"/>
          <p:cNvPicPr/>
          <p:nvPr/>
        </p:nvPicPr>
        <p:blipFill>
          <a:blip r:embed="rId5"/>
          <a:stretch/>
        </p:blipFill>
        <p:spPr>
          <a:xfrm>
            <a:off x="3203640" y="5084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501480" y="1628640"/>
            <a:ext cx="864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6d6fc7"/>
                </a:solidFill>
                <a:latin typeface="Times New Roman"/>
              </a:rPr>
              <a:t>ЛЕС – это сложное природное сообщество, в котором уживаются вместе деревья, кустарники, травы, птицы, звер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4"/>
          <p:cNvSpPr/>
          <p:nvPr/>
        </p:nvSpPr>
        <p:spPr>
          <a:xfrm>
            <a:off x="2484360" y="765000"/>
            <a:ext cx="3888000" cy="1440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Л Е 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 flipH="1">
            <a:off x="1692000" y="2133720"/>
            <a:ext cx="1871640" cy="23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500720" y="220500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5435640" y="2133720"/>
            <a:ext cx="18730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324000" y="4508640"/>
            <a:ext cx="3024000" cy="1295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ff"/>
                </a:solidFill>
                <a:latin typeface="Arial"/>
              </a:rPr>
              <a:t>хвой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867280" y="4365720"/>
            <a:ext cx="3024360" cy="1295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ff"/>
                </a:solidFill>
                <a:latin typeface="Arial"/>
              </a:rPr>
              <a:t>смеш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2987640" y="3429000"/>
            <a:ext cx="3024360" cy="1295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ff"/>
                </a:solidFill>
                <a:latin typeface="Arial"/>
              </a:rPr>
              <a:t>листве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71640" y="476280"/>
            <a:ext cx="777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Что же это за девиц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Не швея, не мастериц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Ничего сама не шьет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А в иголках круглый го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Ель1"/>
          <p:cNvPicPr/>
          <p:nvPr/>
        </p:nvPicPr>
        <p:blipFill>
          <a:blip r:embed="rId2"/>
          <a:stretch/>
        </p:blipFill>
        <p:spPr>
          <a:xfrm>
            <a:off x="611280" y="422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Сосна1"/>
          <p:cNvPicPr/>
          <p:nvPr/>
        </p:nvPicPr>
        <p:blipFill>
          <a:blip r:embed="rId3"/>
          <a:stretch/>
        </p:blipFill>
        <p:spPr>
          <a:xfrm>
            <a:off x="3132000" y="4149720"/>
            <a:ext cx="292608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ель2"/>
          <p:cNvPicPr/>
          <p:nvPr/>
        </p:nvPicPr>
        <p:blipFill>
          <a:blip r:embed="rId4"/>
          <a:stretch/>
        </p:blipFill>
        <p:spPr>
          <a:xfrm>
            <a:off x="6300720" y="4149720"/>
            <a:ext cx="25210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324000" y="40464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Лиственница –       необычное дерево. Она каждую осень полностью сбрасывает хвою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Лиственница"/>
          <p:cNvPicPr/>
          <p:nvPr/>
        </p:nvPicPr>
        <p:blipFill>
          <a:blip r:embed="rId2"/>
          <a:stretch/>
        </p:blipFill>
        <p:spPr>
          <a:xfrm>
            <a:off x="684360" y="3716280"/>
            <a:ext cx="1670040" cy="2624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Лиственница2"/>
          <p:cNvPicPr/>
          <p:nvPr/>
        </p:nvPicPr>
        <p:blipFill>
          <a:blip r:embed="rId3"/>
          <a:stretch/>
        </p:blipFill>
        <p:spPr>
          <a:xfrm>
            <a:off x="3564000" y="3573360"/>
            <a:ext cx="1876320" cy="255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Лиственница3"/>
          <p:cNvPicPr/>
          <p:nvPr/>
        </p:nvPicPr>
        <p:blipFill>
          <a:blip r:embed="rId4"/>
          <a:stretch/>
        </p:blipFill>
        <p:spPr>
          <a:xfrm>
            <a:off x="6516720" y="3789360"/>
            <a:ext cx="14050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береза1"/>
          <p:cNvPicPr/>
          <p:nvPr/>
        </p:nvPicPr>
        <p:blipFill>
          <a:blip r:embed="rId2"/>
          <a:stretch/>
        </p:blipFill>
        <p:spPr>
          <a:xfrm>
            <a:off x="5940360" y="404640"/>
            <a:ext cx="1763640" cy="251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Дуб2"/>
          <p:cNvPicPr/>
          <p:nvPr/>
        </p:nvPicPr>
        <p:blipFill>
          <a:blip r:embed="rId3"/>
          <a:stretch/>
        </p:blipFill>
        <p:spPr>
          <a:xfrm>
            <a:off x="7020000" y="3284640"/>
            <a:ext cx="1668240" cy="2735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468360" y="3470400"/>
            <a:ext cx="676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И высок я, и могу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е боюсь ни гроз, ни туч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Я кормлю свиней и белок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ичего. Что плод мой мело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68360" y="549360"/>
            <a:ext cx="5400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лейкие поч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Зеленые листоч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С белой кор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Стоит под гор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Белка2"/>
          <p:cNvPicPr/>
          <p:nvPr/>
        </p:nvPicPr>
        <p:blipFill>
          <a:blip r:embed="rId2"/>
          <a:stretch/>
        </p:blipFill>
        <p:spPr>
          <a:xfrm>
            <a:off x="395280" y="2349360"/>
            <a:ext cx="2519280" cy="1839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Заяц2"/>
          <p:cNvPicPr/>
          <p:nvPr/>
        </p:nvPicPr>
        <p:blipFill>
          <a:blip r:embed="rId3"/>
          <a:stretch/>
        </p:blipFill>
        <p:spPr>
          <a:xfrm>
            <a:off x="1692360" y="4508640"/>
            <a:ext cx="1833480" cy="1930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Кабан"/>
          <p:cNvPicPr/>
          <p:nvPr/>
        </p:nvPicPr>
        <p:blipFill>
          <a:blip r:embed="rId4"/>
          <a:stretch/>
        </p:blipFill>
        <p:spPr>
          <a:xfrm>
            <a:off x="3851280" y="2349360"/>
            <a:ext cx="19591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Лиса1"/>
          <p:cNvPicPr/>
          <p:nvPr/>
        </p:nvPicPr>
        <p:blipFill>
          <a:blip r:embed="rId5"/>
          <a:stretch/>
        </p:blipFill>
        <p:spPr>
          <a:xfrm>
            <a:off x="6732720" y="1557360"/>
            <a:ext cx="1788840" cy="2644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imes New Roman"/>
              </a:rPr>
              <a:t>Если знаешь лес, зверей,</a:t>
            </a:r>
            <a:br>
              <a:rPr sz="4800"/>
            </a:br>
            <a:r>
              <a:rPr b="1" lang="ru-RU" sz="4800" spc="-1" strike="noStrike">
                <a:solidFill>
                  <a:srgbClr val="ff00ff"/>
                </a:solidFill>
                <a:latin typeface="Times New Roman"/>
              </a:rPr>
              <a:t>назови их поскорей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" name="Picture 9" descr="Медведь1"/>
          <p:cNvPicPr/>
          <p:nvPr/>
        </p:nvPicPr>
        <p:blipFill>
          <a:blip r:embed="rId6"/>
          <a:stretch/>
        </p:blipFill>
        <p:spPr>
          <a:xfrm>
            <a:off x="6300720" y="4437000"/>
            <a:ext cx="22194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8:43:18Z</dcterms:created>
  <dc:creator>Габдрафикова Е.И.</dc:creator>
  <dc:description/>
  <dc:language>en-US</dc:language>
  <cp:lastModifiedBy>Коля</cp:lastModifiedBy>
  <dcterms:modified xsi:type="dcterms:W3CDTF">2013-05-20T10:14:33Z</dcterms:modified>
  <cp:revision>11</cp:revision>
  <dc:subject/>
  <dc:title>Слайд 1</dc:title>
</cp:coreProperties>
</file>