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9C41-0483-42CD-8848-6F40588E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412D-DAAC-492D-8F39-FCC4E968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D023-D6C8-425F-BD00-53C46A74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4F87-6017-4695-8908-A778C049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4805-23BF-4EAB-9129-1DC5D637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7480-5D24-4824-A7D7-DD37214D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3F58-433E-4540-99C6-12DD915B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D9FE-CE50-4A8F-ADE4-B6533F63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F181-A386-4BDF-A734-C65523C2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0651-3DA5-4F8A-A729-A509E019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56F2-2F16-403F-AE4D-008B35C1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7910-7618-44A0-BE02-A64C3894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7171-4C16-443B-962A-2F255117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E1F2-1224-4FF4-BC27-CEC6390B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E35D-DF4B-4348-AC53-0A8E10A6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3F76-D8B0-47C4-9929-ACDE7E65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6776-6485-4404-8346-48CD0526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05DFC4-C95B-444C-AD6B-08A8E61C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BA73F5-1C37-4433-948B-72018F4A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F0697-67FB-415C-974D-B04B049A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0AA99-FB55-423E-8991-30B25C71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CCCA6-84A0-4DF0-BB67-BE35FF5A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8DB1-540F-4670-88BA-AD637F90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A2ACF8-A154-47D4-9EB9-75C100DB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F0D335-256F-44FB-8953-0E4276F0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0BB302-FB73-4D62-A176-C1032D1E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138A1-AE40-435C-9560-06E1B8C0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30717-0C2E-47EA-8B22-F009E799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B6D49-3EA0-44FC-A7AD-1298DFCA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9BE1C2-4D99-4BF1-89F4-30F92E27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65DD0-AFE0-4F12-BFE5-53A40A8E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18E87-DE6D-4F86-8C7A-8B25680F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06726-33BD-4C36-9873-E72B593F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1456-3612-46EC-9FB5-9B3EA3ED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C77DE-9586-4F8C-ABAC-2616CB4E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56C3B-ADB3-43FF-875E-4DB9A69B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C50D6-06F2-4B6F-A116-4D654474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833C5-05D6-4B3B-B085-D979BA86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F576F-A10C-4B22-98A5-1131F25B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21682-F06C-4FB6-896A-36D960AD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56360-6B91-4F16-B3F1-47E0AD7E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0DBF3-BACB-4630-B93D-81276E1F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07D77-D687-419B-9CD2-284978D3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24BC4D-E229-40FE-A791-79A9E614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B6C2-2957-43B1-9F92-70F66695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E1A6BC-6D44-461C-AE7E-E1391D9C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849333-3D58-485E-AE85-F9AD0F43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9212CC-B672-495B-8C30-BF7DA388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8ACFDD-7D67-48BC-83BC-9BC9383F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E98F01-4B0C-4BEF-9C11-6AAA3D95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3749B8-6567-4D2F-BD33-3DB58CEC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12BC2F-747F-4AD8-AEE7-728977F7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264CA7-4785-4FFE-AF67-DB1F5D5B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F592CF-BC2D-4A9E-83D8-4F3739FC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6FEA75-F1EC-42D7-9594-B0BCB6BF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CBDA-40C9-466C-AC02-5814B79B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37C583-329B-4CCB-B6B1-11003853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1DE3D9-41E3-4201-8A9C-73073692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272059-A6CB-4386-A719-C4B6B788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FDC380-6FC6-4C3C-AC82-375548BF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F59608-6DE9-44D0-877A-5B4EFCB0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AB0F0D-0585-4857-B97A-BE714F38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5C46F2-7E91-434F-9090-A5AF2E27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88420C-FD14-4C46-80B3-3450F003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B75A7F-96D8-4EA4-9AF5-65075C3B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1A2249-EB17-4511-BDF4-0C4DDAC0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5A9A-218F-4783-8470-8E5B10C7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25339B-572D-4FAD-9B3A-7AB2360E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BAF39C-9A06-4AE4-984B-7F8D2A1D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2F0564-E8F9-46EA-A80F-4FAC5394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E31405-830E-4CB2-967B-A5A3BF8D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B7B9CC-7E69-40B4-B6E9-8DD88037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81F13E-40D2-48BB-990D-A30DD6D7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E316F0-91CE-4E4C-9285-53DA12D1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68CD35-BE86-4AA6-8800-8275B4DA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213803-C2EF-40AB-86E6-815116E3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4BD40E-AE45-4D86-A962-3A0B7864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A819-076D-4674-95BC-69C13CF6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44D7E7-B292-4E9E-B40D-11BBB1DC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C404DF-2B72-44FE-A08B-1F54346C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868C43-B11A-4FA9-85C8-7A9DC2BE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5B77CB-A662-447C-86E9-39A8212B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5F8F98-BAEB-491A-A283-2E6DDBB0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91A1-53F3-4291-AC11-C898511F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D679-EDE7-4853-9750-7A74838C6B6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BB3D-ECD7-4441-9DFC-68E7D67ACB7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F3ED-FF70-4B2C-96C5-C42BCA47386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D2A5-0FB0-464E-9BCD-570EA70C116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9743-037C-42A1-8108-4CB0F513933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459D-4AC4-44D6-80E7-E18590C0583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69A8-144D-4D4A-A5B6-9F200713500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naviny.by/media/2008.02_w5/shkola.jpg&amp;imgrefurl=http://naviny.by/rubrics/society/2008/02/28/ic_articles_116_155780&amp;usg=__yMC7tjC3MEr5GUzInCRCJNspKaw=&amp;h=300&amp;w=300&amp;sz=108&amp;hl=ru&amp;start=22&amp;tbnid=HLqrvgdPBx22VM:&amp;tbnh=116&amp;tbnw=116&amp;prev=/images?q=&#1096;&#1082;&#1086;&#1083;&#1100;&#1085;&#1080;&#1082;&#1080;&amp;start=20&amp;gbv=2&amp;ndsp=20&amp;hl=ru&amp;newwindow=1&amp;sa=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ru/imgres?imgurl=http://www.expert.ru/images/northwest/2006/34/enw34_006_1.jpg&amp;imgrefurl=http://www.expert.ru/printissues/northwest/2006/34/news_russkiy_yazyk_nastupaet/&amp;usg=__DDuXQL1db71ooOJirZjoPWqDNXU=&amp;h=246&amp;w=240&amp;sz=27&amp;hl=ru&amp;start=3&amp;tbnid=BMjLfnfb6K9RwM:&amp;tbnh=110&amp;tbnw=107&amp;prev=/images?q=&#1096;&#1082;&#1086;&#1083;&#1100;&#1085;&#1080;&#1082;&#1080;&amp;gbv=2&amp;hl=ru&amp;newwindow=1&amp;sa=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ru/imgres?imgurl=http://www.dw-world.de/image/0,,1527210_4,00.jpg&amp;imgrefurl=http://www.dw-world.de/popups/popup_lupe/0,,3787035_ind_1,00.html&amp;usg=__Qhg3cJ8mZyQIqJDnlpx9MpASq8E=&amp;h=244&amp;w=330&amp;sz=20&amp;hl=ru&amp;start=107&amp;tbnid=bw0_oDoYzZemIM:&amp;tbnh=88&amp;tbnw=119&amp;prev=/images?q=&#1096;&#1082;&#1086;&#1083;&#1100;&#1085;&#1080;&#1082;&#1080;&amp;start=100&amp;gbv=2&amp;ndsp=20&amp;hl=ru&amp;newwindow=1&amp;sa=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prezentacii.com/" TargetMode="External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expert.ru/images/northwest/2006/34/enw34_006_1.jpg&amp;imgrefurl=http://www.expert.ru/printissues/northwest/2006/34/news_russkiy_yazyk_nastupaet/&amp;usg=__DDuXQL1db71ooOJirZjoPWqDNXU=&amp;h=246&amp;w=240&amp;sz=27&amp;hl=ru&amp;start=3&amp;tbnid=BMjLfnfb6K9RwM:&amp;tbnh=110&amp;tbnw=107&amp;prev=/images?q=&#1096;&#1082;&#1086;&#1083;&#1100;&#1085;&#1080;&#1082;&#1080;&amp;gbv=2&amp;hl=ru&amp;newwindow=1&amp;sa=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ru/imgres?imgurl=http://naviny.by/media/2008.02_w5/shkola.jpg&amp;imgrefurl=http://naviny.by/rubrics/society/2008/02/28/ic_articles_116_155780&amp;usg=__yMC7tjC3MEr5GUzInCRCJNspKaw=&amp;h=300&amp;w=300&amp;sz=108&amp;hl=ru&amp;start=22&amp;tbnid=HLqrvgdPBx22VM:&amp;tbnh=116&amp;tbnw=116&amp;prev=/images?q=&#1096;&#1082;&#1086;&#1083;&#1100;&#1085;&#1080;&#1082;&#1080;&amp;start=20&amp;gbv=2&amp;ndsp=20&amp;hl=ru&amp;newwindow=1&amp;sa=N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visualrian.ru/storage/PreviewWM/1633/15/163315.jpg&amp;imgrefurl=http://visualrian.ru/images/item/163315&amp;usg=__VrxE3YSsfIL4Joj20BBixRRSxM8=&amp;h=342&amp;w=512&amp;sz=114&amp;hl=ru&amp;start=35&amp;tbnid=94NsEqA_L_QVWM:&amp;tbnh=88&amp;tbnw=131&amp;prev=/images?q=&#1096;&#1082;&#1086;&#1083;&#1100;&#1085;&#1080;&#1082;&#1080;&amp;start=20&amp;gbv=2&amp;ndsp=20&amp;hl=ru&amp;newwindow=1&amp;sa=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in-media.ru/pics/b601.jpg&amp;imgrefurl=http://www.kirovregion.ru/cgi-bin/news/index.cgi?id=601&amp;usg=__WZeOvR6l-C42gWmw5inOuIXy120=&amp;h=376&amp;w=315&amp;sz=23&amp;hl=ru&amp;start=10&amp;tbnid=RZ4B8I22uYJxWM:&amp;tbnh=122&amp;tbnw=102&amp;prev=/images?q=&#1096;&#1082;&#1086;&#1083;&#1100;&#1085;&#1080;&#1082;&#1080;&amp;gbv=2&amp;hl=ru&amp;newwindow=1&amp;sa=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securitylab.ru/upload/iblock/f70/f702531fc4216d7c4cf2ee302a716cba.jpg&amp;imgrefurl=http://www.securitylab.ru/news/304037.php&amp;usg=__EeIHAHZAeXYwCt47ZatB-xbvKro=&amp;h=576&amp;w=720&amp;sz=39&amp;hl=ru&amp;start=144&amp;tbnid=oas_Lcc00PuISM:&amp;tbnh=112&amp;tbnw=140&amp;prev=/images?q=&#1076;&#1077;&#1090;&#1080;&amp;start=140&amp;gbv=2&amp;ndsp=20&amp;hl=ru&amp;newwindow=1&amp;sa=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medsblog.ru/wp-content/uploads/2008/05/be96d263-3695-4dc4-b8d9-27517a0d72f2.jpg&amp;imgrefurl=http://medsblog.ru/2008/05/15/deti-byvayut-luchshe-podgotovleny-k-shkole-esli-roditeli-chitayut-im-vslux/&amp;usg=__dEfrhU-9FsAxGpuCH-uqnnl-cc0=&amp;h=470&amp;w=500&amp;sz=59&amp;hl=ru&amp;start=277&amp;tbnid=8NLM9HZMCW1CBM:&amp;tbnh=122&amp;tbnw=130&amp;prev=/images?q=&#1076;&#1077;&#1090;&#1080;&amp;start=260&amp;gbv=2&amp;ndsp=20&amp;hl=ru&amp;newwindow=1&amp;sa=N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sverdlovsk.yabloko.ru/images/view_pic.php3?id=1140&amp;imgrefurl=http://www.sverdlovsk.yabloko.ru/press/index.phtml?f=61&amp;ff=1&amp;usg=__0Qv4M4CvX_HzGH9DFEEu3yAEW7g=&amp;h=600&amp;w=350&amp;sz=18&amp;hl=ru&amp;start=80&amp;tbnid=pZIAU0kRZmuLuM:&amp;tbnh=135&amp;tbnw=79&amp;prev=/images?q=&#1096;&#1082;&#1086;&#1083;&#1100;&#1085;&#1080;&#1082;&#1080;&amp;start=60&amp;gbv=2&amp;ndsp=20&amp;hl=ru&amp;newwindow=1&amp;sa=N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udmurt.ru/upload/iblock/2787cab3c712e64a45e4d444ffc17448.jpg&amp;imgrefurl=http://www.udmurt.ru/ru/speech/news_detail.php?ID=2009&amp;usg=__Ko21QVzjsGdE25UNOdd6SNRM1Xg=&amp;h=886&amp;w=542&amp;sz=116&amp;hl=ru&amp;start=25&amp;tbnid=2vwWkP3NQANwoM:&amp;tbnh=146&amp;tbnw=89&amp;prev=/images?q=&#1096;&#1082;&#1086;&#1083;&#1100;&#1085;&#1080;&#1082;&#1080;&amp;start=20&amp;gbv=2&amp;ndsp=20&amp;hl=ru&amp;newwindow=1&amp;sa=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visualrian.ru/storage/PreviewWM/1633/15/163315.jpg&amp;imgrefurl=http://visualrian.ru/images/item/163315&amp;usg=__VrxE3YSsfIL4Joj20BBixRRSxM8=&amp;h=342&amp;w=512&amp;sz=114&amp;hl=ru&amp;start=35&amp;tbnid=94NsEqA_L_QVWM:&amp;tbnh=88&amp;tbnw=131&amp;prev=/images?q=&#1096;&#1082;&#1086;&#1083;&#1100;&#1085;&#1080;&#1082;&#1080;&amp;start=20&amp;gbv=2&amp;ndsp=20&amp;hl=ru&amp;newwindow=1&amp;sa=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crydee.sai.msu.ru/Universe_and_us/4num/images/A-school.gif&amp;imgrefurl=http://crydee.sai.msu.ru/Universe_and_us/4num/v4pap23.htm&amp;usg=__Y76hGsNq8ZHi-PR4gbAJclLF_LI=&amp;h=400&amp;w=600&amp;sz=5&amp;hl=ru&amp;start=140&amp;tbnid=88sZ9ZLzxoK_TM:&amp;tbnh=90&amp;tbnw=135&amp;prev=/images?q=&#1096;&#1082;&#1086;&#1083;&#1100;&#1085;&#1080;&#1082;&#1080;&amp;start=120&amp;gbv=2&amp;ndsp=20&amp;hl=ru&amp;newwindow=1&amp;sa=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rostov.ru/home/articles/2007/05/25/163731/indigo.jpg&amp;imgrefurl=http://www.rindigo.ru/bukvy/p2_articleid/103/com_action/displaycomments&amp;usg=__y1vwJeihbDjPllPazvxBXDfH3s8=&amp;h=320&amp;w=480&amp;sz=31&amp;hl=ru&amp;start=43&amp;tbnid=fc5130MIn1HVSM:&amp;tbnh=86&amp;tbnw=129&amp;prev=/images?q=&#1076;&#1077;&#1090;&#1080;&amp;start=40&amp;gbv=2&amp;ndsp=20&amp;hl=ru&amp;newwindow=1&amp;sa=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20925600">
            <a:off x="2285280" y="1285200"/>
            <a:ext cx="6172200" cy="37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ОТОВНОСТЬ РЕБЁНКА К ШКОЛЕ   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6214680"/>
            <a:ext cx="6172200" cy="16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575f6d"/>
                </a:solidFill>
                <a:latin typeface="Century Schoolbook"/>
              </a:rPr>
              <a:t>    </a:t>
            </a:r>
            <a:endParaRPr b="0" lang="en-US" sz="5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Рисунок 3" descr="http://tbn3.google.com/images?q=tbn:HLqrvgdPBx22VM:http://naviny.by/media/2008.02_w5/shkol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15080" y="27860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4" descr="http://tbn3.google.com/images?q=tbn:BMjLfnfb6K9RwM:http://www.expert.ru/images/northwest/2006/34/enw34_006_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57920" y="4929120"/>
            <a:ext cx="1519200" cy="150012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5" descr="http://tbn3.google.com/images?q=tbn:bw0_oDoYzZemIM:http://www.dw-world.de/image/0,,1527210_4,00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43840" y="4286160"/>
            <a:ext cx="1643040" cy="1428840"/>
          </a:xfrm>
          <a:prstGeom prst="rect">
            <a:avLst/>
          </a:prstGeom>
          <a:ln w="0">
            <a:noFill/>
          </a:ln>
        </p:spPr>
      </p:pic>
      <p:sp>
        <p:nvSpPr>
          <p:cNvPr id="356" name="Рамка 6"/>
          <p:cNvSpPr/>
          <p:nvPr/>
        </p:nvSpPr>
        <p:spPr>
          <a:xfrm>
            <a:off x="3714840" y="0"/>
            <a:ext cx="2286000" cy="428760"/>
          </a:xfrm>
          <a:prstGeom prst="pi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7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357120"/>
            <a:ext cx="74674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ЛЕВАЯ ГОТОВН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07172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бенок способен поставить цел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инять решени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6e5a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eb6e5a"/>
                </a:solidFill>
                <a:latin typeface="Times New Roman"/>
                <a:ea typeface="Times New Roman"/>
              </a:rPr>
              <a:t>наметить план действия, исполнить его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явить определенные усилия в случае преодоления препятств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eb500"/>
                </a:solidFill>
                <a:latin typeface="Times New Roman"/>
                <a:ea typeface="Times New Roman"/>
              </a:rPr>
              <a:t>оценить результат своего действ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eb5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ируются поступ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eb5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Стрелка вниз 3"/>
          <p:cNvSpPr/>
          <p:nvPr/>
        </p:nvSpPr>
        <p:spPr>
          <a:xfrm>
            <a:off x="2928960" y="3714840"/>
            <a:ext cx="2714760" cy="714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Рисунок 4" descr="http://tbn3.google.com/images?q=tbn:BMjLfnfb6K9RwM:http://www.expert.ru/images/northwest/2006/34/enw34_006_1.jpg">
            <a:hlinkClick r:id="rId1"/>
          </p:cNvPr>
          <p:cNvPicPr/>
          <p:nvPr/>
        </p:nvPicPr>
        <p:blipFill>
          <a:blip r:embed="rId2"/>
          <a:stretch/>
        </p:blipFill>
        <p:spPr>
          <a:xfrm rot="1097400">
            <a:off x="6073560" y="4103640"/>
            <a:ext cx="2214360" cy="183348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5" descr="http://tbn3.google.com/images?q=tbn:HLqrvgdPBx22VM:http://naviny.by/media/2008.02_w5/shkola.jpg">
            <a:hlinkClick r:id="rId3"/>
          </p:cNvPr>
          <p:cNvPicPr/>
          <p:nvPr/>
        </p:nvPicPr>
        <p:blipFill>
          <a:blip r:embed="rId4"/>
          <a:stretch/>
        </p:blipFill>
        <p:spPr>
          <a:xfrm rot="20682600">
            <a:off x="460440" y="4068360"/>
            <a:ext cx="20700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ММУНИКАТИВНАЯ ГОТОВН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214280"/>
            <a:ext cx="746748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щение со взрослыми         общение со сверстника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уметь общаться со          - уметь договариватьс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взрослым собесед-           - уметь кооперироватьс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ником                               - спокойно чувствова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(осознание контекста        себя в условиях конку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          </a:t>
            </a: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общения)                   ренции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91" name="Прямая со стрелкой 4"/>
          <p:cNvCxnSpPr/>
          <p:nvPr/>
        </p:nvCxnSpPr>
        <p:spPr>
          <a:xfrm>
            <a:off x="4500720" y="1285920"/>
            <a:ext cx="643320" cy="643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2" name="Прямая со стрелкой 6"/>
          <p:cNvCxnSpPr/>
          <p:nvPr/>
        </p:nvCxnSpPr>
        <p:spPr>
          <a:xfrm flipH="1">
            <a:off x="2856960" y="1285920"/>
            <a:ext cx="572040" cy="7149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pic>
        <p:nvPicPr>
          <p:cNvPr id="393" name="Рисунок 14" descr="http://tbn0.google.com/images?q=tbn:94NsEqA_L_QVWM:http://visualrian.ru/storage/PreviewWM/1633/15/16331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0200" y="4786200"/>
            <a:ext cx="32148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ЧЕВАЯ ГОТОВН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143000"/>
            <a:ext cx="797256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ть общаться в диалоге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меть задавать вопросы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вечать на вопросы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ceb500"/>
                </a:solidFill>
                <a:latin typeface="Times New Roman"/>
                <a:ea typeface="Times New Roman"/>
              </a:rPr>
              <a:t>иметь навык пересказ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ладать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Century Schoolbook"/>
              </a:rPr>
              <a:t>довольно обширным словарем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Century Schoolbook"/>
              </a:rPr>
              <a:t>обладать</a:t>
            </a:r>
            <a:r>
              <a:rPr b="0" lang="ru-RU" sz="2400" spc="-1" strike="noStrike">
                <a:solidFill>
                  <a:srgbClr val="0070c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Century Schoolbook"/>
              </a:rPr>
              <a:t>основами грамматического строя речи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8a7007"/>
                </a:solidFill>
                <a:latin typeface="Century Schoolbook"/>
              </a:rPr>
              <a:t>обладать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8a7007"/>
                </a:solidFill>
                <a:latin typeface="Century Schoolbook"/>
              </a:rPr>
              <a:t>связным высказыванием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обладать  элементами монологической реч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чистота произноше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Стрелка вниз 3"/>
          <p:cNvSpPr/>
          <p:nvPr/>
        </p:nvSpPr>
        <p:spPr>
          <a:xfrm>
            <a:off x="2786040" y="4643280"/>
            <a:ext cx="2928960" cy="571680"/>
          </a:xfrm>
          <a:prstGeom prst="downArrow">
            <a:avLst>
              <a:gd name="adj1" fmla="val 50000"/>
              <a:gd name="adj2" fmla="val 59699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Рисунок 4" descr="http://tbn1.google.com/images?q=tbn:RZ4B8I22uYJxWM:http://www.in-media.ru/pics/b601.jpg">
            <a:hlinkClick r:id="rId1"/>
          </p:cNvPr>
          <p:cNvPicPr/>
          <p:nvPr/>
        </p:nvPicPr>
        <p:blipFill>
          <a:blip r:embed="rId2"/>
          <a:stretch/>
        </p:blipFill>
        <p:spPr>
          <a:xfrm rot="1209600">
            <a:off x="6455880" y="4559400"/>
            <a:ext cx="20811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КОМЕНДАЦИИ ЛОГОПЕД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чь – это канал развития  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нтеллекта. Чем раньше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удет усвоен язык,  тем  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егче и полнее будут  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своены знания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.И. Жинкин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 будущего первоклассника должны быть усвоены все звуки русского языка!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сли у Вашего ребёнка есть дефекты речи обратитесь за помощью к логопеду. Выполняйте чётко советы и рекомендации, предложенные данным специалистом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юбые нарушения звукопроизношения ведут к образованию специфических  ошибок на письме. Это замена букв, искажения, пропуски и др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 избежание таких ошибок играйте с ребёнком в игры на определение звука в слове, считайте количество звуков в слове. Очень полезно разгадывать кроссворды,  ребусы, шарад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Для уроков письма необходима хорошо развитая мелкая моторика рук. Приучайте ребёнка к домашнему труду, развивайте навыки самообслуживания. Чаще давайте в руки ножницы, иголку, пластилин. Посещайте кружки бумагопластики и  бисероплете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. Если у Вашего ребёнка плохая память, он невнимателен, рассеян, если наблюдаются какие – либо нервные беспокойства, энурез,  необходимо обязательное лечение и консультация детского невролог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.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вайте речь ребёнка!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кухне покажите и проговорите всю посуду, в огороде – овощи, в лесу – деревья, кустарники, цветы и грибы. Сравнивайте между собой предметы по вкусу, размеру, предназначению, запаху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6. При школе № 20 работает логопункт. Ученики первых классов с нарушением речи посещают логопедические занятия 2 раза в неделю с 13.30 до 15.00. , согласно расписанию школ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ЦИАЛЬНАЯ ГОТОВН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856800"/>
            <a:ext cx="7467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  </a:t>
            </a: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- 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циальная приспособленность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умение делиться вещами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умение дать и принять, получить удовольствие от совместной игры, понимать другого и считаться с ним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знать принятые в школе нормы и соответствовать им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-понимать, что в школе разные правила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- понимать, что с учителем разговаривают иначе, чем с товарищем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способность контролировать желания, гнев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-  умение работать в коллективе (взаимодействие и соревнование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               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бенок должен понять отличие между правилами и    нормами, знакомыми ему по дому и детсаду, и школьными, и научиться принимать эти изменения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Стрелка вниз 3"/>
          <p:cNvSpPr/>
          <p:nvPr/>
        </p:nvSpPr>
        <p:spPr>
          <a:xfrm>
            <a:off x="2714760" y="4714920"/>
            <a:ext cx="2786040" cy="571320"/>
          </a:xfrm>
          <a:prstGeom prst="downArrow">
            <a:avLst>
              <a:gd name="adj1" fmla="val 50000"/>
              <a:gd name="adj2" fmla="val 45153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МОЦИОНАЛЬНАЯ ГОТОВН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50"/>
                </a:solidFill>
                <a:latin typeface="Century Schoolbook"/>
              </a:rPr>
              <a:t>    </a:t>
            </a:r>
            <a:r>
              <a:rPr b="0" lang="ru-RU" sz="2200" spc="-1" strike="noStrike">
                <a:solidFill>
                  <a:srgbClr val="00b050"/>
                </a:solidFill>
                <a:latin typeface="Century Schoolbook"/>
              </a:rPr>
              <a:t>- </a:t>
            </a: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ответствие требованиям  школы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-  умение принимать критику, соревнование, давление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 способность ребенка познать самого себя, свою значимость, переход от зависимости к самостоятельност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развитие уверенности в себе, веры ребенка в то, что он сможет справиться в школе;</a:t>
            </a:r>
            <a:br>
              <a:rPr sz="2200"/>
            </a:b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пониманию своего места среди других: другой тоже хочет и имеет право;</a:t>
            </a:r>
            <a:br>
              <a:rPr sz="2200"/>
            </a:br>
            <a:r>
              <a:rPr b="0" lang="ru-RU" sz="2200" spc="-1" strike="noStrike">
                <a:solidFill>
                  <a:srgbClr val="675a00"/>
                </a:solidFill>
                <a:latin typeface="Times New Roman"/>
                <a:ea typeface="Times New Roman"/>
              </a:rPr>
              <a:t>- стремление к успехам, развитие уровня желаний, умение принимать удачи и неудачи на пути к исполнению желаний;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мение откладывать исполнение желания без чувства неудовлетворенности и унижени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 умение преодолевать отчаяние, проблемы и разочарования и продолжать учиться;</a:t>
            </a:r>
            <a:br>
              <a:rPr sz="2200"/>
            </a:br>
            <a:r>
              <a:rPr b="0" lang="ru-RU" sz="2200" spc="-1" strike="noStrike">
                <a:solidFill>
                  <a:srgbClr val="d0a80a"/>
                </a:solidFill>
                <a:latin typeface="Times New Roman"/>
                <a:ea typeface="Times New Roman"/>
              </a:rPr>
              <a:t>- способность принимать авторитет, выполнять указания с позитивным чувством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7467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ИЧЕСКАЯ ГОТОВН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28400" y="785880"/>
            <a:ext cx="74674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нает буквы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зличает звуки на слух 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ольшой запас слов 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читает в пределах 10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меет элементарный запас знаний по математик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Хорошо подготовленной к письму рукой 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ет правильно держать ручку, карандаш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ладает навыком рисования карандашом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ет обращаться со школьными принадлежностями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ет приготовиться к уроку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ладает элементарными навыками самообслуживания (умеет самостоятельно переодеться, знает, где его вещи). 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ккуратен в одежде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спитанный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Рисунок 3" descr="http://tbn3.google.com/images?q=tbn:oas_Lcc00PuISM:http://www.securitylab.ru/upload/iblock/f70/f702531fc4216d7c4cf2ee302a716cb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4920" y="4929120"/>
            <a:ext cx="25718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ОТОВНОСТЬ РОДИТЕЛЕЙ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-все время поддерживать ребенка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00b050"/>
                </a:solidFill>
                <a:latin typeface="Century Schoolbook"/>
              </a:rPr>
              <a:t>- научиться сопереживать с ребёнком тяжёлые момент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- удержаться   от замечаний и претензи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-относится  к ребёнку крайне деликатно;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Century Schoolbook"/>
              </a:rPr>
              <a:t> -много разговаривать, искренне интересоваться  мыслями маленького школьника, его чувствами, а не только тем, сделал ли он уроки и что ел на обед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- относится с уважением к педагог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все сложности ребенок сможет преодолеть   достаточно быстро и легк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Стрелка вниз 3"/>
          <p:cNvSpPr/>
          <p:nvPr/>
        </p:nvSpPr>
        <p:spPr>
          <a:xfrm>
            <a:off x="2214720" y="4643280"/>
            <a:ext cx="3571560" cy="714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Рисунок 4" descr="http://tbn0.google.com/images?q=tbn:8NLM9HZMCW1CBM:http://medsblog.ru/wp-content/uploads/2008/05/be96d263-3695-4dc4-b8d9-27517a0d72f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15080" y="385776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</a:t>
            </a:r>
            <a:r>
              <a:rPr b="1" i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МЯТКА РОДИТЕЛЯМ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85716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КАК СТРОИТЬ ОТНОШЕНИЯ С УЧИТЕЛЕМ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носитесь всегда к учителю уважительно, особенно проявляйте это в присутствии своих детей, не говорите резко об ошибках педагогов, хотя они склонны ошибаться, как и все люди. Не сравнивайте предыдущего учителя с настоящим. 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  Цените желание учителя сообщить Вам что-то новое и важное о ребенке. 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  Не забывайте, что до 95% педагогов - женщины, а они требуют деликатности, сдержанности и внимания. 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  Постарайтесь увидеть в учителе своего союзника, понять его озабоченность делами Вашего ребенка, разделяйте степень высокой ответственности, которую он несет на себе. 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  Терпеливо выслушивайте педагога, не стесняйтесь и не бойтесь задавать любые вопросы, чтобы исключить недомолвки и неясности. Чем больше Вы будете знать, тем легче будет общаться. 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  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ОТОВНОСТЬ К   ШКОЛЕ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356840"/>
            <a:ext cx="7467480" cy="51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Анатомо – физиологическа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Психологическа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отивационна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ммуникативна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лева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нтеллектуальна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Речева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Педагогическа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Рисунок 3" descr="Как определить готовность ребенка к школе?"/>
          <p:cNvPicPr/>
          <p:nvPr/>
        </p:nvPicPr>
        <p:blipFill>
          <a:blip r:embed="rId1"/>
          <a:stretch/>
        </p:blipFill>
        <p:spPr>
          <a:xfrm rot="857400">
            <a:off x="5286240" y="3428640"/>
            <a:ext cx="3071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6840" y="500040"/>
            <a:ext cx="7467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сердитесь, если в речи педагога уловите поучительный тон: это профессиональная привычка многих людей, работающих с детьми. 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   Не избегайте общения с педагогом, даже если он Вам не очень нравится, чаще пользуйтесь телефоном, проявляйте инициативу в установлении контакта. 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   Конструктивно принимайте критику в свой адрес: в ней всегда есть моменты, которые обязательно нужно принять к сведению. Если содержание критических замечаний остается прежним, задумайтесь, почему нет изменений. 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   Не давайте воли эмоциям: когда чувствуете, что их трудно контролировать, представьте себя на месте учителя. 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   Если у Вас возникают трудности в воспитании ребенка, скажите об этом педагогу: вместе будет легче. 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РТРЕТ ИДЕАЛЬНОГО ПЕРВОКЛАССНИ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85716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стойчивое внимание  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ющий думать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ющий делать выводы  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ющий фантазировать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блюдательный  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Хорошо развита речь, умение выразить свои мысли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ет ориентироваться на пространстве листа бумаг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8" name="Рисунок 3" descr="http://tbn0.google.com/images?q=tbn:pZIAU0kRZmuLuM:http://www.sverdlovsk.yabloko.ru/images/view_pic.php3%3Fid%3D1140">
            <a:hlinkClick r:id="rId1"/>
          </p:cNvPr>
          <p:cNvPicPr/>
          <p:nvPr/>
        </p:nvPicPr>
        <p:blipFill>
          <a:blip r:embed="rId2"/>
          <a:stretch/>
        </p:blipFill>
        <p:spPr>
          <a:xfrm rot="270600">
            <a:off x="5072040" y="4429080"/>
            <a:ext cx="15717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6840" y="500040"/>
            <a:ext cx="7467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строен на обучение 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отов к серьезной работе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чится с интересом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Хочет узнавать новое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юбит думать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ккуратный, бережно обращается со школьными принадлежностями 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оявляет интерес к самым разнообразным вопросам жизн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0" name="Рисунок 3" descr="http://tbn2.google.com/images?q=tbn:2vwWkP3NQANwoM:http://www.udmurt.ru/upload/iblock/2787cab3c712e64a45e4d444ffc17448.jpg">
            <a:hlinkClick r:id="rId1"/>
          </p:cNvPr>
          <p:cNvPicPr/>
          <p:nvPr/>
        </p:nvPicPr>
        <p:blipFill>
          <a:blip r:embed="rId2"/>
          <a:stretch/>
        </p:blipFill>
        <p:spPr>
          <a:xfrm rot="722400">
            <a:off x="4357440" y="4214880"/>
            <a:ext cx="20714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особен управлять своим поведением  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бранный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средоточен на выполнении задания не очень интересного, но очень нужного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ет выдерживать напряжение в работе 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особен сделать усилие воли  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особен поставить "надо" выше желания "хочу"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особен слушать и выполнять требования учителя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сполнительный 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сидчивый  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ющий настроиться на работу, когда это необходимо</a:t>
            </a:r>
            <a:br>
              <a:rPr sz="2400"/>
            </a:b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2" name="Рисунок 3" descr="http://tbn0.google.com/images?q=tbn:94NsEqA_L_QVWM:http://visualrian.ru/storage/PreviewWM/1633/15/16331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9160" y="5143680"/>
            <a:ext cx="23576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боится вступать в новый коллектив 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боится обращаться с вопросами к учителю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нимает мимику учителя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ет слышать интонацию голоса учителя 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орожит отношением к нему учителя 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 чувством дистанции к взрослым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ственный за свои поступки 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блюдающий необходимые нормы приличия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ет говорить свободно, не стесняясь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щительный    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кромный в общении 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Эмоционально отзывчивый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важающий себя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важающий товарищей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важающий родителей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обрый                           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зывчивый к просьбам товарищей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орошее  состояние здоровья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4" name="Рисунок 3" descr="http://tbn1.google.com/images?q=tbn:dnBZAEgynAP6QM:http://www.svao.mos.ru/al/img/NU02.jpg"/>
          <p:cNvPicPr/>
          <p:nvPr/>
        </p:nvPicPr>
        <p:blipFill>
          <a:blip r:embed="rId1"/>
          <a:stretch/>
        </p:blipFill>
        <p:spPr>
          <a:xfrm rot="675000">
            <a:off x="5689080" y="3782520"/>
            <a:ext cx="25005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АМЯТКА РОДИТЕЛЯМ ОТ РЕБЁН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07172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юбите меня и не забывайте выражать свою любовь (взглядом, улыбкой, прикосновением). Любите меня просто за то, что я есть, и я стану еще лучше.  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бойтесь проявлять твердость по отношению ко мне, особенно это касается ваших родительских требований. Я должен знать границы дозволенного.  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 сравнивайте меня с другими. Я имею право быть другим и я единственный такой на всей земле.   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Я очень вас люблю и всегда хочу быть любимым вами. Поэтому не огорчайтесь, когда я раздражаюсь и злюсь на вас, когда капризничаю или кричу. Это пройдет. Мои чувства, как и ваши, не вечны. Возможно, я хочу, чтобы вы больше обращали на меня внимания.    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Никогда не обзывайте меня. Это больно ранит меня, тогда рушатся все мои надежды и я не верю в себ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   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Century Schoolbook"/>
              </a:rPr>
              <a:t>Не бейте и не унижайте меня. Я вырасту и буду мстить всему миру, наказывая себя и своих детей и делая вас несчастными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entury Schoolbook"/>
              </a:rPr>
              <a:t>Дайте мне право на ошибку и не заставляйте меня считать, что мои ошибки - преступления. Всем люди могут ошибаться. Никто не совершенен.    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a7007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8a7007"/>
                </a:solidFill>
                <a:latin typeface="Century Schoolbook"/>
              </a:rPr>
              <a:t>Найдите время и выслушайте меня. Иногда мне хочется рассказать о себе и моих проблемах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entury Schoolbook"/>
              </a:rPr>
              <a:t>Не вызывайте у меня чувство вины и не говорите: "Из-за тебя в моей жизни ничего не складывается!" Ведь я не отвечаю за проблемы взрослых.   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e75c01"/>
                </a:solidFill>
                <a:latin typeface="Century Schoolbook"/>
              </a:rPr>
              <a:t>Помните, что я многому учусь у вас и хочу быть похожим на вас.   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b0f0"/>
                </a:solidFill>
                <a:latin typeface="Century Schoolbook"/>
              </a:rPr>
              <a:t>Будьте готовы воспринимать меня как личность, отдельную от вас и не похожею на вас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Представляйте требования, которые соответствуют моему возрасту. 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b050"/>
                </a:solidFill>
                <a:latin typeface="Century Schoolbook"/>
              </a:rPr>
              <a:t>Не делайте мне замечаний в присутствии других людей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              </a:t>
            </a: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Заботьтесь обо мне! 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ВАЖАЕМЫЕ РОДИТЕЛИ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143000"/>
            <a:ext cx="7467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орогие наши первоклассники,</a:t>
            </a:r>
            <a:br>
              <a:rPr sz="2400"/>
            </a:b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Хоть ещё играете вы в классики,</a:t>
            </a:r>
            <a:br>
              <a:rPr sz="2400"/>
            </a:b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Хоть ещё шумите и шалите, но теперь пришли вы в школьный двор…</a:t>
            </a:r>
            <a:br>
              <a:rPr sz="2400"/>
            </a:b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Ждут вас парты, разные уроки,</a:t>
            </a:r>
            <a:br>
              <a:rPr sz="2400"/>
            </a:b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Ждёт учитель вас – немного строгий,</a:t>
            </a:r>
            <a:br>
              <a:rPr sz="2400"/>
            </a:b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Хоть и малыши вы до сих пор!</a:t>
            </a:r>
            <a:br>
              <a:rPr sz="2400"/>
            </a:b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ша школа рада видеть вас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иходите к нам учитьс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первый класс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0" name="Рисунок 4" descr="http://tbn2.google.com/images?q=tbn:2vwWkP3NQANwoM:http://www.udmurt.ru/upload/iblock/2787cab3c712e64a45e4d444ffc17448.jpg"/>
          <p:cNvPicPr/>
          <p:nvPr/>
        </p:nvPicPr>
        <p:blipFill>
          <a:blip r:embed="rId1"/>
          <a:stretch/>
        </p:blipFill>
        <p:spPr>
          <a:xfrm rot="409800">
            <a:off x="5832360" y="3746520"/>
            <a:ext cx="1870200" cy="2085840"/>
          </a:xfrm>
          <a:prstGeom prst="rect">
            <a:avLst/>
          </a:prstGeom>
          <a:ln w="0">
            <a:noFill/>
          </a:ln>
        </p:spPr>
      </p:pic>
      <p:sp>
        <p:nvSpPr>
          <p:cNvPr id="431" name="Рамка 4"/>
          <p:cNvSpPr/>
          <p:nvPr/>
        </p:nvSpPr>
        <p:spPr>
          <a:xfrm>
            <a:off x="3714840" y="0"/>
            <a:ext cx="2286000" cy="428760"/>
          </a:xfrm>
          <a:prstGeom prst="pi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b687"/>
                </a:solidFill>
                <a:latin typeface="Century Schoolbook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НАТОМО – ФИЗИОЛОГИЧЕСКАЯ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ГОТОВНОСТЬ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143000"/>
            <a:ext cx="7467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Рост, вес, общее состояние здоровь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.Анатомо-физиологическая перестройка организм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Качественные и структурные изменения головного мозг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0a80a"/>
                </a:solidFill>
                <a:latin typeface="Times New Roman"/>
                <a:ea typeface="Times New Roman"/>
              </a:rPr>
              <a:t>4.Изменения в протекании нервных процесс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ирование волевых качеств, необходимых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удущему школьнику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 перестраивать своё поведение)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Правая фигурная скобка 4"/>
          <p:cNvSpPr/>
          <p:nvPr/>
        </p:nvSpPr>
        <p:spPr>
          <a:xfrm rot="5400000">
            <a:off x="3393360" y="-107280"/>
            <a:ext cx="1357200" cy="7429680"/>
          </a:xfrm>
          <a:custGeom>
            <a:avLst/>
            <a:gdLst>
              <a:gd name="textAreaLeft" fmla="*/ 0 w 1357200"/>
              <a:gd name="textAreaRight" fmla="*/ 489960 w 1357200"/>
              <a:gd name="textAreaTop" fmla="*/ 290880 h 7429680"/>
              <a:gd name="textAreaBottom" fmla="*/ 7138800 h 742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52"/>
                  <a:pt x="10800" y="2704"/>
                </a:cubicBezTo>
                <a:lnTo>
                  <a:pt x="10800" y="7880"/>
                </a:lnTo>
                <a:cubicBezTo>
                  <a:pt x="10800" y="9232"/>
                  <a:pt x="16200" y="10584"/>
                  <a:pt x="21600" y="10584"/>
                </a:cubicBezTo>
                <a:cubicBezTo>
                  <a:pt x="16200" y="10584"/>
                  <a:pt x="10800" y="11936"/>
                  <a:pt x="10800" y="13288"/>
                </a:cubicBezTo>
                <a:lnTo>
                  <a:pt x="10800" y="18896"/>
                </a:lnTo>
                <a:cubicBezTo>
                  <a:pt x="10800" y="20248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ЦЕНКА БИОЛОГИЧЕСКОЙ ЗРЕЛОСТ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убной возраст – определяется подсчётом числа прорезавшихся коренных зубов и сопоставлении числа с возрастным стандарто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льчик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285920" y="2643120"/>
          <a:ext cx="6286320" cy="3786120"/>
        </p:xfrm>
        <a:graphic>
          <a:graphicData uri="http://schemas.openxmlformats.org/drawingml/2006/table">
            <a:tbl>
              <a:tblPr/>
              <a:tblGrid>
                <a:gridCol w="1571760"/>
                <a:gridCol w="1571400"/>
                <a:gridCol w="1571760"/>
                <a:gridCol w="1571400"/>
              </a:tblGrid>
              <a:tr h="1044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става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ед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м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переже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14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  -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  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лее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1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енее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 -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лее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14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,5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енее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 - 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лее 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785880"/>
            <a:ext cx="7467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             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вочки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523880" y="1397160"/>
          <a:ext cx="6286680" cy="3786120"/>
        </p:xfrm>
        <a:graphic>
          <a:graphicData uri="http://schemas.openxmlformats.org/drawingml/2006/table">
            <a:tbl>
              <a:tblPr/>
              <a:tblGrid>
                <a:gridCol w="1571760"/>
                <a:gridCol w="1571760"/>
                <a:gridCol w="1571400"/>
                <a:gridCol w="1571760"/>
              </a:tblGrid>
              <a:tr h="10443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става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ед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м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переже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14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 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  -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лее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12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енее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 - 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лее 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14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,5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енее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 - 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лее 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МАТИЧЕСКАЯ ЗРЕЛ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07172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эффициет  соматической зрелости (КСЗ)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хват головы (в см.) х 100 : рос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928800" y="2071800"/>
          <a:ext cx="7215120" cy="4114800"/>
        </p:xfrm>
        <a:graphic>
          <a:graphicData uri="http://schemas.openxmlformats.org/drawingml/2006/table">
            <a:tbl>
              <a:tblPr/>
              <a:tblGrid>
                <a:gridCol w="1442880"/>
                <a:gridCol w="1443240"/>
                <a:gridCol w="1442880"/>
                <a:gridCol w="1442880"/>
                <a:gridCol w="1443240"/>
              </a:tblGrid>
              <a:tr h="825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ста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м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пере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825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 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6,5     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&gt;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5,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5,40-41,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&lt;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1,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25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  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&gt;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4,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4, 71 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1, 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&lt;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1,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25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,5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   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&gt;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4,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4, 85 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1, 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&lt;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1,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25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&gt;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3,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3,90 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39, 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&lt;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39,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АБЫЕ СТОРОНЫ В АНАТОМО –      ФИЗИОЛОГИЧЕСКОЙ ГОТОВНОСТИ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ыстрое истощение запаса энерг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асность искривления позвоночни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Times New Roman"/>
                <a:ea typeface="Times New Roman"/>
              </a:rPr>
              <a:t>Искривление костей ру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гое соблюдение режима д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зированные нагруз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илактика  сколиоз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Стрелка вниз 3"/>
          <p:cNvSpPr/>
          <p:nvPr/>
        </p:nvSpPr>
        <p:spPr>
          <a:xfrm>
            <a:off x="3071880" y="3071880"/>
            <a:ext cx="2428920" cy="857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Рисунок 4" descr="http://tbn1.google.com/images?q=tbn:88sZ9ZLzxoK_TM:http://crydee.sai.msu.ru/Universe_and_us/4num/images/A-school.gif">
            <a:hlinkClick r:id="rId1"/>
          </p:cNvPr>
          <p:cNvPicPr/>
          <p:nvPr/>
        </p:nvPicPr>
        <p:blipFill>
          <a:blip r:embed="rId2"/>
          <a:stretch/>
        </p:blipFill>
        <p:spPr>
          <a:xfrm rot="21351600">
            <a:off x="5929200" y="3643200"/>
            <a:ext cx="20005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СИХОЛОГИЧЕСКАЯ ГОТОВНОСТЬ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857160"/>
            <a:ext cx="8043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нтеллектуальная готовность: развитие кругозора, запаса конкретных знаний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щая осведомленность и социально-бытовой ориентировка;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нания и представления об окружающем мире;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развитие на уровне возраста основных познавательных процессов – внимания, памяти, мышления, восприятия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витие на уровне возраста временных представлений и взаиморасположении предметов в пространстве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знавательная  активность;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птимальный темп деятельности, работоспособность, умение доводить начатое дело до конца;</a:t>
            </a:r>
            <a:br>
              <a:rPr sz="1900"/>
            </a:br>
            <a:r>
              <a:rPr b="0" lang="ru-RU" sz="1900" spc="-1" strike="noStrike">
                <a:solidFill>
                  <a:srgbClr val="e75c01"/>
                </a:solidFill>
                <a:latin typeface="Century Schoolbook"/>
              </a:rPr>
              <a:t> интерес к знаниям, процессу их получения за счет дополнительных усилий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Century Schoolbook"/>
              </a:rPr>
              <a:t>овладение на слух разговорной речью и способность к пониманию и применению символов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entury Schoolbook"/>
              </a:rPr>
              <a:t>развитие мелкой моторики и общей координации движений: тонких движений руки и зрительно-двигательных координаций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ТИВАЦИОННАЯ (ЛИЧНОСТНАЯ)   </a:t>
            </a:r>
            <a:br>
              <a:rPr sz="3000"/>
            </a:b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ГОТОВН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356840"/>
            <a:ext cx="7467480" cy="51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енняя                            внешня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бёнок хочет идти в школу,      у ребёнка появит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тому что там интересно          ранец, тетради, учебни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он хочет много узнать)              ки и т.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циальная позиция школьни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80" name="Прямая со стрелкой 4"/>
          <p:cNvCxnSpPr/>
          <p:nvPr/>
        </p:nvCxnSpPr>
        <p:spPr>
          <a:xfrm flipH="1">
            <a:off x="3071880" y="1285560"/>
            <a:ext cx="643320" cy="7866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1" name="Прямая со стрелкой 11"/>
          <p:cNvCxnSpPr/>
          <p:nvPr/>
        </p:nvCxnSpPr>
        <p:spPr>
          <a:xfrm>
            <a:off x="4785120" y="1213920"/>
            <a:ext cx="715320" cy="7866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82" name="Стрелка вниз 19"/>
          <p:cNvSpPr/>
          <p:nvPr/>
        </p:nvSpPr>
        <p:spPr>
          <a:xfrm>
            <a:off x="3000240" y="3929040"/>
            <a:ext cx="2571840" cy="642960"/>
          </a:xfrm>
          <a:prstGeom prst="downArrow">
            <a:avLst>
              <a:gd name="adj1" fmla="val 50000"/>
              <a:gd name="adj2" fmla="val 52329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Рисунок 20" descr="http://tbn1.google.com/images?q=tbn:fc5130MIn1HVSM:http://www.rostov.ru/home/articles/2007/05/25/163731/indigo.jpg">
            <a:hlinkClick r:id="rId1"/>
          </p:cNvPr>
          <p:cNvPicPr/>
          <p:nvPr/>
        </p:nvPicPr>
        <p:blipFill>
          <a:blip r:embed="rId2"/>
          <a:stretch/>
        </p:blipFill>
        <p:spPr>
          <a:xfrm rot="824400">
            <a:off x="6278400" y="4387680"/>
            <a:ext cx="216720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06:26:48Z</dcterms:created>
  <dc:creator>Юрий</dc:creator>
  <dc:description/>
  <dc:language>en-US</dc:language>
  <cp:lastModifiedBy>Admin</cp:lastModifiedBy>
  <dcterms:modified xsi:type="dcterms:W3CDTF">2012-10-21T08:43:33Z</dcterms:modified>
  <cp:revision>94</cp:revision>
  <dc:subject/>
  <dc:title>Готовность ребёнка к школе</dc:title>
</cp:coreProperties>
</file>