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AF6-16C4-403D-92E9-9F83706F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E7D-CA8D-4F57-9503-F3B6264D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E11-48B0-423E-B21F-C5D746BA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1F7-4FDB-4938-B4A1-46A2AAB1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9000-E9BC-4170-AC7F-87F5B452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07D1-81D0-49BF-B444-32EFD646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359C-0875-4DBC-8748-76AD957E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0117-FBE1-4B4C-85F1-A51568E1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ADC5-E588-4F18-A768-F08D1FEB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2622-FA91-453D-8FA4-CEAD2250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9E2B-9D5E-42A0-A64B-F7BB981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F9C-0718-4BBC-A86F-1025FB1F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1168-9659-426E-B86C-3E5E9B77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B10C-947B-4BCA-9F66-908781A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DF17-81AB-4BF8-B69A-CB2642D0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CBA9-E653-4D17-9842-584B0253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4380-3B84-45D2-887E-20305E8B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B3039-4A0A-43DC-9B3A-AD5EEF0C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25158-5DB6-473D-B826-E1394DEB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80857-8258-4E0C-8D4F-1905D636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0B39C-1368-4FEE-B1DC-F7AA4D7A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A0684-2352-4D7C-984D-379011AD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C2A-A369-4A45-B075-D129345E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E7099-4872-4C5F-A9CF-4D544418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EB906-3C3D-4120-9CB7-28F4F1C4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AB95A-67A0-4445-A158-C7C4CA6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47657-13E0-4075-81CB-1E8CD16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6706E-B67D-421D-BCC9-1C5F3A6F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20252-1107-4F72-BB37-EF29990E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997E5-D614-460E-9060-A46D6E3E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C97A-B752-4CA8-B79D-7A9448B0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CD34-8364-45A7-BA2D-210EE441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E42A4-306B-4D2F-AF91-8FB89344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773-7F4F-4582-A0EB-68A79102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4656-74DE-4413-9B98-23CDC698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240E-D55E-46B6-B3F2-35E0EFDF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66A4-F73C-4A38-A248-34586A3E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C907-6A2E-4EAB-AC18-24D0A90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1B032-B0E6-47EB-BA4A-921AFE7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1381E-B774-48F1-93D7-7BDD7FE4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54E2-BA4A-415E-AB76-92EE6A62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5F1B-E86E-45DA-BAD7-1C435668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E909-3E30-4ECC-B1E0-33A43F28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3D713-7BD6-4506-A5D6-9BAB746C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404-0DE8-4091-BC68-B1763B98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2220A-9D77-4E28-A9B3-36F0F88C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69037-2114-49E6-9D74-2C011B2A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45004-B62F-4893-B22C-1F69E251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183E1-133B-4242-80F3-D90866EE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61EE4-3063-4CD3-937D-62D8D4DA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58DC0-9AD3-48EE-ADF9-2A512A4C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02150-32D3-494D-BF2A-102FA663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99EEC-B10A-4B56-A056-F4006D4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F13D0-8BF7-4D2B-9828-F88B110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3B403-D1AB-4B74-B165-ABE76CAE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5FF-D5DB-400E-A485-B34CA6A5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482A3-E339-43EA-A964-0FEEA173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47054-8A22-41F6-BEE2-F356D41B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C6274-7375-411C-B88B-D23FE066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8248B-8D34-4560-8400-9D4139C1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0BF1A-EB17-40C7-B09D-5F812473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39F1B-5FF8-4C5D-B567-5B71523B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D7874-A2A4-49D5-B819-53630AA3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0FC54-5A10-4C34-A7D1-426294C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A692F-92B1-4B63-8249-9048F88F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00B7C-4E4F-4F9C-A7D9-32DBFF8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4D8-C2BC-460A-BC2B-2275C73A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723951-FDE0-4A53-8473-D87815DC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BA847-48B2-47CB-9750-29D7A2E2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36C69-4DB8-4879-9753-7F3F1DCE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240B7-6B55-47E7-8C5F-7FCBFB32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20C59-69C4-4D04-9311-200B6D60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F4B8B-3DDC-469D-8DF4-E56B93B7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1EBEC2-BCC6-4BFA-BBCE-9FACCC24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8A46D-C4BF-45E2-A210-D6F63875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1B346-D84B-43B8-BB7B-44C77DC8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559DA8-8B79-41B8-A2F1-DD6C355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037-C330-4F56-AB36-489AB27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4920A-05C9-4EE3-A755-8AE8E9A5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AD685-0DD6-4DEE-84BC-286DD8E1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92D01-8F19-4AE6-B96E-BCA3ABF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4C1E3-AE52-4DCF-8EDD-8AF464B2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C0863-E4B4-4538-9573-AAFF8F9D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BE9-974D-4765-A520-044C0269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54D1-FB52-4C01-82E7-C614342015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175-EA05-4877-8361-714B20FFC3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27E3-9F8C-4086-8912-273324C625A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C06F-9D2E-4462-9E2E-E4EF8E3220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4F4-5007-40C4-AE03-0CA30D5D82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7F2C-9BCE-4F7C-8217-57EC4571C2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67B3-990B-4311-80C4-29621B4FB0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naviny.by/media/2008.02_w5/shkola.jpg&amp;imgrefurl=http://naviny.by/rubrics/society/2008/02/28/ic_articles_116_155780&amp;usg=__yMC7tjC3MEr5GUzInCRCJNspKaw=&amp;h=300&amp;w=300&amp;sz=108&amp;hl=ru&amp;start=22&amp;tbnid=HLqrvgdPBx22VM:&amp;tbnh=116&amp;tbnw=116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ru/imgres?imgurl=http://www.expert.ru/images/northwest/2006/34/enw34_006_1.jpg&amp;imgrefurl=http://www.expert.ru/printissues/northwest/2006/34/news_russkiy_yazyk_nastupaet/&amp;usg=__DDuXQL1db71ooOJirZjoPWqDNXU=&amp;h=246&amp;w=240&amp;sz=27&amp;hl=ru&amp;start=3&amp;tbnid=BMjLfnfb6K9RwM:&amp;tbnh=110&amp;tbnw=107&amp;prev=/images?q=&#1096;&#1082;&#1086;&#1083;&#1100;&#1085;&#1080;&#1082;&#1080;&amp;gbv=2&amp;hl=ru&amp;newwindow=1&amp;sa=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ru/imgres?imgurl=http://www.dw-world.de/image/0,,1527210_4,00.jpg&amp;imgrefurl=http://www.dw-world.de/popups/popup_lupe/0,,3787035_ind_1,00.html&amp;usg=__Qhg3cJ8mZyQIqJDnlpx9MpASq8E=&amp;h=244&amp;w=330&amp;sz=20&amp;hl=ru&amp;start=107&amp;tbnid=bw0_oDoYzZemIM:&amp;tbnh=88&amp;tbnw=119&amp;prev=/images?q=&#1096;&#1082;&#1086;&#1083;&#1100;&#1085;&#1080;&#1082;&#1080;&amp;start=100&amp;gbv=2&amp;ndsp=20&amp;hl=ru&amp;newwindow=1&amp;sa=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prezentacii.com/" TargetMode="External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expert.ru/images/northwest/2006/34/enw34_006_1.jpg&amp;imgrefurl=http://www.expert.ru/printissues/northwest/2006/34/news_russkiy_yazyk_nastupaet/&amp;usg=__DDuXQL1db71ooOJirZjoPWqDNXU=&amp;h=246&amp;w=240&amp;sz=27&amp;hl=ru&amp;start=3&amp;tbnid=BMjLfnfb6K9RwM:&amp;tbnh=110&amp;tbnw=107&amp;prev=/images?q=&#1096;&#1082;&#1086;&#1083;&#1100;&#1085;&#1080;&#1082;&#1080;&amp;gbv=2&amp;hl=ru&amp;newwindow=1&amp;sa=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ru/imgres?imgurl=http://naviny.by/media/2008.02_w5/shkola.jpg&amp;imgrefurl=http://naviny.by/rubrics/society/2008/02/28/ic_articles_116_155780&amp;usg=__yMC7tjC3MEr5GUzInCRCJNspKaw=&amp;h=300&amp;w=300&amp;sz=108&amp;hl=ru&amp;start=22&amp;tbnid=HLqrvgdPBx22VM:&amp;tbnh=116&amp;tbnw=116&amp;prev=/images?q=&#1096;&#1082;&#1086;&#1083;&#1100;&#1085;&#1080;&#1082;&#1080;&amp;start=20&amp;gbv=2&amp;ndsp=20&amp;hl=ru&amp;newwindow=1&amp;sa=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visualrian.ru/storage/PreviewWM/1633/15/163315.jpg&amp;imgrefurl=http://visualrian.ru/images/item/163315&amp;usg=__VrxE3YSsfIL4Joj20BBixRRSxM8=&amp;h=342&amp;w=512&amp;sz=114&amp;hl=ru&amp;start=35&amp;tbnid=94NsEqA_L_QVWM:&amp;tbnh=88&amp;tbnw=131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in-media.ru/pics/b601.jpg&amp;imgrefurl=http://www.kirovregion.ru/cgi-bin/news/index.cgi?id=601&amp;usg=__WZeOvR6l-C42gWmw5inOuIXy120=&amp;h=376&amp;w=315&amp;sz=23&amp;hl=ru&amp;start=10&amp;tbnid=RZ4B8I22uYJxWM:&amp;tbnh=122&amp;tbnw=102&amp;prev=/images?q=&#1096;&#1082;&#1086;&#1083;&#1100;&#1085;&#1080;&#1082;&#1080;&amp;gbv=2&amp;hl=ru&amp;newwindow=1&amp;sa=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ecuritylab.ru/upload/iblock/f70/f702531fc4216d7c4cf2ee302a716cba.jpg&amp;imgrefurl=http://www.securitylab.ru/news/304037.php&amp;usg=__EeIHAHZAeXYwCt47ZatB-xbvKro=&amp;h=576&amp;w=720&amp;sz=39&amp;hl=ru&amp;start=144&amp;tbnid=oas_Lcc00PuISM:&amp;tbnh=112&amp;tbnw=140&amp;prev=/images?q=&#1076;&#1077;&#1090;&#1080;&amp;start=140&amp;gbv=2&amp;ndsp=20&amp;hl=ru&amp;newwindow=1&amp;sa=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medsblog.ru/wp-content/uploads/2008/05/be96d263-3695-4dc4-b8d9-27517a0d72f2.jpg&amp;imgrefurl=http://medsblog.ru/2008/05/15/deti-byvayut-luchshe-podgotovleny-k-shkole-esli-roditeli-chitayut-im-vslux/&amp;usg=__dEfrhU-9FsAxGpuCH-uqnnl-cc0=&amp;h=470&amp;w=500&amp;sz=59&amp;hl=ru&amp;start=277&amp;tbnid=8NLM9HZMCW1CBM:&amp;tbnh=122&amp;tbnw=130&amp;prev=/images?q=&#1076;&#1077;&#1090;&#1080;&amp;start=260&amp;gbv=2&amp;ndsp=20&amp;hl=ru&amp;newwindow=1&amp;sa=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verdlovsk.yabloko.ru/images/view_pic.php3?id=1140&amp;imgrefurl=http://www.sverdlovsk.yabloko.ru/press/index.phtml?f=61&amp;ff=1&amp;usg=__0Qv4M4CvX_HzGH9DFEEu3yAEW7g=&amp;h=600&amp;w=350&amp;sz=18&amp;hl=ru&amp;start=80&amp;tbnid=pZIAU0kRZmuLuM:&amp;tbnh=135&amp;tbnw=79&amp;prev=/images?q=&#1096;&#1082;&#1086;&#1083;&#1100;&#1085;&#1080;&#1082;&#1080;&amp;start=60&amp;gbv=2&amp;ndsp=20&amp;hl=ru&amp;newwindow=1&amp;sa=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udmurt.ru/upload/iblock/2787cab3c712e64a45e4d444ffc17448.jpg&amp;imgrefurl=http://www.udmurt.ru/ru/speech/news_detail.php?ID=2009&amp;usg=__Ko21QVzjsGdE25UNOdd6SNRM1Xg=&amp;h=886&amp;w=542&amp;sz=116&amp;hl=ru&amp;start=25&amp;tbnid=2vwWkP3NQANwoM:&amp;tbnh=146&amp;tbnw=89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visualrian.ru/storage/PreviewWM/1633/15/163315.jpg&amp;imgrefurl=http://visualrian.ru/images/item/163315&amp;usg=__VrxE3YSsfIL4Joj20BBixRRSxM8=&amp;h=342&amp;w=512&amp;sz=114&amp;hl=ru&amp;start=35&amp;tbnid=94NsEqA_L_QVWM:&amp;tbnh=88&amp;tbnw=131&amp;prev=/images?q=&#1096;&#1082;&#1086;&#1083;&#1100;&#1085;&#1080;&#1082;&#1080;&amp;start=20&amp;gbv=2&amp;ndsp=20&amp;hl=ru&amp;newwindow=1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crydee.sai.msu.ru/Universe_and_us/4num/images/A-school.gif&amp;imgrefurl=http://crydee.sai.msu.ru/Universe_and_us/4num/v4pap23.htm&amp;usg=__Y76hGsNq8ZHi-PR4gbAJclLF_LI=&amp;h=400&amp;w=600&amp;sz=5&amp;hl=ru&amp;start=140&amp;tbnid=88sZ9ZLzxoK_TM:&amp;tbnh=90&amp;tbnw=135&amp;prev=/images?q=&#1096;&#1082;&#1086;&#1083;&#1100;&#1085;&#1080;&#1082;&#1080;&amp;start=120&amp;gbv=2&amp;ndsp=20&amp;hl=ru&amp;newwindow=1&amp;sa=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rostov.ru/home/articles/2007/05/25/163731/indigo.jpg&amp;imgrefurl=http://www.rindigo.ru/bukvy/p2_articleid/103/com_action/displaycomments&amp;usg=__y1vwJeihbDjPllPazvxBXDfH3s8=&amp;h=320&amp;w=480&amp;sz=31&amp;hl=ru&amp;start=43&amp;tbnid=fc5130MIn1HVSM:&amp;tbnh=86&amp;tbnw=129&amp;prev=/images?q=&#1076;&#1077;&#1090;&#1080;&amp;start=40&amp;gbv=2&amp;ndsp=20&amp;hl=ru&amp;newwindow=1&amp;sa=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20925600">
            <a:off x="2285280" y="1285200"/>
            <a:ext cx="617220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ТОВНОСТЬ РЕБЁНКА К ШКОЛЕ  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6214680"/>
            <a:ext cx="6172200" cy="1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3" descr="http://tbn3.google.com/images?q=tbn:HLqrvgdPBx22VM:http://naviny.by/media/2008.02_w5/shkol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2786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http://tbn3.google.com/images?q=tbn:BMjLfnfb6K9RwM:http://www.expert.ru/images/northwest/2006/34/enw34_006_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7920" y="4929120"/>
            <a:ext cx="1519200" cy="15001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http://tbn3.google.com/images?q=tbn:bw0_oDoYzZemIM:http://www.dw-world.de/image/0,,1527210_4,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43840" y="4286160"/>
            <a:ext cx="1643040" cy="1428840"/>
          </a:xfrm>
          <a:prstGeom prst="rect">
            <a:avLst/>
          </a:prstGeom>
          <a:ln w="0">
            <a:noFill/>
          </a:ln>
        </p:spPr>
      </p:pic>
      <p:sp>
        <p:nvSpPr>
          <p:cNvPr id="356" name="Рамка 6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ЛЕВ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енок способен поставить ц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нять реш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наметить план действия, исполнить е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явить определенные усилия в случае преодоления препятств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оценить результат своего действ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уются поступ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Стрелка вниз 3"/>
          <p:cNvSpPr/>
          <p:nvPr/>
        </p:nvSpPr>
        <p:spPr>
          <a:xfrm>
            <a:off x="2928960" y="3714840"/>
            <a:ext cx="271476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4" descr="http://tbn3.google.com/images?q=tbn:BMjLfnfb6K9RwM:http://www.expert.ru/images/northwest/2006/34/enw34_006_1.jpg">
            <a:hlinkClick r:id="rId1"/>
          </p:cNvPr>
          <p:cNvPicPr/>
          <p:nvPr/>
        </p:nvPicPr>
        <p:blipFill>
          <a:blip r:embed="rId2"/>
          <a:stretch/>
        </p:blipFill>
        <p:spPr>
          <a:xfrm rot="1097400">
            <a:off x="6073560" y="4103640"/>
            <a:ext cx="2214360" cy="18334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http://tbn3.google.com/images?q=tbn:HLqrvgdPBx22VM:http://naviny.by/media/2008.02_w5/shkola.jpg">
            <a:hlinkClick r:id="rId3"/>
          </p:cNvPr>
          <p:cNvPicPr/>
          <p:nvPr/>
        </p:nvPicPr>
        <p:blipFill>
          <a:blip r:embed="rId4"/>
          <a:stretch/>
        </p:blipFill>
        <p:spPr>
          <a:xfrm rot="20682600">
            <a:off x="460440" y="4068360"/>
            <a:ext cx="2070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МУНИКАТИВН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2142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щение со взрослыми         общение со сверстник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уметь общаться со          - уметь договаривать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взрослым собесед-           - уметь кооперировать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ником                               - спокойно чувствов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(осознание контекста        себя в условиях конку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          </a:t>
            </a: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общения)                   ренци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1" name="Прямая со стрелкой 4"/>
          <p:cNvCxnSpPr/>
          <p:nvPr/>
        </p:nvCxnSpPr>
        <p:spPr>
          <a:xfrm>
            <a:off x="4500720" y="1285920"/>
            <a:ext cx="643320" cy="64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Прямая со стрелкой 6"/>
          <p:cNvCxnSpPr/>
          <p:nvPr/>
        </p:nvCxnSpPr>
        <p:spPr>
          <a:xfrm flipH="1">
            <a:off x="2856960" y="1285920"/>
            <a:ext cx="572040" cy="7149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393" name="Рисунок 14" descr="http://tbn0.google.com/images?q=tbn:94NsEqA_L_QVWM:http://visualrian.ru/storage/PreviewWM/1633/15/1633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4786200"/>
            <a:ext cx="3214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ЧЕВ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143000"/>
            <a:ext cx="7972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ть общаться в диалог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ть задавать вопрос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чать на вопрос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eb500"/>
                </a:solidFill>
                <a:latin typeface="Times New Roman"/>
                <a:ea typeface="Times New Roman"/>
              </a:rPr>
              <a:t>иметь навык переска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адать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довольно обширным словаре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обладать</a:t>
            </a: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основами грамматического строя реч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8a7007"/>
                </a:solidFill>
                <a:latin typeface="Century Schoolbook"/>
              </a:rPr>
              <a:t>обладать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8a7007"/>
                </a:solidFill>
                <a:latin typeface="Century Schoolbook"/>
              </a:rPr>
              <a:t>связным высказывание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обладать  элементами монологической реч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чистота произнош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Стрелка вниз 3"/>
          <p:cNvSpPr/>
          <p:nvPr/>
        </p:nvSpPr>
        <p:spPr>
          <a:xfrm>
            <a:off x="2786040" y="4643280"/>
            <a:ext cx="2928960" cy="571680"/>
          </a:xfrm>
          <a:prstGeom prst="downArrow">
            <a:avLst>
              <a:gd name="adj1" fmla="val 50000"/>
              <a:gd name="adj2" fmla="val 5969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4" descr="http://tbn1.google.com/images?q=tbn:RZ4B8I22uYJxWM:http://www.in-media.ru/pics/b601.jpg">
            <a:hlinkClick r:id="rId1"/>
          </p:cNvPr>
          <p:cNvPicPr/>
          <p:nvPr/>
        </p:nvPicPr>
        <p:blipFill>
          <a:blip r:embed="rId2"/>
          <a:stretch/>
        </p:blipFill>
        <p:spPr>
          <a:xfrm rot="1209600">
            <a:off x="6455880" y="4559400"/>
            <a:ext cx="20811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КОМЕНДАЦИИ ЛОГОПЕД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чь – это канал развития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ллекта. Чем раньше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удет усвоен язык,  тем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гче и полнее будут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воены знания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.И. Жинкин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будущего первоклассника должны быть усвоены все звуки русского языка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у Вашего ребёнка есть дефекты речи обратитесь за помощью к логопеду. Выполняйте чётко советы и рекомендации, предложенные данным специалист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бые нарушения звукопроизношения ведут к образованию специфических  ошибок на письме. Это замена букв, искажения, пропуски и др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избежание таких ошибок играйте с ребёнком в игры на определение звука в слове, считайте количество звуков в слове. Очень полезно разгадывать кроссворды,  ребусы, шара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Для уроков письма необходима хорошо развитая мелкая моторика рук. Приучайте ребёнка к домашнему труду, развивайте навыки самообслуживания. Чаще давайте в руки ножницы, иголку, пластилин. Посещайте кружки бумагопластики и  бисероплет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Если у Вашего ребёнка плохая память, он невнимателен, рассеян, если наблюдаются какие – либо нервные беспокойства, энурез,  необходимо обязательное лечение и консультация детского невроло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йте речь ребёнка!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кухне покажите и проговорите всю посуду, в огороде – овощи, в лесу – деревья, кустарники, цветы и грибы. Сравнивайте между собой предметы по вкусу, размеру, предназначению, запах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 При школе № 20 работает логопункт. Ученики первых классов с нарушением речи посещают логопедические занятия 2 раза в неделю с 13.30 до 15.00. , согласно расписанию школ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ЦИАЛЬН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85680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2200" spc="-1" strike="noStrike">
                <a:solidFill>
                  <a:srgbClr val="002060"/>
                </a:solidFill>
                <a:latin typeface="Century Schoolbook"/>
              </a:rPr>
              <a:t>-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ая приспособленность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умение делиться вещам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мение дать и принять, получить удовольствие от совместной игры, понимать другого и считаться с ни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нать принятые в школе нормы и соответствовать и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-понимать, что в школе разные правила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- понимать, что с учителем разговаривают иначе, чем с товарище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способность контролировать желания, гнев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-  умение работать в коллективе (взаимодействие и соревнование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   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енок должен понять отличие между правилами и    нормами, знакомыми ему по дому и детсаду, и школьными, и научиться принимать эти измен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Стрелка вниз 3"/>
          <p:cNvSpPr/>
          <p:nvPr/>
        </p:nvSpPr>
        <p:spPr>
          <a:xfrm>
            <a:off x="2714760" y="4714920"/>
            <a:ext cx="2786040" cy="571320"/>
          </a:xfrm>
          <a:prstGeom prst="downArrow">
            <a:avLst>
              <a:gd name="adj1" fmla="val 50000"/>
              <a:gd name="adj2" fmla="val 4515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МОЦИОНАЛЬН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00b050"/>
                </a:solidFill>
                <a:latin typeface="Century Schoolbook"/>
              </a:rPr>
              <a:t>-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ответствие требованиям  школы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-  умение принимать критику, соревнование, давление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способность ребенка познать самого себя, свою значимость, переход от зависимости к самосто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развитие уверенности в себе, веры ребенка в то, что он сможет справиться в школе;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ониманию своего места среди других: другой тоже хочет и имеет право;</a:t>
            </a:r>
            <a:br>
              <a:rPr sz="2200"/>
            </a:br>
            <a:r>
              <a:rPr b="0" lang="ru-RU" sz="22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- стремление к успехам, развитие уровня желаний, умение принимать удачи и неудачи на пути к исполнению желаний;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мение откладывать исполнение желания без чувства неудовлетворенности и униже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 умение преодолевать отчаяние, проблемы и разочарования и продолжать учиться;</a:t>
            </a:r>
            <a:br>
              <a:rPr sz="2200"/>
            </a:br>
            <a:r>
              <a:rPr b="0" lang="ru-RU" sz="22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- способность принимать авторитет, выполнять указания с позитивным чувств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7467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АЯ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28400" y="78588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нает буквы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личает звуки на слух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ольшой запас слов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читает в пределах 10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меет элементарный запас знаний по математик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рошо подготовленной к письму рукой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правильно держать ручку, карандаш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адает навыком рисования карандашом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обращаться со школьными принадлежностями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приготовиться к уроку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адает элементарными навыками самообслуживания (умеет самостоятельно переодеться, знает, где его вещи).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куратен в одежде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спитанны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Рисунок 3" descr="http://tbn3.google.com/images?q=tbn:oas_Lcc00PuISM:http://www.securitylab.ru/upload/iblock/f70/f702531fc4216d7c4cf2ee302a716cb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4929120"/>
            <a:ext cx="2571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ТОВНОСТЬ РОДИТЕЛ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-все время поддерживать ребенк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b050"/>
                </a:solidFill>
                <a:latin typeface="Century Schoolbook"/>
              </a:rPr>
              <a:t>- научиться сопереживать с ребёнком тяжёлые мо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- удержаться   от замечаний и претенз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-относится  к ребёнку крайне деликатно;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 -много разговаривать, искренне интересоваться  мыслями маленького школьника, его чувствами, а не только тем, сделал ли он уроки и что ел на обед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- относится с уважением к педагог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се сложности ребенок сможет преодолеть   достаточно быстро и легк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Стрелка вниз 3"/>
          <p:cNvSpPr/>
          <p:nvPr/>
        </p:nvSpPr>
        <p:spPr>
          <a:xfrm>
            <a:off x="2214720" y="4643280"/>
            <a:ext cx="357156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4" descr="http://tbn0.google.com/images?q=tbn:8NLM9HZMCW1CBM:http://medsblog.ru/wp-content/uploads/2008/05/be96d263-3695-4dc4-b8d9-27517a0d72f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385776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МЯТКА РОДИТЕЛЯМ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КАК СТРОИТЬ ОТНОШЕНИЯ С УЧИТЕЛЕМ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носитесь всегда к учителю уважительно, особенно проявляйте это в присутствии своих детей, не говорите резко об ошибках педагогов, хотя они склонны ошибаться, как и все люди. Не сравнивайте предыдущего учителя с настоящим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Цените желание учителя сообщить Вам что-то новое и важное о ребенке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Не забывайте, что до 95% педагогов - женщины, а они требуют деликатности, сдержанности и внимания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Постарайтесь увидеть в учителе своего союзника, понять его озабоченность делами Вашего ребенка, разделяйте степень высокой ответственности, которую он несет на себе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Терпеливо выслушивайте педагога, не стесняйтесь и не бойтесь задавать любые вопросы, чтобы исключить недомолвки и неясности. Чем больше Вы будете знать, тем легче будет общаться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ТОВНОСТЬ К   ШКОЛ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Анатомо – физиологическ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сихологическ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тивацион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ммуникатив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лев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ллектуаль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Речев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Педагогическ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Рисунок 3" descr="Как определить готовность ребенка к школе?"/>
          <p:cNvPicPr/>
          <p:nvPr/>
        </p:nvPicPr>
        <p:blipFill>
          <a:blip r:embed="rId1"/>
          <a:stretch/>
        </p:blipFill>
        <p:spPr>
          <a:xfrm rot="857400">
            <a:off x="5286240" y="34286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сердитесь, если в речи педагога уловите поучительный тон: это профессиональная привычка многих людей, работающих с детьми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Не избегайте общения с педагогом, даже если он Вам не очень нравится, чаще пользуйтесь телефоном, проявляйте инициативу в установлении контакта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Конструктивно принимайте критику в свой адрес: в ней всегда есть моменты, которые обязательно нужно принять к сведению. Если содержание критических замечаний остается прежним, задумайтесь, почему нет изменений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Не давайте воли эмоциям: когда чувствуете, что их трудно контролировать, представьте себя на месте учителя. 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   Если у Вас возникают трудности в воспитании ребенка, скажите об этом педагогу: вместе будет легче.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РТРЕТ ИДЕАЛЬНОГО ПЕРВОКЛАССН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ойчивое внимание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думать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делать выводы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фантазировать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блюдательный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рошо развита речь, умение выразить свои мысли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ориентироваться на пространстве листа бумаг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Рисунок 3" descr="http://tbn0.google.com/images?q=tbn:pZIAU0kRZmuLuM:http://www.sverdlovsk.yabloko.ru/images/view_pic.php3%3Fid%3D1140">
            <a:hlinkClick r:id="rId1"/>
          </p:cNvPr>
          <p:cNvPicPr/>
          <p:nvPr/>
        </p:nvPicPr>
        <p:blipFill>
          <a:blip r:embed="rId2"/>
          <a:stretch/>
        </p:blipFill>
        <p:spPr>
          <a:xfrm rot="270600">
            <a:off x="5072040" y="4429080"/>
            <a:ext cx="1571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строен на обучение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тов к серьезной работе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ится с интересом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чет узнавать новое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бит думать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куратный, бережно обращается со школьными принадлежностями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являет интерес к самым разнообразным вопросам жиз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Рисунок 3" descr="http://tbn2.google.com/images?q=tbn:2vwWkP3NQANwoM:http://www.udmurt.ru/upload/iblock/2787cab3c712e64a45e4d444ffc17448.jpg">
            <a:hlinkClick r:id="rId1"/>
          </p:cNvPr>
          <p:cNvPicPr/>
          <p:nvPr/>
        </p:nvPicPr>
        <p:blipFill>
          <a:blip r:embed="rId2"/>
          <a:stretch/>
        </p:blipFill>
        <p:spPr>
          <a:xfrm rot="722400">
            <a:off x="4357440" y="4214880"/>
            <a:ext cx="2071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управлять своим поведением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бранный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средоточен на выполнении задания не очень интересного, но очень нужного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выдерживать напряжение в работе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сделать усилие воли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поставить "надо" выше желания "хочу"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собен слушать и выполнять требования учителя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нительный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идчивый      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ющий настроиться на работу, когда это необходимо</a:t>
            </a:r>
            <a:br>
              <a:rPr sz="2400"/>
            </a:b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Рисунок 3" descr="http://tbn0.google.com/images?q=tbn:94NsEqA_L_QVWM:http://visualrian.ru/storage/PreviewWM/1633/15/1633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5143680"/>
            <a:ext cx="23576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боится вступать в новый коллектив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боится обращаться с вопросами к учителю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нимает мимику учителя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слышать интонацию голоса учителя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рожит отношением к нему учителя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 чувством дистанции к взрослым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тственный за свои поступки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блюдающий необходимые нормы приличия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еет говорить свободно, не стесняясь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щительный    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кромный в общении 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моционально отзывчивый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ажающий себя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ажающий товарищей 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ажающий родителей  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брый       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зывчивый к просьбам товарищ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ее  состояние здоров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Рисунок 3" descr="http://tbn1.google.com/images?q=tbn:dnBZAEgynAP6QM:http://www.svao.mos.ru/al/img/NU02.jpg"/>
          <p:cNvPicPr/>
          <p:nvPr/>
        </p:nvPicPr>
        <p:blipFill>
          <a:blip r:embed="rId1"/>
          <a:stretch/>
        </p:blipFill>
        <p:spPr>
          <a:xfrm rot="675000">
            <a:off x="5689080" y="3782520"/>
            <a:ext cx="25005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МЯТКА РОДИТЕЛЯМ ОТ РЕБЁН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бите меня и не забывайте выражать свою любовь (взглядом, улыбкой, прикосновением). Любите меня просто за то, что я есть, и я стану еще лучше. 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тесь проявлять твердость по отношению ко мне, особенно это касается ваших родительских требований. Я должен знать границы дозволенного. 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сравнивайте меня с другими. Я имею право быть другим и я единственный такой на всей земле.  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Я очень вас люблю и всегда хочу быть любимым вами. Поэтому не огорчайтесь, когда я раздражаюсь и злюсь на вас, когда капризничаю или кричу. Это пройдет. Мои чувства, как и ваши, не вечны. Возможно, я хочу, чтобы вы больше обращали на меня внимания.   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Никогда не обзывайте меня. Это больно ранит меня, тогда рушатся все мои надежды и я не верю в себ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 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entury Schoolbook"/>
              </a:rPr>
              <a:t>Не бейте и не унижайте меня. Я вырасту и буду мстить всему миру, наказывая себя и своих детей и делая вас несчастными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entury Schoolbook"/>
              </a:rPr>
              <a:t>Дайте мне право на ошибку и не заставляйте меня считать, что мои ошибки - преступления. Всем люди могут ошибаться. Никто не совершенен.  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a7007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8a7007"/>
                </a:solidFill>
                <a:latin typeface="Century Schoolbook"/>
              </a:rPr>
              <a:t>Найдите время и выслушайте меня. Иногда мне хочется рассказать о себе и моих проблем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Не вызывайте у меня чувство вины и не говорите: "Из-за тебя в моей жизни ничего не складывается!" Ведь я не отвечаю за проблемы взрослых. 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e75c01"/>
                </a:solidFill>
                <a:latin typeface="Century Schoolbook"/>
              </a:rPr>
              <a:t>Помните, что я многому учусь у вас и хочу быть похожим на вас.  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Century Schoolbook"/>
              </a:rPr>
              <a:t>Будьте готовы воспринимать меня как личность, отдельную от вас и не похожею на вас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Представляйте требования, которые соответствуют моему возрасту. 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Century Schoolbook"/>
              </a:rPr>
              <a:t>Не делайте мне замечаний в присутствии других людей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              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Заботьтесь обо мне!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рогие наши первоклассники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ь ещё играете вы в классики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ь ещё шумите и шалите, но теперь пришли вы в школьный двор…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дут вас парты, разные уроки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дёт учитель вас – немного строгий,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ть и малыши вы до сих пор!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ша школа рада видеть вас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ходите к нам учитьс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ервый класс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Рисунок 4" descr="http://tbn2.google.com/images?q=tbn:2vwWkP3NQANwoM:http://www.udmurt.ru/upload/iblock/2787cab3c712e64a45e4d444ffc17448.jpg"/>
          <p:cNvPicPr/>
          <p:nvPr/>
        </p:nvPicPr>
        <p:blipFill>
          <a:blip r:embed="rId1"/>
          <a:stretch/>
        </p:blipFill>
        <p:spPr>
          <a:xfrm rot="409800">
            <a:off x="5832360" y="3746520"/>
            <a:ext cx="1870200" cy="2085840"/>
          </a:xfrm>
          <a:prstGeom prst="rect">
            <a:avLst/>
          </a:prstGeom>
          <a:ln w="0">
            <a:noFill/>
          </a:ln>
        </p:spPr>
      </p:pic>
      <p:sp>
        <p:nvSpPr>
          <p:cNvPr id="431" name="Рамка 4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b687"/>
                </a:solidFill>
                <a:latin typeface="Century Schoolbook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АТОМО – ФИЗИОЛОГИЧЕСКАЯ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ГОТОВНОСТ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Рост, вес, общее состояние здоровь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Анатомо-физиологическая перестройка организм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Качественные и структурные изменения головного мозг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4.Изменения в протекании нервных проце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волевых качеств, необходимых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щему школьнику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перестраивать своё поведение)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авая фигурная скобка 4"/>
          <p:cNvSpPr/>
          <p:nvPr/>
        </p:nvSpPr>
        <p:spPr>
          <a:xfrm rot="5400000">
            <a:off x="3393360" y="-107280"/>
            <a:ext cx="1357200" cy="7429680"/>
          </a:xfrm>
          <a:custGeom>
            <a:avLst/>
            <a:gdLst>
              <a:gd name="textAreaLeft" fmla="*/ 0 w 1357200"/>
              <a:gd name="textAreaRight" fmla="*/ 489960 w 1357200"/>
              <a:gd name="textAreaTop" fmla="*/ 290880 h 7429680"/>
              <a:gd name="textAreaBottom" fmla="*/ 7138800 h 742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4"/>
                </a:cubicBezTo>
                <a:lnTo>
                  <a:pt x="10800" y="7880"/>
                </a:lnTo>
                <a:cubicBezTo>
                  <a:pt x="10800" y="9232"/>
                  <a:pt x="16200" y="10584"/>
                  <a:pt x="21600" y="10584"/>
                </a:cubicBezTo>
                <a:cubicBezTo>
                  <a:pt x="16200" y="10584"/>
                  <a:pt x="10800" y="11936"/>
                  <a:pt x="10800" y="13288"/>
                </a:cubicBezTo>
                <a:lnTo>
                  <a:pt x="10800" y="18896"/>
                </a:lnTo>
                <a:cubicBezTo>
                  <a:pt x="10800" y="20248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КА БИОЛОГИЧЕСКОЙ ЗРЕЛ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убной возраст – определяется подсчётом числа прорезавшихся коренных зубов и сопоставлении числа с возрастным стандарт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85920" y="2643120"/>
          <a:ext cx="6286320" cy="3786120"/>
        </p:xfrm>
        <a:graphic>
          <a:graphicData uri="http://schemas.openxmlformats.org/drawingml/2006/table">
            <a:tbl>
              <a:tblPr/>
              <a:tblGrid>
                <a:gridCol w="1571760"/>
                <a:gridCol w="1571400"/>
                <a:gridCol w="1571760"/>
                <a:gridCol w="1571400"/>
              </a:tblGrid>
              <a:tr h="1044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та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ереж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 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 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-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 -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78588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вочк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523880" y="1397160"/>
          <a:ext cx="6286680" cy="378612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</a:tblGrid>
              <a:tr h="1044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та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ереж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 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 -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 -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ее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- 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ее 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МАТИЧЕСКАЯ ЗРЕЛ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эффициет  соматической зрелости (КСЗ)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хват головы (в см.) х 100 : р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928800" y="2071800"/>
          <a:ext cx="7215120" cy="4114800"/>
        </p:xfrm>
        <a:graphic>
          <a:graphicData uri="http://schemas.openxmlformats.org/drawingml/2006/table">
            <a:tbl>
              <a:tblPr/>
              <a:tblGrid>
                <a:gridCol w="1442880"/>
                <a:gridCol w="1443240"/>
                <a:gridCol w="1442880"/>
                <a:gridCol w="1442880"/>
                <a:gridCol w="1443240"/>
              </a:tblGrid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ст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ер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6,5     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5,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5,40-41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 71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 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,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4, 85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 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1,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g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3,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43,90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39, 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&lt;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39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АБЫЕ СТОРОНЫ В АНАТОМО –      ФИЗИОЛОГИЧЕСКОЙ ГОТОВНОСТ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ыстрое истощение запаса энер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ость искривления позвоночн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Times New Roman"/>
                <a:ea typeface="Times New Roman"/>
              </a:rPr>
              <a:t>Искривление костей ру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гое соблюдение режима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зированные нагруз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 сколио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Стрелка вниз 3"/>
          <p:cNvSpPr/>
          <p:nvPr/>
        </p:nvSpPr>
        <p:spPr>
          <a:xfrm>
            <a:off x="3071880" y="3071880"/>
            <a:ext cx="242892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4" descr="http://tbn1.google.com/images?q=tbn:88sZ9ZLzxoK_TM:http://crydee.sai.msu.ru/Universe_and_us/4num/images/A-school.gif">
            <a:hlinkClick r:id="rId1"/>
          </p:cNvPr>
          <p:cNvPicPr/>
          <p:nvPr/>
        </p:nvPicPr>
        <p:blipFill>
          <a:blip r:embed="rId2"/>
          <a:stretch/>
        </p:blipFill>
        <p:spPr>
          <a:xfrm rot="21351600">
            <a:off x="5929200" y="364320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СИХОЛОГИЧЕСКАЯ ГОТОВ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857160"/>
            <a:ext cx="8043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ллектуальная готовность: развитие кругозора, запаса конкретных знани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щая осведомленность и социально-бытовой ориентировка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ния и представления об окружающем мире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развитие на уровне возраста основных познавательных процессов – внимания, памяти, мышления, восприятия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тие на уровне возраста временных представлений и взаиморасположении предметов в пространстве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знавательная  активность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птимальный темп деятельности, работоспособность, умение доводить начатое дело до конца;</a:t>
            </a:r>
            <a:br>
              <a:rPr sz="1900"/>
            </a:br>
            <a:r>
              <a:rPr b="0" lang="ru-RU" sz="1900" spc="-1" strike="noStrike">
                <a:solidFill>
                  <a:srgbClr val="e75c01"/>
                </a:solidFill>
                <a:latin typeface="Century Schoolbook"/>
              </a:rPr>
              <a:t> интерес к знаниям, процессу их получения за счет дополнительных усилий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entury Schoolbook"/>
              </a:rPr>
              <a:t>овладение на слух разговорной речью и способность к пониманию и применению символов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entury Schoolbook"/>
              </a:rPr>
              <a:t>развитие мелкой моторики и общей координации движений: тонких движений руки и зрительно-двигательных координаций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ТИВАЦИОННАЯ (ЛИЧНОСТНАЯ)   </a:t>
            </a:r>
            <a:br>
              <a:rPr sz="3000"/>
            </a:b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ГОТОВ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енняя                            внешня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ёнок хочет идти в школу,      у ребёнка поя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тому что там интересно          ранец, тетради, учебни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он хочет много узнать)              ки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ая позиция школьн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0" name="Прямая со стрелкой 4"/>
          <p:cNvCxnSpPr/>
          <p:nvPr/>
        </p:nvCxnSpPr>
        <p:spPr>
          <a:xfrm flipH="1">
            <a:off x="3071880" y="1285560"/>
            <a:ext cx="643320" cy="786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1" name="Прямая со стрелкой 11"/>
          <p:cNvCxnSpPr/>
          <p:nvPr/>
        </p:nvCxnSpPr>
        <p:spPr>
          <a:xfrm>
            <a:off x="4785120" y="1213920"/>
            <a:ext cx="715320" cy="786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82" name="Стрелка вниз 19"/>
          <p:cNvSpPr/>
          <p:nvPr/>
        </p:nvSpPr>
        <p:spPr>
          <a:xfrm>
            <a:off x="3000240" y="3929040"/>
            <a:ext cx="2571840" cy="642960"/>
          </a:xfrm>
          <a:prstGeom prst="downArrow">
            <a:avLst>
              <a:gd name="adj1" fmla="val 50000"/>
              <a:gd name="adj2" fmla="val 5232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20" descr="http://tbn1.google.com/images?q=tbn:fc5130MIn1HVSM:http://www.rostov.ru/home/articles/2007/05/25/163731/indigo.jpg">
            <a:hlinkClick r:id="rId1"/>
          </p:cNvPr>
          <p:cNvPicPr/>
          <p:nvPr/>
        </p:nvPicPr>
        <p:blipFill>
          <a:blip r:embed="rId2"/>
          <a:stretch/>
        </p:blipFill>
        <p:spPr>
          <a:xfrm rot="824400">
            <a:off x="6278400" y="4387680"/>
            <a:ext cx="21672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6:26:48Z</dcterms:created>
  <dc:creator>Юрий</dc:creator>
  <dc:description/>
  <dc:language>en-US</dc:language>
  <cp:lastModifiedBy>Admin</cp:lastModifiedBy>
  <dcterms:modified xsi:type="dcterms:W3CDTF">2012-10-21T08:43:33Z</dcterms:modified>
  <cp:revision>94</cp:revision>
  <dc:subject/>
  <dc:title>Готовность ребёнка к школе</dc:title>
</cp:coreProperties>
</file>