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52D-7A42-4817-A52E-8013C3DB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BA0-5991-4128-AA9D-23A677E5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2A4-20D9-4AF6-9887-E8025BB7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477-47C1-4288-9137-EDC17ECD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2D53-DE7B-4F7C-8FC6-CF3EFC10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FA73-B9E1-444B-A391-699ADEAE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8ECF-A8AD-4840-B7FF-1C767A58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36F5-3BFD-439B-B22B-990D4289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955B-BF3B-45AC-BF7C-238589E3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5F61-C08C-4D39-8D4C-C69987C8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F047-6BE3-4434-806F-509B0A46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E3A-B186-4457-96BC-FC9A4BDB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0FB8-B5B8-49E5-AD71-E962F41D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20C8-A716-4636-8820-D68F9908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9976-970E-4E1F-A3EE-76DC09EC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D5B0-0DC0-4238-9445-1C4655EC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3467-E278-4D31-9B83-5D88D3A4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C47E1-0493-4F63-BB51-38136A01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FB979-C70D-43ED-9EB1-3CFC1EB6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BC52A-EECF-4D44-A422-1592960E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52697-4129-4AD1-9415-414D1E47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6861F-FFD3-4D07-9569-86D58989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8F2-F3EF-4432-8819-55B258F8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4F3C7-E740-41BF-8200-2CE07E5D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F159E-3F23-48D5-BFA4-1F24E70E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21E82-C981-436A-9FF3-750D53D3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08CCD-2BB5-4E77-A1FC-4A32FC94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E6B7F-9CAC-4D21-8078-E1AE0345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E849A-5C31-4BC7-8167-4C1CB373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C732E-741D-4233-A1DB-F8BE2909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FE36-4A54-4FA2-8065-E648B788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5F7F-F6A8-4135-BE2A-30C69265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E5DF-CADB-4504-89C7-00C88984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A52-1D99-42FF-849E-65461AE2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5871-A7D2-457D-9B1D-25F61EEE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7960-27A4-40E3-8F84-C4C4CBC1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B72D2-9B36-4A9B-B25E-8CF1337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31B9-479C-49A6-BB1B-8357058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E1E27-599D-4040-B1EF-AC96E40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158AE-A048-4182-8884-D960E181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5AAED-CBD3-4EBC-9D96-33845C9D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79A1B-B67C-464D-BBF7-CA8F0DB6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4C079-E44A-443F-9109-687868A9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E57C4-DA52-4306-96FB-595238CD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838-B559-4E9B-80E6-F431798F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BACFD-3010-46A6-ACFB-F5CDE403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B3F5E-C2C6-4327-8ADB-04DE3876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2DB39-0B20-4118-9723-99CA4540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B0B03-66F7-4096-B9D2-2C8EAA8D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D4711-E67E-455B-9DF5-87789A1C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05CBF-2468-44DA-B76B-8180B9E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6FEA2-AD6C-4A44-8894-50989351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2F58B-A48D-49E0-8E42-D64F9F47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05C9A-293C-4C54-BF72-334486D2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6442B-C92F-445E-8210-FC215E40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044-35A1-410E-A5F2-008984D3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AE801-A538-40DF-BFDA-9F530125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4FF40-224D-4450-AAC4-86181BBA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2F091-EB71-4765-8624-3D43085E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D14FE-997E-4BAE-975E-0175D2DA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D1DBE-23DF-4467-A9A9-C1897C40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9C328-B50A-4AAF-AC31-594CC535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464101-CB3F-4A30-AF45-47EACC02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5BCD7-48C7-414E-9321-48979A14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6F0D2-6D49-46FD-9D03-198167A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570E8-158C-43A7-AFF2-65E7CE1C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BED-75E9-4D06-B980-4F643D05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E93D4-E604-4CF0-B90E-35A7BF6E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65768-5AEB-4E43-9FA0-E139E51A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D636F-C6DF-4F72-BC84-E0DA02FA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9C2C7-9C1C-4125-A895-5E123871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E75ED-9D1C-4815-A608-7DEFE7D6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3D4531-A2D5-46CF-9EC8-F483F05A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6F775-9B9C-4559-B317-C0C6E261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DAD85-F612-422D-82AB-3AED765A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1D654-F212-45FF-8DB0-B74ECAD5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CAA7B1-AB55-4F22-92DA-208D94BB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7E1-D715-47F4-AD4A-FA871840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E1EA0-9CB0-49D6-AEDA-8534260A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148B33-CD42-48CD-84B2-03D87BAB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A0820-70FB-4062-8826-A3AF9D30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0F96F-124B-483D-9ED1-3B9B2324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BD6D1-1B8A-4C85-9B8F-A96C8E99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7A4-301C-40B6-9677-EFC01E32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40D2-9CBF-4736-8448-463DF2B6F0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E840-23F0-4D6F-AE4A-B6A1AA7D78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E988-3B57-4709-981A-1042DBC851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299D-F70C-44AA-8D36-D28253A697B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38F9-C3C7-4670-92FD-BDA7CEEA15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A1E1-2B98-457B-962C-BF3D95BBC6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D235-C107-4F7B-9038-9BC2401A9BD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naviny.by/media/2008.02_w5/shkola.jpg&amp;imgrefurl=http://naviny.by/rubrics/society/2008/02/28/ic_articles_116_155780&amp;usg=__yMC7tjC3MEr5GUzInCRCJNspKaw=&amp;h=300&amp;w=300&amp;sz=108&amp;hl=ru&amp;start=22&amp;tbnid=HLqrvgdPBx22VM:&amp;tbnh=116&amp;tbnw=116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ru/imgres?imgurl=http://www.expert.ru/images/northwest/2006/34/enw34_006_1.jpg&amp;imgrefurl=http://www.expert.ru/printissues/northwest/2006/34/news_russkiy_yazyk_nastupaet/&amp;usg=__DDuXQL1db71ooOJirZjoPWqDNXU=&amp;h=246&amp;w=240&amp;sz=27&amp;hl=ru&amp;start=3&amp;tbnid=BMjLfnfb6K9RwM:&amp;tbnh=110&amp;tbnw=107&amp;prev=/images?q=&#1096;&#1082;&#1086;&#1083;&#1100;&#1085;&#1080;&#1082;&#1080;&amp;gbv=2&amp;hl=ru&amp;newwindow=1&amp;sa=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ru/imgres?imgurl=http://www.dw-world.de/image/0,,1527210_4,00.jpg&amp;imgrefurl=http://www.dw-world.de/popups/popup_lupe/0,,3787035_ind_1,00.html&amp;usg=__Qhg3cJ8mZyQIqJDnlpx9MpASq8E=&amp;h=244&amp;w=330&amp;sz=20&amp;hl=ru&amp;start=107&amp;tbnid=bw0_oDoYzZemIM:&amp;tbnh=88&amp;tbnw=119&amp;prev=/images?q=&#1096;&#1082;&#1086;&#1083;&#1100;&#1085;&#1080;&#1082;&#1080;&amp;start=100&amp;gbv=2&amp;ndsp=20&amp;hl=ru&amp;newwindow=1&amp;sa=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prezentacii.com/" TargetMode="External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expert.ru/images/northwest/2006/34/enw34_006_1.jpg&amp;imgrefurl=http://www.expert.ru/printissues/northwest/2006/34/news_russkiy_yazyk_nastupaet/&amp;usg=__DDuXQL1db71ooOJirZjoPWqDNXU=&amp;h=246&amp;w=240&amp;sz=27&amp;hl=ru&amp;start=3&amp;tbnid=BMjLfnfb6K9RwM:&amp;tbnh=110&amp;tbnw=107&amp;prev=/images?q=&#1096;&#1082;&#1086;&#1083;&#1100;&#1085;&#1080;&#1082;&#1080;&amp;gbv=2&amp;hl=ru&amp;newwindow=1&amp;sa=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ru/imgres?imgurl=http://naviny.by/media/2008.02_w5/shkola.jpg&amp;imgrefurl=http://naviny.by/rubrics/society/2008/02/28/ic_articles_116_155780&amp;usg=__yMC7tjC3MEr5GUzInCRCJNspKaw=&amp;h=300&amp;w=300&amp;sz=108&amp;hl=ru&amp;start=22&amp;tbnid=HLqrvgdPBx22VM:&amp;tbnh=116&amp;tbnw=116&amp;prev=/images?q=&#1096;&#1082;&#1086;&#1083;&#1100;&#1085;&#1080;&#1082;&#1080;&amp;start=20&amp;gbv=2&amp;ndsp=20&amp;hl=ru&amp;newwindow=1&amp;sa=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visualrian.ru/storage/PreviewWM/1633/15/163315.jpg&amp;imgrefurl=http://visualrian.ru/images/item/163315&amp;usg=__VrxE3YSsfIL4Joj20BBixRRSxM8=&amp;h=342&amp;w=512&amp;sz=114&amp;hl=ru&amp;start=35&amp;tbnid=94NsEqA_L_QVWM:&amp;tbnh=88&amp;tbnw=131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in-media.ru/pics/b601.jpg&amp;imgrefurl=http://www.kirovregion.ru/cgi-bin/news/index.cgi?id=601&amp;usg=__WZeOvR6l-C42gWmw5inOuIXy120=&amp;h=376&amp;w=315&amp;sz=23&amp;hl=ru&amp;start=10&amp;tbnid=RZ4B8I22uYJxWM:&amp;tbnh=122&amp;tbnw=102&amp;prev=/images?q=&#1096;&#1082;&#1086;&#1083;&#1100;&#1085;&#1080;&#1082;&#1080;&amp;gbv=2&amp;hl=ru&amp;newwindow=1&amp;sa=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ecuritylab.ru/upload/iblock/f70/f702531fc4216d7c4cf2ee302a716cba.jpg&amp;imgrefurl=http://www.securitylab.ru/news/304037.php&amp;usg=__EeIHAHZAeXYwCt47ZatB-xbvKro=&amp;h=576&amp;w=720&amp;sz=39&amp;hl=ru&amp;start=144&amp;tbnid=oas_Lcc00PuISM:&amp;tbnh=112&amp;tbnw=140&amp;prev=/images?q=&#1076;&#1077;&#1090;&#1080;&amp;start=140&amp;gbv=2&amp;ndsp=20&amp;hl=ru&amp;newwindow=1&amp;sa=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medsblog.ru/wp-content/uploads/2008/05/be96d263-3695-4dc4-b8d9-27517a0d72f2.jpg&amp;imgrefurl=http://medsblog.ru/2008/05/15/deti-byvayut-luchshe-podgotovleny-k-shkole-esli-roditeli-chitayut-im-vslux/&amp;usg=__dEfrhU-9FsAxGpuCH-uqnnl-cc0=&amp;h=470&amp;w=500&amp;sz=59&amp;hl=ru&amp;start=277&amp;tbnid=8NLM9HZMCW1CBM:&amp;tbnh=122&amp;tbnw=130&amp;prev=/images?q=&#1076;&#1077;&#1090;&#1080;&amp;start=260&amp;gbv=2&amp;ndsp=20&amp;hl=ru&amp;newwindow=1&amp;sa=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verdlovsk.yabloko.ru/images/view_pic.php3?id=1140&amp;imgrefurl=http://www.sverdlovsk.yabloko.ru/press/index.phtml?f=61&amp;ff=1&amp;usg=__0Qv4M4CvX_HzGH9DFEEu3yAEW7g=&amp;h=600&amp;w=350&amp;sz=18&amp;hl=ru&amp;start=80&amp;tbnid=pZIAU0kRZmuLuM:&amp;tbnh=135&amp;tbnw=79&amp;prev=/images?q=&#1096;&#1082;&#1086;&#1083;&#1100;&#1085;&#1080;&#1082;&#1080;&amp;start=60&amp;gbv=2&amp;ndsp=20&amp;hl=ru&amp;newwindow=1&amp;sa=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udmurt.ru/upload/iblock/2787cab3c712e64a45e4d444ffc17448.jpg&amp;imgrefurl=http://www.udmurt.ru/ru/speech/news_detail.php?ID=2009&amp;usg=__Ko21QVzjsGdE25UNOdd6SNRM1Xg=&amp;h=886&amp;w=542&amp;sz=116&amp;hl=ru&amp;start=25&amp;tbnid=2vwWkP3NQANwoM:&amp;tbnh=146&amp;tbnw=89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visualrian.ru/storage/PreviewWM/1633/15/163315.jpg&amp;imgrefurl=http://visualrian.ru/images/item/163315&amp;usg=__VrxE3YSsfIL4Joj20BBixRRSxM8=&amp;h=342&amp;w=512&amp;sz=114&amp;hl=ru&amp;start=35&amp;tbnid=94NsEqA_L_QVWM:&amp;tbnh=88&amp;tbnw=131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crydee.sai.msu.ru/Universe_and_us/4num/images/A-school.gif&amp;imgrefurl=http://crydee.sai.msu.ru/Universe_and_us/4num/v4pap23.htm&amp;usg=__Y76hGsNq8ZHi-PR4gbAJclLF_LI=&amp;h=400&amp;w=600&amp;sz=5&amp;hl=ru&amp;start=140&amp;tbnid=88sZ9ZLzxoK_TM:&amp;tbnh=90&amp;tbnw=135&amp;prev=/images?q=&#1096;&#1082;&#1086;&#1083;&#1100;&#1085;&#1080;&#1082;&#1080;&amp;start=120&amp;gbv=2&amp;ndsp=20&amp;hl=ru&amp;newwindow=1&amp;sa=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rostov.ru/home/articles/2007/05/25/163731/indigo.jpg&amp;imgrefurl=http://www.rindigo.ru/bukvy/p2_articleid/103/com_action/displaycomments&amp;usg=__y1vwJeihbDjPllPazvxBXDfH3s8=&amp;h=320&amp;w=480&amp;sz=31&amp;hl=ru&amp;start=43&amp;tbnid=fc5130MIn1HVSM:&amp;tbnh=86&amp;tbnw=129&amp;prev=/images?q=&#1076;&#1077;&#1090;&#1080;&amp;start=40&amp;gbv=2&amp;ndsp=20&amp;hl=ru&amp;newwindow=1&amp;sa=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20925600">
            <a:off x="2285280" y="1285200"/>
            <a:ext cx="617220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ТОВНОСТЬ РЕБЁНКА К ШКОЛЕ   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6214680"/>
            <a:ext cx="6172200" cy="1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3" descr="http://tbn3.google.com/images?q=tbn:HLqrvgdPBx22VM:http://naviny.by/media/2008.02_w5/shkol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5080" y="2786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4" descr="http://tbn3.google.com/images?q=tbn:BMjLfnfb6K9RwM:http://www.expert.ru/images/northwest/2006/34/enw34_006_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7920" y="4929120"/>
            <a:ext cx="1519200" cy="15001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5" descr="http://tbn3.google.com/images?q=tbn:bw0_oDoYzZemIM:http://www.dw-world.de/image/0,,1527210_4,0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43840" y="4286160"/>
            <a:ext cx="1643040" cy="1428840"/>
          </a:xfrm>
          <a:prstGeom prst="rect">
            <a:avLst/>
          </a:prstGeom>
          <a:ln w="0">
            <a:noFill/>
          </a:ln>
        </p:spPr>
      </p:pic>
      <p:sp>
        <p:nvSpPr>
          <p:cNvPr id="356" name="Рамка 6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ЛЕВ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енок способен поставить ц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нять реше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наметить план действия, исполнить ег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явить определенные усилия в случае преодоления препятств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оценить результат своего действ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уются поступ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Стрелка вниз 3"/>
          <p:cNvSpPr/>
          <p:nvPr/>
        </p:nvSpPr>
        <p:spPr>
          <a:xfrm>
            <a:off x="2928960" y="3714840"/>
            <a:ext cx="2714760" cy="71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4" descr="http://tbn3.google.com/images?q=tbn:BMjLfnfb6K9RwM:http://www.expert.ru/images/northwest/2006/34/enw34_006_1.jpg">
            <a:hlinkClick r:id="rId1"/>
          </p:cNvPr>
          <p:cNvPicPr/>
          <p:nvPr/>
        </p:nvPicPr>
        <p:blipFill>
          <a:blip r:embed="rId2"/>
          <a:stretch/>
        </p:blipFill>
        <p:spPr>
          <a:xfrm rot="1097400">
            <a:off x="6073560" y="4103640"/>
            <a:ext cx="2214360" cy="18334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5" descr="http://tbn3.google.com/images?q=tbn:HLqrvgdPBx22VM:http://naviny.by/media/2008.02_w5/shkola.jpg">
            <a:hlinkClick r:id="rId3"/>
          </p:cNvPr>
          <p:cNvPicPr/>
          <p:nvPr/>
        </p:nvPicPr>
        <p:blipFill>
          <a:blip r:embed="rId4"/>
          <a:stretch/>
        </p:blipFill>
        <p:spPr>
          <a:xfrm rot="20682600">
            <a:off x="460440" y="4068360"/>
            <a:ext cx="2070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МУНИКАТИВН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214280"/>
            <a:ext cx="7467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щение со взрослыми         общение со сверстник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уметь общаться со          - уметь договаривать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взрослым собесед-           - уметь кооперировать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ником                               - спокойно чувствов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(осознание контекста        себя в условиях конку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          </a:t>
            </a: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общения)                   ренции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1" name="Прямая со стрелкой 4"/>
          <p:cNvCxnSpPr/>
          <p:nvPr/>
        </p:nvCxnSpPr>
        <p:spPr>
          <a:xfrm>
            <a:off x="4500720" y="1285920"/>
            <a:ext cx="643320" cy="643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2" name="Прямая со стрелкой 6"/>
          <p:cNvCxnSpPr/>
          <p:nvPr/>
        </p:nvCxnSpPr>
        <p:spPr>
          <a:xfrm flipH="1">
            <a:off x="2856960" y="1285920"/>
            <a:ext cx="572040" cy="7149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393" name="Рисунок 14" descr="http://tbn0.google.com/images?q=tbn:94NsEqA_L_QVWM:http://visualrian.ru/storage/PreviewWM/1633/15/1633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4786200"/>
            <a:ext cx="3214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ЧЕВ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143000"/>
            <a:ext cx="7972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ть общаться в диалог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ть задавать вопрос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чать на вопрос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иметь навык пересказ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ладать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Century Schoolbook"/>
              </a:rPr>
              <a:t>довольно обширным словаре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обладать</a:t>
            </a: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основами грамматического строя реч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8a7007"/>
                </a:solidFill>
                <a:latin typeface="Century Schoolbook"/>
              </a:rPr>
              <a:t>обладать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8a7007"/>
                </a:solidFill>
                <a:latin typeface="Century Schoolbook"/>
              </a:rPr>
              <a:t>связным высказывание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обладать  элементами монологической реч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чистота произнош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Стрелка вниз 3"/>
          <p:cNvSpPr/>
          <p:nvPr/>
        </p:nvSpPr>
        <p:spPr>
          <a:xfrm>
            <a:off x="2786040" y="4643280"/>
            <a:ext cx="2928960" cy="571680"/>
          </a:xfrm>
          <a:prstGeom prst="downArrow">
            <a:avLst>
              <a:gd name="adj1" fmla="val 50000"/>
              <a:gd name="adj2" fmla="val 5969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4" descr="http://tbn1.google.com/images?q=tbn:RZ4B8I22uYJxWM:http://www.in-media.ru/pics/b601.jpg">
            <a:hlinkClick r:id="rId1"/>
          </p:cNvPr>
          <p:cNvPicPr/>
          <p:nvPr/>
        </p:nvPicPr>
        <p:blipFill>
          <a:blip r:embed="rId2"/>
          <a:stretch/>
        </p:blipFill>
        <p:spPr>
          <a:xfrm rot="1209600">
            <a:off x="6455880" y="4559400"/>
            <a:ext cx="20811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КОМЕНДАЦИИ ЛОГОПЕД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чь – это канал развития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ллекта. Чем раньше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удет усвоен язык,  тем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гче и полнее будут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воены знания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.И. Жинкин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будущего первоклассника должны быть усвоены все звуки русского языка!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у Вашего ребёнка есть дефекты речи обратитесь за помощью к логопеду. Выполняйте чётко советы и рекомендации, предложенные данным специалист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бые нарушения звукопроизношения ведут к образованию специфических  ошибок на письме. Это замена букв, искажения, пропуски и др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 избежание таких ошибок играйте с ребёнком в игры на определение звука в слове, считайте количество звуков в слове. Очень полезно разгадывать кроссворды,  ребусы, шарад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Для уроков письма необходима хорошо развитая мелкая моторика рук. Приучайте ребёнка к домашнему труду, развивайте навыки самообслуживания. Чаще давайте в руки ножницы, иголку, пластилин. Посещайте кружки бумагопластики и  бисероплет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Если у Вашего ребёнка плохая память, он невнимателен, рассеян, если наблюдаются какие – либо нервные беспокойства, энурез,  необходимо обязательное лечение и консультация детского невроло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йте речь ребёнка!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кухне покажите и проговорите всю посуду, в огороде – овощи, в лесу – деревья, кустарники, цветы и грибы. Сравнивайте между собой предметы по вкусу, размеру, предназначению, запах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 При школе № 20 работает логопункт. Ученики первых классов с нарушением речи посещают логопедические занятия 2 раза в неделю с 13.30 до 15.00. , согласно расписанию школ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ЦИАЛЬН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85680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-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ая приспособленность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умение делиться вещам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умение дать и принять, получить удовольствие от совместной игры, понимать другого и считаться с ни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знать принятые в школе нормы и соответствовать и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-понимать, что в школе разные правила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- понимать, что с учителем разговаривают иначе, чем с товарище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способность контролировать желания, гнев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-  умение работать в коллективе (взаимодействие и соревнование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             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енок должен понять отличие между правилами и    нормами, знакомыми ему по дому и детсаду, и школьными, и научиться принимать эти измен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Стрелка вниз 3"/>
          <p:cNvSpPr/>
          <p:nvPr/>
        </p:nvSpPr>
        <p:spPr>
          <a:xfrm>
            <a:off x="2714760" y="4714920"/>
            <a:ext cx="2786040" cy="571320"/>
          </a:xfrm>
          <a:prstGeom prst="downArrow">
            <a:avLst>
              <a:gd name="adj1" fmla="val 50000"/>
              <a:gd name="adj2" fmla="val 4515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МОЦИОНАЛЬН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Century Schoolbook"/>
              </a:rPr>
              <a:t>    </a:t>
            </a:r>
            <a:r>
              <a:rPr b="0" lang="ru-RU" sz="2200" spc="-1" strike="noStrike">
                <a:solidFill>
                  <a:srgbClr val="00b050"/>
                </a:solidFill>
                <a:latin typeface="Century Schoolbook"/>
              </a:rPr>
              <a:t>-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ответствие требованиям  школы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-  умение принимать критику, соревнование, давление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способность ребенка познать самого себя, свою значимость, переход от зависимости к самосто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развитие уверенности в себе, веры ребенка в то, что он сможет справиться в школе;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ониманию своего места среди других: другой тоже хочет и имеет право;</a:t>
            </a:r>
            <a:br>
              <a:rPr sz="2200"/>
            </a:br>
            <a:r>
              <a:rPr b="0" lang="ru-RU" sz="2200" spc="-1" strike="noStrike">
                <a:solidFill>
                  <a:srgbClr val="675a00"/>
                </a:solidFill>
                <a:latin typeface="Times New Roman"/>
                <a:ea typeface="Times New Roman"/>
              </a:rPr>
              <a:t>- стремление к успехам, развитие уровня желаний, умение принимать удачи и неудачи на пути к исполнению желаний;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мение откладывать исполнение желания без чувства неудовлетворенности и унижен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 умение преодолевать отчаяние, проблемы и разочарования и продолжать учиться;</a:t>
            </a:r>
            <a:br>
              <a:rPr sz="2200"/>
            </a:br>
            <a:r>
              <a:rPr b="0" lang="ru-RU" sz="2200" spc="-1" strike="noStrike">
                <a:solidFill>
                  <a:srgbClr val="d0a80a"/>
                </a:solidFill>
                <a:latin typeface="Times New Roman"/>
                <a:ea typeface="Times New Roman"/>
              </a:rPr>
              <a:t>- способность принимать авторитет, выполнять указания с позитивным чувств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7467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28400" y="785880"/>
            <a:ext cx="7467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нает буквы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личает звуки на слух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ольшой запас слов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читает в пределах 10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меет элементарный запас знаний по математик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рошо подготовленной к письму рукой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правильно держать ручку, карандаш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ладает навыком рисования карандашом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обращаться со школьными принадлежностями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приготовиться к уроку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ладает элементарными навыками самообслуживания (умеет самостоятельно переодеться, знает, где его вещи).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куратен в одежде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спитанны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Рисунок 3" descr="http://tbn3.google.com/images?q=tbn:oas_Lcc00PuISM:http://www.securitylab.ru/upload/iblock/f70/f702531fc4216d7c4cf2ee302a716cb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4920" y="4929120"/>
            <a:ext cx="2571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ТОВНОСТЬ РОДИТЕЛ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-все время поддерживать ребенк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b050"/>
                </a:solidFill>
                <a:latin typeface="Century Schoolbook"/>
              </a:rPr>
              <a:t>- научиться сопереживать с ребёнком тяжёлые мо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- удержаться   от замечаний и претензи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-относится  к ребёнку крайне деликатно;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 -много разговаривать, искренне интересоваться  мыслями маленького школьника, его чувствами, а не только тем, сделал ли он уроки и что ел на обед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- относится с уважением к педагог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се сложности ребенок сможет преодолеть   достаточно быстро и легк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Стрелка вниз 3"/>
          <p:cNvSpPr/>
          <p:nvPr/>
        </p:nvSpPr>
        <p:spPr>
          <a:xfrm>
            <a:off x="2214720" y="4643280"/>
            <a:ext cx="357156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4" descr="http://tbn0.google.com/images?q=tbn:8NLM9HZMCW1CBM:http://medsblog.ru/wp-content/uploads/2008/05/be96d263-3695-4dc4-b8d9-27517a0d72f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5080" y="385776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МЯТКА РОДИТЕЛЯМ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КАК СТРОИТЬ ОТНОШЕНИЯ С УЧИТЕЛЕМ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носитесь всегда к учителю уважительно, особенно проявляйте это в присутствии своих детей, не говорите резко об ошибках педагогов, хотя они склонны ошибаться, как и все люди. Не сравнивайте предыдущего учителя с настоящим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Цените желание учителя сообщить Вам что-то новое и важное о ребенке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Не забывайте, что до 95% педагогов - женщины, а они требуют деликатности, сдержанности и внимания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Постарайтесь увидеть в учителе своего союзника, понять его озабоченность делами Вашего ребенка, разделяйте степень высокой ответственности, которую он несет на себе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Терпеливо выслушивайте педагога, не стесняйтесь и не бойтесь задавать любые вопросы, чтобы исключить недомолвки и неясности. Чем больше Вы будете знать, тем легче будет общаться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ТОВНОСТЬ К   ШКОЛ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356840"/>
            <a:ext cx="74674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Анатомо – физиологическ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Психологическ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отивацион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ммуникатив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лев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ллектуаль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Речев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Педагогическ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Рисунок 3" descr="Как определить готовность ребенка к школе?"/>
          <p:cNvPicPr/>
          <p:nvPr/>
        </p:nvPicPr>
        <p:blipFill>
          <a:blip r:embed="rId1"/>
          <a:stretch/>
        </p:blipFill>
        <p:spPr>
          <a:xfrm rot="857400">
            <a:off x="5286240" y="34286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сердитесь, если в речи педагога уловите поучительный тон: это профессиональная привычка многих людей, работающих с детьми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Не избегайте общения с педагогом, даже если он Вам не очень нравится, чаще пользуйтесь телефоном, проявляйте инициативу в установлении контакта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Конструктивно принимайте критику в свой адрес: в ней всегда есть моменты, которые обязательно нужно принять к сведению. Если содержание критических замечаний остается прежним, задумайтесь, почему нет изменений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Не давайте воли эмоциям: когда чувствуете, что их трудно контролировать, представьте себя на месте учителя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Если у Вас возникают трудности в воспитании ребенка, скажите об этом педагогу: вместе будет легче.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РТРЕТ ИДЕАЛЬНОГО ПЕРВОКЛАССНИ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ойчивое внимание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думать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делать выводы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фантазировать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блюдательный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рошо развита речь, умение выразить свои мысли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ориентироваться на пространстве листа бумаг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Рисунок 3" descr="http://tbn0.google.com/images?q=tbn:pZIAU0kRZmuLuM:http://www.sverdlovsk.yabloko.ru/images/view_pic.php3%3Fid%3D1140">
            <a:hlinkClick r:id="rId1"/>
          </p:cNvPr>
          <p:cNvPicPr/>
          <p:nvPr/>
        </p:nvPicPr>
        <p:blipFill>
          <a:blip r:embed="rId2"/>
          <a:stretch/>
        </p:blipFill>
        <p:spPr>
          <a:xfrm rot="270600">
            <a:off x="5072040" y="4429080"/>
            <a:ext cx="1571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строен на обучение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тов к серьезной работе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ится с интересом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чет узнавать новое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юбит думать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куратный, бережно обращается со школьными принадлежностями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являет интерес к самым разнообразным вопросам жиз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Рисунок 3" descr="http://tbn2.google.com/images?q=tbn:2vwWkP3NQANwoM:http://www.udmurt.ru/upload/iblock/2787cab3c712e64a45e4d444ffc17448.jpg">
            <a:hlinkClick r:id="rId1"/>
          </p:cNvPr>
          <p:cNvPicPr/>
          <p:nvPr/>
        </p:nvPicPr>
        <p:blipFill>
          <a:blip r:embed="rId2"/>
          <a:stretch/>
        </p:blipFill>
        <p:spPr>
          <a:xfrm rot="722400">
            <a:off x="4357440" y="4214880"/>
            <a:ext cx="20714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управлять своим поведением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бранный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средоточен на выполнении задания не очень интересного, но очень нужного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выдерживать напряжение в работе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сделать усилие воли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поставить "надо" выше желания "хочу"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слушать и выполнять требования учителя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сполнительный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идчивый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настроиться на работу, когда это необходимо</a:t>
            </a:r>
            <a:br>
              <a:rPr sz="2400"/>
            </a:b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Рисунок 3" descr="http://tbn0.google.com/images?q=tbn:94NsEqA_L_QVWM:http://visualrian.ru/storage/PreviewWM/1633/15/1633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5143680"/>
            <a:ext cx="23576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боится вступать в новый коллектив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боится обращаться с вопросами к учителю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нимает мимику учителя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слышать интонацию голоса учителя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рожит отношением к нему учителя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 чувством дистанции к взрослым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ственный за свои поступки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блюдающий необходимые нормы приличия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говорить свободно, не стесняясь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щительный    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кромный в общении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моционально отзывчивый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ажающий себя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ажающий товарищей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ажающий родителей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брый       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зывчивый к просьбам товарище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шее  состояние здоровья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Рисунок 3" descr="http://tbn1.google.com/images?q=tbn:dnBZAEgynAP6QM:http://www.svao.mos.ru/al/img/NU02.jpg"/>
          <p:cNvPicPr/>
          <p:nvPr/>
        </p:nvPicPr>
        <p:blipFill>
          <a:blip r:embed="rId1"/>
          <a:stretch/>
        </p:blipFill>
        <p:spPr>
          <a:xfrm rot="675000">
            <a:off x="5689080" y="3782520"/>
            <a:ext cx="25005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МЯТКА РОДИТЕЛЯМ ОТ РЕБЁН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юбите меня и не забывайте выражать свою любовь (взглядом, улыбкой, прикосновением). Любите меня просто за то, что я есть, и я стану еще лучше.  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йтесь проявлять твердость по отношению ко мне, особенно это касается ваших родительских требований. Я должен знать границы дозволенного.  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сравнивайте меня с другими. Я имею право быть другим и я единственный такой на всей земле.   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Я очень вас люблю и всегда хочу быть любимым вами. Поэтому не огорчайтесь, когда я раздражаюсь и злюсь на вас, когда капризничаю или кричу. Это пройдет. Мои чувства, как и ваши, не вечны. Возможно, я хочу, чтобы вы больше обращали на меня внимания.   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Никогда не обзывайте меня. Это больно ранит меня, тогда рушатся все мои надежды и я не верю в себ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 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entury Schoolbook"/>
              </a:rPr>
              <a:t>Не бейте и не унижайте меня. Я вырасту и буду мстить всему миру, наказывая себя и своих детей и делая вас несчастными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entury Schoolbook"/>
              </a:rPr>
              <a:t>Дайте мне право на ошибку и не заставляйте меня считать, что мои ошибки - преступления. Всем люди могут ошибаться. Никто не совершенен.   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a7007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8a7007"/>
                </a:solidFill>
                <a:latin typeface="Century Schoolbook"/>
              </a:rPr>
              <a:t>Найдите время и выслушайте меня. Иногда мне хочется рассказать о себе и моих проблемах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Не вызывайте у меня чувство вины и не говорите: "Из-за тебя в моей жизни ничего не складывается!" Ведь я не отвечаю за проблемы взрослых.  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e75c01"/>
                </a:solidFill>
                <a:latin typeface="Century Schoolbook"/>
              </a:rPr>
              <a:t>Помните, что я многому учусь у вас и хочу быть похожим на вас.  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Century Schoolbook"/>
              </a:rPr>
              <a:t>Будьте готовы воспринимать меня как личность, отдельную от вас и не похожею на вас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Представляйте требования, которые соответствуют моему возрасту. 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Century Schoolbook"/>
              </a:rPr>
              <a:t>Не делайте мне замечаний в присутствии других людей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              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Заботьтесь обо мне!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рогие наши первоклассники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ть ещё играете вы в классики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ть ещё шумите и шалите, но теперь пришли вы в школьный двор…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дут вас парты, разные уроки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дёт учитель вас – немного строгий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ть и малыши вы до сих пор!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ша школа рада видеть вас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ходите к нам учитьс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первый класс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Рисунок 4" descr="http://tbn2.google.com/images?q=tbn:2vwWkP3NQANwoM:http://www.udmurt.ru/upload/iblock/2787cab3c712e64a45e4d444ffc17448.jpg"/>
          <p:cNvPicPr/>
          <p:nvPr/>
        </p:nvPicPr>
        <p:blipFill>
          <a:blip r:embed="rId1"/>
          <a:stretch/>
        </p:blipFill>
        <p:spPr>
          <a:xfrm rot="409800">
            <a:off x="5832360" y="3746520"/>
            <a:ext cx="1870200" cy="2085840"/>
          </a:xfrm>
          <a:prstGeom prst="rect">
            <a:avLst/>
          </a:prstGeom>
          <a:ln w="0">
            <a:noFill/>
          </a:ln>
        </p:spPr>
      </p:pic>
      <p:sp>
        <p:nvSpPr>
          <p:cNvPr id="431" name="Рамка 4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b687"/>
                </a:solidFill>
                <a:latin typeface="Century Schoolbook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АТОМО – ФИЗИОЛОГИЧЕСКАЯ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ГОТОВНОСТ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Рост, вес, общее состояние здоровь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Анатомо-физиологическая перестройка организм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Качественные и структурные изменения головного мозг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0a80a"/>
                </a:solidFill>
                <a:latin typeface="Times New Roman"/>
                <a:ea typeface="Times New Roman"/>
              </a:rPr>
              <a:t>4.Изменения в протекании нервных проце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волевых качеств, необходимых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ущему школьнику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перестраивать своё поведение)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авая фигурная скобка 4"/>
          <p:cNvSpPr/>
          <p:nvPr/>
        </p:nvSpPr>
        <p:spPr>
          <a:xfrm rot="5400000">
            <a:off x="3393360" y="-107280"/>
            <a:ext cx="1357200" cy="7429680"/>
          </a:xfrm>
          <a:custGeom>
            <a:avLst/>
            <a:gdLst>
              <a:gd name="textAreaLeft" fmla="*/ 0 w 1357200"/>
              <a:gd name="textAreaRight" fmla="*/ 489960 w 1357200"/>
              <a:gd name="textAreaTop" fmla="*/ 290880 h 7429680"/>
              <a:gd name="textAreaBottom" fmla="*/ 7138800 h 742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2"/>
                  <a:pt x="10800" y="2704"/>
                </a:cubicBezTo>
                <a:lnTo>
                  <a:pt x="10800" y="7880"/>
                </a:lnTo>
                <a:cubicBezTo>
                  <a:pt x="10800" y="9232"/>
                  <a:pt x="16200" y="10584"/>
                  <a:pt x="21600" y="10584"/>
                </a:cubicBezTo>
                <a:cubicBezTo>
                  <a:pt x="16200" y="10584"/>
                  <a:pt x="10800" y="11936"/>
                  <a:pt x="10800" y="13288"/>
                </a:cubicBezTo>
                <a:lnTo>
                  <a:pt x="10800" y="18896"/>
                </a:lnTo>
                <a:cubicBezTo>
                  <a:pt x="10800" y="20248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КА БИОЛОГИЧЕСКОЙ ЗРЕЛОС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убной возраст – определяется подсчётом числа прорезавшихся коренных зубов и сопоставлении числа с возрастным стандарт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85920" y="2643120"/>
          <a:ext cx="6286320" cy="3786120"/>
        </p:xfrm>
        <a:graphic>
          <a:graphicData uri="http://schemas.openxmlformats.org/drawingml/2006/table">
            <a:tbl>
              <a:tblPr/>
              <a:tblGrid>
                <a:gridCol w="1571760"/>
                <a:gridCol w="1571400"/>
                <a:gridCol w="1571760"/>
                <a:gridCol w="1571400"/>
              </a:tblGrid>
              <a:tr h="1044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ста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ереж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 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 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-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 -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785880"/>
            <a:ext cx="7467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вочк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523880" y="1397160"/>
          <a:ext cx="6286680" cy="378612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</a:tblGrid>
              <a:tr h="1044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ста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ереж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 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 -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2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 -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 - 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МАТИЧЕСКАЯ ЗРЕЛ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эффициет  соматической зрелости (КСЗ)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хват головы (в см.) х 100 : р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928800" y="2071800"/>
          <a:ext cx="7215120" cy="4114800"/>
        </p:xfrm>
        <a:graphic>
          <a:graphicData uri="http://schemas.openxmlformats.org/drawingml/2006/table">
            <a:tbl>
              <a:tblPr/>
              <a:tblGrid>
                <a:gridCol w="1442880"/>
                <a:gridCol w="1443240"/>
                <a:gridCol w="1442880"/>
                <a:gridCol w="1442880"/>
                <a:gridCol w="1443240"/>
              </a:tblGrid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ст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ер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6,5     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5,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5,40-41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 71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 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 85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 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3,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3,90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39, 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39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АБЫЕ СТОРОНЫ В АНАТОМО –      ФИЗИОЛОГИЧЕСКОЙ ГОТОВНОСТ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ыстрое истощение запаса энерг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ость искривления позвоночн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Times New Roman"/>
                <a:ea typeface="Times New Roman"/>
              </a:rPr>
              <a:t>Искривление костей ру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гое соблюдение режима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зированные нагруз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актика  сколиоз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Стрелка вниз 3"/>
          <p:cNvSpPr/>
          <p:nvPr/>
        </p:nvSpPr>
        <p:spPr>
          <a:xfrm>
            <a:off x="3071880" y="3071880"/>
            <a:ext cx="242892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4" descr="http://tbn1.google.com/images?q=tbn:88sZ9ZLzxoK_TM:http://crydee.sai.msu.ru/Universe_and_us/4num/images/A-school.gif">
            <a:hlinkClick r:id="rId1"/>
          </p:cNvPr>
          <p:cNvPicPr/>
          <p:nvPr/>
        </p:nvPicPr>
        <p:blipFill>
          <a:blip r:embed="rId2"/>
          <a:stretch/>
        </p:blipFill>
        <p:spPr>
          <a:xfrm rot="21351600">
            <a:off x="5929200" y="364320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СИХОЛОГИЧЕСКАЯ ГОТОВ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857160"/>
            <a:ext cx="8043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ллектуальная готовность: развитие кругозора, запаса конкретных знани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щая осведомленность и социально-бытовой ориентировка;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ния и представления об окружающем мире;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развитие на уровне возраста основных познавательных процессов – внимания, памяти, мышления, восприятия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тие на уровне возраста временных представлений и взаиморасположении предметов в пространстве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знавательная  активность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птимальный темп деятельности, работоспособность, умение доводить начатое дело до конца;</a:t>
            </a:r>
            <a:br>
              <a:rPr sz="1900"/>
            </a:br>
            <a:r>
              <a:rPr b="0" lang="ru-RU" sz="1900" spc="-1" strike="noStrike">
                <a:solidFill>
                  <a:srgbClr val="e75c01"/>
                </a:solidFill>
                <a:latin typeface="Century Schoolbook"/>
              </a:rPr>
              <a:t> интерес к знаниям, процессу их получения за счет дополнительных усилий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entury Schoolbook"/>
              </a:rPr>
              <a:t>овладение на слух разговорной речью и способность к пониманию и применению символов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entury Schoolbook"/>
              </a:rPr>
              <a:t>развитие мелкой моторики и общей координации движений: тонких движений руки и зрительно-двигательных координаций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ТИВАЦИОННАЯ (ЛИЧНОСТНАЯ)   </a:t>
            </a:r>
            <a:br>
              <a:rPr sz="3000"/>
            </a:b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356840"/>
            <a:ext cx="74674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енняя                            внешня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ёнок хочет идти в школу,      у ребёнка поя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тому что там интересно          ранец, тетради, учебни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он хочет много узнать)              ки и т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ая позиция школьн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0" name="Прямая со стрелкой 4"/>
          <p:cNvCxnSpPr/>
          <p:nvPr/>
        </p:nvCxnSpPr>
        <p:spPr>
          <a:xfrm flipH="1">
            <a:off x="3071880" y="1285560"/>
            <a:ext cx="643320" cy="786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1" name="Прямая со стрелкой 11"/>
          <p:cNvCxnSpPr/>
          <p:nvPr/>
        </p:nvCxnSpPr>
        <p:spPr>
          <a:xfrm>
            <a:off x="4785120" y="1213920"/>
            <a:ext cx="715320" cy="786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82" name="Стрелка вниз 19"/>
          <p:cNvSpPr/>
          <p:nvPr/>
        </p:nvSpPr>
        <p:spPr>
          <a:xfrm>
            <a:off x="3000240" y="3929040"/>
            <a:ext cx="2571840" cy="642960"/>
          </a:xfrm>
          <a:prstGeom prst="downArrow">
            <a:avLst>
              <a:gd name="adj1" fmla="val 50000"/>
              <a:gd name="adj2" fmla="val 5232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20" descr="http://tbn1.google.com/images?q=tbn:fc5130MIn1HVSM:http://www.rostov.ru/home/articles/2007/05/25/163731/indigo.jpg">
            <a:hlinkClick r:id="rId1"/>
          </p:cNvPr>
          <p:cNvPicPr/>
          <p:nvPr/>
        </p:nvPicPr>
        <p:blipFill>
          <a:blip r:embed="rId2"/>
          <a:stretch/>
        </p:blipFill>
        <p:spPr>
          <a:xfrm rot="824400">
            <a:off x="6278400" y="4387680"/>
            <a:ext cx="21672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6:26:48Z</dcterms:created>
  <dc:creator>Юрий</dc:creator>
  <dc:description/>
  <dc:language>en-US</dc:language>
  <cp:lastModifiedBy>Admin</cp:lastModifiedBy>
  <dcterms:modified xsi:type="dcterms:W3CDTF">2012-10-21T08:43:33Z</dcterms:modified>
  <cp:revision>94</cp:revision>
  <dc:subject/>
  <dc:title>Готовность ребёнка к школе</dc:title>
</cp:coreProperties>
</file>