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F0B-592F-4FFC-88AA-8D8271BC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8D6-B72E-4E8E-9851-5FC0E45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FCA-C99C-4417-8EA4-D6D4EE63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899-A87D-4676-A52D-032C6C61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AF8-6B63-4F59-8AA4-7788EFA8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9EA-7787-4587-810B-A746A641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256-87E1-4821-981A-0B659B2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F87-90BD-4A27-B723-FA3A8412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9CC-4FFD-49D2-92F7-89567D58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115-DF0D-4A65-94CF-BEB5660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240-E105-4DF8-93BD-2CC8A98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772-A717-4EAB-867D-6B12BF2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F670-3587-4139-8BD1-1E2ABD61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izel-dere23.okis.ru/img/gizel-dere23/Katarina_den_stor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3/Levitzky_Portrait_of_Catherine_II_1780th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Catherine0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8/&#1060;&#1080;&#1082;&#1077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8/Coronation_portrait_of_Peter_III_of_Russia_-176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5/Bobrins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&#1044;&#1074;&#1086;&#1088;&#1077;&#1094;_&#1074;_&#1056;&#1086;&#1087;&#1096;&#1077;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Екатерина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. Путь к престол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5 из 548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997360"/>
            <a:ext cx="326700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Файл:Levitzky Portrait of Catherine II 1780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5920"/>
            <a:ext cx="434628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76720" y="549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2 сентября 1762 года Екатерина Алексеевна была коронована в Москве и стала императрицей под именем Екатерина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Файл:Catherin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89000"/>
            <a:ext cx="4083120" cy="619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0036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Файл:SPB Monument of Catherine II 1890-1900.jpg"/>
          <p:cNvPicPr/>
          <p:nvPr/>
        </p:nvPicPr>
        <p:blipFill>
          <a:blip r:embed="rId1"/>
          <a:stretch/>
        </p:blipFill>
        <p:spPr>
          <a:xfrm>
            <a:off x="2340000" y="0"/>
            <a:ext cx="4603680" cy="640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50920" y="649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Екатер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Файл:100 николаевских рублей - Катенька. Аверс.jpg"/>
          <p:cNvPicPr/>
          <p:nvPr/>
        </p:nvPicPr>
        <p:blipFill>
          <a:blip r:embed="rId1"/>
          <a:stretch/>
        </p:blipFill>
        <p:spPr>
          <a:xfrm>
            <a:off x="250920" y="260280"/>
            <a:ext cx="8351640" cy="517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92360" y="5589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Екатерины Великой на сторубле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292720" y="333000"/>
            <a:ext cx="3394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Родилась София Фредерика Августа Ангальт-Цербстская 21 апреля (2 мая) 1729 года в немецком померанском городе Штеттин (ныне Щецин в Польше).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Фик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24844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6453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1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08720" y="333000"/>
            <a:ext cx="3456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августа 1745 года Екатерина была обвенчана с Петром Фёдорови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4854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19280" y="333360"/>
            <a:ext cx="392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20 сентября  1754 году Екатерина родила сына, Павла (будущий император Павел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151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3280" y="4137120"/>
            <a:ext cx="396108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восшествие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тол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Coronation portrait of Peter III of Russia -176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56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Файл:Bobrinsk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4992480" cy="633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6237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Григорьевич Бобринский – внебрачный сын императр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Файл:Дворец в Ропш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280360" cy="573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093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ворец в Ропше, здесь погиб Петр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842000" cy="597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6237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завета Воронцова – фаворитка Петр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60680" cy="583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1052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47628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рлов Григорий Григорьевич – участник дворцового переворота 1762 года, фаворит Екатерины Вел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7:43:15Z</dcterms:created>
  <dc:creator>Вика</dc:creator>
  <dc:description/>
  <dc:language>en-US</dc:language>
  <cp:lastModifiedBy>Вика</cp:lastModifiedBy>
  <dcterms:modified xsi:type="dcterms:W3CDTF">2010-01-26T14:44:55Z</dcterms:modified>
  <cp:revision>3</cp:revision>
  <dc:subject/>
  <dc:title>Екатерина II. Путь к престолу</dc:title>
</cp:coreProperties>
</file>