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72B-5196-44E6-A45D-17B1CA0D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F45-F597-4628-8603-7B15E8E4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A6A-734D-44DD-A554-1C9FE6FF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0BE-4640-48E1-892D-F3A2AC28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1C6-3D80-4DA5-A81F-2D2EA21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656-BFC2-4F4A-9D56-C01591AA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ABC-CA53-44FF-B041-DE2439CF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EA0-2A87-4DA9-AC9E-ED903AAF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281-8610-4502-9B09-9BDC6D65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C34-D5CB-471E-ABD7-C700A70C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D09-3E45-484F-B6A9-FDAF7759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F41-1B23-456E-B3ED-F7CBA8A1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502B-19A4-448A-B687-C330076A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izel-dere23.okis.ru/img/gizel-dere23/Katarina_den_stor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3/Levitzky_Portrait_of_Catherine_II_1780th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0/Catherine0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9/98/&#1060;&#1080;&#1082;&#1077;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8/Coronation_portrait_of_Peter_III_of_Russia_-176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5/Bobrinsky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&#1044;&#1074;&#1086;&#1088;&#1077;&#1094;_&#1074;_&#1056;&#1086;&#1087;&#1096;&#1077;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Екатерина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. Путь к престол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5 из 548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997360"/>
            <a:ext cx="326700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Файл:Levitzky Portrait of Catherine II 1780t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5920"/>
            <a:ext cx="4346280" cy="65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76720" y="54936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22 сентября 1762 года Екатерина Алексеевна была коронована в Москве и стала императрицей под именем Екатерина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Файл:Catherin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89000"/>
            <a:ext cx="4083120" cy="619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00360" y="64911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рогу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Файл:SPB Monument of Catherine II 1890-1900.jpg"/>
          <p:cNvPicPr/>
          <p:nvPr/>
        </p:nvPicPr>
        <p:blipFill>
          <a:blip r:embed="rId1"/>
          <a:stretch/>
        </p:blipFill>
        <p:spPr>
          <a:xfrm>
            <a:off x="2340000" y="0"/>
            <a:ext cx="4603680" cy="6408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50920" y="64911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Екатер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нкт-Петер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Файл:100 николаевских рублей - Катенька. Аверс.jpg"/>
          <p:cNvPicPr/>
          <p:nvPr/>
        </p:nvPicPr>
        <p:blipFill>
          <a:blip r:embed="rId1"/>
          <a:stretch/>
        </p:blipFill>
        <p:spPr>
          <a:xfrm>
            <a:off x="250920" y="260280"/>
            <a:ext cx="8351640" cy="517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92360" y="55897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Екатерины Великой на сторубле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292720" y="333000"/>
            <a:ext cx="3394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Родилась София Фредерика Августа Ангальт-Цербстская 21 апреля (2 мая) 1729 года в немецком померанском городе Штеттин (ныне Щецин в Польше).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Фике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5248440" cy="626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6453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11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508720" y="333000"/>
            <a:ext cx="3456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августа 1745 года Екатерина была обвенчана с Петром Фёдорович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4854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219280" y="333360"/>
            <a:ext cx="3924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20 сентября  1754 году Екатерина родила сына, Павла (будущий император Павел 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151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3280" y="4137120"/>
            <a:ext cx="396108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 восшествие 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тол П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Coronation portrait of Peter III of Russia -176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48564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Файл:Bobrinsk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0"/>
            <a:ext cx="4992480" cy="633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6237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ей Григорьевич Бобринский – внебрачный сын императр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Файл:Дворец в Ропше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8280360" cy="573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6093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Дворец в Ропше, здесь погиб Петр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4842000" cy="597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35280" y="6237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завета Воронцова – фаворитка Петр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60680" cy="583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35640" y="105264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47628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рлов Григорий Григорьевич – участник дворцового переворота 1762 года, фаворит Екатерины Вел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7:43:15Z</dcterms:created>
  <dc:creator>Вика</dc:creator>
  <dc:description/>
  <dc:language>en-US</dc:language>
  <cp:lastModifiedBy>Вика</cp:lastModifiedBy>
  <dcterms:modified xsi:type="dcterms:W3CDTF">2010-01-26T14:44:55Z</dcterms:modified>
  <cp:revision>3</cp:revision>
  <dc:subject/>
  <dc:title>Екатерина II. Путь к престолу</dc:title>
</cp:coreProperties>
</file>