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3BF7-88AD-43CE-B729-7AC111FEB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7F14-3B30-4247-96C8-14FCFEC57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2CCF-F34E-415F-BB18-37A70A035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44CE-0749-449F-B95D-FD48173D0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9AA5-4A6F-45F9-A41F-6914DD9BE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2F85-0644-44D4-A993-2326A1CC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3623-E4CF-4F5F-8486-F7933F437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669F-47F0-4AD8-9019-D272FD40F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41BD-9641-421A-9AF9-A1834092A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06F1-655B-4248-A205-FDDAFF75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6BDA-3E04-4472-82C5-5D392514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BA7A-7EAA-4B3C-92B1-37C8DE30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D1BBF-F4EC-45EE-AABA-107600947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izel-dere23.okis.ru/img/gizel-dere23/Katarina_den_stora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0/03/Levitzky_Portrait_of_Catherine_II_1780th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9/90/Catherine02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ru/9/98/&#1060;&#1080;&#1082;&#1077;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0/08/Coronation_portrait_of_Peter_III_of_Russia_-1761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0/05/Bobrinsky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8/80/&#1044;&#1074;&#1086;&#1088;&#1077;&#1094;_&#1074;_&#1056;&#1086;&#1087;&#1096;&#1077;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Arial"/>
              </a:rPr>
              <a:t>Екатерина </a:t>
            </a:r>
            <a:r>
              <a:rPr b="1" lang="en-US" sz="7200" spc="-1" strike="noStrike">
                <a:solidFill>
                  <a:srgbClr val="ff3300"/>
                </a:solidFill>
                <a:latin typeface="Arial"/>
              </a:rPr>
              <a:t>II</a:t>
            </a:r>
            <a:r>
              <a:rPr b="1" lang="ru-RU" sz="7200" spc="-1" strike="noStrike">
                <a:solidFill>
                  <a:srgbClr val="ff3300"/>
                </a:solidFill>
                <a:latin typeface="Arial"/>
              </a:rPr>
              <a:t>. Путь к престол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Картинка 5 из 5488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2997360"/>
            <a:ext cx="3267000" cy="36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Файл:Levitzky Portrait of Catherine II 1780th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15920"/>
            <a:ext cx="4346280" cy="6553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076720" y="549360"/>
            <a:ext cx="381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22 сентября 1762 года Екатерина Алексеевна была коронована в Москве и стала императрицей под именем Екатерина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Файл:Catherine0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11280" y="189000"/>
            <a:ext cx="4083120" cy="6192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700360" y="649116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катери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прогул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Файл:SPB Monument of Catherine II 1890-1900.jpg"/>
          <p:cNvPicPr/>
          <p:nvPr/>
        </p:nvPicPr>
        <p:blipFill>
          <a:blip r:embed="rId1"/>
          <a:stretch/>
        </p:blipFill>
        <p:spPr>
          <a:xfrm>
            <a:off x="2340000" y="0"/>
            <a:ext cx="4603680" cy="6408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050920" y="649116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мятник Екатери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анкт-Петербур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Файл:100 николаевских рублей - Катенька. Аверс.jpg"/>
          <p:cNvPicPr/>
          <p:nvPr/>
        </p:nvPicPr>
        <p:blipFill>
          <a:blip r:embed="rId1"/>
          <a:stretch/>
        </p:blipFill>
        <p:spPr>
          <a:xfrm>
            <a:off x="250920" y="260280"/>
            <a:ext cx="8351640" cy="5178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692360" y="558972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ображение Екатерины Великой на сторублев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292720" y="333000"/>
            <a:ext cx="3394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Родилась София Фредерика Августа Ангальт-Цербстская 21 апреля (2 мая) 1729 года в немецком померанском городе Штеттин (ныне Щецин в Польше).</a:t>
            </a:r>
            <a:r>
              <a:rPr b="0" lang="ru-RU" sz="32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Файл:Фике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89000"/>
            <a:ext cx="5248440" cy="6264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50920" y="6453360"/>
            <a:ext cx="50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катери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11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508720" y="333000"/>
            <a:ext cx="34560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 августа 1745 года Екатерина была обвенчана с Петром Фёдорович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00000" y="189000"/>
            <a:ext cx="48546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5219280" y="333360"/>
            <a:ext cx="392436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20 сентября  1754 году Екатерина родила сына, Павла (будущий император Павел I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51516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5003280" y="4137120"/>
            <a:ext cx="3961080" cy="27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7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год восшествие 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стол Петр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Файл:Coronation portrait of Peter III of Russia -176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89000"/>
            <a:ext cx="4856400" cy="63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Файл:Bobrinsk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92360" y="0"/>
            <a:ext cx="4992480" cy="6335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116000" y="623736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ексей Григорьевич Бобринский – внебрачный сын императриц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Файл:Дворец в Ропше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260280"/>
            <a:ext cx="8280360" cy="5734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63640" y="609300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Дворец в Ропше, здесь погиб Петр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979640" y="115920"/>
            <a:ext cx="4842000" cy="5977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835280" y="6237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лизавета Воронцова – фаворитка Петра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4360680" cy="5832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435640" y="1052640"/>
            <a:ext cx="352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148360" y="476280"/>
            <a:ext cx="381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Орлов Григорий Григорьевич – участник дворцового переворота 1762 года, фаворит Екатерины Вели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17:43:15Z</dcterms:created>
  <dc:creator>Вика</dc:creator>
  <dc:description/>
  <dc:language>en-US</dc:language>
  <cp:lastModifiedBy>Вика</cp:lastModifiedBy>
  <dcterms:modified xsi:type="dcterms:W3CDTF">2010-01-26T14:44:55Z</dcterms:modified>
  <cp:revision>3</cp:revision>
  <dc:subject/>
  <dc:title>Екатерина II. Путь к престолу</dc:title>
</cp:coreProperties>
</file>