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0122-BAC9-47B8-AC54-C04A33AB70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C733-9DF2-458A-90EA-D5FBFF576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3595-8F3D-47AA-8DE5-FAE773361E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12D1-63B3-422B-A39C-AD908264CA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3397-75DA-45DF-9AFD-5F41106DE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C5F-0830-4FAC-862E-C636DD4B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674-028D-43C9-B332-7EC72B87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DEE-BC3C-43EA-9D55-571FAD25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98C-EB00-430C-A006-094B984E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211-B607-43DA-B379-F807F92C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3B8-1672-4719-89D2-A719AB98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739-DCE6-4ECE-B463-F6A7C1B7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888-6BE8-4DFB-B68C-DF64349C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B18-7731-4DD3-BDB0-6A5376F5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397-1B69-4B9B-9C92-8EA77B9F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565-11AC-4196-9098-14D8059D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D4A-AB2F-40F3-B62A-400134AC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2188-8A3A-44EB-B4BD-FC074AEF5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respectme.ru/aphorism/family" TargetMode="External"/><Relationship Id="rId3" Type="http://schemas.openxmlformats.org/officeDocument/2006/relationships/hyperlink" Target="http://www.respectme.ru/aphorism/family" TargetMode="External"/><Relationship Id="rId4" Type="http://schemas.openxmlformats.org/officeDocument/2006/relationships/hyperlink" Target="http://www.prodlenka.org/nachalnaia-shkola/detskaia-agressiia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google.ru/search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2mm.ru/vospitanie/90/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www.google.ru/search" TargetMode="External"/><Relationship Id="rId5" Type="http://schemas.openxmlformats.org/officeDocument/2006/relationships/hyperlink" Target="http://festival.1september.ru/articles/580294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2mm.ru/vospitanie/90/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www.google.ru/search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50920" y="166680"/>
            <a:ext cx="864216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ма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ская агрессивность и её причи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у родителей умения выявлять причины агрессивности детей и корректировать свое поведение в отношениях с ребенком в конфликтных ситу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детской агрессивности не случайна. За последнее десятилетие во всём мире отмечается рост насильственных действий, сопряжённых с особой жестокостью, вандализмом и глумлением над людьми. Сегодня мы сталкиваемся с разгулом агрессии не только в обществе, но и в семье. Такие социально-опасные проявления, обычно связанные с понятиями агрессии и агрессивности, вызывают серьёзное беспокойство. Возраст проявления агрессии явно помолодел. Агрессию проявляют не только подростки и взрослые, как принято считать. Агрессию проявляют и малыши. С чем это связано? Как бороться с проявлением детской агресс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108000" y="4581360"/>
            <a:ext cx="6840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зентацию подготовила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 Лариса Александровна, заместитель заведующего по воспитательно-методической рабо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звание учреждения: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автономное учреждение детский сад № 95 (МДОАУ № 95) г. Белого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324000" y="284040"/>
            <a:ext cx="83516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ожем ребенку справится с агре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ажно, чтобы в семье были четкие правила и одинаковые требования к ребенку у всех окружающих его взрослых. Тогда у ребенка будет меньше шансов манипулировать своей агрессивностью, он не сможет сказать, что: «Мама плохая, потому что не дает смотреть телевизор, а папа хороший, потому что разрешае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обучения контролю над своим поведением очень полезны любые игры с прави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грайте в Красную Шапочку, в Ивана-царевича и Кощея Бессмертного. Пусть при этом малыш покажет вам, как он «героически» расправится с негодяем, как одолеет всех вокруг, потому что он – храбрый и сильный. Все это поможет вам направить его агрессию в «мирное русл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удьте рядом с вашим малышом, когда он осваивает навыки общения (например, приходит в новый коллектив). Поддерживайте его в обучении новым, разнообразным способам контактов с детьми и взросл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366840" y="4100400"/>
            <a:ext cx="65595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 самое главное – ваш пример в конфликтных ситуациях. У дошкольников сильно развито подражание, они копируют поведение взрослых и друг друга. Поэтому если у вашего ребенка возникают проблемы с агрессивным поведением, подумайте: а как вы сами обращаетесь со своими чувствами злости и гне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sychologos.ru/articles/view/chto_takoe_detskaya_agressiv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230040" y="104760"/>
            <a:ext cx="87346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230040" y="260280"/>
            <a:ext cx="85899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родителей и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над  собственными негативными  эмоциональными состояниями, так как умение взрослого владеть собой является лучшим гарантом адекватного поведени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приемами конструктивного, позитивного общения в целях исключения ответной агрессивной поведенческой реакции со стороны детей или погашения уже имеющей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с ребенком о своих чувствах и переживаниях, язык  «Я-сообщен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тивно слушать»  внутренний мир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ценивать личность ребенка, а говорить о нежелательных действиях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в словах и действиях детей позитивный настрой и благие наме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ть навыками саморегуля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23920" y="6137280"/>
            <a:ext cx="39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79280" y="260280"/>
            <a:ext cx="86407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ТЧА  «О МУДРЕЦЕ И БАБОЧК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история произошла давным-давно в старинном городе, в котором жил великий мудрец. Слава о его мудрости разнеслась далеко вокруг его родного города. Но был в городе человек, завидующий его сла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решил он придумать такой вопрос, чтобы мудрец не смог на него ответить. И он пошел на луг, поймал бабочку, посадил ее между сомкнутых ладоней и подумал: «Спрошу-ка я у мудреца: скажи, о мудрейший, какая бабочка у меня в руках - живая или мертвая? Если он скажет - живая, я сомкну ладони, и бабочка умрет, а если он скажет - мертвая, я раскрою ладони и бабочка улетит. Вот тогда все поймут, кто из нас умне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се и случилось. Завистник поймал бабочку, посадил ее между ладонями и отправился к мудрецу. И он спросил у того: «Какая бабочка у меня в руках, о мудрейший, - живая или мертвая?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гда мудрец, который действительно был мудрым человеком, сказа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В ТВОИХ РУКАХ…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189000" y="4505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diavip.wellnet.me/page46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49280" y="5713560"/>
            <a:ext cx="68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, которого мы воспитываем, тоже находится в наших руках, и от нас зависит, что и кто из наших рук выйдет в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246240" y="762120"/>
            <a:ext cx="799776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ечения великих педагогов на тему «Агресс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Агре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я агрессии у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ологические особенности агрессивных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способствующие становлению детской агресс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жем ребенку справиться с агресс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родителей и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ча «Все в твоих руках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230040" y="104760"/>
            <a:ext cx="87346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90000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55640" y="1528920"/>
            <a:ext cx="669600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8000" y="175320"/>
            <a:ext cx="86421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речения великих педагогов на тему «Агресс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кать дети должны не в уголочке, брошенные всеми, а в любящих рук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он Ньюфел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respectme.ru/aphorism/fam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видим раздражённого, расстроенного ребёнка, наш порыв - помочь ему. Другое дело, когда мы видим маленького агрессивного эгоиста, грубого, жестокого, требовательного. Так что наша первоочередная задача - увидеть в агрессии фрустра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он Ньюфел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respectme.ru/aphorism/fam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обладает способностью любить, и если он не может найти применение своей способности любить, он способен ненавидеть, проявляя агрессию и жестокость. Этим средством он руководствуется как бегством от собственной душевной бо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х Фро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prodlenka.org/nachalnaia-shkola/detskaia-agressii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влияния воспитания и семейных отношений на становление агрессивного поведения детей показало, что существует «прямая взаимосвязь между наказаниями, выговорами, отсутствием поощрений, с одной стороны, и родительскими установками на неприятие ребенка в целом – с дуг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08000" y="4941720"/>
            <a:ext cx="738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Бандура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сихологическая коррекция агрессивного поведения детей / Т.П. Смирнова. – Ростов н/Д.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Феникс, 2005. – 145с. – (Психологический практику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17716680" cy="13287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179280" y="620640"/>
            <a:ext cx="86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ы с вами помним фильм Ролана Быкова «Чучело»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1"/>
          <p:cNvSpPr/>
          <p:nvPr/>
        </p:nvSpPr>
        <p:spPr>
          <a:xfrm>
            <a:off x="3425400" y="189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2" descr=""/>
          <p:cNvPicPr/>
          <p:nvPr/>
        </p:nvPicPr>
        <p:blipFill>
          <a:blip r:embed="rId2"/>
          <a:srcRect l="0" t="0" r="0" b="5821"/>
          <a:stretch/>
        </p:blipFill>
        <p:spPr>
          <a:xfrm>
            <a:off x="449280" y="1341360"/>
            <a:ext cx="3330720" cy="42800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4"/>
          <p:cNvSpPr/>
          <p:nvPr/>
        </p:nvSpPr>
        <p:spPr>
          <a:xfrm>
            <a:off x="539640" y="602136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google.ru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3995640" y="1197000"/>
            <a:ext cx="48974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помните, чем была вызвана агрессия со стороны детей к девочке Лене?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взяла вину другого ученика на себя, её считают предател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объясняет автор фильма поведение каждого подростка?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й девочки были проблемы с матерью - та ей постоянно лга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из ребят хотел таким образом самоутвердиться; у кого-то из детей были проблемы в семье между родителя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формы приобретает в фильме агрессия детей?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ение, угрозы, запугивание, оскорб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уда же дети «приобрели» такой опыт общения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6"/>
          <p:cNvSpPr/>
          <p:nvPr/>
        </p:nvSpPr>
        <p:spPr>
          <a:xfrm>
            <a:off x="3995640" y="429264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, что в агрессивном поведении детей виноваты мы - взрослые. Давайте попробуем найти причины детской агрессивности. Агрессивное поведение станет понятнее, если разобраться в сущности самого понятия агрессии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28"/>
          <p:cNvSpPr/>
          <p:nvPr/>
        </p:nvSpPr>
        <p:spPr>
          <a:xfrm>
            <a:off x="4297320" y="2825640"/>
            <a:ext cx="31114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агрессивного поведения дете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рожают другим детям, взрослым (вербально, жестом, взглядо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ициируют физические дра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ют в драке предметы, которые могут ран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и жестоки по отношению к людям и животным (намеренно делают больн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меренная порча 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шантаж, вымог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230040" y="104760"/>
            <a:ext cx="87346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250920" y="620640"/>
            <a:ext cx="8642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грессивность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но от латинског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o - напад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грессия  проявляется через причинение ущерба человеку или предмет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выражение эмоции, а эмоция – это то, что мы испытываем вне зависимости от наших желаний. Нередко дети слышат от родителей: «Перестань злиться!», «Хватит кричать!». Ребенок получает послание, что это плохо. Теперь он будет стараться подавить злость и гнев, а так как это не будет получаться, он будет чувствовать вину за испытываемые естественные чув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2mm.ru/vospitanie/90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3143520" y="1159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агресс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433440" y="3084480"/>
            <a:ext cx="3327480" cy="5956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611280" y="639432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google.ru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353480" y="6215040"/>
            <a:ext cx="34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5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55640" y="1528920"/>
            <a:ext cx="669600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179280" y="189000"/>
            <a:ext cx="87138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явления агрессии у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случиться дальше? Разные варианты. Можно подраться с тем, кто под руку подвернется. Можно устроить истерику по пустяковому поводу. А можно направить всю агрессию на себя и заболеть каким-либо психосоматическим заболева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основных проявления агресс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ка, поведение и реч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явления злости и гнева у детей более отчетливы, и менее замаскированы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ятилетняя Аня, когда злится, краснеет от напряжения, сжимает кулаки и говорит: «Я тебя съем!». Сережа, прежде чем начать драться, прищуривает глаза и топает ногой. А Ванечка, насупившись, отворачивается и не хочет говор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уметь замечать проявления агрессии именно у вашего ребенка. Это может пригодиться, чтобы научить его выражать свой гнев в социально приемлемых форм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2mm.ru/vospitanie/90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622440" y="3511440"/>
            <a:ext cx="4363920" cy="3041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646200" y="6407280"/>
            <a:ext cx="34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google.ru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4000" y="1773360"/>
            <a:ext cx="67690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449280" y="260280"/>
            <a:ext cx="82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Характерологические особенности агрессивны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хема 7" descr=""/>
          <p:cNvPicPr/>
          <p:nvPr/>
        </p:nvPicPr>
        <p:blipFill>
          <a:blip r:embed="rId2"/>
          <a:stretch/>
        </p:blipFill>
        <p:spPr>
          <a:xfrm>
            <a:off x="176040" y="762120"/>
            <a:ext cx="6096240" cy="56941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1"/>
          <p:cNvSpPr/>
          <p:nvPr/>
        </p:nvSpPr>
        <p:spPr>
          <a:xfrm>
            <a:off x="1476360" y="6397560"/>
            <a:ext cx="59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Рисунок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28"/>
          <p:cNvSpPr/>
          <p:nvPr/>
        </p:nvSpPr>
        <p:spPr>
          <a:xfrm>
            <a:off x="236520" y="692280"/>
            <a:ext cx="8439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Сем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охие отношения с одним или двумя 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щущение безразличия к своим чувств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необходимой поддержки  со стороны родителей и заинтересованности их жизн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тиворечивость требований к ребенку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36520" y="104760"/>
            <a:ext cx="873432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900000" y="2095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, способствующие становлению детской агрессив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1590840" y="2712960"/>
            <a:ext cx="4408200" cy="357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3"/>
          <a:stretch/>
        </p:blipFill>
        <p:spPr>
          <a:xfrm>
            <a:off x="1897200" y="6335640"/>
            <a:ext cx="3456000" cy="530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4"/>
          <p:cNvSpPr/>
          <p:nvPr/>
        </p:nvSpPr>
        <p:spPr>
          <a:xfrm>
            <a:off x="5003640" y="2484360"/>
            <a:ext cx="39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0" y="6591240"/>
            <a:ext cx="900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768320" y="2987640"/>
            <a:ext cx="4997520" cy="34066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195120" y="189000"/>
            <a:ext cx="862488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Негативный стиль общения с ребенк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рбальное оскорбление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норирование чувств,  желаний ребенка. Данный стиль общения нацеливает ребенка на борьбу и мстительное по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003640" y="1927080"/>
            <a:ext cx="39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962000" y="6432480"/>
            <a:ext cx="3456000" cy="5302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3805200" y="25113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42Z</dcterms:created>
  <dc:creator>K.Y.</dc:creator>
  <dc:description/>
  <dc:language>en-US</dc:language>
  <cp:lastModifiedBy>Admin</cp:lastModifiedBy>
  <dcterms:modified xsi:type="dcterms:W3CDTF">2013-01-22T18:22:25Z</dcterms:modified>
  <cp:revision>50</cp:revision>
  <dc:subject/>
  <dc:title>НАПИСАНИЕ ОСНОВНОЙ ОБЩЕОБРАЗОВАТЕЛЬНОЙ ПРОГРАММЫ ДОШКОЛЬНОГО ОБРАЗОВАТЕЛЬНОГО УЧРЕЖДЕНИЯ</dc:title>
</cp:coreProperties>
</file>