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7E5-CFF6-49CC-8C3C-E2AD71997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7769-0F0E-4452-88B9-7DEA7EBE9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D42-BDA4-43AB-ACD5-FF31ED9BB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824B-E3E9-4451-A369-90E2600D7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3079-D281-4EBD-AB20-750D40FEB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468-AAFB-4238-AAF4-A0B08E6A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45A-9211-4945-B6A0-43BF4D6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F49-6EEB-47DF-9522-9471115E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78C-FD9C-495F-972D-6DC74B83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E9A-F332-4AB4-B796-EBCC375D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C0D-C662-4E03-92CE-4C1C967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0BD-0045-458B-9081-A2D3E3CF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2B1-42FC-4E18-B5E5-0F0AD7D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D99-0416-44E0-B198-66FE3C1A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6F6-08FF-44FB-99A6-72BF961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1B8-5FCA-44C5-9A62-B80A471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B56-7EA8-4BE1-8C1F-0949CBA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8891-7B8E-4F9D-9C81-27B0E665B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espectme.ru/aphorism/family" TargetMode="External"/><Relationship Id="rId3" Type="http://schemas.openxmlformats.org/officeDocument/2006/relationships/hyperlink" Target="http://www.respectme.ru/aphorism/family" TargetMode="External"/><Relationship Id="rId4" Type="http://schemas.openxmlformats.org/officeDocument/2006/relationships/hyperlink" Target="http://www.prodlenka.org/nachalnaia-shkola/detskaia-agressiia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google.ru/search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2mm.ru/vospitanie/90/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festival.1september.ru/articles/580294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2mm.ru/vospitanie/90/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google.ru/search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0920" y="166680"/>
            <a:ext cx="864216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ая агрессивность и её прич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у родителей умения выявлять причины агрессивности детей и корректировать свое поведение в отношениях с ребенком в конфликт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етской агрессивности не случайна. За последнее десятилетие во всём мире отмечается рост насильственных действий, сопряжённых с особой жестокостью, вандализмом и глумлением над людьми. Сегодня мы сталкиваемся с разгулом агрессии не только в обществе, но и в семье. Такие социально-опасные проявления, обычно связанные с понятиями агрессии и агрессивности, вызывают серьёзное беспокойство. Возраст проявления агрессии явно помолодел. Агрессию проявляют не только подростки и взрослые, как принято считать. Агрессию проявляют и малыши. С чем это связано? Как бороться с проявлением детской агресс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108000" y="4581360"/>
            <a:ext cx="684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ентацию подготовила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 Лариса Александровна, заместитель заведующего по воспитательно-методическ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звание учреждения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 детский сад № 95 (МДОАУ № 95) г. Белого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324000" y="284040"/>
            <a:ext cx="83516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жем ребенку справится с агре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жно, чтобы в семье были четкие правила и одинаковые требования к ребенку у всех окружающих его взрослых. Тогда у ребенка будет меньше шансов манипулировать своей агрессивностью, он не сможет сказать, что: «Мама плохая, потому что не дает смотреть телевизор, а папа хороший, потому что разреша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обучения контролю над своим поведением очень полезны любые игры с прави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айте в Красную Шапочку, в Ивана-царевича и Кощея Бессмертного. Пусть при этом малыш покажет вам, как он «героически» расправится с негодяем, как одолеет всех вокруг, потому что он – храбрый и сильный. Все это поможет вам направить его агрессию в «мирное рус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удьте рядом с вашим малышом, когда он осваивает навыки общения (например, приходит в новый коллектив). Поддерживайте его в обучении новым, разнообразным способам контактов с детьми и взросл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66840" y="4100400"/>
            <a:ext cx="6559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 самое главное – ваш пример в конфликтных ситуациях. У дошкольников сильно развито подражание, они копируют поведение взрослых и друг друга. Поэтому если у вашего ребенка возникают проблемы с агрессивным поведением, подумайте: а как вы сами обращаетесь со своими чувствами злости и гне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sychologos.ru/articles/view/chto_takoe_detskaya_agressiv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230040" y="260280"/>
            <a:ext cx="85899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д  собственными негативными  эмоциональными состояниями, так как умение взрослого владеть собой является лучшим гарантом адекватного поведе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приемами конструктивного, позитивного общения в целях исключения ответной агрессивной поведенческой реакции со стороны детей или погашения уже имеющей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с ребенком о своих чувствах и переживаниях, язык  «Я-сообщен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ивно слушать»  внутренний мир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ценивать личность ребенка, а говорить о нежелательных действиях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в словах и действиях детей позитивный настрой и благие наме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навыками саморегуля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23920" y="613728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79280" y="260280"/>
            <a:ext cx="8640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ЧА  «О МУДРЕЦЕ И БАБОЧК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история произошла давным-давно в старинном городе, в котором жил великий мудрец. Слава о его мудрости разнеслась далеко вокруг его родного города. Но был в городе человек, завидующий его сл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решил он придумать такой вопрос, чтобы мудрец не смог на него ответить. И он пошел на луг, поймал бабочку, посадил ее между сомкнутых ладоней и подумал: «Спрошу-ка я у мудреца: скажи, о мудрейший, какая бабочка у меня в руках - живая или мертвая? Если он скажет - живая, я сомкну ладони, и бабочка умрет, а если он скажет - мертвая, я раскрою ладони и бабочка улетит. Вот тогда все поймут, кто из нас умне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се и случилось. Завистник поймал бабочку, посадил ее между ладонями и отправился к мудрецу. И он спросил у того: «Какая бабочка у меня в руках, о мудрейший, - живая или мертвая?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мудрец, который действительно был мудрым человеком, сказа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В ТВОИХ РУКАХ…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189000" y="4505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diavip.wellnet.me/page46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49280" y="5713560"/>
            <a:ext cx="68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, которого мы воспитываем, тоже находится в наших руках, и от нас зависит, что и кто из наших рук выйдет в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246240" y="762120"/>
            <a:ext cx="799776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ечения великих педагогов на тему «Агресс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гре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я агрессии у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ологические особенности агрессивных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м ребенку справиться с агресс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ча «Все в твоих руках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90000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5640" y="1528920"/>
            <a:ext cx="669600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8000" y="175320"/>
            <a:ext cx="86421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речения великих педагогов на тему «Агресс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ь дети должны не в уголочке, брошенные всеми, а в любящ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н Ньюфел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respectme.ru/aphorism/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видим раздражённого, расстроенного ребёнка, наш порыв - помочь ему. Другое дело, когда мы видим маленького агрессивного эгоиста, грубого, жестокого, требовательного. Так что наша первоочередная задача - увидеть в агрессии фрустра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н Ньюфел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respectme.ru/aphorism/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обладает способностью любить, и если он не может найти применение своей способности любить, он способен ненавидеть, проявляя агрессию и жестокость. Этим средством он руководствуется как бегством от собственной душевной бо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х Фро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prodlenka.org/nachalnaia-shkola/detskaia-agressii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влияния воспитания и семейных отношений на становление агрессивного поведения детей показало, что существует «прямая взаимосвязь между наказаниями, выговорами, отсутствием поощрений, с одной стороны, и родительскими установками на неприятие ребенка в целом – с дуг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08000" y="4941720"/>
            <a:ext cx="73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Бандура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логическая коррекция агрессивного поведения детей / Т.П. Смирнова. – Ростов н/Д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еникс, 2005. – 145с. – (Психологический практику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17716680" cy="13287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179280" y="62064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ы с вами помним фильм Ролана Быкова «Чучело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3425400" y="189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2" descr=""/>
          <p:cNvPicPr/>
          <p:nvPr/>
        </p:nvPicPr>
        <p:blipFill>
          <a:blip r:embed="rId2"/>
          <a:srcRect l="0" t="0" r="0" b="5821"/>
          <a:stretch/>
        </p:blipFill>
        <p:spPr>
          <a:xfrm>
            <a:off x="449280" y="1341360"/>
            <a:ext cx="3330720" cy="4280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4"/>
          <p:cNvSpPr/>
          <p:nvPr/>
        </p:nvSpPr>
        <p:spPr>
          <a:xfrm>
            <a:off x="539640" y="6021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3995640" y="1197000"/>
            <a:ext cx="4897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помните, чем была вызвана агрессия со стороны детей к девочке Лене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зяла вину другого ученика на себя, её считают предател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объясняет автор фильма поведение каждого подростка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й девочки были проблемы с матерью - та ей постоянно лга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из ребят хотел таким образом самоутвердиться; у кого-то из детей были проблемы в семье между родител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формы приобретает в фильме агрессия детей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ение, угрозы, запугивание, оскорб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уда же дети «приобрели» такой опыт общени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3995640" y="429264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, что в агрессивном поведении детей виноваты мы - взрослые. Давайте попробуем найти причины детской агрессивности. Агрессивное поведение станет понятнее, если разобраться в сущности самого понятия агрессии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28"/>
          <p:cNvSpPr/>
          <p:nvPr/>
        </p:nvSpPr>
        <p:spPr>
          <a:xfrm>
            <a:off x="4297320" y="2825640"/>
            <a:ext cx="31114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агрессивного поведения дете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рожают другим детям, взрослым (вербально, жестом, взгляд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ициируют физические дра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ют в драке предметы, которые могут ра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и жестоки по отношению к людям и животным (намеренно делают боль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еренная порча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нтаж, вымог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250920" y="620640"/>
            <a:ext cx="8642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грессивность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но от латинског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 - напа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грессия  проявляется через причинение ущерба человеку или предме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ыражение эмоции, а эмоция – это то, что мы испытываем вне зависимости от наших желаний. Нередко дети слышат от родителей: «Перестань злиться!», «Хватит кричать!». Ребенок получает послание, что это плохо. Теперь он будет стараться подавить злость и гнев, а так как это не будет получаться, он будет чувствовать вину за испытываемые естественные чув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2mm.ru/vospitanie/9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3143520" y="1159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433440" y="3084480"/>
            <a:ext cx="3327480" cy="5956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611280" y="639432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353480" y="6215040"/>
            <a:ext cx="34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1528920"/>
            <a:ext cx="669600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179280" y="189000"/>
            <a:ext cx="87138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я агрессии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случиться дальше? Разные варианты. Можно подраться с тем, кто под руку подвернется. Можно устроить истерику по пустяковому поводу. А можно направить всю агрессию на себя и заболеть каким-либо психосоматическим заболе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основных проявления агресс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, поведение и реч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явления злости и гнева у детей более отчетливы, и менее замаскированы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ятилетняя Аня, когда злится, краснеет от напряжения, сжимает кулаки и говорит: «Я тебя съем!». Сережа, прежде чем начать драться, прищуривает глаза и топает ногой. А Ванечка, насупившись, отворачивается и не хочет говор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уметь замечать проявления агрессии именно у вашего ребенка. Это может пригодиться, чтобы научить его выражать свой гнев в социально приемлемых форм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2mm.ru/vospitanie/9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622440" y="3511440"/>
            <a:ext cx="4363920" cy="304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646200" y="640728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49280" y="26028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Характерологические особенности агрессивн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176040" y="762120"/>
            <a:ext cx="6096240" cy="56941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1"/>
          <p:cNvSpPr/>
          <p:nvPr/>
        </p:nvSpPr>
        <p:spPr>
          <a:xfrm>
            <a:off x="1476360" y="6397560"/>
            <a:ext cx="59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236520" y="692280"/>
            <a:ext cx="8439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Сем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охие отношения с одним или двумя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щущение безразличия к своим чувств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необходимой поддержки  со стороны родителей и заинтересованности их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тиворечивость требований к ребенку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36520" y="104760"/>
            <a:ext cx="87343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900000" y="2095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1590840" y="2712960"/>
            <a:ext cx="4408200" cy="357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3"/>
          <a:stretch/>
        </p:blipFill>
        <p:spPr>
          <a:xfrm>
            <a:off x="1897200" y="6335640"/>
            <a:ext cx="3456000" cy="530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4"/>
          <p:cNvSpPr/>
          <p:nvPr/>
        </p:nvSpPr>
        <p:spPr>
          <a:xfrm>
            <a:off x="5003640" y="248436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768320" y="2987640"/>
            <a:ext cx="4997520" cy="3406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195120" y="189000"/>
            <a:ext cx="86248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Негативный стиль общения с ребенк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бальное оскорбл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норирование чувств,  желаний ребенка. Данный стиль общения нацеливает ребенка на борьбу и мстительное по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3640" y="192708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962000" y="6432480"/>
            <a:ext cx="3456000" cy="530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3805200" y="2511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42Z</dcterms:created>
  <dc:creator>K.Y.</dc:creator>
  <dc:description/>
  <dc:language>en-US</dc:language>
  <cp:lastModifiedBy>Admin</cp:lastModifiedBy>
  <dcterms:modified xsi:type="dcterms:W3CDTF">2013-01-22T18:22:25Z</dcterms:modified>
  <cp:revision>50</cp:revision>
  <dc:subject/>
  <dc:title>НАПИСАНИЕ ОСНОВНОЙ ОБЩЕОБРАЗОВАТЕЛЬНОЙ ПРОГРАММЫ ДОШКОЛЬНОГО ОБРАЗОВАТЕЛЬНОГО УЧРЕЖДЕНИЯ</dc:title>
</cp:coreProperties>
</file>