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5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16C-BB23-4830-ADB5-84049654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4EE-03F9-4E92-A7EE-1E6B9448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331-5640-4031-B7FF-D2EF34EF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F6B-9116-40C4-86E9-FDD3C0AF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5BD-9065-4A11-BB20-42124415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6F82-7AC2-4D08-B117-8381763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0D34-7811-4363-9D79-196B57E9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7837-70A7-460D-A2D6-ECB6317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2B5A-31BB-4CE8-AFAC-AA1B9E11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1F1D-0D76-43D9-BCB3-327C8C5D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0E6-7317-4EC5-A22C-F6900E7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663-E0D1-41DA-B1FC-DEBB031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8D4-C392-420E-938C-6459A96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5C57-E626-47AE-9CA3-B78A435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4596-31F3-4963-95ED-775EFD05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B85-CB5C-4505-A9BE-12DBF71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FE6-FE91-4C35-AA01-B20117CC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21C-B168-4268-97DE-D6CBCACE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5CD-E82C-4E06-B763-304693E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0F6-FD4F-4548-8317-DC24C140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7FB-C754-49F8-ACE6-ED77B1F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8B9-FC96-469D-AA53-31B358B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27D-4B25-49FF-9AED-009AD25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C89-E16A-4295-8CBA-559E8BB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E04-ECBB-487C-9A94-00D03211AE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FFE-281F-4BA7-B2E0-4A4A647974C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ография Рубцова Н.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ые ресурс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бное пособие «Литература в школ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ww.literatura.r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j0283526"/>
          <p:cNvPicPr/>
          <p:nvPr/>
        </p:nvPicPr>
        <p:blipFill>
          <a:blip r:embed="rId3"/>
          <a:stretch/>
        </p:blipFill>
        <p:spPr>
          <a:xfrm>
            <a:off x="4643280" y="2421000"/>
            <a:ext cx="2297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687096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Николай Михайлович Рубцов родился 5 января                      года в поселке Емецк Архангельской обла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2984040"/>
            <a:ext cx="691056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ец его был военным политработником, в 1941 году он ушел на фронт и не вернулся, а в 1942 умерла м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j0178297"/>
          <p:cNvPicPr/>
          <p:nvPr/>
        </p:nvPicPr>
        <p:blipFill>
          <a:blip r:embed="rId1"/>
          <a:stretch/>
        </p:blipFill>
        <p:spPr>
          <a:xfrm>
            <a:off x="2268360" y="148428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78305"/>
          <p:cNvPicPr/>
          <p:nvPr/>
        </p:nvPicPr>
        <p:blipFill>
          <a:blip r:embed="rId2"/>
          <a:stretch/>
        </p:blipFill>
        <p:spPr>
          <a:xfrm>
            <a:off x="270036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78299"/>
          <p:cNvPicPr/>
          <p:nvPr/>
        </p:nvPicPr>
        <p:blipFill>
          <a:blip r:embed="rId3"/>
          <a:stretch/>
        </p:blipFill>
        <p:spPr>
          <a:xfrm>
            <a:off x="3132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j0178302"/>
          <p:cNvPicPr/>
          <p:nvPr/>
        </p:nvPicPr>
        <p:blipFill>
          <a:blip r:embed="rId4"/>
          <a:stretch/>
        </p:blipFill>
        <p:spPr>
          <a:xfrm>
            <a:off x="3564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G00320_"/>
          <p:cNvPicPr/>
          <p:nvPr/>
        </p:nvPicPr>
        <p:blipFill>
          <a:blip r:embed="rId5"/>
          <a:stretch/>
        </p:blipFill>
        <p:spPr>
          <a:xfrm>
            <a:off x="6084720" y="2060640"/>
            <a:ext cx="1511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ство и отрочество прошли в детском доме села Никольское на Вологодчине, которое и стало настоящей родин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28" descr="v_248i"/>
          <p:cNvPicPr/>
          <p:nvPr/>
        </p:nvPicPr>
        <p:blipFill>
          <a:blip r:embed="rId1"/>
          <a:stretch/>
        </p:blipFill>
        <p:spPr>
          <a:xfrm>
            <a:off x="4643280" y="3357720"/>
            <a:ext cx="2524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нчил семилетку и в 1950 году поступил в лесотехнический техникум в городе Тотьма, а в 16 лет отправился на Белое море, где более двух лет плавал кочегаром на рыболовецком суд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j0283465"/>
          <p:cNvPicPr/>
          <p:nvPr/>
        </p:nvPicPr>
        <p:blipFill>
          <a:blip r:embed="rId1"/>
          <a:stretch/>
        </p:blipFill>
        <p:spPr>
          <a:xfrm>
            <a:off x="3924360" y="5013360"/>
            <a:ext cx="1800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том четыре года прослужил матросом на эсминце Северного фло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ie00012i"/>
          <p:cNvPicPr/>
          <p:nvPr/>
        </p:nvPicPr>
        <p:blipFill>
          <a:blip r:embed="rId1"/>
          <a:stretch/>
        </p:blipFill>
        <p:spPr>
          <a:xfrm>
            <a:off x="5219640" y="321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300495"/>
          <p:cNvPicPr/>
          <p:nvPr/>
        </p:nvPicPr>
        <p:blipFill>
          <a:blip r:embed="rId2"/>
          <a:stretch/>
        </p:blipFill>
        <p:spPr>
          <a:xfrm>
            <a:off x="2195640" y="3429000"/>
            <a:ext cx="153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десь он начинает писать стихи и печататься во флотских изданиях. С 1959 по 1962 год работает слесарем на Кировском заводе в Ленинграде, в 1962 году поступает в Литературный институт имени Горького в Моск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AG00003_"/>
          <p:cNvPicPr/>
          <p:nvPr/>
        </p:nvPicPr>
        <p:blipFill>
          <a:blip r:embed="rId1"/>
          <a:stretch/>
        </p:blipFill>
        <p:spPr>
          <a:xfrm>
            <a:off x="3708360" y="40464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AG00218_"/>
          <p:cNvPicPr/>
          <p:nvPr/>
        </p:nvPicPr>
        <p:blipFill>
          <a:blip r:embed="rId2"/>
          <a:stretch/>
        </p:blipFill>
        <p:spPr>
          <a:xfrm>
            <a:off x="6012000" y="4941720"/>
            <a:ext cx="11808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1964 года живет в Никольском, а затем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j0336920"/>
          <p:cNvPicPr/>
          <p:nvPr/>
        </p:nvPicPr>
        <p:blipFill>
          <a:blip r:embed="rId1"/>
          <a:stretch/>
        </p:blipFill>
        <p:spPr>
          <a:xfrm>
            <a:off x="4427640" y="3213000"/>
            <a:ext cx="2819160" cy="1957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283516"/>
          <p:cNvPicPr/>
          <p:nvPr/>
        </p:nvPicPr>
        <p:blipFill>
          <a:blip r:embed="rId2"/>
          <a:stretch/>
        </p:blipFill>
        <p:spPr>
          <a:xfrm>
            <a:off x="971640" y="3500280"/>
            <a:ext cx="27367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1965 году в Архангельске вышла в свет небольшая книжка Рубцова «Лирика», а в 1967 в Москве – «Звезда полей», в которой он предстал как вполне зрелый поэ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j0283062"/>
          <p:cNvPicPr/>
          <p:nvPr/>
        </p:nvPicPr>
        <p:blipFill>
          <a:blip r:embed="rId2"/>
          <a:stretch/>
        </p:blipFill>
        <p:spPr>
          <a:xfrm>
            <a:off x="406728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й век одного из самых выдающихся поэтов-лириков своего времени оказался очень коротким (в этом он тоже повторил судьбу Есенина). Смерть настигла его 19 января 1971 года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j0288868"/>
          <p:cNvPicPr/>
          <p:nvPr/>
        </p:nvPicPr>
        <p:blipFill>
          <a:blip r:embed="rId2"/>
          <a:stretch/>
        </p:blipFill>
        <p:spPr>
          <a:xfrm>
            <a:off x="5651640" y="4941720"/>
            <a:ext cx="1295280" cy="1001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Picture 8" descr="J0076141"/>
          <p:cNvPicPr/>
          <p:nvPr/>
        </p:nvPicPr>
        <p:blipFill>
          <a:blip r:embed="rId3"/>
          <a:stretch/>
        </p:blipFill>
        <p:spPr>
          <a:xfrm>
            <a:off x="900000" y="4724280"/>
            <a:ext cx="17766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49:32Z</dcterms:created>
  <dc:creator>Денис</dc:creator>
  <dc:description/>
  <dc:language>en-US</dc:language>
  <cp:lastModifiedBy>Коля</cp:lastModifiedBy>
  <dcterms:modified xsi:type="dcterms:W3CDTF">2013-05-03T21:27:25Z</dcterms:modified>
  <cp:revision>10</cp:revision>
  <dc:subject/>
  <dc:title>Презентация на тему: «Рубцов Н.М.»</dc:title>
</cp:coreProperties>
</file>