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png" ContentType="image/png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5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ECF-3557-4EA8-9826-D8E9D80A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5CE-1009-4C73-ABAE-4B20D5D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CB2-8337-485A-BE0A-C3468CCC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84B-4F00-4F43-AF06-2042ECC7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69FE-637C-45F0-935A-6B7A7236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49A9-2AD9-4836-A50B-C3994126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E283-4830-49DB-9DCB-D5811240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9DFB-DE39-4FC2-BDB5-2DBF8459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E867-71D3-433B-8F1C-4239E647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B00E-30A3-4473-8F21-52A17B11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08C8-D237-4C01-B1B4-180B5C3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79C-E588-4FEC-B2A3-08ACE1FA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0367-241B-4535-93F2-7AC32FE8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1A79-BC7B-4839-A31E-EBA6D38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D023-73EC-4924-AA02-F4ED7C3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BCA6-0AE1-49E3-ADA9-3201E629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B4C6-6924-47AF-84ED-17DC1A59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A73-1B06-44B3-91BB-4B84AE9B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4FE-DD91-4BE7-9960-8C5BA8A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B8B-E733-42BA-B29C-5244DFC6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BA6-3297-404B-9633-984BC4A8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732-8D0B-4A46-8341-96319E2F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808-3B97-444A-BA6B-3005DF9D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D73-6F22-49C2-B4DF-82EB53C8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0A6C-3B91-4405-B18E-78EBEEDAD3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A0B6-3904-441D-A335-616FCD42305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иография Рубцова Н.М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ые ресурс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бное пособие «Литература в школ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ww.literatura.r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4" descr="j0283526"/>
          <p:cNvPicPr/>
          <p:nvPr/>
        </p:nvPicPr>
        <p:blipFill>
          <a:blip r:embed="rId3"/>
          <a:stretch/>
        </p:blipFill>
        <p:spPr>
          <a:xfrm>
            <a:off x="4643280" y="2421000"/>
            <a:ext cx="2297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687096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Николай Михайлович Рубцов родился 5 января                      года в поселке Емецк Архангельской област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2984040"/>
            <a:ext cx="691056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ец его был военным политработником, в 1941 году он ушел на фронт и не вернулся, а в 1942 умерла ма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4" descr="j0178297"/>
          <p:cNvPicPr/>
          <p:nvPr/>
        </p:nvPicPr>
        <p:blipFill>
          <a:blip r:embed="rId1"/>
          <a:stretch/>
        </p:blipFill>
        <p:spPr>
          <a:xfrm>
            <a:off x="2268360" y="148428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78305"/>
          <p:cNvPicPr/>
          <p:nvPr/>
        </p:nvPicPr>
        <p:blipFill>
          <a:blip r:embed="rId2"/>
          <a:stretch/>
        </p:blipFill>
        <p:spPr>
          <a:xfrm>
            <a:off x="270036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178299"/>
          <p:cNvPicPr/>
          <p:nvPr/>
        </p:nvPicPr>
        <p:blipFill>
          <a:blip r:embed="rId3"/>
          <a:stretch/>
        </p:blipFill>
        <p:spPr>
          <a:xfrm>
            <a:off x="313200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j0178302"/>
          <p:cNvPicPr/>
          <p:nvPr/>
        </p:nvPicPr>
        <p:blipFill>
          <a:blip r:embed="rId4"/>
          <a:stretch/>
        </p:blipFill>
        <p:spPr>
          <a:xfrm>
            <a:off x="3564000" y="1484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AG00320_"/>
          <p:cNvPicPr/>
          <p:nvPr/>
        </p:nvPicPr>
        <p:blipFill>
          <a:blip r:embed="rId5"/>
          <a:stretch/>
        </p:blipFill>
        <p:spPr>
          <a:xfrm>
            <a:off x="6084720" y="2060640"/>
            <a:ext cx="15116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тство и отрочество прошли в детском доме села Никольское на Вологодчине, которое и стало настоящей родин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28" descr="v_248i"/>
          <p:cNvPicPr/>
          <p:nvPr/>
        </p:nvPicPr>
        <p:blipFill>
          <a:blip r:embed="rId1"/>
          <a:stretch/>
        </p:blipFill>
        <p:spPr>
          <a:xfrm>
            <a:off x="4643280" y="3357720"/>
            <a:ext cx="2524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ончил семилетку и в 1950 году поступил в лесотехнический техникум в городе Тотьма, а в 16 лет отправился на Белое море, где более двух лет плавал кочегаром на рыболовецком судн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j0283465"/>
          <p:cNvPicPr/>
          <p:nvPr/>
        </p:nvPicPr>
        <p:blipFill>
          <a:blip r:embed="rId1"/>
          <a:stretch/>
        </p:blipFill>
        <p:spPr>
          <a:xfrm>
            <a:off x="3924360" y="5013360"/>
            <a:ext cx="1800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том четыре года прослужил матросом на эсминце Северного фло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4" descr="ie00012i"/>
          <p:cNvPicPr/>
          <p:nvPr/>
        </p:nvPicPr>
        <p:blipFill>
          <a:blip r:embed="rId1"/>
          <a:stretch/>
        </p:blipFill>
        <p:spPr>
          <a:xfrm>
            <a:off x="5219640" y="3213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j0300495"/>
          <p:cNvPicPr/>
          <p:nvPr/>
        </p:nvPicPr>
        <p:blipFill>
          <a:blip r:embed="rId2"/>
          <a:stretch/>
        </p:blipFill>
        <p:spPr>
          <a:xfrm>
            <a:off x="2195640" y="3429000"/>
            <a:ext cx="1531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десь он начинает писать стихи и печататься во флотских изданиях. С 1959 по 1962 год работает слесарем на Кировском заводе в Ленинграде, в 1962 году поступает в Литературный институт имени Горького в Моск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AG00003_"/>
          <p:cNvPicPr/>
          <p:nvPr/>
        </p:nvPicPr>
        <p:blipFill>
          <a:blip r:embed="rId1"/>
          <a:stretch/>
        </p:blipFill>
        <p:spPr>
          <a:xfrm>
            <a:off x="3708360" y="404640"/>
            <a:ext cx="1428840" cy="13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AG00218_"/>
          <p:cNvPicPr/>
          <p:nvPr/>
        </p:nvPicPr>
        <p:blipFill>
          <a:blip r:embed="rId2"/>
          <a:stretch/>
        </p:blipFill>
        <p:spPr>
          <a:xfrm>
            <a:off x="6012000" y="4941720"/>
            <a:ext cx="11808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 1964 года живет в Никольском, а затем в Вологд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j0336920"/>
          <p:cNvPicPr/>
          <p:nvPr/>
        </p:nvPicPr>
        <p:blipFill>
          <a:blip r:embed="rId1"/>
          <a:stretch/>
        </p:blipFill>
        <p:spPr>
          <a:xfrm>
            <a:off x="4427640" y="3213000"/>
            <a:ext cx="2819160" cy="1957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283516"/>
          <p:cNvPicPr/>
          <p:nvPr/>
        </p:nvPicPr>
        <p:blipFill>
          <a:blip r:embed="rId2"/>
          <a:stretch/>
        </p:blipFill>
        <p:spPr>
          <a:xfrm>
            <a:off x="971640" y="3500280"/>
            <a:ext cx="27367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1965 году в Архангельске вышла в свет небольшая книжка Рубцова «Лирика», а в 1967 в Москве – «Звезда полей», в которой он предстал как вполне зрелый поэ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4" descr="j0283062"/>
          <p:cNvPicPr/>
          <p:nvPr/>
        </p:nvPicPr>
        <p:blipFill>
          <a:blip r:embed="rId2"/>
          <a:stretch/>
        </p:blipFill>
        <p:spPr>
          <a:xfrm>
            <a:off x="4067280" y="450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кий век одного из самых выдающихся поэтов-лириков своего времени оказался очень коротким (в этом он тоже повторил судьбу Есенина). Смерть настигла его 19 января 1971 года в Вологд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j0288868"/>
          <p:cNvPicPr/>
          <p:nvPr/>
        </p:nvPicPr>
        <p:blipFill>
          <a:blip r:embed="rId2"/>
          <a:stretch/>
        </p:blipFill>
        <p:spPr>
          <a:xfrm>
            <a:off x="5651640" y="4941720"/>
            <a:ext cx="1295280" cy="1001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Picture 8" descr="J0076141"/>
          <p:cNvPicPr/>
          <p:nvPr/>
        </p:nvPicPr>
        <p:blipFill>
          <a:blip r:embed="rId3"/>
          <a:stretch/>
        </p:blipFill>
        <p:spPr>
          <a:xfrm>
            <a:off x="900000" y="4724280"/>
            <a:ext cx="17766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49:32Z</dcterms:created>
  <dc:creator>Денис</dc:creator>
  <dc:description/>
  <dc:language>en-US</dc:language>
  <cp:lastModifiedBy>Коля</cp:lastModifiedBy>
  <dcterms:modified xsi:type="dcterms:W3CDTF">2013-05-03T21:27:25Z</dcterms:modified>
  <cp:revision>10</cp:revision>
  <dc:subject/>
  <dc:title>Презентация на тему: «Рубцов Н.М.»</dc:title>
</cp:coreProperties>
</file>