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1.png" ContentType="image/png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6.gif" ContentType="image/gif"/>
  <Override PartName="/ppt/media/image5.png" ContentType="image/png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1.wmf" ContentType="image/x-wmf"/>
  <Override PartName="/ppt/media/image15.gif" ContentType="image/gif"/>
  <Override PartName="/ppt/media/image14.gif" ContentType="image/gif"/>
  <Override PartName="/ppt/media/image2.png" ContentType="image/png"/>
  <Override PartName="/ppt/media/image2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E52C-9F7F-460C-9F38-6E67BE9F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E81-DEE1-40F1-9B9A-27B3D8AE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0DF-16B9-41CD-964E-01311FD2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723-D0F9-4EBE-BD85-5C8F8973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F43E-6DE5-4C95-97A6-CE8A9554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E158-CFAF-4C43-953D-4DB3DCF1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601E-BEE4-46A6-AE8E-603A3639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5911-44F8-4972-89FE-B527CAF6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62E2-E46F-4812-AC91-12871468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6B03-96DC-4706-9159-49B5BA43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08B2-96A4-4B01-9F7D-837E51F8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8D5-7DAB-4F25-9878-3542D481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C6CC-FE09-4890-9FEF-B9796FE1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C34B-0D33-4480-931D-F4F724FD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81C2-4302-44B1-86D5-2591C920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77C2-FF75-447B-876F-A6D5B0AB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FE44-D1EB-44FD-8339-DC3E13A6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8DC-ABA0-4083-A032-95069CAE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A04-F22C-45D7-A33A-F99CA8DF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0B9-2BAC-4D65-B4FA-441ABCC1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753-3FF4-4116-9A77-90C926FF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1A9-D577-4FAA-82DA-F29F4C7E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8E8C-D378-4589-B8FD-42B6203A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B53-4D12-4FBC-92EB-872C2BA3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A55E-48B3-4EDF-A9C7-4AD0F476FF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27B5-7918-4CF5-A13C-6911E00630E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иография Рубцова Н.М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пользуемые ресурс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ебное пособие «Литература в школе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ww.literatura.ru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4" descr="j0283526"/>
          <p:cNvPicPr/>
          <p:nvPr/>
        </p:nvPicPr>
        <p:blipFill>
          <a:blip r:embed="rId3"/>
          <a:stretch/>
        </p:blipFill>
        <p:spPr>
          <a:xfrm>
            <a:off x="4643280" y="2421000"/>
            <a:ext cx="2297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6870960" cy="12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Николай Михайлович Рубцов родился 5 января                      года в поселке Емецк Архангельской области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2984040"/>
            <a:ext cx="6910560" cy="28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тец его был военным политработником, в 1941 году он ушел на фронт и не вернулся, а в 1942 умерла мат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4" descr="j0178297"/>
          <p:cNvPicPr/>
          <p:nvPr/>
        </p:nvPicPr>
        <p:blipFill>
          <a:blip r:embed="rId1"/>
          <a:stretch/>
        </p:blipFill>
        <p:spPr>
          <a:xfrm>
            <a:off x="2268360" y="1484280"/>
            <a:ext cx="66708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j0178305"/>
          <p:cNvPicPr/>
          <p:nvPr/>
        </p:nvPicPr>
        <p:blipFill>
          <a:blip r:embed="rId2"/>
          <a:stretch/>
        </p:blipFill>
        <p:spPr>
          <a:xfrm>
            <a:off x="2700360" y="1484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j0178299"/>
          <p:cNvPicPr/>
          <p:nvPr/>
        </p:nvPicPr>
        <p:blipFill>
          <a:blip r:embed="rId3"/>
          <a:stretch/>
        </p:blipFill>
        <p:spPr>
          <a:xfrm>
            <a:off x="3132000" y="1484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j0178302"/>
          <p:cNvPicPr/>
          <p:nvPr/>
        </p:nvPicPr>
        <p:blipFill>
          <a:blip r:embed="rId4"/>
          <a:stretch/>
        </p:blipFill>
        <p:spPr>
          <a:xfrm>
            <a:off x="3564000" y="1484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AG00320_"/>
          <p:cNvPicPr/>
          <p:nvPr/>
        </p:nvPicPr>
        <p:blipFill>
          <a:blip r:embed="rId5"/>
          <a:stretch/>
        </p:blipFill>
        <p:spPr>
          <a:xfrm>
            <a:off x="6084720" y="2060640"/>
            <a:ext cx="151164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етство и отрочество прошли в детском доме села Никольское на Вологодчине, которое и стало настоящей родиной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28" descr="v_248i"/>
          <p:cNvPicPr/>
          <p:nvPr/>
        </p:nvPicPr>
        <p:blipFill>
          <a:blip r:embed="rId1"/>
          <a:stretch/>
        </p:blipFill>
        <p:spPr>
          <a:xfrm>
            <a:off x="4643280" y="3357720"/>
            <a:ext cx="2524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кончил семилетку и в 1950 году поступил в лесотехнический техникум в городе Тотьма, а в 16 лет отправился на Белое море, где более двух лет плавал кочегаром на рыболовецком судн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4" descr="j0283465"/>
          <p:cNvPicPr/>
          <p:nvPr/>
        </p:nvPicPr>
        <p:blipFill>
          <a:blip r:embed="rId1"/>
          <a:stretch/>
        </p:blipFill>
        <p:spPr>
          <a:xfrm>
            <a:off x="3924360" y="5013360"/>
            <a:ext cx="180000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том четыре года прослужил матросом на эсминце Северного фло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4" descr="ie00012i"/>
          <p:cNvPicPr/>
          <p:nvPr/>
        </p:nvPicPr>
        <p:blipFill>
          <a:blip r:embed="rId1"/>
          <a:stretch/>
        </p:blipFill>
        <p:spPr>
          <a:xfrm>
            <a:off x="5219640" y="3213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j0300495"/>
          <p:cNvPicPr/>
          <p:nvPr/>
        </p:nvPicPr>
        <p:blipFill>
          <a:blip r:embed="rId2"/>
          <a:stretch/>
        </p:blipFill>
        <p:spPr>
          <a:xfrm>
            <a:off x="2195640" y="3429000"/>
            <a:ext cx="15318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десь он начинает писать стихи и печататься во флотских изданиях. С 1959 по 1962 год работает слесарем на Кировском заводе в Ленинграде, в 1962 году поступает в Литературный институт имени Горького в Москв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4" descr="AG00003_"/>
          <p:cNvPicPr/>
          <p:nvPr/>
        </p:nvPicPr>
        <p:blipFill>
          <a:blip r:embed="rId1"/>
          <a:stretch/>
        </p:blipFill>
        <p:spPr>
          <a:xfrm>
            <a:off x="3708360" y="404640"/>
            <a:ext cx="1428840" cy="130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AG00218_"/>
          <p:cNvPicPr/>
          <p:nvPr/>
        </p:nvPicPr>
        <p:blipFill>
          <a:blip r:embed="rId2"/>
          <a:stretch/>
        </p:blipFill>
        <p:spPr>
          <a:xfrm>
            <a:off x="6012000" y="4941720"/>
            <a:ext cx="11808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 1964 года живет в Никольском, а затем в Вологд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4" descr="j0336920"/>
          <p:cNvPicPr/>
          <p:nvPr/>
        </p:nvPicPr>
        <p:blipFill>
          <a:blip r:embed="rId1"/>
          <a:stretch/>
        </p:blipFill>
        <p:spPr>
          <a:xfrm>
            <a:off x="4427640" y="3213000"/>
            <a:ext cx="2819160" cy="1957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j0283516"/>
          <p:cNvPicPr/>
          <p:nvPr/>
        </p:nvPicPr>
        <p:blipFill>
          <a:blip r:embed="rId2"/>
          <a:stretch/>
        </p:blipFill>
        <p:spPr>
          <a:xfrm>
            <a:off x="971640" y="3500280"/>
            <a:ext cx="273672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1965 году в Архангельске вышла в свет небольшая книжка Рубцова «Лирика», а в 1967 в Москве – «Звезда полей», в которой он предстал как вполне зрелый поэ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4" descr="j0283062"/>
          <p:cNvPicPr/>
          <p:nvPr/>
        </p:nvPicPr>
        <p:blipFill>
          <a:blip r:embed="rId2"/>
          <a:stretch/>
        </p:blipFill>
        <p:spPr>
          <a:xfrm>
            <a:off x="4067280" y="450864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ворческий век одного из самых выдающихся поэтов-лириков своего времени оказался очень коротким (в этом он тоже повторил судьбу Есенина). Смерть настигла его 19 января 1971 года в Вологд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4" descr="j0288868"/>
          <p:cNvPicPr/>
          <p:nvPr/>
        </p:nvPicPr>
        <p:blipFill>
          <a:blip r:embed="rId2"/>
          <a:stretch/>
        </p:blipFill>
        <p:spPr>
          <a:xfrm>
            <a:off x="5651640" y="4941720"/>
            <a:ext cx="1295280" cy="10018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1" name="Picture 8" descr="J0076141"/>
          <p:cNvPicPr/>
          <p:nvPr/>
        </p:nvPicPr>
        <p:blipFill>
          <a:blip r:embed="rId3"/>
          <a:stretch/>
        </p:blipFill>
        <p:spPr>
          <a:xfrm>
            <a:off x="900000" y="4724280"/>
            <a:ext cx="17766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6:49:32Z</dcterms:created>
  <dc:creator>Денис</dc:creator>
  <dc:description/>
  <dc:language>en-US</dc:language>
  <cp:lastModifiedBy>Коля</cp:lastModifiedBy>
  <dcterms:modified xsi:type="dcterms:W3CDTF">2013-05-03T21:27:25Z</dcterms:modified>
  <cp:revision>10</cp:revision>
  <dc:subject/>
  <dc:title>Презентация на тему: «Рубцов Н.М.»</dc:title>
</cp:coreProperties>
</file>