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91F-409C-4CC6-B2CD-91D3D61BB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5BFC-41FF-4BF2-9D01-C542F879D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06F-44E0-4901-8635-C30131CF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9E4-3077-4243-B2DC-CA45116A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1EE-988D-41C7-A59E-801DCFC3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CA8-B308-4246-B2C6-7C21202B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801-4208-4291-8236-F15F10B3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A74-5DEA-48A2-B405-24DBD31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7F2-FC4C-4548-BCA3-3654763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F1A-DD49-4ED8-8658-A4387906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60B-D6C9-454F-9455-51AB81C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1E1-419C-4F8A-9FCE-C941009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2EE-993F-4710-B0BB-BFBF5BE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AE6-1AD9-4241-B9CD-DD740BD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09C1-17B9-4429-A466-3B4537A2A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25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1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2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1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1909080" y="501336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Яковлева Еле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лицей №6 г.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Николай</cp:lastModifiedBy>
  <dcterms:modified xsi:type="dcterms:W3CDTF">2013-03-01T11:52:56Z</dcterms:modified>
  <cp:revision>76</cp:revision>
  <dc:subject/>
  <dc:title>Слайд 1</dc:title>
</cp:coreProperties>
</file>