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12.jpeg" ContentType="image/jpeg"/>
  <Override PartName="/ppt/media/image34.png" ContentType="image/pn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32.jpeg" ContentType="image/jpeg"/>
  <Override PartName="/ppt/media/image56.jpeg" ContentType="image/jpeg"/>
  <Override PartName="/ppt/media/image33.png" ContentType="image/png"/>
  <Override PartName="/ppt/media/image31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E515-A218-4B5C-B174-91AC0F388C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1F27-69B4-4BFB-BEAA-A41D35CD5C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802-F1C4-4997-9126-7C3A9D85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1DA-A9B9-4BFA-8E7A-D5D97C65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B07-FF7E-47AD-B9F5-FA4A7BD2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12D-CD41-44D2-A5A4-273D51B3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D7E-CD5E-45D9-8A0C-00B0AAD5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B71-DB57-483C-B715-69C82E56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676-BC40-4A04-B5F6-164BCD22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85C-16C3-489B-A5AE-A2575E6F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9BA-A91C-41BC-B01E-23019325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723-DC57-45ED-BCB7-EB251F5D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D9E-F2C4-4B96-8B7E-A0CAFD54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028-7319-4D12-8919-E61420DE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8A89-9F19-41EA-AFE8-347CD3D1E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shka-i.narod.ru/photo48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ushkin.niv.ru/images/mesta/mesta_12_3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25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lstopuzzzz.narod.ru/photo/osen/img_4275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071013144031.jpg"/>
          <p:cNvPicPr/>
          <p:nvPr/>
        </p:nvPicPr>
        <p:blipFill>
          <a:blip r:embed="rId1"/>
          <a:stretch/>
        </p:blipFill>
        <p:spPr>
          <a:xfrm>
            <a:off x="214200" y="42876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slide0018_image066"/>
          <p:cNvPicPr/>
          <p:nvPr/>
        </p:nvPicPr>
        <p:blipFill>
          <a:blip r:embed="rId1"/>
          <a:stretch/>
        </p:blipFill>
        <p:spPr>
          <a:xfrm>
            <a:off x="214200" y="857160"/>
            <a:ext cx="3649680" cy="45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slide0018_image068"/>
          <p:cNvPicPr/>
          <p:nvPr/>
        </p:nvPicPr>
        <p:blipFill>
          <a:blip r:embed="rId2"/>
          <a:stretch/>
        </p:blipFill>
        <p:spPr>
          <a:xfrm>
            <a:off x="4643280" y="857160"/>
            <a:ext cx="3714840" cy="27892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3857760" y="3857760"/>
            <a:ext cx="528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, вместе и ночной. На конторке чернильница и подсвечник со щипцами…»       И.И.Пущин.Записки о Пушк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C:\Documents and Settings\Admin\Рабочий стол\Пушкин\delvig_a_p_h170.jpg"/>
          <p:cNvPicPr/>
          <p:nvPr/>
        </p:nvPicPr>
        <p:blipFill>
          <a:blip r:embed="rId1"/>
          <a:stretch/>
        </p:blipFill>
        <p:spPr>
          <a:xfrm>
            <a:off x="285840" y="1000080"/>
            <a:ext cx="252072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Рабочий стол\Пушкин\puschin_i_i_h170.jpg"/>
          <p:cNvPicPr/>
          <p:nvPr/>
        </p:nvPicPr>
        <p:blipFill>
          <a:blip r:embed="rId2"/>
          <a:stretch/>
        </p:blipFill>
        <p:spPr>
          <a:xfrm>
            <a:off x="6572160" y="1000080"/>
            <a:ext cx="2333880" cy="2800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14200" y="392904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Антон Анто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ельви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637680" y="3857760"/>
            <a:ext cx="22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ван Ива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ущ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831960" y="214200"/>
            <a:ext cx="74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лизкие друзья Пушкина по Лиц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892080" y="550080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ушкин сохранил лицейскую дружб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и культ Лице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3429000" y="1500120"/>
            <a:ext cx="2462040" cy="2938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3198960" y="4500720"/>
            <a:ext cx="28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ильгельм Карл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юхельбек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6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16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16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16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116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616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116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46432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1815 г. Пушкин с триумфом прочел на экзамене свое стихотворение "Воспоминание в Царском Селе" в присутствии знаменитого поэта Г.Р.Державина. Срок пребывания в лицее кончился летом 181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9 июня состоялись выпускные эк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C:\Documents and Settings\Admin\Рабочий стол\Пушкин\pushkin_02.jpg"/>
          <p:cNvPicPr/>
          <p:nvPr/>
        </p:nvPicPr>
        <p:blipFill>
          <a:blip r:embed="rId1"/>
          <a:stretch/>
        </p:blipFill>
        <p:spPr>
          <a:xfrm>
            <a:off x="714240" y="357120"/>
            <a:ext cx="7623360" cy="43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487880" y="0"/>
            <a:ext cx="61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"Пушкин в Царском Селе", картина И. Репина, 19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4143240" y="0"/>
            <a:ext cx="47865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заменил Пушкину детство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был закончен - детство прошло. Началась жизнь. Пушкин переехал в Петербург и поступил в коллегию иностранных дел в чине коллежского секретаря, но служба мало интересовала его. Он увлекался театром, балами, стал участником разных литературных обществ, завел много знакомст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214200" y="500040"/>
            <a:ext cx="3934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14200" y="3214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первые годы по окончании Лицея им были написаны стихотворения "Деревня," "Домовому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« К Чаадаеву", ода "Вольность", поэма "Руслан и Людмил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mhtml:file://C:\Documents%20and%20Settings\Admin\Рабочий%20стол\пушкин1\Яндекс.Картинки_%20михайловское3.mht!http://eshka-i.narod.ru/photo48.jpg"/>
          <p:cNvPicPr/>
          <p:nvPr/>
        </p:nvPicPr>
        <p:blipFill>
          <a:blip r:embed="rId1"/>
          <a:stretch/>
        </p:blipFill>
        <p:spPr>
          <a:xfrm>
            <a:off x="214200" y="214200"/>
            <a:ext cx="461196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E:\новое\новое\pushkin_32.jpg"/>
          <p:cNvPicPr/>
          <p:nvPr/>
        </p:nvPicPr>
        <p:blipFill>
          <a:blip r:embed="rId2"/>
          <a:stretch/>
        </p:blipFill>
        <p:spPr>
          <a:xfrm>
            <a:off x="3714840" y="3429000"/>
            <a:ext cx="5257800" cy="3228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4857840" y="21420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разу после окончания Лицея в 1817 году, и вторично в 1819 г. после тяжелой болезни Пушкин приезжал в имение матери с.Михайловское Псков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3929040" y="500040"/>
            <a:ext cx="5000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Идеи гражданской свободы нашли отражение и в стихах, и в поведении юного Пушкин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"Пушкина надобно сослать в Сибирь: он наводнил Россию возмутительными стихами; вся молодежь наизусть их читает" - таково было решение царя Александра I. Хлопотами друзей вместо Сибири Пушкина сослали на ю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C:\Documents and Settings\Admin\Рабочий стол\пушкин1\pushkin-sea_big_46587152778.jpg"/>
          <p:cNvPicPr/>
          <p:nvPr/>
        </p:nvPicPr>
        <p:blipFill>
          <a:blip r:embed="rId1"/>
          <a:stretch/>
        </p:blipFill>
        <p:spPr>
          <a:xfrm>
            <a:off x="142920" y="357120"/>
            <a:ext cx="3860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3429000" y="21420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три года ссылки написаны "Кавказский пленник" , "Бахчисарайский фонтан" , а также "Узник", "Песнь о Вещем Олеге». Начат роман в стихах "Евгений Онегин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E:\новое\новое\pushkin_10.jpg"/>
          <p:cNvPicPr/>
          <p:nvPr/>
        </p:nvPicPr>
        <p:blipFill>
          <a:blip r:embed="rId1"/>
          <a:stretch/>
        </p:blipFill>
        <p:spPr>
          <a:xfrm>
            <a:off x="285840" y="214200"/>
            <a:ext cx="3071880" cy="3019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14200" y="414324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онце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24 года ссылка в родительское имение Михайловское Псков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Рабочий стол\Пушкин\pushkin_26.jpg"/>
          <p:cNvPicPr/>
          <p:nvPr/>
        </p:nvPicPr>
        <p:blipFill>
          <a:blip r:embed="rId2"/>
          <a:stretch/>
        </p:blipFill>
        <p:spPr>
          <a:xfrm>
            <a:off x="3714840" y="2500200"/>
            <a:ext cx="4976640" cy="3610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3571920" y="60721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 в селе Михайлов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Пущин у Пушкина). Н.Н. Ге. 187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719640" y="33577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Авто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артинка 19 из 13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714240"/>
            <a:ext cx="40006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214200" y="50007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 имением своей матери селом Михайловским в Псковской губернии Александр Сергеевич Пушкин был связан на протяжении всей своей зрелой жизни - с 1817 по 1836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286160" y="214200"/>
            <a:ext cx="46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д вашу 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ие р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влялся 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огда вы в перв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видели меня, тогда я бы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селым юнош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спечно, жа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 приступал ли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олько к жизни; -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омчалися - и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о мне прия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сталого приш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63360" y="39290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5357880" y="214200"/>
            <a:ext cx="35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Утром и днем Пушкин обычно работал, потом уезжал верхом или уходил в  село Тригорское, где жили соседи, с которыми он был хорошо зна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Тригорск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5038920" cy="32860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214200" y="4000680"/>
            <a:ext cx="8715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А вечерами, когда за окном выла вьюга, он снова, как в детстве, слушал нянины сказки и песни. Вот как поэт писал брату в письме: «Знаешь ли мои занятия? До обеда  пишу записки, после обеда езжу верхом, вечером слушаю сказки… Что за прелесть эти сказки! Каждая из них поэма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744560" y="3500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214200" y="207180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"Он все с ней, коли дома", вспоминали дворовые люди с. Михайловско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bojar1i"/>
          <p:cNvPicPr/>
          <p:nvPr/>
        </p:nvPicPr>
        <p:blipFill>
          <a:blip r:embed="rId1"/>
          <a:stretch/>
        </p:blipFill>
        <p:spPr>
          <a:xfrm>
            <a:off x="428760" y="21420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arevn1i"/>
          <p:cNvPicPr/>
          <p:nvPr/>
        </p:nvPicPr>
        <p:blipFill>
          <a:blip r:embed="rId2"/>
          <a:stretch/>
        </p:blipFill>
        <p:spPr>
          <a:xfrm>
            <a:off x="3571920" y="214200"/>
            <a:ext cx="17859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arevni"/>
          <p:cNvPicPr/>
          <p:nvPr/>
        </p:nvPicPr>
        <p:blipFill>
          <a:blip r:embed="rId3"/>
          <a:stretch/>
        </p:blipFill>
        <p:spPr>
          <a:xfrm>
            <a:off x="642960" y="421488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ba1i"/>
          <p:cNvPicPr/>
          <p:nvPr/>
        </p:nvPicPr>
        <p:blipFill>
          <a:blip r:embed="rId4"/>
          <a:stretch/>
        </p:blipFill>
        <p:spPr>
          <a:xfrm>
            <a:off x="6215040" y="214200"/>
            <a:ext cx="2462400" cy="1838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alt3i"/>
          <p:cNvPicPr/>
          <p:nvPr/>
        </p:nvPicPr>
        <p:blipFill>
          <a:blip r:embed="rId5"/>
          <a:stretch/>
        </p:blipFill>
        <p:spPr>
          <a:xfrm>
            <a:off x="6500880" y="4214880"/>
            <a:ext cx="2144520" cy="2387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6"/>
          <a:stretch/>
        </p:blipFill>
        <p:spPr>
          <a:xfrm>
            <a:off x="3571920" y="4143240"/>
            <a:ext cx="2206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920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20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32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420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200"/>
                            </p:stCondLst>
                            <p:childTnLst>
                              <p:par>
                                <p:cTn id="4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214200" y="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бота и любовь Арины Родионовны скрашивали поэту ссылку.  Пушкин по-настоящему крепко любил свою няню и написал несколько трогательных стихотворений, к ней обращ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238200" cy="4354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642960" y="59292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ллю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 стихотво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3786120" y="1500120"/>
            <a:ext cx="51436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ша ветхая лач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 печальна и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Что же ты, моя стар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умолкла у ок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бури завыв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ы, мой друг, утомл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дремлешь под жужж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воего верет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, добрая 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Бедной юности м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 с горя; где же круж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ердцу будет ве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си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ихо за морем жи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дев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а водой поутру ш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А.С.Пушкин 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 flipH="1">
            <a:off x="5286240" y="71424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уть более двух лет длилась ссылка в Михайловское. Она закончилась в сентябре 1826 года. Пушкин вернулся в Моск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57120" y="285840"/>
            <a:ext cx="48103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214200" y="381168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Не получив определенного ответа от Гончаровой, он без разрешения властей сразу самовольно уехал на Кавказ. Это путешествие по Военно-Грузинской дороге, яркие впечатления и многочисленные встречи с друзьями, участие в военных действиях русской армии, взявшей Арзрум, Пушкин описал в автобиографическом произ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"Путешествие в Арзрум" (182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mhtml:file://C:\Documents%20and%20Settings\Admin\Рабочий%20стол\пушкин1\Яндекс.Картинки_%20кавказ2.mht!http://www.bestphotos.ru/data/media/10/_MG_0980.jpg"/>
          <p:cNvPicPr/>
          <p:nvPr/>
        </p:nvPicPr>
        <p:blipFill>
          <a:blip r:embed="rId1"/>
          <a:stretch/>
        </p:blipFill>
        <p:spPr>
          <a:xfrm>
            <a:off x="1714680" y="214200"/>
            <a:ext cx="55242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4214880" y="301680"/>
            <a:ext cx="471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6 мая 1830 г. состоялась. наконец, помолвка Пушкина с Натальей Гончаровой. Отец выделил ему деревеньку Кистеневку с 200 душами крестьян, расположенную в Нижегородской губернии, вблизи от отцовского имения с.Болдино. Поэт отправился туда, однако начавшаяся в Москве эпидемия холеры и расставленные повсюду карантины задержали Пушкина в Болди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 7 сентября по 2 декабр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1830 г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Болдинскую осень талант Пушкина достиг полного расцве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C:\Documents and Settings\Admin\Рабочий стол\Пушкин\boldino_02.jpg"/>
          <p:cNvPicPr/>
          <p:nvPr/>
        </p:nvPicPr>
        <p:blipFill>
          <a:blip r:embed="rId1"/>
          <a:stretch/>
        </p:blipFill>
        <p:spPr>
          <a:xfrm>
            <a:off x="214200" y="357120"/>
            <a:ext cx="39499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Admin\Рабочий стол\Пушкин\boldino_01.jpg"/>
          <p:cNvPicPr/>
          <p:nvPr/>
        </p:nvPicPr>
        <p:blipFill>
          <a:blip r:embed="rId2"/>
          <a:stretch/>
        </p:blipFill>
        <p:spPr>
          <a:xfrm>
            <a:off x="214200" y="3643200"/>
            <a:ext cx="3929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4143240" y="2858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это время им были созданы"Повести Белкина", "Маленькие трагедии": "Скупой рыцарь", "Моцарт и Сальери", "Каменный гость", "Пир во время чумы", поэма "Домик в Коломне", закончен весь роман "Евгений Онегин" (кроме письма Онегина), повесть "История села Горюхина", "Сказка о попе и работнике его Балде", критические статьи, множество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E:\новое\новое\boldino_21.jpg"/>
          <p:cNvPicPr/>
          <p:nvPr/>
        </p:nvPicPr>
        <p:blipFill>
          <a:blip r:embed="rId1"/>
          <a:stretch/>
        </p:blipFill>
        <p:spPr>
          <a:xfrm>
            <a:off x="428760" y="285840"/>
            <a:ext cx="3697200" cy="59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929040" y="214200"/>
            <a:ext cx="49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 февраля 1831 г. в церкви Вознесения Господня состоялось его венчание с Н.Н.Гончаровой. Первые месяцы семейной жизни он провел с женой в Москве, сняв квартиру на Арб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1"/>
          <a:stretch/>
        </p:blipFill>
        <p:spPr>
          <a:xfrm>
            <a:off x="285840" y="285840"/>
            <a:ext cx="3581280" cy="24289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760680" y="285768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Москве на Арб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5712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середины октября 1831 г. и уже до конца жизни Пушкин с семьей живет в Петербур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Последняя квартира А.С. Пушкина на Набережной Мойки, 12, в Петербурге."/>
          <p:cNvPicPr/>
          <p:nvPr/>
        </p:nvPicPr>
        <p:blipFill>
          <a:blip r:embed="rId2"/>
          <a:stretch/>
        </p:blipFill>
        <p:spPr>
          <a:xfrm>
            <a:off x="5143680" y="3357720"/>
            <a:ext cx="3539880" cy="2214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5468040" y="56437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етербург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бережной М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857760"/>
            <a:ext cx="1942920" cy="271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,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,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,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92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92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92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92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76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760"/>
                            </p:stCondLst>
                            <p:childTnLst>
                              <p:par>
                                <p:cTn id="7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332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14200" y="357120"/>
            <a:ext cx="5067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5"/>
          <p:cNvSpPr/>
          <p:nvPr/>
        </p:nvSpPr>
        <p:spPr>
          <a:xfrm>
            <a:off x="0" y="142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мерть поэт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чалом его бессмертной славы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285840" y="928800"/>
            <a:ext cx="2205000" cy="3236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Admin\Рабочий стол\Пушкин\244px-Pushkin_Goncharova_Arbat_2005.jpg"/>
          <p:cNvPicPr/>
          <p:nvPr/>
        </p:nvPicPr>
        <p:blipFill>
          <a:blip r:embed="rId2"/>
          <a:stretch/>
        </p:blipFill>
        <p:spPr>
          <a:xfrm>
            <a:off x="6572160" y="1071720"/>
            <a:ext cx="2160720" cy="3286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Documents and Settings\Admin\Рабочий стол\Пушкин\256px-Pushkin_monument_Uralsk.JPG"/>
          <p:cNvPicPr/>
          <p:nvPr/>
        </p:nvPicPr>
        <p:blipFill>
          <a:blip r:embed="rId3"/>
          <a:stretch/>
        </p:blipFill>
        <p:spPr>
          <a:xfrm>
            <a:off x="2928960" y="464328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Documents and Settings\Admin\Рабочий стол\Пушкин\270px-Bust_pushkinu.jpg"/>
          <p:cNvPicPr/>
          <p:nvPr/>
        </p:nvPicPr>
        <p:blipFill>
          <a:blip r:embed="rId4"/>
          <a:stretch/>
        </p:blipFill>
        <p:spPr>
          <a:xfrm>
            <a:off x="2928960" y="1500120"/>
            <a:ext cx="3238560" cy="2435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C:\Documents and Settings\Admin\Рабочий стол\Пушкин\120px-Pushkin.jpg"/>
          <p:cNvPicPr/>
          <p:nvPr/>
        </p:nvPicPr>
        <p:blipFill>
          <a:blip r:embed="rId5"/>
          <a:stretch/>
        </p:blipFill>
        <p:spPr>
          <a:xfrm>
            <a:off x="571680" y="4357800"/>
            <a:ext cx="1698480" cy="2289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Documents and Settings\Admin\Рабочий стол\Пушкин\131px-PushkinCoin.jpg"/>
          <p:cNvPicPr/>
          <p:nvPr/>
        </p:nvPicPr>
        <p:blipFill>
          <a:blip r:embed="rId6"/>
          <a:stretch/>
        </p:blipFill>
        <p:spPr>
          <a:xfrm>
            <a:off x="6572160" y="4714920"/>
            <a:ext cx="1824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4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04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204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704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204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704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0" y="357120"/>
            <a:ext cx="4572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E:\новое\новое\pushkin_04.jpg"/>
          <p:cNvPicPr/>
          <p:nvPr/>
        </p:nvPicPr>
        <p:blipFill>
          <a:blip r:embed="rId1"/>
          <a:stretch/>
        </p:blipFill>
        <p:spPr>
          <a:xfrm>
            <a:off x="5214960" y="285840"/>
            <a:ext cx="3562200" cy="464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E:\новое\новое\pushkin_11.jpg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20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E:\новое\новое\pushkin_21.jpg"/>
          <p:cNvPicPr/>
          <p:nvPr/>
        </p:nvPicPr>
        <p:blipFill>
          <a:blip r:embed="rId3"/>
          <a:stretch/>
        </p:blipFill>
        <p:spPr>
          <a:xfrm>
            <a:off x="5214960" y="285840"/>
            <a:ext cx="3643200" cy="532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E:\новое\новое\pushkin_24.jpg"/>
          <p:cNvPicPr/>
          <p:nvPr/>
        </p:nvPicPr>
        <p:blipFill>
          <a:blip r:embed="rId4"/>
          <a:stretch/>
        </p:blipFill>
        <p:spPr>
          <a:xfrm>
            <a:off x="4971960" y="285840"/>
            <a:ext cx="3870360" cy="528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Admin\Рабочий стол\Пушкин\pushkin_06.jpg"/>
          <p:cNvPicPr/>
          <p:nvPr/>
        </p:nvPicPr>
        <p:blipFill>
          <a:blip r:embed="rId5"/>
          <a:stretch/>
        </p:blipFill>
        <p:spPr>
          <a:xfrm>
            <a:off x="4649760" y="285840"/>
            <a:ext cx="4262400" cy="5214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Documents and Settings\Admin\Рабочий стол\Пушкин\683.jpg"/>
          <p:cNvPicPr/>
          <p:nvPr/>
        </p:nvPicPr>
        <p:blipFill>
          <a:blip r:embed="rId6"/>
          <a:stretch/>
        </p:blipFill>
        <p:spPr>
          <a:xfrm>
            <a:off x="4572000" y="285840"/>
            <a:ext cx="4341960" cy="5357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Admin\Рабочий стол\пушкин1\image001.jpg"/>
          <p:cNvPicPr/>
          <p:nvPr/>
        </p:nvPicPr>
        <p:blipFill>
          <a:blip r:embed="rId7"/>
          <a:stretch/>
        </p:blipFill>
        <p:spPr>
          <a:xfrm>
            <a:off x="4500720" y="285840"/>
            <a:ext cx="4435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1909080" y="5013360"/>
            <a:ext cx="53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Яковлева Елена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лицей №6 г.Ива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35712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21420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786280" y="285840"/>
            <a:ext cx="2519640" cy="3714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85716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4786200" y="0"/>
            <a:ext cx="4143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Bookman Old Style"/>
              </a:rPr>
              <a:t>Императорский Царскосельский Лицей был создан для образования и воспитания юношества, предназначенного к «важнейшим частям службы Государственной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slide0010_image025"/>
          <p:cNvPicPr/>
          <p:nvPr/>
        </p:nvPicPr>
        <p:blipFill>
          <a:blip r:embed="rId1"/>
          <a:stretch/>
        </p:blipFill>
        <p:spPr>
          <a:xfrm>
            <a:off x="5286240" y="3286080"/>
            <a:ext cx="3651480" cy="341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535640" cy="2857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214200" y="3143160"/>
            <a:ext cx="507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своих правах Лицей приравнивался к российским университетам и находился под особым покровительством Александра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. В Лицей принимали дворянских мальчиков 10-12 лет по результатам вступительных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214200" y="4643280"/>
            <a:ext cx="8715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Учебный год в Царскосельском Лицее продолжался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11 месяцев, с 1 августа по 1 июля. 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Лицей был закрытым заведением. В течение всего периода обучения воспитанники не имели права покидать пределов Царского С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Картинка 1 из 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14200"/>
            <a:ext cx="65725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Николай</cp:lastModifiedBy>
  <dcterms:modified xsi:type="dcterms:W3CDTF">2013-03-01T11:52:56Z</dcterms:modified>
  <cp:revision>76</cp:revision>
  <dc:subject/>
  <dc:title>Слайд 1</dc:title>
</cp:coreProperties>
</file>