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36F3-4B4C-40D4-8BD6-33ECB632B3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17B-4694-417E-8963-AEE1B9D76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385-B2CD-4BB2-846E-CDC4A5D5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A2C-16F5-455A-A951-C0B6581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8DD-9F8A-42D2-9CFF-4CE5AE0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0BC-5283-48E5-B232-2500413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069-9B51-4FC2-9EC0-6CB173B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7C8-F439-456B-AA16-E3058AAE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8BD-F0A5-4444-8264-2449CF8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D78-127D-4D6B-AA5D-B682632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107-AF52-432C-9030-3BEE325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11C-71F0-4781-8995-132A269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547-7AF9-44BA-BFD5-9DFE9AA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2C0-50F7-4F39-8CC6-0F8320B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751-D38E-4A6A-8518-A6E3B0ED8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25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1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2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1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1909080" y="501336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Яковлева Еле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лицей №6 г.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Николай</cp:lastModifiedBy>
  <dcterms:modified xsi:type="dcterms:W3CDTF">2013-03-01T11:52:56Z</dcterms:modified>
  <cp:revision>76</cp:revision>
  <dc:subject/>
  <dc:title>Слайд 1</dc:title>
</cp:coreProperties>
</file>