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3.gif" ContentType="image/gif"/>
  <Override PartName="/ppt/media/image21.jpeg" ContentType="image/jpeg"/>
  <Override PartName="/ppt/media/image20.gif" ContentType="image/gif"/>
  <Override PartName="/ppt/media/image23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5.jpeg" ContentType="image/jpeg"/>
  <Override PartName="/ppt/media/image4.gif" ContentType="image/gif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42E-DFF2-4840-94EF-A30F9AC2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3B4-7E37-4B0C-99CA-FFFFA875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321-A839-4C7D-BD12-001DC4E7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CD0-9BC9-45A6-9EE4-9B4E8416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AABEA-8C45-4FF6-9A7A-47A75DF8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B9C52-1D27-4DEB-A85C-8069A6A5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A9770-C104-43A2-A096-EA9BCC5D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EE76D-AFBF-46E7-9E3F-6D360ABB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22492-4378-490B-8CF1-6222C4FD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90543-BA41-47BF-A95B-56A23B98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CD810-43D1-4DF4-9326-CD41F6EE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1EB-213B-440A-97A2-EDA7A35D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8EF42-7DFA-4EB6-9D9D-4F287774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C2609-C749-47E8-ADE5-88D1FFE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7CF82-147A-4C6E-8DFD-24987DFA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6EF55-B596-4E49-87BB-7E314D39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E48B6-0087-4DE2-8616-BA82949F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2FB-F86C-4CF6-9606-0FCB09B5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B6E-D37A-4F18-91D5-67B5905E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635-0DB3-4DB3-A559-2F7F1DA6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FE9-7406-4BCB-BEBE-5C49E4B9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2A9-D08D-4F2A-91AE-6D82C72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905-E550-4D64-9C91-705C0B9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BFE-9667-4011-A56B-A113977F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E060-BE6C-4EFC-B3EF-21BA753C7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FA46-DCE8-47CC-BC2F-A44D5EC51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Ерёменко Л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716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ение воды на Земл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Много ног у осьминог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Все они ему нуж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Заменяют ему ру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Очень ловкие о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0"/>
            <a:ext cx="8458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же воды в Мировом океане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0880" y="2209680"/>
            <a:ext cx="8229600" cy="45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ишите, какая вод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зра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цве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запа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вк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2743200"/>
            <a:ext cx="3200400" cy="3124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7432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629400" y="2971440"/>
            <a:ext cx="6094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48440" y="2438280"/>
            <a:ext cx="2095560" cy="2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сная во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191120" y="4952880"/>
            <a:ext cx="215712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леная 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553080" y="2819520"/>
            <a:ext cx="666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77120" y="4648320"/>
            <a:ext cx="104760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7 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800" y="380880"/>
            <a:ext cx="820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Какая вода нужна человеку,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животным, растения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617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есная или солен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да на Земле распределена неравном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28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А бывает ли вода тверда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Где можно встретить воду в твердом состоя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3238560"/>
            <a:ext cx="3276720" cy="361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 rot="568200">
            <a:off x="4924080" y="2819520"/>
            <a:ext cx="4219560" cy="254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76720" y="4303800"/>
            <a:ext cx="4343400" cy="25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2057400"/>
            <a:ext cx="7772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чем вода еще нужна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-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876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источник пи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реда обитания животных и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ля приготовления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орога для передвижения и перевоза гру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8320" y="3581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19920" y="4724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Times New Roman"/>
              </a:rPr>
              <a:t>Берегите воду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66"/>
                </a:solidFill>
                <a:uFillTx/>
                <a:latin typeface="Perpetua Titling MT"/>
              </a:rPr>
              <a:t>Жизнь человека, животных и растений невозможна без воды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95280" y="2914560"/>
            <a:ext cx="70866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773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конь, а бежит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лес, а шуми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75248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«Голубая планет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889800">
            <a:off x="5866920" y="53352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566200">
            <a:off x="5257440" y="220968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486400" y="3867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</cp:lastModifiedBy>
  <dcterms:modified xsi:type="dcterms:W3CDTF">2010-02-17T12:46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