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4.png" ContentType="image/png"/>
  <Override PartName="/ppt/media/image3.gif" ContentType="image/gif"/>
  <Override PartName="/ppt/media/image21.jpeg" ContentType="image/jpeg"/>
  <Override PartName="/ppt/media/image20.gif" ContentType="image/gif"/>
  <Override PartName="/ppt/media/image23.png" ContentType="image/png"/>
  <Override PartName="/ppt/media/image18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5.jpeg" ContentType="image/jpeg"/>
  <Override PartName="/ppt/media/image4.gif" ContentType="image/gif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4A5-2ECD-465C-A9E5-474AA502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E50-B7EF-44EB-8F9B-6CF55A6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88E-A675-4081-84D0-CE9CDB9D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71A-305F-4EF7-AFF7-89D4E59B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8BE8F-48D4-46A0-957D-BF37BCAE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505AF-0E9D-4BF2-AE60-D8E86704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B91BE-026B-4010-95B2-DB68A39E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9C267-0FFE-4834-B719-D57F2496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5BE72-8B07-4C15-BCF4-A6DADAEF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B5370-B5A1-4D28-B1C7-3BDCB9D1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69D14-0351-4BB9-9872-F11FCD75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BF7-8240-476B-A3FC-DA69B17F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CEA9D-931C-4236-B7BA-C1340508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EEE87-2E0D-4614-9AE8-E06C402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7603-2FB7-448C-BE36-40E40068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F6D82-FF22-4D7A-AF92-FCA474F0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9924F-46F7-44C7-BB09-26862275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920-A13D-4E23-B0B3-06EE2030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D58-DFDA-4C0B-914B-3759194B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755-A816-484D-9721-DCF2DC37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60E-4184-4844-A344-7C25F662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B48-09E0-4389-8719-91495C1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F3C-7C5C-45A2-8E06-6163B06A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BEE8-6E97-4AC5-92F9-738BCC9D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96B0-2119-4CAE-9847-49DA6EA40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7EDF-FB27-40E4-AF7E-D32E8A34F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Ерёменко Л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71600"/>
            <a:ext cx="7848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чение воды на Земл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изминут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Много ног у осьминог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Все они ему нуж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Заменяют ему ру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Очень ловкие он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10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0"/>
            <a:ext cx="8458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ко же воды в Мировом океане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80880" y="2209680"/>
            <a:ext cx="8229600" cy="457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ишите, какая вод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зрач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цве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запа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д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вк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2743200"/>
            <a:ext cx="3200400" cy="3124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7432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629400" y="2971440"/>
            <a:ext cx="6094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048440" y="2438280"/>
            <a:ext cx="2095560" cy="2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есная во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191120" y="4952880"/>
            <a:ext cx="215712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леная в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553080" y="2819520"/>
            <a:ext cx="666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477120" y="4648320"/>
            <a:ext cx="104760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7 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9800" y="380880"/>
            <a:ext cx="820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Какая вода нужна человеку,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животным, растения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617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есная или солен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ода на Земле распределена неравноме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28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А бывает ли вода тверда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Где можно встретить воду в твердом состоя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8600" y="3238560"/>
            <a:ext cx="3276720" cy="361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 rot="568200">
            <a:off x="4924080" y="2819520"/>
            <a:ext cx="4219560" cy="2547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76720" y="4303800"/>
            <a:ext cx="4343400" cy="25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2057400"/>
            <a:ext cx="7772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чем вода еще нужна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-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876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источник пи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среда обитания животных и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ля приготовления пи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орога для передвижения и перевоза груз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48520" y="2133720"/>
            <a:ext cx="259056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48320" y="35812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019920" y="4724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Times New Roman"/>
              </a:rPr>
              <a:t>Берегите воду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1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66"/>
                </a:solidFill>
                <a:uFillTx/>
                <a:latin typeface="Perpetua Titling MT"/>
              </a:rPr>
              <a:t>Жизнь человека, животных и растений невозможна без воды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295280" y="2914560"/>
            <a:ext cx="7086600" cy="39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773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2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480" y="2743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Не конь, а бежит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Не лес, а шумит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75248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99ff"/>
                </a:solidFill>
                <a:latin typeface="Tahoma"/>
              </a:rPr>
              <a:t>«Голубая планет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889800">
            <a:off x="5866920" y="53352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20566200">
            <a:off x="5257440" y="2209680"/>
            <a:ext cx="3429000" cy="2281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486400" y="3867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</cp:lastModifiedBy>
  <dcterms:modified xsi:type="dcterms:W3CDTF">2010-02-17T12:46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