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4.png" ContentType="image/png"/>
  <Override PartName="/ppt/media/image3.gif" ContentType="image/gif"/>
  <Override PartName="/ppt/media/image21.jpeg" ContentType="image/jpeg"/>
  <Override PartName="/ppt/media/image20.gif" ContentType="image/gif"/>
  <Override PartName="/ppt/media/image23.png" ContentType="image/png"/>
  <Override PartName="/ppt/media/image18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5.jpeg" ContentType="image/jpeg"/>
  <Override PartName="/ppt/media/image4.gif" ContentType="image/gif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D4D-6DEA-4199-AB65-96ED0006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FED-0A2C-4B27-A004-9A6C0018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AAC-FD34-42CE-A420-CCBEA4E3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801-3AC8-4524-B83E-3835F9BD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661E5-FF57-4558-AC26-671EF718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D8BE1-CCED-4423-9B25-E1A0BDE4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005F5-528E-443C-9DC7-0CD5AAD0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A68DC-B6EC-4C5E-A933-F5F703AF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A0659-65EF-4CE2-B119-79126474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CFD87-E67E-4DA2-AE8E-DEC77DCF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F926B-F607-45C6-AE22-744682A8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368-7BFB-4C37-A12F-76B2CA35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E027A-790E-4FCF-B61C-39E9EE5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03989-1F6D-4D6D-9475-EE43BC13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05105-9E49-4A6D-A8B2-FEEE3758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3117E-6769-4EB0-9E0F-088615DC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81A5A-F939-450E-8BA3-2B067232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C5F-5A05-4CA5-91BB-5AB3D17C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65A-A654-4267-9E62-1A6BEE66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499-23EA-4CB1-ACD6-87578A80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67A-6ACD-4EEB-9328-BD767DB5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EA2-8ABC-4E53-969E-5345209F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694-59C0-4153-92BE-30E590F4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AE9-D7F7-47BE-9A08-763F3E95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7126-6D24-447E-96BA-FA32B2812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B3BE-9778-4942-B2E8-7FD22E5EA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Ерёменко Л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71600"/>
            <a:ext cx="7848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чение воды на Земл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изминут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Много ног у осьминог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Все они ему нуж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Заменяют ему ру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Очень ловкие он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10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0"/>
            <a:ext cx="8458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ко же воды в Мировом океане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80880" y="2209680"/>
            <a:ext cx="8229600" cy="457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ишите, какая вод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зрач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цве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запа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д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вк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2743200"/>
            <a:ext cx="3200400" cy="3124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7432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629400" y="2971440"/>
            <a:ext cx="6094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048440" y="2438280"/>
            <a:ext cx="2095560" cy="2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есная во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191120" y="4952880"/>
            <a:ext cx="215712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леная в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553080" y="2819520"/>
            <a:ext cx="666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477120" y="4648320"/>
            <a:ext cx="104760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7 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9800" y="380880"/>
            <a:ext cx="820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Какая вода нужна человеку,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животным, растения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617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есная или солен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ода на Земле распределена неравноме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28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А бывает ли вода тверда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Где можно встретить воду в твердом состоя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8600" y="3238560"/>
            <a:ext cx="3276720" cy="361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 rot="568200">
            <a:off x="4924080" y="2819520"/>
            <a:ext cx="4219560" cy="2547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76720" y="4303800"/>
            <a:ext cx="4343400" cy="25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2057400"/>
            <a:ext cx="7772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чем вода еще нужна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-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876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источник пи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среда обитания животных и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ля приготовления пи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орога для передвижения и перевоза груз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48520" y="2133720"/>
            <a:ext cx="259056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48320" y="35812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019920" y="4724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Times New Roman"/>
              </a:rPr>
              <a:t>Берегите воду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1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66"/>
                </a:solidFill>
                <a:uFillTx/>
                <a:latin typeface="Perpetua Titling MT"/>
              </a:rPr>
              <a:t>Жизнь человека, животных и растений невозможна без воды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295280" y="2914560"/>
            <a:ext cx="7086600" cy="39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773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2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480" y="2743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Не конь, а бежит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Не лес, а шумит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75248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99ff"/>
                </a:solidFill>
                <a:latin typeface="Tahoma"/>
              </a:rPr>
              <a:t>«Голубая планет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889800">
            <a:off x="5866920" y="53352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20566200">
            <a:off x="5257440" y="2209680"/>
            <a:ext cx="3429000" cy="2281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486400" y="3867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</cp:lastModifiedBy>
  <dcterms:modified xsi:type="dcterms:W3CDTF">2010-02-17T12:46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