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2183-0147-4E59-B5C9-8BA85DC388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AD3D-0C3A-4849-96C0-389DEB636E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132E-1E51-452C-8E1E-F7AA12A70A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5CDC-1413-463E-AE8E-B0989B0A64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A930-4631-4A41-8630-EFFEAB6C34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820A-C322-4301-ABCD-D8890815D0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0E0-D42C-46E1-9B77-AF40B74479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B96F-1E96-4B78-A242-86025AE356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56CC-F4AB-4DC2-9872-1AB100B2C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A50-F0FF-4570-B17D-D833410AC7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CD9B-2DFF-4A45-8894-710C2B80F5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447E-F4E3-431F-946C-10A1DADCE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3728-14C2-490A-AC02-D0D71BC06A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E36-2BCF-402A-B3DD-CCE72226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62D-213A-4D6C-BC9F-B8C7B64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A44-F4D6-448C-8B72-E3B7D91C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986-DF5B-4975-8EC6-25FD8674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83F-F2E2-4216-A18B-07E267D5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C23-BD41-4683-BCC0-03672FB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90B-74FB-4DD7-B865-0BE5901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119-C22E-44BE-B5C9-FA7D137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F1F-B9CB-4A5C-96B5-246A9F7D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909-BF7E-4C28-B915-151F45B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ECD-9D63-446A-9CB2-7C78267B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942-F6F1-4F1D-A595-DE3834B7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F131-8705-435C-832D-41EEA4B2F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9.jpeg"/><Relationship Id="rId6" Type="http://schemas.openxmlformats.org/officeDocument/2006/relationships/hyperlink" Target="http://prezentacii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4000" y="333360"/>
            <a:ext cx="57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50000">
                      <a:srgbClr val="ff9933"/>
                    </a:gs>
                    <a:gs pos="100000">
                      <a:srgbClr val="3366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ЕЕ СТРОЕНИЕ ПТИЦ</a:t>
            </a:r>
            <a:endParaRPr b="0" lang="en-US" sz="24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50000">
                    <a:srgbClr val="ff9933"/>
                  </a:gs>
                  <a:gs pos="100000">
                    <a:srgbClr val="3366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8360" y="5300640"/>
            <a:ext cx="576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50000">
                      <a:srgbClr val="ff9933"/>
                    </a:gs>
                    <a:gs pos="100000">
                      <a:srgbClr val="3366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ПЕРЬЕВ</a:t>
            </a:r>
            <a:endParaRPr b="0" lang="en-US" sz="24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50000">
                    <a:srgbClr val="ff9933"/>
                  </a:gs>
                  <a:gs pos="100000">
                    <a:srgbClr val="3366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Рамка 3"/>
          <p:cNvSpPr/>
          <p:nvPr/>
        </p:nvSpPr>
        <p:spPr>
          <a:xfrm>
            <a:off x="3943440" y="6429240"/>
            <a:ext cx="2286000" cy="4287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"/>
          <p:cNvGrpSpPr/>
          <p:nvPr/>
        </p:nvGrpSpPr>
        <p:grpSpPr>
          <a:xfrm>
            <a:off x="533520" y="457200"/>
            <a:ext cx="8076960" cy="5943600"/>
            <a:chOff x="533520" y="457200"/>
            <a:chExt cx="8076960" cy="5943600"/>
          </a:xfrm>
        </p:grpSpPr>
        <p:pic>
          <p:nvPicPr>
            <p:cNvPr id="124" name="Picture 2" descr="перо1"/>
            <p:cNvPicPr/>
            <p:nvPr/>
          </p:nvPicPr>
          <p:blipFill>
            <a:blip r:embed="rId2"/>
            <a:stretch/>
          </p:blipFill>
          <p:spPr>
            <a:xfrm>
              <a:off x="533520" y="457200"/>
              <a:ext cx="807696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685800" y="5539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величение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5"/>
          <p:cNvSpPr/>
          <p:nvPr/>
        </p:nvSpPr>
        <p:spPr>
          <a:xfrm>
            <a:off x="533520" y="609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УВЕЛИЧЕНИИ В 10 РАЗ МОЖНО УВИДЕТЬ БОРОДКИ ПЕРВ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581280" y="1371600"/>
            <a:ext cx="137160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перо3"/>
          <p:cNvPicPr/>
          <p:nvPr/>
        </p:nvPicPr>
        <p:blipFill>
          <a:blip r:embed="rId2"/>
          <a:stretch/>
        </p:blipFill>
        <p:spPr>
          <a:xfrm>
            <a:off x="533520" y="1143000"/>
            <a:ext cx="54100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095880" y="2819520"/>
            <a:ext cx="27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РИ УВЕЛИЧЕНИИ В 200 РАЗ МОЖНО УВИДЕТЬ БОРОДКИ ВТОР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3808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УВЕЛИЧЕНИЕ В 200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 flipV="1">
            <a:off x="3504960" y="2971800"/>
            <a:ext cx="251460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1143000" y="533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СТРОЕНИЕ ПЕРЬЕВ П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ЁМ ИХ СХОДСТВО И РАЗЛИЧ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УРНОЕ МАХ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057400" y="5029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УРНОЕ КРОЮЩ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724280" y="5562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ОВОЕ ПЕ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74674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КРЫЛЬЯ1"/>
          <p:cNvPicPr/>
          <p:nvPr/>
        </p:nvPicPr>
        <p:blipFill>
          <a:blip r:embed="rId2"/>
          <a:stretch/>
        </p:blipFill>
        <p:spPr>
          <a:xfrm>
            <a:off x="2185920" y="1600200"/>
            <a:ext cx="154800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РЫЛЬЯ2"/>
          <p:cNvPicPr/>
          <p:nvPr/>
        </p:nvPicPr>
        <p:blipFill>
          <a:blip r:embed="rId3"/>
          <a:stretch/>
        </p:blipFill>
        <p:spPr>
          <a:xfrm>
            <a:off x="4906800" y="2743200"/>
            <a:ext cx="103824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КРЫЛЬЯ3"/>
          <p:cNvPicPr/>
          <p:nvPr/>
        </p:nvPicPr>
        <p:blipFill>
          <a:blip r:embed="rId4"/>
          <a:stretch/>
        </p:blipFill>
        <p:spPr>
          <a:xfrm>
            <a:off x="7010280" y="3962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ПУХ1"/>
          <p:cNvPicPr/>
          <p:nvPr/>
        </p:nvPicPr>
        <p:blipFill>
          <a:blip r:embed="rId5"/>
          <a:stretch/>
        </p:blipFill>
        <p:spPr>
          <a:xfrm>
            <a:off x="414360" y="1600200"/>
            <a:ext cx="1109520" cy="3962520"/>
          </a:xfrm>
          <a:prstGeom prst="rect">
            <a:avLst/>
          </a:prstGeom>
          <a:ln w="0">
            <a:noFill/>
          </a:ln>
        </p:spPr>
      </p:pic>
      <p:sp>
        <p:nvSpPr>
          <p:cNvPr id="141" name="Рамка 10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6[1]"/>
          <p:cNvPicPr/>
          <p:nvPr/>
        </p:nvPicPr>
        <p:blipFill>
          <a:blip r:embed="rId2"/>
          <a:stretch/>
        </p:blipFill>
        <p:spPr>
          <a:xfrm>
            <a:off x="304920" y="1959120"/>
            <a:ext cx="510516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113[1]"/>
          <p:cNvPicPr/>
          <p:nvPr/>
        </p:nvPicPr>
        <p:blipFill>
          <a:blip r:embed="rId3"/>
          <a:stretch/>
        </p:blipFill>
        <p:spPr>
          <a:xfrm>
            <a:off x="838080" y="380880"/>
            <a:ext cx="769644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12[1]"/>
          <p:cNvPicPr/>
          <p:nvPr/>
        </p:nvPicPr>
        <p:blipFill>
          <a:blip r:embed="rId4"/>
          <a:stretch/>
        </p:blipFill>
        <p:spPr>
          <a:xfrm>
            <a:off x="2743200" y="228600"/>
            <a:ext cx="6000840" cy="429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228600" y="228600"/>
            <a:ext cx="7772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тицы – позвоночные животные, тело которых покрыто перьями, а передние конечности превращены в крыл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486400" y="91440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пособность передвигаться в воздухе, теплокровность и другие особенности строения и жизнедеятельности дали им возможность широко расселится на Зем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0"/>
          <p:cNvSpPr/>
          <p:nvPr/>
        </p:nvSpPr>
        <p:spPr>
          <a:xfrm>
            <a:off x="533520" y="380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. ОПИШИТЕ ФОРМУ ТЕЛА ПТИЦЫ И УКАЖИТЕ, ИЗ КАКИХ ОТДЕЛОВ ОНО СОСТО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" descr="Без имени-1копирование"/>
          <p:cNvPicPr/>
          <p:nvPr/>
        </p:nvPicPr>
        <p:blipFill>
          <a:blip r:embed="rId1"/>
          <a:stretch/>
        </p:blipFill>
        <p:spPr>
          <a:xfrm>
            <a:off x="2921040" y="1752480"/>
            <a:ext cx="5689440" cy="4496040"/>
          </a:xfrm>
          <a:prstGeom prst="rect">
            <a:avLst/>
          </a:prstGeom>
          <a:ln w="0">
            <a:noFill/>
          </a:ln>
        </p:spPr>
      </p:pic>
      <p:sp>
        <p:nvSpPr>
          <p:cNvPr id="58" name="Line 3"/>
          <p:cNvSpPr/>
          <p:nvPr/>
        </p:nvSpPr>
        <p:spPr>
          <a:xfrm flipH="1">
            <a:off x="3885840" y="1295280"/>
            <a:ext cx="2057400" cy="8384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4368240" y="2186280"/>
            <a:ext cx="2312640" cy="504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6781320" y="3657600"/>
            <a:ext cx="121932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7543800" y="5334120"/>
            <a:ext cx="38088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791320" y="838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7057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46748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5"/>
          <p:cNvSpPr/>
          <p:nvPr/>
        </p:nvSpPr>
        <p:spPr>
          <a:xfrm flipV="1">
            <a:off x="1440360" y="3594240"/>
            <a:ext cx="2300400" cy="811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33520" y="4419720"/>
            <a:ext cx="25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 flipV="1">
            <a:off x="3048120" y="5486400"/>
            <a:ext cx="2133360" cy="3808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905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685800" y="457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ВНЕШНЕЕ СТРОЕН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5772240" y="836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699240" y="198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7451640" y="3284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РЫ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7020000" y="6021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Х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539640" y="443700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1908000" y="5734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ЦЕ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9" descr="Без имени-1копирование"/>
          <p:cNvPicPr/>
          <p:nvPr/>
        </p:nvPicPr>
        <p:blipFill>
          <a:blip r:embed="rId2"/>
          <a:stretch/>
        </p:blipFill>
        <p:spPr>
          <a:xfrm>
            <a:off x="2527200" y="1427040"/>
            <a:ext cx="4788000" cy="413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838080" y="60948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ссмотрите голову п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органы располагаются на 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5486400" y="2438280"/>
            <a:ext cx="175248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7242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4648320" y="1447920"/>
            <a:ext cx="1752480" cy="8380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1600200" y="2971800"/>
            <a:ext cx="1600200" cy="763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"/>
          <p:cNvSpPr/>
          <p:nvPr/>
        </p:nvSpPr>
        <p:spPr>
          <a:xfrm flipV="1">
            <a:off x="1523880" y="3352320"/>
            <a:ext cx="1752840" cy="17528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3276720" y="3581280"/>
            <a:ext cx="228600" cy="19814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4008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694836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90920" y="571500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33520" y="5181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2286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381720" y="1197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948360" y="184464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Х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Р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2700360" y="5708520"/>
            <a:ext cx="27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КЛЮВ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826920" y="5157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528480" y="3038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КЛЮВЬ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ЗД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[1]"/>
          <p:cNvPicPr/>
          <p:nvPr/>
        </p:nvPicPr>
        <p:blipFill>
          <a:blip r:embed="rId2"/>
          <a:stretch/>
        </p:blipFill>
        <p:spPr>
          <a:xfrm>
            <a:off x="380880" y="152280"/>
            <a:ext cx="6400800" cy="505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635280" y="4159080"/>
            <a:ext cx="532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говые чехлы, одевающие клюв, менее тверды, чем зубы, но зато они легче, могут принимать любую форму, растут всю жизнь и самозатачив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121[1]"/>
          <p:cNvPicPr/>
          <p:nvPr/>
        </p:nvPicPr>
        <p:blipFill>
          <a:blip r:embed="rId3"/>
          <a:stretch/>
        </p:blipFill>
        <p:spPr>
          <a:xfrm>
            <a:off x="2266920" y="1646280"/>
            <a:ext cx="6877080" cy="521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124[1]"/>
          <p:cNvPicPr/>
          <p:nvPr/>
        </p:nvPicPr>
        <p:blipFill>
          <a:blip r:embed="rId4"/>
          <a:stretch/>
        </p:blipFill>
        <p:spPr>
          <a:xfrm>
            <a:off x="2700360" y="2025720"/>
            <a:ext cx="6443640" cy="483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28[1]"/>
          <p:cNvPicPr/>
          <p:nvPr/>
        </p:nvPicPr>
        <p:blipFill>
          <a:blip r:embed="rId5"/>
          <a:stretch/>
        </p:blipFill>
        <p:spPr>
          <a:xfrm>
            <a:off x="0" y="0"/>
            <a:ext cx="64436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0[1]"/>
          <p:cNvPicPr/>
          <p:nvPr/>
        </p:nvPicPr>
        <p:blipFill>
          <a:blip r:embed="rId2"/>
          <a:stretch/>
        </p:blipFill>
        <p:spPr>
          <a:xfrm>
            <a:off x="2743200" y="228600"/>
            <a:ext cx="6172200" cy="487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04920" y="167652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ДЛЯ ЧЕГО ПТИЦЕ ТАКИЕ КРАСИВЫЕ НАРЯ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101[1]"/>
          <p:cNvPicPr/>
          <p:nvPr/>
        </p:nvPicPr>
        <p:blipFill>
          <a:blip r:embed="rId3"/>
          <a:stretch/>
        </p:blipFill>
        <p:spPr>
          <a:xfrm>
            <a:off x="2590920" y="304920"/>
            <a:ext cx="6476760" cy="588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02[1]"/>
          <p:cNvPicPr/>
          <p:nvPr/>
        </p:nvPicPr>
        <p:blipFill>
          <a:blip r:embed="rId4"/>
          <a:stretch/>
        </p:blipFill>
        <p:spPr>
          <a:xfrm>
            <a:off x="2590920" y="304920"/>
            <a:ext cx="6270480" cy="63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29[1]"/>
          <p:cNvPicPr/>
          <p:nvPr/>
        </p:nvPicPr>
        <p:blipFill>
          <a:blip r:embed="rId5"/>
          <a:stretch/>
        </p:blipFill>
        <p:spPr>
          <a:xfrm>
            <a:off x="2666880" y="142884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6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103[1]"/>
          <p:cNvPicPr/>
          <p:nvPr/>
        </p:nvPicPr>
        <p:blipFill>
          <a:blip r:embed="rId2"/>
          <a:stretch/>
        </p:blipFill>
        <p:spPr>
          <a:xfrm>
            <a:off x="4724280" y="133200"/>
            <a:ext cx="40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27[1]"/>
          <p:cNvPicPr/>
          <p:nvPr/>
        </p:nvPicPr>
        <p:blipFill>
          <a:blip r:embed="rId3"/>
          <a:stretch/>
        </p:blipFill>
        <p:spPr>
          <a:xfrm>
            <a:off x="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228600" y="763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личие перьев и значительное изменение скелета привели к развитию у большинства птиц структурных приспособлений, которые позволили им летать и овладеть воздушной стих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019920" y="35812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ья птиц – это производные эпидермиса, которые ведут своё происхождение от чешуи рептил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066680" y="190512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. ВЫЯСНИТЕ, КАК РАСПОЛАГАЮТСЯ ПЕРЬЯ НА ТЕЛЕ ПТ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ГДЕ РАСПОЛАГАЮТСЯ САМЫЕ КРУПНЫЕ ПЕРЬЯ, А ГДЕ – БОЛЕЕ МЕЛК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крылок"/>
          <p:cNvPicPr/>
          <p:nvPr/>
        </p:nvPicPr>
        <p:blipFill>
          <a:blip r:embed="rId2"/>
          <a:stretch/>
        </p:blipFill>
        <p:spPr>
          <a:xfrm>
            <a:off x="4648320" y="304920"/>
            <a:ext cx="40845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ПУХ1"/>
          <p:cNvPicPr/>
          <p:nvPr/>
        </p:nvPicPr>
        <p:blipFill>
          <a:blip r:embed="rId2"/>
          <a:stretch/>
        </p:blipFill>
        <p:spPr>
          <a:xfrm>
            <a:off x="4741920" y="990720"/>
            <a:ext cx="1430280" cy="5105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38080" y="12193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НЕШНЕЕ СТРО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А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5486400" y="5257800"/>
            <a:ext cx="19051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5714640" y="2133720"/>
            <a:ext cx="106668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2841480" y="3759840"/>
            <a:ext cx="2546640" cy="4806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8580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580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0" y="3505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38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074000" y="1819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Х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712296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38320" y="386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43:03Z</dcterms:created>
  <dc:creator> </dc:creator>
  <dc:description/>
  <dc:language>en-US</dc:language>
  <cp:lastModifiedBy>Admin</cp:lastModifiedBy>
  <dcterms:modified xsi:type="dcterms:W3CDTF">2012-10-02T08:55:53Z</dcterms:modified>
  <cp:revision>34</cp:revision>
  <dc:subject/>
  <dc:title>Презентация PowerPoint</dc:title>
</cp:coreProperties>
</file>