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B150-9092-414A-B09C-6CBD0CFC7E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056B-DF8C-43FA-A645-6F22CFA6F7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F1EA-1390-4F06-8901-BE1CC9558A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4328-30F8-456A-8BD3-C50070B436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D7F7-CA37-4DFF-9BDB-DC7A762C01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1D39-2B92-467F-802E-2332B07736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0E85-2D13-4AF8-A20B-0C5E1002B1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2005-1D54-464A-8A75-EBD8607134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408C-A57F-4441-8279-55F0B0D722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851A-9BD3-4F87-99F4-F30C330F44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FC66-2B02-4797-99D2-C3D01381D5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3E94-B94D-42D9-8465-4CDA06B4E5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C28A-5DA5-49A5-BCE7-2E8456FBAC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E35-ED86-48A5-9EC8-7BD86C30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ECC-0152-44AD-BE43-E28BFC65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5C1-3A58-4926-9213-93DC356D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986-9A7C-4670-B963-6F45826E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729-9454-49DC-8196-0EDC89E7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E2D-AAE6-4EE6-AAEB-5CD86C67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D7D-7298-4B5F-9AC8-27EE0662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B7F-1E1C-44D6-BE23-B0E5BE53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B0D-BA5A-4074-91BC-BE222B0F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42D-D05A-4484-902B-F2F88F5B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ACF-9C3C-499B-AE54-B232B2B4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72F-9EDD-433C-B2A9-C97552EB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11E3-0813-4C3D-9581-2D5D4B44C5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9.jpeg"/><Relationship Id="rId6" Type="http://schemas.openxmlformats.org/officeDocument/2006/relationships/hyperlink" Target="http://prezentacii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4000" y="333360"/>
            <a:ext cx="57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50000">
                      <a:srgbClr val="ff9933"/>
                    </a:gs>
                    <a:gs pos="100000">
                      <a:srgbClr val="3366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ЕЕ СТРОЕНИЕ ПТИЦ</a:t>
            </a:r>
            <a:endParaRPr b="0" lang="en-US" sz="2400" spc="1" strike="noStrike">
              <a:ln w="2232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50000">
                    <a:srgbClr val="ff9933"/>
                  </a:gs>
                  <a:gs pos="100000">
                    <a:srgbClr val="3366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468360" y="5300640"/>
            <a:ext cx="576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50000">
                      <a:srgbClr val="ff9933"/>
                    </a:gs>
                    <a:gs pos="100000">
                      <a:srgbClr val="3366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ЕНИЕ ПЕРЬЕВ</a:t>
            </a:r>
            <a:endParaRPr b="0" lang="en-US" sz="2400" spc="1" strike="noStrike">
              <a:ln w="2232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50000">
                    <a:srgbClr val="ff9933"/>
                  </a:gs>
                  <a:gs pos="100000">
                    <a:srgbClr val="3366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Рамка 3"/>
          <p:cNvSpPr/>
          <p:nvPr/>
        </p:nvSpPr>
        <p:spPr>
          <a:xfrm>
            <a:off x="3943440" y="6429240"/>
            <a:ext cx="2286000" cy="4287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"/>
          <p:cNvGrpSpPr/>
          <p:nvPr/>
        </p:nvGrpSpPr>
        <p:grpSpPr>
          <a:xfrm>
            <a:off x="533520" y="457200"/>
            <a:ext cx="8076960" cy="5943600"/>
            <a:chOff x="533520" y="457200"/>
            <a:chExt cx="8076960" cy="5943600"/>
          </a:xfrm>
        </p:grpSpPr>
        <p:pic>
          <p:nvPicPr>
            <p:cNvPr id="124" name="Picture 2" descr="перо1"/>
            <p:cNvPicPr/>
            <p:nvPr/>
          </p:nvPicPr>
          <p:blipFill>
            <a:blip r:embed="rId2"/>
            <a:stretch/>
          </p:blipFill>
          <p:spPr>
            <a:xfrm>
              <a:off x="533520" y="457200"/>
              <a:ext cx="807696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"/>
            <p:cNvSpPr/>
            <p:nvPr/>
          </p:nvSpPr>
          <p:spPr>
            <a:xfrm>
              <a:off x="685800" y="5539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величение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5"/>
          <p:cNvSpPr/>
          <p:nvPr/>
        </p:nvSpPr>
        <p:spPr>
          <a:xfrm>
            <a:off x="533520" y="609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УВЕЛИЧЕНИИ В 10 РАЗ МОЖНО УВИДЕТЬ БОРОДКИ ПЕРВ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 flipH="1">
            <a:off x="3581280" y="1371600"/>
            <a:ext cx="137160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перо3"/>
          <p:cNvPicPr/>
          <p:nvPr/>
        </p:nvPicPr>
        <p:blipFill>
          <a:blip r:embed="rId2"/>
          <a:stretch/>
        </p:blipFill>
        <p:spPr>
          <a:xfrm>
            <a:off x="533520" y="1143000"/>
            <a:ext cx="54100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095880" y="2819520"/>
            <a:ext cx="27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ПРИ УВЕЛИЧЕНИИ В 200 РАЗ МОЖНО УВИДЕТЬ БОРОДКИ ВТОР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3808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УВЕЛИЧЕНИЕ В 200 Р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 flipH="1" flipV="1">
            <a:off x="3504960" y="2971800"/>
            <a:ext cx="251460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1143000" y="5335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Е СТРОЕНИЕ ПЕРЬЕВ ПТ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ЁМ ИХ СХОДСТВО И РАЗЛИЧ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860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УРНОЕ МАХО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057400" y="5029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УРНОЕ КРОЮЩ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724280" y="5562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ОВОЕ ПЕ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74674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КРЫЛЬЯ1"/>
          <p:cNvPicPr/>
          <p:nvPr/>
        </p:nvPicPr>
        <p:blipFill>
          <a:blip r:embed="rId2"/>
          <a:stretch/>
        </p:blipFill>
        <p:spPr>
          <a:xfrm>
            <a:off x="2185920" y="1600200"/>
            <a:ext cx="1548000" cy="3124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РЫЛЬЯ2"/>
          <p:cNvPicPr/>
          <p:nvPr/>
        </p:nvPicPr>
        <p:blipFill>
          <a:blip r:embed="rId3"/>
          <a:stretch/>
        </p:blipFill>
        <p:spPr>
          <a:xfrm>
            <a:off x="4906800" y="2743200"/>
            <a:ext cx="103824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КРЫЛЬЯ3"/>
          <p:cNvPicPr/>
          <p:nvPr/>
        </p:nvPicPr>
        <p:blipFill>
          <a:blip r:embed="rId4"/>
          <a:stretch/>
        </p:blipFill>
        <p:spPr>
          <a:xfrm>
            <a:off x="7010280" y="3962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ПУХ1"/>
          <p:cNvPicPr/>
          <p:nvPr/>
        </p:nvPicPr>
        <p:blipFill>
          <a:blip r:embed="rId5"/>
          <a:stretch/>
        </p:blipFill>
        <p:spPr>
          <a:xfrm>
            <a:off x="414360" y="1600200"/>
            <a:ext cx="1109520" cy="3962520"/>
          </a:xfrm>
          <a:prstGeom prst="rect">
            <a:avLst/>
          </a:prstGeom>
          <a:ln w="0">
            <a:noFill/>
          </a:ln>
        </p:spPr>
      </p:pic>
      <p:sp>
        <p:nvSpPr>
          <p:cNvPr id="141" name="Рамка 10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6[1]"/>
          <p:cNvPicPr/>
          <p:nvPr/>
        </p:nvPicPr>
        <p:blipFill>
          <a:blip r:embed="rId2"/>
          <a:stretch/>
        </p:blipFill>
        <p:spPr>
          <a:xfrm>
            <a:off x="304920" y="1959120"/>
            <a:ext cx="510516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113[1]"/>
          <p:cNvPicPr/>
          <p:nvPr/>
        </p:nvPicPr>
        <p:blipFill>
          <a:blip r:embed="rId3"/>
          <a:stretch/>
        </p:blipFill>
        <p:spPr>
          <a:xfrm>
            <a:off x="838080" y="380880"/>
            <a:ext cx="7696440" cy="577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12[1]"/>
          <p:cNvPicPr/>
          <p:nvPr/>
        </p:nvPicPr>
        <p:blipFill>
          <a:blip r:embed="rId4"/>
          <a:stretch/>
        </p:blipFill>
        <p:spPr>
          <a:xfrm>
            <a:off x="2743200" y="228600"/>
            <a:ext cx="6000840" cy="429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228600" y="228600"/>
            <a:ext cx="7772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тицы – позвоночные животные, тело которых покрыто перьями, а передние конечности превращены в крыл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486400" y="914400"/>
            <a:ext cx="350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пособность передвигаться в воздухе, теплокровность и другие особенности строения и жизнедеятельности дали им возможность широко расселится на Зем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0"/>
          <p:cNvSpPr/>
          <p:nvPr/>
        </p:nvSpPr>
        <p:spPr>
          <a:xfrm>
            <a:off x="533520" y="3808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. ОПИШИТЕ ФОРМУ ТЕЛА ПТИЦЫ И УКАЖИТЕ, ИЗ КАКИХ ОТДЕЛОВ ОНО СОСТО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" descr="Без имени-1копирование"/>
          <p:cNvPicPr/>
          <p:nvPr/>
        </p:nvPicPr>
        <p:blipFill>
          <a:blip r:embed="rId1"/>
          <a:stretch/>
        </p:blipFill>
        <p:spPr>
          <a:xfrm>
            <a:off x="2921040" y="1752480"/>
            <a:ext cx="5689440" cy="4496040"/>
          </a:xfrm>
          <a:prstGeom prst="rect">
            <a:avLst/>
          </a:prstGeom>
          <a:ln w="0">
            <a:noFill/>
          </a:ln>
        </p:spPr>
      </p:pic>
      <p:sp>
        <p:nvSpPr>
          <p:cNvPr id="58" name="Line 3"/>
          <p:cNvSpPr/>
          <p:nvPr/>
        </p:nvSpPr>
        <p:spPr>
          <a:xfrm flipH="1">
            <a:off x="3885840" y="1295280"/>
            <a:ext cx="2057400" cy="838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4368240" y="2186280"/>
            <a:ext cx="2312640" cy="504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6781320" y="3657600"/>
            <a:ext cx="121932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H="1" flipV="1">
            <a:off x="7543800" y="5334120"/>
            <a:ext cx="38088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791320" y="838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705720" y="1981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46748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5"/>
          <p:cNvSpPr/>
          <p:nvPr/>
        </p:nvSpPr>
        <p:spPr>
          <a:xfrm flipV="1">
            <a:off x="1440360" y="3594240"/>
            <a:ext cx="2300400" cy="811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33520" y="4419720"/>
            <a:ext cx="25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7"/>
          <p:cNvSpPr/>
          <p:nvPr/>
        </p:nvSpPr>
        <p:spPr>
          <a:xfrm flipV="1">
            <a:off x="3048120" y="5486400"/>
            <a:ext cx="2133360" cy="3808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905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685800" y="457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ВНЕШНЕЕ СТРОЕНИЕ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5772240" y="836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699240" y="198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Ш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7451640" y="3284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РЫ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7020000" y="6021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Х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539640" y="443700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УЛОВИЩ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1908000" y="5734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ЦЕ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9" descr="Без имени-1копирование"/>
          <p:cNvPicPr/>
          <p:nvPr/>
        </p:nvPicPr>
        <p:blipFill>
          <a:blip r:embed="rId2"/>
          <a:stretch/>
        </p:blipFill>
        <p:spPr>
          <a:xfrm>
            <a:off x="2527200" y="1427040"/>
            <a:ext cx="4788000" cy="4135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838080" y="609480"/>
            <a:ext cx="2514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ссмотрите голову пт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ие органы располагаются на 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5486400" y="2438280"/>
            <a:ext cx="1752480" cy="4572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7242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4648320" y="1447920"/>
            <a:ext cx="1752480" cy="8380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0"/>
          <p:cNvSpPr/>
          <p:nvPr/>
        </p:nvSpPr>
        <p:spPr>
          <a:xfrm flipV="1">
            <a:off x="1600200" y="2971800"/>
            <a:ext cx="1600200" cy="763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1"/>
          <p:cNvSpPr/>
          <p:nvPr/>
        </p:nvSpPr>
        <p:spPr>
          <a:xfrm flipV="1">
            <a:off x="1523880" y="3352320"/>
            <a:ext cx="1752840" cy="17528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 flipV="1">
            <a:off x="3276720" y="3581280"/>
            <a:ext cx="228600" cy="19814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64008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694836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90920" y="5715000"/>
            <a:ext cx="27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533520" y="5181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228600" y="304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6381720" y="1197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6948360" y="184464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ХО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РС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2700360" y="5708520"/>
            <a:ext cx="27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КЛЮВ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826920" y="5157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528480" y="3038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КЛЮВЬ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ЗД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3[1]"/>
          <p:cNvPicPr/>
          <p:nvPr/>
        </p:nvPicPr>
        <p:blipFill>
          <a:blip r:embed="rId2"/>
          <a:stretch/>
        </p:blipFill>
        <p:spPr>
          <a:xfrm>
            <a:off x="380880" y="152280"/>
            <a:ext cx="6400800" cy="5052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635280" y="4159080"/>
            <a:ext cx="532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говые чехлы, одевающие клюв, менее тверды, чем зубы, но зато они легче, могут принимать любую форму, растут всю жизнь и самозатачив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121[1]"/>
          <p:cNvPicPr/>
          <p:nvPr/>
        </p:nvPicPr>
        <p:blipFill>
          <a:blip r:embed="rId3"/>
          <a:stretch/>
        </p:blipFill>
        <p:spPr>
          <a:xfrm>
            <a:off x="2266920" y="1646280"/>
            <a:ext cx="6877080" cy="5211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124[1]"/>
          <p:cNvPicPr/>
          <p:nvPr/>
        </p:nvPicPr>
        <p:blipFill>
          <a:blip r:embed="rId4"/>
          <a:stretch/>
        </p:blipFill>
        <p:spPr>
          <a:xfrm>
            <a:off x="2700360" y="2025720"/>
            <a:ext cx="6443640" cy="483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28[1]"/>
          <p:cNvPicPr/>
          <p:nvPr/>
        </p:nvPicPr>
        <p:blipFill>
          <a:blip r:embed="rId5"/>
          <a:stretch/>
        </p:blipFill>
        <p:spPr>
          <a:xfrm>
            <a:off x="0" y="0"/>
            <a:ext cx="644364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10[1]"/>
          <p:cNvPicPr/>
          <p:nvPr/>
        </p:nvPicPr>
        <p:blipFill>
          <a:blip r:embed="rId2"/>
          <a:stretch/>
        </p:blipFill>
        <p:spPr>
          <a:xfrm>
            <a:off x="2743200" y="228600"/>
            <a:ext cx="6172200" cy="4878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04920" y="167652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ДЛЯ ЧЕГО ПТИЦЕ ТАКИЕ КРАСИВЫЕ НАРЯ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101[1]"/>
          <p:cNvPicPr/>
          <p:nvPr/>
        </p:nvPicPr>
        <p:blipFill>
          <a:blip r:embed="rId3"/>
          <a:stretch/>
        </p:blipFill>
        <p:spPr>
          <a:xfrm>
            <a:off x="2590920" y="304920"/>
            <a:ext cx="6476760" cy="588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02[1]"/>
          <p:cNvPicPr/>
          <p:nvPr/>
        </p:nvPicPr>
        <p:blipFill>
          <a:blip r:embed="rId4"/>
          <a:stretch/>
        </p:blipFill>
        <p:spPr>
          <a:xfrm>
            <a:off x="2590920" y="304920"/>
            <a:ext cx="6270480" cy="632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29[1]"/>
          <p:cNvPicPr/>
          <p:nvPr/>
        </p:nvPicPr>
        <p:blipFill>
          <a:blip r:embed="rId5"/>
          <a:stretch/>
        </p:blipFill>
        <p:spPr>
          <a:xfrm>
            <a:off x="2666880" y="142884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6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103[1]"/>
          <p:cNvPicPr/>
          <p:nvPr/>
        </p:nvPicPr>
        <p:blipFill>
          <a:blip r:embed="rId2"/>
          <a:stretch/>
        </p:blipFill>
        <p:spPr>
          <a:xfrm>
            <a:off x="4724280" y="133200"/>
            <a:ext cx="40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127[1]"/>
          <p:cNvPicPr/>
          <p:nvPr/>
        </p:nvPicPr>
        <p:blipFill>
          <a:blip r:embed="rId3"/>
          <a:stretch/>
        </p:blipFill>
        <p:spPr>
          <a:xfrm>
            <a:off x="0" y="24573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>
            <a:off x="228600" y="763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личие перьев и значительное изменение скелета привели к развитию у большинства птиц структурных приспособлений, которые позволили им летать и овладеть воздушной стих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019920" y="35812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ерья птиц – это производные эпидермиса, которые ведут своё происхождение от чешуи рептил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066680" y="1905120"/>
            <a:ext cx="3200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. ВЫЯСНИТЕ, КАК РАСПОЛАГАЮТСЯ ПЕРЬЯ НА ТЕЛЕ ПТ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ГДЕ РАСПОЛАГАЮТСЯ САМЫЕ КРУПНЫЕ ПЕРЬЯ, А ГДЕ – БОЛЕЕ МЕЛК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крылок"/>
          <p:cNvPicPr/>
          <p:nvPr/>
        </p:nvPicPr>
        <p:blipFill>
          <a:blip r:embed="rId2"/>
          <a:stretch/>
        </p:blipFill>
        <p:spPr>
          <a:xfrm>
            <a:off x="4648320" y="304920"/>
            <a:ext cx="408456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1" descr="ПУХ1"/>
          <p:cNvPicPr/>
          <p:nvPr/>
        </p:nvPicPr>
        <p:blipFill>
          <a:blip r:embed="rId2"/>
          <a:stretch/>
        </p:blipFill>
        <p:spPr>
          <a:xfrm>
            <a:off x="4741920" y="990720"/>
            <a:ext cx="1430280" cy="5105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838080" y="12193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НЕШНЕЕ СТРО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РА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5486400" y="5257800"/>
            <a:ext cx="19051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 flipH="1">
            <a:off x="5714640" y="2133720"/>
            <a:ext cx="106668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2841480" y="3759840"/>
            <a:ext cx="2546640" cy="480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8580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8580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0" y="3505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38080" y="38606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074000" y="1819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Х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712296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Ч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38320" y="3860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РЖ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43:03Z</dcterms:created>
  <dc:creator> </dc:creator>
  <dc:description/>
  <dc:language>en-US</dc:language>
  <cp:lastModifiedBy>Admin</cp:lastModifiedBy>
  <dcterms:modified xsi:type="dcterms:W3CDTF">2012-10-02T08:55:53Z</dcterms:modified>
  <cp:revision>34</cp:revision>
  <dc:subject/>
  <dc:title>Презентация PowerPoint</dc:title>
</cp:coreProperties>
</file>