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B300-05D7-48A2-AF5E-E10FF2ED29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A283-6314-4783-9885-BE9402CFD6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C079-659C-48AC-89F4-2397FCDE80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9C80-73C5-461C-B0B8-CB4D1F9557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E005-038D-4456-9857-1CDD3D9B17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1742-28C0-4F1A-9C14-F23A74CD21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70F5-BB09-47EA-8DBD-40861DEBD5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DBDA-C636-43EF-B80F-27321EC4DB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6E6F-7A6A-4D4F-98D4-4208CADF6F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DCA4-9F1F-4A0C-88D5-116DE34BF7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1B94-04F6-4788-81D3-F93B00951F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FB24-9018-4C3A-8DBD-8F002F8255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AC9A-99B4-469E-9A19-4AD264D86A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1B39-85DA-4A78-9E75-03B107AA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D16-FCCE-4E4F-9D26-ED63DFA8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CC6-EF1E-425F-B7A0-56241342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FDC7-BD88-4CAB-8585-4109D7F6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DD1F-56EA-46A2-A751-0A29DB25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9CA0-4C58-49B1-8A1E-9153506C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1710-5973-47FE-B17D-82A088D8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9BC0-832D-4099-9AFA-819C0990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C46-699F-4D44-92BB-72BDAE3C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4323-B16F-4055-8016-F76E8087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3A65-2E31-4C14-9575-2E00CB95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0DA7-BD70-4043-AB2A-B3C5F0E1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0CC5-B38A-41D4-9F5F-A5E6FDA759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9.jpeg"/><Relationship Id="rId6" Type="http://schemas.openxmlformats.org/officeDocument/2006/relationships/hyperlink" Target="http://prezentacii.com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24000" y="333360"/>
            <a:ext cx="576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336600"/>
                    </a:gs>
                    <a:gs pos="50000">
                      <a:srgbClr val="ff9933"/>
                    </a:gs>
                    <a:gs pos="100000">
                      <a:srgbClr val="3366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ЕШНЕЕ СТРОЕНИЕ ПТИЦ</a:t>
            </a:r>
            <a:endParaRPr b="0" lang="en-US" sz="2400" spc="1" strike="noStrike">
              <a:ln w="2232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336600"/>
                  </a:gs>
                  <a:gs pos="50000">
                    <a:srgbClr val="ff9933"/>
                  </a:gs>
                  <a:gs pos="100000">
                    <a:srgbClr val="3366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468360" y="5300640"/>
            <a:ext cx="5761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336600"/>
                    </a:gs>
                    <a:gs pos="50000">
                      <a:srgbClr val="ff9933"/>
                    </a:gs>
                    <a:gs pos="100000">
                      <a:srgbClr val="3366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ОЕНИЕ ПЕРЬЕВ</a:t>
            </a:r>
            <a:endParaRPr b="0" lang="en-US" sz="2400" spc="1" strike="noStrike">
              <a:ln w="2232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336600"/>
                  </a:gs>
                  <a:gs pos="50000">
                    <a:srgbClr val="ff9933"/>
                  </a:gs>
                  <a:gs pos="100000">
                    <a:srgbClr val="3366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Рамка 3"/>
          <p:cNvSpPr/>
          <p:nvPr/>
        </p:nvSpPr>
        <p:spPr>
          <a:xfrm>
            <a:off x="3943440" y="6429240"/>
            <a:ext cx="2286000" cy="42876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4"/>
          <p:cNvGrpSpPr/>
          <p:nvPr/>
        </p:nvGrpSpPr>
        <p:grpSpPr>
          <a:xfrm>
            <a:off x="533520" y="457200"/>
            <a:ext cx="8076960" cy="5943600"/>
            <a:chOff x="533520" y="457200"/>
            <a:chExt cx="8076960" cy="5943600"/>
          </a:xfrm>
        </p:grpSpPr>
        <p:pic>
          <p:nvPicPr>
            <p:cNvPr id="124" name="Picture 2" descr="перо1"/>
            <p:cNvPicPr/>
            <p:nvPr/>
          </p:nvPicPr>
          <p:blipFill>
            <a:blip r:embed="rId2"/>
            <a:stretch/>
          </p:blipFill>
          <p:spPr>
            <a:xfrm>
              <a:off x="533520" y="457200"/>
              <a:ext cx="807696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3"/>
            <p:cNvSpPr/>
            <p:nvPr/>
          </p:nvSpPr>
          <p:spPr>
            <a:xfrm>
              <a:off x="685800" y="55393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величение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Text Box 5"/>
          <p:cNvSpPr/>
          <p:nvPr/>
        </p:nvSpPr>
        <p:spPr>
          <a:xfrm>
            <a:off x="533520" y="609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И УВЕЛИЧЕНИИ В 10 РАЗ МОЖНО УВИДЕТЬ БОРОДКИ ПЕРВОГО ПОРЯД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 flipH="1">
            <a:off x="3581280" y="1371600"/>
            <a:ext cx="1371600" cy="25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перо3"/>
          <p:cNvPicPr/>
          <p:nvPr/>
        </p:nvPicPr>
        <p:blipFill>
          <a:blip r:embed="rId2"/>
          <a:stretch/>
        </p:blipFill>
        <p:spPr>
          <a:xfrm>
            <a:off x="533520" y="1143000"/>
            <a:ext cx="5410080" cy="41148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6095880" y="2819520"/>
            <a:ext cx="2743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ПРИ УВЕЛИЧЕНИИ В 200 РАЗ МОЖНО УВИДЕТЬ БОРОДКИ ВТОРОГО ПОРЯД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838080" y="14479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УВЕЛИЧЕНИЕ В 200 РА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5"/>
          <p:cNvSpPr/>
          <p:nvPr/>
        </p:nvSpPr>
        <p:spPr>
          <a:xfrm flipH="1" flipV="1">
            <a:off x="3504960" y="2971800"/>
            <a:ext cx="251460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6"/>
          <p:cNvSpPr/>
          <p:nvPr/>
        </p:nvSpPr>
        <p:spPr>
          <a:xfrm>
            <a:off x="1143000" y="53352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АВНИТЕ СТРОЕНИЕ ПЕРЬЕВ ПТИ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ЧЁМ ИХ СХОДСТВО И РАЗЛИЧИ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28600" y="5715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ТУРНОЕ МАХОВ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057400" y="5029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ТУРНОЕ КРОЮЩ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4724280" y="5562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ХОВОЕ ПЕР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746748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1" descr="КРЫЛЬЯ1"/>
          <p:cNvPicPr/>
          <p:nvPr/>
        </p:nvPicPr>
        <p:blipFill>
          <a:blip r:embed="rId2"/>
          <a:stretch/>
        </p:blipFill>
        <p:spPr>
          <a:xfrm>
            <a:off x="2185920" y="1600200"/>
            <a:ext cx="1548000" cy="3124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КРЫЛЬЯ2"/>
          <p:cNvPicPr/>
          <p:nvPr/>
        </p:nvPicPr>
        <p:blipFill>
          <a:blip r:embed="rId3"/>
          <a:stretch/>
        </p:blipFill>
        <p:spPr>
          <a:xfrm>
            <a:off x="4906800" y="2743200"/>
            <a:ext cx="1038240" cy="2590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КРЫЛЬЯ3"/>
          <p:cNvPicPr/>
          <p:nvPr/>
        </p:nvPicPr>
        <p:blipFill>
          <a:blip r:embed="rId4"/>
          <a:stretch/>
        </p:blipFill>
        <p:spPr>
          <a:xfrm>
            <a:off x="7010280" y="39625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ПУХ1"/>
          <p:cNvPicPr/>
          <p:nvPr/>
        </p:nvPicPr>
        <p:blipFill>
          <a:blip r:embed="rId5"/>
          <a:stretch/>
        </p:blipFill>
        <p:spPr>
          <a:xfrm>
            <a:off x="414360" y="1600200"/>
            <a:ext cx="1109520" cy="3962520"/>
          </a:xfrm>
          <a:prstGeom prst="rect">
            <a:avLst/>
          </a:prstGeom>
          <a:ln w="0">
            <a:noFill/>
          </a:ln>
        </p:spPr>
      </p:pic>
      <p:sp>
        <p:nvSpPr>
          <p:cNvPr id="141" name="Рамка 10"/>
          <p:cNvSpPr/>
          <p:nvPr/>
        </p:nvSpPr>
        <p:spPr>
          <a:xfrm>
            <a:off x="3714840" y="0"/>
            <a:ext cx="2286000" cy="42876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06[1]"/>
          <p:cNvPicPr/>
          <p:nvPr/>
        </p:nvPicPr>
        <p:blipFill>
          <a:blip r:embed="rId2"/>
          <a:stretch/>
        </p:blipFill>
        <p:spPr>
          <a:xfrm>
            <a:off x="304920" y="1959120"/>
            <a:ext cx="5105160" cy="459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113[1]"/>
          <p:cNvPicPr/>
          <p:nvPr/>
        </p:nvPicPr>
        <p:blipFill>
          <a:blip r:embed="rId3"/>
          <a:stretch/>
        </p:blipFill>
        <p:spPr>
          <a:xfrm>
            <a:off x="838080" y="380880"/>
            <a:ext cx="7696440" cy="5772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12[1]"/>
          <p:cNvPicPr/>
          <p:nvPr/>
        </p:nvPicPr>
        <p:blipFill>
          <a:blip r:embed="rId4"/>
          <a:stretch/>
        </p:blipFill>
        <p:spPr>
          <a:xfrm>
            <a:off x="2743200" y="228600"/>
            <a:ext cx="6000840" cy="4297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228600" y="228600"/>
            <a:ext cx="7772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тицы – позвоночные животные, тело которых покрыто перьями, а передние конечности превращены в крыль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486400" y="914400"/>
            <a:ext cx="3505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пособность передвигаться в воздухе, теплокровность и другие особенности строения и жизнедеятельности дали им возможность широко расселится на Зем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0"/>
          <p:cNvSpPr/>
          <p:nvPr/>
        </p:nvSpPr>
        <p:spPr>
          <a:xfrm>
            <a:off x="533520" y="3808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1. ОПИШИТЕ ФОРМУ ТЕЛА ПТИЦЫ И УКАЖИТЕ, ИЗ КАКИХ ОТДЕЛОВ ОНО СОСТО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1" descr="Без имени-1копирование"/>
          <p:cNvPicPr/>
          <p:nvPr/>
        </p:nvPicPr>
        <p:blipFill>
          <a:blip r:embed="rId1"/>
          <a:stretch/>
        </p:blipFill>
        <p:spPr>
          <a:xfrm>
            <a:off x="2921040" y="1752480"/>
            <a:ext cx="5689440" cy="4496040"/>
          </a:xfrm>
          <a:prstGeom prst="rect">
            <a:avLst/>
          </a:prstGeom>
          <a:ln w="0">
            <a:noFill/>
          </a:ln>
        </p:spPr>
      </p:pic>
      <p:sp>
        <p:nvSpPr>
          <p:cNvPr id="58" name="Line 3"/>
          <p:cNvSpPr/>
          <p:nvPr/>
        </p:nvSpPr>
        <p:spPr>
          <a:xfrm flipH="1">
            <a:off x="3885840" y="1295280"/>
            <a:ext cx="2057400" cy="8384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4"/>
          <p:cNvSpPr/>
          <p:nvPr/>
        </p:nvSpPr>
        <p:spPr>
          <a:xfrm flipH="1">
            <a:off x="4368240" y="2186280"/>
            <a:ext cx="2312640" cy="504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5"/>
          <p:cNvSpPr/>
          <p:nvPr/>
        </p:nvSpPr>
        <p:spPr>
          <a:xfrm flipH="1">
            <a:off x="6781320" y="3657600"/>
            <a:ext cx="1219320" cy="685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6"/>
          <p:cNvSpPr/>
          <p:nvPr/>
        </p:nvSpPr>
        <p:spPr>
          <a:xfrm flipH="1" flipV="1">
            <a:off x="7543800" y="5334120"/>
            <a:ext cx="380880" cy="7617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5791320" y="8380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705720" y="19810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7467480" y="3276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7010280" y="6019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5"/>
          <p:cNvSpPr/>
          <p:nvPr/>
        </p:nvSpPr>
        <p:spPr>
          <a:xfrm flipV="1">
            <a:off x="1440360" y="3594240"/>
            <a:ext cx="2300400" cy="811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533520" y="4419720"/>
            <a:ext cx="25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7"/>
          <p:cNvSpPr/>
          <p:nvPr/>
        </p:nvSpPr>
        <p:spPr>
          <a:xfrm flipV="1">
            <a:off x="3048120" y="5486400"/>
            <a:ext cx="2133360" cy="3808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190512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685800" y="45720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ВНЕШНЕЕ СТРОЕНИЕ ПТ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5772240" y="8366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ОЛ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699240" y="1989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ШЕ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7451640" y="32846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РЫ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7020000" y="6021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ХВ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539640" y="4437000"/>
            <a:ext cx="25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ТУЛОВИЩ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1908000" y="5734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ЦЕ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9" descr="Без имени-1копирование"/>
          <p:cNvPicPr/>
          <p:nvPr/>
        </p:nvPicPr>
        <p:blipFill>
          <a:blip r:embed="rId2"/>
          <a:stretch/>
        </p:blipFill>
        <p:spPr>
          <a:xfrm>
            <a:off x="2527200" y="1427040"/>
            <a:ext cx="4788000" cy="41356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838080" y="609480"/>
            <a:ext cx="2514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Рассмотрите голову пти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акие органы располагаются на не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5486400" y="2438280"/>
            <a:ext cx="1752480" cy="45720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8"/>
          <p:cNvSpPr/>
          <p:nvPr/>
        </p:nvSpPr>
        <p:spPr>
          <a:xfrm>
            <a:off x="4724280" y="2286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9"/>
          <p:cNvSpPr/>
          <p:nvPr/>
        </p:nvSpPr>
        <p:spPr>
          <a:xfrm flipH="1">
            <a:off x="4648320" y="1447920"/>
            <a:ext cx="1752480" cy="83808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0"/>
          <p:cNvSpPr/>
          <p:nvPr/>
        </p:nvSpPr>
        <p:spPr>
          <a:xfrm flipV="1">
            <a:off x="1600200" y="2971800"/>
            <a:ext cx="1600200" cy="7632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1"/>
          <p:cNvSpPr/>
          <p:nvPr/>
        </p:nvSpPr>
        <p:spPr>
          <a:xfrm flipV="1">
            <a:off x="1523880" y="3352320"/>
            <a:ext cx="1752840" cy="175284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3"/>
          <p:cNvSpPr/>
          <p:nvPr/>
        </p:nvSpPr>
        <p:spPr>
          <a:xfrm flipV="1">
            <a:off x="3276720" y="3581280"/>
            <a:ext cx="228600" cy="198144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6400800" y="1219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6948360" y="184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2590920" y="5715000"/>
            <a:ext cx="27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533520" y="5181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228600" y="3048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6381720" y="1197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А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6948360" y="184464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УХОВ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РС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2700360" y="5708520"/>
            <a:ext cx="27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КЛЮВЬ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826920" y="5157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ЗЫ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528480" y="30384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КЛЮВЬ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ЗДР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13[1]"/>
          <p:cNvPicPr/>
          <p:nvPr/>
        </p:nvPicPr>
        <p:blipFill>
          <a:blip r:embed="rId2"/>
          <a:stretch/>
        </p:blipFill>
        <p:spPr>
          <a:xfrm>
            <a:off x="380880" y="152280"/>
            <a:ext cx="6400800" cy="5052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3635280" y="4159080"/>
            <a:ext cx="5329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говые чехлы, одевающие клюв, менее тверды, чем зубы, но зато они легче, могут принимать любую форму, растут всю жизнь и самозатачиваю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8" descr="121[1]"/>
          <p:cNvPicPr/>
          <p:nvPr/>
        </p:nvPicPr>
        <p:blipFill>
          <a:blip r:embed="rId3"/>
          <a:stretch/>
        </p:blipFill>
        <p:spPr>
          <a:xfrm>
            <a:off x="2266920" y="1646280"/>
            <a:ext cx="6877080" cy="5211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124[1]"/>
          <p:cNvPicPr/>
          <p:nvPr/>
        </p:nvPicPr>
        <p:blipFill>
          <a:blip r:embed="rId4"/>
          <a:stretch/>
        </p:blipFill>
        <p:spPr>
          <a:xfrm>
            <a:off x="2700360" y="2025720"/>
            <a:ext cx="6443640" cy="4832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128[1]"/>
          <p:cNvPicPr/>
          <p:nvPr/>
        </p:nvPicPr>
        <p:blipFill>
          <a:blip r:embed="rId5"/>
          <a:stretch/>
        </p:blipFill>
        <p:spPr>
          <a:xfrm>
            <a:off x="0" y="0"/>
            <a:ext cx="644364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10[1]"/>
          <p:cNvPicPr/>
          <p:nvPr/>
        </p:nvPicPr>
        <p:blipFill>
          <a:blip r:embed="rId2"/>
          <a:stretch/>
        </p:blipFill>
        <p:spPr>
          <a:xfrm>
            <a:off x="2743200" y="228600"/>
            <a:ext cx="6172200" cy="4878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304920" y="167652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ДЛЯ ЧЕГО ПТИЦЕ ТАКИЕ КРАСИВЫЕ НАРЯД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101[1]"/>
          <p:cNvPicPr/>
          <p:nvPr/>
        </p:nvPicPr>
        <p:blipFill>
          <a:blip r:embed="rId3"/>
          <a:stretch/>
        </p:blipFill>
        <p:spPr>
          <a:xfrm>
            <a:off x="2590920" y="304920"/>
            <a:ext cx="6476760" cy="588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02[1]"/>
          <p:cNvPicPr/>
          <p:nvPr/>
        </p:nvPicPr>
        <p:blipFill>
          <a:blip r:embed="rId4"/>
          <a:stretch/>
        </p:blipFill>
        <p:spPr>
          <a:xfrm>
            <a:off x="2590920" y="304920"/>
            <a:ext cx="6270480" cy="6324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129[1]"/>
          <p:cNvPicPr/>
          <p:nvPr/>
        </p:nvPicPr>
        <p:blipFill>
          <a:blip r:embed="rId5"/>
          <a:stretch/>
        </p:blipFill>
        <p:spPr>
          <a:xfrm>
            <a:off x="2666880" y="142884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6" dur="1" fill="hold"/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103[1]"/>
          <p:cNvPicPr/>
          <p:nvPr/>
        </p:nvPicPr>
        <p:blipFill>
          <a:blip r:embed="rId2"/>
          <a:stretch/>
        </p:blipFill>
        <p:spPr>
          <a:xfrm>
            <a:off x="4724280" y="133200"/>
            <a:ext cx="4068720" cy="305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127[1]"/>
          <p:cNvPicPr/>
          <p:nvPr/>
        </p:nvPicPr>
        <p:blipFill>
          <a:blip r:embed="rId3"/>
          <a:stretch/>
        </p:blipFill>
        <p:spPr>
          <a:xfrm>
            <a:off x="0" y="245736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0"/>
          <p:cNvSpPr/>
          <p:nvPr/>
        </p:nvSpPr>
        <p:spPr>
          <a:xfrm>
            <a:off x="228600" y="7632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Наличие перьев и значительное изменение скелета привели к развитию у большинства птиц структурных приспособлений, которые позволили им летать и овладеть воздушной стих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6019920" y="358128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ерья птиц – это производные эпидермиса, которые ведут своё происхождение от чешуи рептил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066680" y="1905120"/>
            <a:ext cx="32004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. ВЫЯСНИТЕ, КАК РАСПОЛАГАЮТСЯ ПЕРЬЯ НА ТЕЛЕ ПТИЦ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ГДЕ РАСПОЛАГАЮТСЯ САМЫЕ КРУПНЫЕ ПЕРЬЯ, А ГДЕ – БОЛЕЕ МЕЛКИ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крылок"/>
          <p:cNvPicPr/>
          <p:nvPr/>
        </p:nvPicPr>
        <p:blipFill>
          <a:blip r:embed="rId2"/>
          <a:stretch/>
        </p:blipFill>
        <p:spPr>
          <a:xfrm>
            <a:off x="4648320" y="304920"/>
            <a:ext cx="4084560" cy="6172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1" descr="ПУХ1"/>
          <p:cNvPicPr/>
          <p:nvPr/>
        </p:nvPicPr>
        <p:blipFill>
          <a:blip r:embed="rId2"/>
          <a:stretch/>
        </p:blipFill>
        <p:spPr>
          <a:xfrm>
            <a:off x="4741920" y="990720"/>
            <a:ext cx="1430280" cy="5105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838080" y="12193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НЕШНЕЕ СТРО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ЕРА ПТ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4"/>
          <p:cNvSpPr/>
          <p:nvPr/>
        </p:nvSpPr>
        <p:spPr>
          <a:xfrm flipH="1">
            <a:off x="5486400" y="5257800"/>
            <a:ext cx="19051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 flipH="1">
            <a:off x="5714640" y="2133720"/>
            <a:ext cx="1066680" cy="5331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6"/>
          <p:cNvSpPr/>
          <p:nvPr/>
        </p:nvSpPr>
        <p:spPr>
          <a:xfrm flipV="1">
            <a:off x="2841480" y="3759840"/>
            <a:ext cx="2546640" cy="4806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685800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858000" y="4724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0" y="35053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38080" y="386064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7074000" y="18194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АХ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7122960" y="4724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Ч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38320" y="386064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ЕРЖ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43:03Z</dcterms:created>
  <dc:creator> </dc:creator>
  <dc:description/>
  <dc:language>en-US</dc:language>
  <cp:lastModifiedBy>Admin</cp:lastModifiedBy>
  <dcterms:modified xsi:type="dcterms:W3CDTF">2012-10-02T08:55:53Z</dcterms:modified>
  <cp:revision>34</cp:revision>
  <dc:subject/>
  <dc:title>Презентация PowerPoint</dc:title>
</cp:coreProperties>
</file>