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F73-6A67-4597-A99C-ECEFFBFF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11B-995B-4F74-A4FC-7A9D89C2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627-A710-40D5-B17C-EC0E7FA8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ED2-6573-4E25-9429-D431B0C3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96C-321F-4206-9565-4B9E8B6E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9A7-A459-4D66-B384-B50B65D9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B53-AC55-45A1-ABD2-E9596F45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163-7F46-4469-82BB-51B601F1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970-6947-4568-A56A-A91DD9EF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B78-21A1-4287-B5D4-9B3959D8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7FB-133B-435F-A0B8-273F9030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235-B0CC-41A4-81AE-57EF193F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A7DE-18D9-425C-9A0A-EC95D5B15A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Olga\11_04_2011\2\1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Olga\11_04_2011\2\10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Olga\11_04_2011\2\11.JPG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Olga\11_04_2011\2\12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Olga\11_04_2011\2\13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Olga\11_04_2011\2\14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Olga\11_04_2011\2\15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Olga\11_04_2011\2\16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Olga\11_04_2011\2\17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:\Olga\11_04_2011\2\18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Olga\11_04_2011\2\19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:\Olga\11_04_2011\2\2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\Olga\11_04_2011\2\3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Olga\11_04_2011\2\4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Olga\11_04_2011\2\5.JPG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Olga\11_04_2011\2\6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Olga\11_04_2011\2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Olga\11_04_2011\2\8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Olga\11_04_2011\2\9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17:33:45Z</dcterms:created>
  <dc:creator>olga</dc:creator>
  <dc:description/>
  <dc:language>en-US</dc:language>
  <cp:lastModifiedBy>Николай</cp:lastModifiedBy>
  <dcterms:modified xsi:type="dcterms:W3CDTF">2012-09-10T11:15:33Z</dcterms:modified>
  <cp:revision>1</cp:revision>
  <dc:subject/>
  <dc:title>Презентация PowerPoint</dc:title>
</cp:coreProperties>
</file>