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816-4264-4323-972A-F24EA6F0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E4C-EEB5-4AE3-B223-53C53A86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BC4-81DF-4417-8FF8-8F786A50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AF2-986F-463A-B969-687FDC9E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B20-0E14-43AF-99D9-154EF071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BF6-EBC0-4805-B463-5B5451CC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FA6-34D3-4E41-A5FC-F0753BD4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EC6-8239-45DE-8D93-DA82D46C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01F-31B8-4F34-A5A5-EA148543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430-CE50-4328-83B7-3DE89F39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3E0-A3E7-49F9-96CD-F31C54A1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E7E-76BE-4B4C-B877-382A808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8A27-F303-437B-8EC9-7CBC2A6CA7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Olga\11_04_2011\2\1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Olga\11_04_2011\2\10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Olga\11_04_2011\2\11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Olga\11_04_2011\2\12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Olga\11_04_2011\2\13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Olga\11_04_2011\2\14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Olga\11_04_2011\2\15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Olga\11_04_2011\2\16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Olga\11_04_2011\2\17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Olga\11_04_2011\2\18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Olga\11_04_2011\2\19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:\Olga\11_04_2011\2\2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Olga\11_04_2011\2\3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Olga\11_04_2011\2\4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Olga\11_04_2011\2\5.JPG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Olga\11_04_2011\2\6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Olga\11_04_2011\2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Olga\11_04_2011\2\8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Olga\11_04_2011\2\9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7:33:45Z</dcterms:created>
  <dc:creator>olga</dc:creator>
  <dc:description/>
  <dc:language>en-US</dc:language>
  <cp:lastModifiedBy>Николай</cp:lastModifiedBy>
  <dcterms:modified xsi:type="dcterms:W3CDTF">2012-09-10T11:15:33Z</dcterms:modified>
  <cp:revision>1</cp:revision>
  <dc:subject/>
  <dc:title>Презентация PowerPoint</dc:title>
</cp:coreProperties>
</file>