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6B0-583C-40EC-A535-EB0FDC58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6D7-0AB5-467F-A73F-6CED35A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D8C-01FB-4E80-991B-F7A8C8F0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093-FDD2-4238-B73C-19A7468D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F7EA-7612-4568-9D86-C7A3AF9D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D83E-45F9-42BC-AFA7-540E66DB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D420-DD22-44CB-9880-FF6857B0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0CF-68F9-45B1-8F69-197BFEAC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6831-5418-4F0D-8EA2-4AB8A5DE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5DD3-52B6-43E6-B8F0-88262D42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0649-8A8D-476F-A5A3-C434BDC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E96-6708-4DB0-B889-0C76CBBF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083A-70D4-4481-9D79-C8025DF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DA56-C4A9-4C2D-8715-DCEC98C3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01B-D587-4BFB-901B-94D9D33F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9B31-07FA-4BC5-B049-4374E003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6B40-9E9A-4FCE-8287-1A106821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386D-650A-489C-98CF-E60263A7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9F56D-8BFF-444C-9FEE-BEAB962B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BD8F-D4AE-417C-8F23-07858037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303C-F779-41B5-89A3-74A37FC9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E1C7-BF2E-4752-9DA0-8EC97F0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488-6BB4-4F8D-BDD8-5DEEA972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B0C3-5F4A-4659-8DFB-3EF94A4D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2400-192B-4790-9C4F-C804ED5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1A97-302D-46BA-A0C3-C01EA203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F45F-345C-44D6-B123-1A4CD73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8D3E-F461-490A-B784-E7CC5E71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664E-093C-4DCB-A1E5-49984267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FB5B-F302-4F50-9EFF-ABDF0DDF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C5F5-844A-4EB9-B737-070FBA43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9FBD5-28F1-4E11-9DBE-581D47A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4104-99B3-46D2-A314-C6A53FA5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678-E945-4709-A46D-515BF71B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A7CC-B229-401F-88C3-6C01B344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24AF-3DF8-49AA-A1FA-62B274E2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703F8-0184-45AE-8664-D92084DF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933E-25D9-465A-B8F1-03FDF81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4EBD-6A6A-4D17-9EE3-25802A5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B2A0F-A8CE-41D3-8B17-A36B7649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8E4D-122B-4DF9-AE1C-9AFC1FCE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8A42-2EA5-4A20-AAD3-7BD5C1FE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D778-EF4E-45C8-8F14-60082A4E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289-F158-485B-AF28-D10AC8A7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DE1-EECF-4ABE-9C88-4E9A6E78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92E-FE9C-4BDA-8ECC-D9073263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340-8B0E-4039-AF4B-74E78B0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96C-9719-49DF-99E4-621BDED7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354E-A972-4448-9925-D64C5C79810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A55D-6917-4AC9-AB2C-FD366A11D31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C4B1-E8F3-49F1-9C8B-9E397C6D16B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85D7-2241-4BD8-AEC7-9ED0BA342B8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-122400"/>
            <a:ext cx="7785000" cy="2408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657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зентация подготовле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млевским А.В. учащимся 9 класс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уководитель: Воронина В.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ерхоценского филиала МБОУ «Сатинская СОШ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C:\Users\Евгений\Downloads\images (3).jpg"/>
          <p:cNvPicPr/>
          <p:nvPr/>
        </p:nvPicPr>
        <p:blipFill>
          <a:blip r:embed="rId2"/>
          <a:stretch/>
        </p:blipFill>
        <p:spPr>
          <a:xfrm>
            <a:off x="152280" y="320040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98" name="lit.mp3" descr=""/>
          <p:cNvPicPr/>
          <p:nvPr/>
        </p:nvPicPr>
        <p:blipFill>
          <a:blip r:embed="rId3"/>
          <a:stretch/>
        </p:blipFill>
        <p:spPr>
          <a:xfrm>
            <a:off x="44956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C:\Users\Евгений\Downloads\kuchin.jpg"/>
          <p:cNvPicPr/>
          <p:nvPr/>
        </p:nvPicPr>
        <p:blipFill>
          <a:blip r:embed="rId1"/>
          <a:stretch/>
        </p:blipFill>
        <p:spPr>
          <a:xfrm>
            <a:off x="4495680" y="2133720"/>
            <a:ext cx="1406520" cy="2009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Тамбовские поэты-фронтов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.М. Кубанё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В.Шам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И Голован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.А.Дорош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С.Куч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С.Милосер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.В.Стрыг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4" descr="C:\Users\Евгений\Downloads\images (1).jpg"/>
          <p:cNvPicPr/>
          <p:nvPr/>
        </p:nvPicPr>
        <p:blipFill>
          <a:blip r:embed="rId2"/>
          <a:stretch/>
        </p:blipFill>
        <p:spPr>
          <a:xfrm>
            <a:off x="7620120" y="76212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Users\Евгений\Downloads\shamov.jpg"/>
          <p:cNvPicPr/>
          <p:nvPr/>
        </p:nvPicPr>
        <p:blipFill>
          <a:blip r:embed="rId3"/>
          <a:stretch/>
        </p:blipFill>
        <p:spPr>
          <a:xfrm>
            <a:off x="7162920" y="2286000"/>
            <a:ext cx="1492200" cy="2133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Евгений\Downloads\golovanov.jpg"/>
          <p:cNvPicPr/>
          <p:nvPr/>
        </p:nvPicPr>
        <p:blipFill>
          <a:blip r:embed="rId4"/>
          <a:stretch/>
        </p:blipFill>
        <p:spPr>
          <a:xfrm>
            <a:off x="6934320" y="3962520"/>
            <a:ext cx="1589040" cy="220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Евгений\Downloads\miloserdov.jpg"/>
          <p:cNvPicPr/>
          <p:nvPr/>
        </p:nvPicPr>
        <p:blipFill>
          <a:blip r:embed="rId5"/>
          <a:stretch/>
        </p:blipFill>
        <p:spPr>
          <a:xfrm>
            <a:off x="5638680" y="4979880"/>
            <a:ext cx="1479600" cy="1878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Евгений\Downloads\str.jpg"/>
          <p:cNvPicPr/>
          <p:nvPr/>
        </p:nvPicPr>
        <p:blipFill>
          <a:blip r:embed="rId6"/>
          <a:stretch/>
        </p:blipFill>
        <p:spPr>
          <a:xfrm>
            <a:off x="4343400" y="3962520"/>
            <a:ext cx="1495440" cy="2066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C:\Users\Евгений\Downloads\doroshin.jpg"/>
          <p:cNvPicPr/>
          <p:nvPr/>
        </p:nvPicPr>
        <p:blipFill>
          <a:blip r:embed="rId7"/>
          <a:stretch/>
        </p:blipFill>
        <p:spPr>
          <a:xfrm>
            <a:off x="5791320" y="2590920"/>
            <a:ext cx="1469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676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Ходите прямо, дышите лег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се, сгибавшие спины низк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о от Берлина до Москвы далек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 от Москвы до Берлина – близк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убанев В.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вигом был путь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йденный нашими солдатами 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фицерами от Москвы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 Берлина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вигом была вся их жизнь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аленная войно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C:\Users\Евгений\Downloads\images (2).jpg"/>
          <p:cNvPicPr/>
          <p:nvPr/>
        </p:nvPicPr>
        <p:blipFill>
          <a:blip r:embed="rId1"/>
          <a:stretch/>
        </p:blipFill>
        <p:spPr>
          <a:xfrm>
            <a:off x="152280" y="2666880"/>
            <a:ext cx="3372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поэтов-фронтовиков тема войны была главной. Они были участниками, писали о реальной войне – со взрывами, минами, кровью и смертью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C:\Users\Евгений\Downloads\4iskh.jpg"/>
          <p:cNvPicPr/>
          <p:nvPr/>
        </p:nvPicPr>
        <p:blipFill>
          <a:blip r:embed="rId1"/>
          <a:stretch/>
        </p:blipFill>
        <p:spPr>
          <a:xfrm>
            <a:off x="3505320" y="3733920"/>
            <a:ext cx="20574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чная память и слава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им великим людям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C:\Users\Евгений\Downloads\Ony_srazhalis_za_Rodinu01.jpg"/>
          <p:cNvPicPr/>
          <p:nvPr/>
        </p:nvPicPr>
        <p:blipFill>
          <a:blip r:embed="rId1"/>
          <a:stretch/>
        </p:blipFill>
        <p:spPr>
          <a:xfrm>
            <a:off x="3124080" y="3352680"/>
            <a:ext cx="31975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ад пашней, чистотой берез плакучих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ам, где бомбежек, свастики паучь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сердца впечатан  след на много лет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не было ни хаты, ни кола,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воните, памяти колокола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.Милосер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х забрала вой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ока, оборванная пулей… Сколько их оборвали пули, сразившие молодых поэтов, не реализовавших свой дар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ячеслав Афанась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рис Ко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лентин Шульч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ячеслав Николаевич Афанасьев (1903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стигнутый последней мето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, не успев всего допе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лагославлю я землю эт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гда придется умереть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920" y="304920"/>
            <a:ext cx="6705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эт родился и вырос в Тамбове. Здесь он окончил школу и педагогический техникум. Природа родного края пробудила в нем желание писать стих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.Н.Афанасьев добровольцем ушел на фронт, защищал Москву, партизанил на Смоленщине. В сентябре 1943 года поэт погиб в бою за освобождение Смоленс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, что успел написать наш земляк, поражает искренностью и вдохновени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олько милого, род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 могли стереть г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Я родимого Тамбо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 забуду никог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C:\Users\Евгений\Downloads\images.jpg"/>
          <p:cNvPicPr/>
          <p:nvPr/>
        </p:nvPicPr>
        <p:blipFill>
          <a:blip r:embed="rId1"/>
          <a:stretch/>
        </p:blipFill>
        <p:spPr>
          <a:xfrm>
            <a:off x="7010280" y="18288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Борис Александрович Котов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(1909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чь сыплет жгучим градом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чь сыплет в нас свинцом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А смерть тяжелым взгляд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Уставилась в лиц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1920" y="533160"/>
            <a:ext cx="632484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роженец села Пахотный Угол Бондарского района, был освобожден по состоянию здоровья от военной службы. Это не помешало ему уйти добровольцем на фронт и служить минометчик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эт погиб в 1943 году на Днепровском плацдарме, совершив подвиг. Звание Героя Советского Союза было присвоено Б.А. Котову посмерт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C:\Users\Евгений\Downloads\ktv.jpg"/>
          <p:cNvPicPr/>
          <p:nvPr/>
        </p:nvPicPr>
        <p:blipFill>
          <a:blip r:embed="rId1"/>
          <a:stretch/>
        </p:blipFill>
        <p:spPr>
          <a:xfrm>
            <a:off x="6858000" y="1295280"/>
            <a:ext cx="18288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алентин Иванович Шульчев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(1914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стить врагу беспощадно и смело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ать-Отчизна, мы слышим твой зов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В бой выходят за правое дел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артизаны орловских лес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6840" y="4572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первых дней войны староюрьевец Шульчев Василий, корреспондент газеты «Во славу Родины!», воевал в отряде 1-й Курской партизанской бригады. Раненый. Он попал в плен, но бежал оттуда и снова встал в строй. Его стихи, песни, частушки распространялись по окопам и заучивались наизусть. В строках, написанных Василием Шульчевым, была вера в побед, жажда жизн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гиб поэт, спасая раненого товарища, в начале 1943 года под Курском. В тетради, спрятанной на его груди, друзья прочитали: «…И умру, как следует бойцу…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C:\Users\Евгений\Downloads\shu.jpg"/>
          <p:cNvPicPr/>
          <p:nvPr/>
        </p:nvPicPr>
        <p:blipFill>
          <a:blip r:embed="rId1"/>
          <a:stretch/>
        </p:blipFill>
        <p:spPr>
          <a:xfrm>
            <a:off x="6629400" y="152388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вгений</dc:creator>
  <dc:description/>
  <dc:language>en-US</dc:language>
  <cp:lastModifiedBy>школа</cp:lastModifiedBy>
  <dcterms:modified xsi:type="dcterms:W3CDTF">2015-11-28T06:09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