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119-BDE3-459D-9B76-C4412C1C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F0E-8A3E-4530-B062-68AB34A5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845-BDF6-4350-A288-B64498D9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68A-D485-42A2-A1AA-2FB359B2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AE2C-730D-497D-B96D-1F2F9602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DE1F-C97E-49CA-885B-485F4AB0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4852-0FD0-429F-9495-8E7B7E2A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510F-5EE5-4559-A995-3387FD7F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6535-6585-4F9D-8E60-5BCB263C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67A5-C549-47B3-BBAB-BB4BB849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0593-6ACF-4376-8B77-1D534CDA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F0D-A2B4-4B25-8527-3697533B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169B-FB3F-4C78-AFB9-A3675750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17D1-546A-4363-AF76-F2A1AB0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2AAC-C277-463A-B717-698BA9E2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8CD1-93DF-4E4D-8C79-87D7E26C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5DB1-E8C6-4087-8EAC-F278CA60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0D91-CE2D-40E6-AE2F-6E4E92E0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3F40-DDE4-4409-8251-F11FA38C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E546F-AD75-471D-B254-9CDDBBAB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5A84-FA21-4C12-8987-1928D1F1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D976-1A48-465F-AD51-70852D23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A98-8279-4707-B318-EFDD36BD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E470-8C24-45BA-BA10-129D6DF9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9A0A-B113-4902-B06D-A11C6369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89E6B-A06F-49A7-9E89-B4E3640D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A267-8EA7-45AE-A36B-780C9466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F3B9-446F-4C18-8B76-38336611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438A-F651-4A22-ABBC-17E38B00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981F-76C9-42A8-B606-102A2883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40463-4DB0-499A-B34F-8493A626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31C17-0744-41A0-8A81-BBAC1151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10A99-6D4B-4473-9D1C-EFB01086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A47-E2BD-438D-9A17-FBEE1E16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A4187-DBA3-4361-84A2-F7E4E11B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8514-64B1-433D-B246-3491A9A1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1A076-04F7-4654-994F-5D51FBAE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BBD4-C5A3-45FA-B20C-44AF5B4A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6AE5-DC1E-4ECA-8B34-F3F5AC1E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7D36-B4DD-45FA-B384-DF27CCC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965D4-E0CA-4450-956C-41FD09E0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F1CF-62D7-4AC4-961F-5CDAC61D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505F-AA36-4766-AAAF-6395703C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392-D6CC-4B42-AA11-285ABEF3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46D-E2D4-4472-A368-92A365D3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120-7BF2-44F5-9FB0-BBE88D8A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27A-4F0C-4A38-BA80-1CA71C0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9C3-34A7-43BC-90DA-40174E85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F47E-6676-4920-AB09-909C8EB6CFC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D03C-E05B-454C-998B-F84AECFD98C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08FC-3CC3-415D-B49C-8C78325A71E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4B93-E81D-4EAE-98CC-91E7CEF2C1D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-122400"/>
            <a:ext cx="7785000" cy="2408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657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езентация подготовле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млевским А.В. учащимся 9 класс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уководитель: Воронина В.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ерхоценского филиала МБОУ «Сатинская СОШ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C:\Users\Евгений\Downloads\images (3).jpg"/>
          <p:cNvPicPr/>
          <p:nvPr/>
        </p:nvPicPr>
        <p:blipFill>
          <a:blip r:embed="rId2"/>
          <a:stretch/>
        </p:blipFill>
        <p:spPr>
          <a:xfrm>
            <a:off x="152280" y="320040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98" name="lit.mp3" descr=""/>
          <p:cNvPicPr/>
          <p:nvPr/>
        </p:nvPicPr>
        <p:blipFill>
          <a:blip r:embed="rId3"/>
          <a:stretch/>
        </p:blipFill>
        <p:spPr>
          <a:xfrm>
            <a:off x="44956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C:\Users\Евгений\Downloads\kuchin.jpg"/>
          <p:cNvPicPr/>
          <p:nvPr/>
        </p:nvPicPr>
        <p:blipFill>
          <a:blip r:embed="rId1"/>
          <a:stretch/>
        </p:blipFill>
        <p:spPr>
          <a:xfrm>
            <a:off x="4495680" y="2133720"/>
            <a:ext cx="1406520" cy="2009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Тамбовские поэты-фронтовик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.М. Кубанё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.В.Шам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И Голован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.А.Дорош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.С.Куч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С.Милосер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.В.Стрыг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4" descr="C:\Users\Евгений\Downloads\images (1).jpg"/>
          <p:cNvPicPr/>
          <p:nvPr/>
        </p:nvPicPr>
        <p:blipFill>
          <a:blip r:embed="rId2"/>
          <a:stretch/>
        </p:blipFill>
        <p:spPr>
          <a:xfrm>
            <a:off x="7620120" y="76212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Users\Евгений\Downloads\shamov.jpg"/>
          <p:cNvPicPr/>
          <p:nvPr/>
        </p:nvPicPr>
        <p:blipFill>
          <a:blip r:embed="rId3"/>
          <a:stretch/>
        </p:blipFill>
        <p:spPr>
          <a:xfrm>
            <a:off x="7162920" y="2286000"/>
            <a:ext cx="1492200" cy="2133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Users\Евгений\Downloads\golovanov.jpg"/>
          <p:cNvPicPr/>
          <p:nvPr/>
        </p:nvPicPr>
        <p:blipFill>
          <a:blip r:embed="rId4"/>
          <a:stretch/>
        </p:blipFill>
        <p:spPr>
          <a:xfrm>
            <a:off x="6934320" y="3962520"/>
            <a:ext cx="1589040" cy="2209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:\Users\Евгений\Downloads\miloserdov.jpg"/>
          <p:cNvPicPr/>
          <p:nvPr/>
        </p:nvPicPr>
        <p:blipFill>
          <a:blip r:embed="rId5"/>
          <a:stretch/>
        </p:blipFill>
        <p:spPr>
          <a:xfrm>
            <a:off x="5638680" y="4979880"/>
            <a:ext cx="1479600" cy="1878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Users\Евгений\Downloads\str.jpg"/>
          <p:cNvPicPr/>
          <p:nvPr/>
        </p:nvPicPr>
        <p:blipFill>
          <a:blip r:embed="rId6"/>
          <a:stretch/>
        </p:blipFill>
        <p:spPr>
          <a:xfrm>
            <a:off x="4343400" y="3962520"/>
            <a:ext cx="1495440" cy="2066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C:\Users\Евгений\Downloads\doroshin.jpg"/>
          <p:cNvPicPr/>
          <p:nvPr/>
        </p:nvPicPr>
        <p:blipFill>
          <a:blip r:embed="rId7"/>
          <a:stretch/>
        </p:blipFill>
        <p:spPr>
          <a:xfrm>
            <a:off x="5791320" y="2590920"/>
            <a:ext cx="1469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676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Ходите прямо, дышите лег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се, сгибавшие спины низко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Это от Берлина до Москвы далек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 от Москвы до Берлина – близко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убанев В.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вигом был путь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йденный нашими солдатами 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фицерами от Москвы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 Берлина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вигом была вся их жизнь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аленная войно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4" descr="C:\Users\Евгений\Downloads\images (2).jpg"/>
          <p:cNvPicPr/>
          <p:nvPr/>
        </p:nvPicPr>
        <p:blipFill>
          <a:blip r:embed="rId1"/>
          <a:stretch/>
        </p:blipFill>
        <p:spPr>
          <a:xfrm>
            <a:off x="152280" y="2666880"/>
            <a:ext cx="3372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поэтов-фронтовиков тема войны была главной. Они были участниками, писали о реальной войне – со взрывами, минами, кровью и смертью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4" descr="C:\Users\Евгений\Downloads\4iskh.jpg"/>
          <p:cNvPicPr/>
          <p:nvPr/>
        </p:nvPicPr>
        <p:blipFill>
          <a:blip r:embed="rId1"/>
          <a:stretch/>
        </p:blipFill>
        <p:spPr>
          <a:xfrm>
            <a:off x="3505320" y="3733920"/>
            <a:ext cx="20574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чная память и слава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этим великим людям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C:\Users\Евгений\Downloads\Ony_srazhalis_za_Rodinu01.jpg"/>
          <p:cNvPicPr/>
          <p:nvPr/>
        </p:nvPicPr>
        <p:blipFill>
          <a:blip r:embed="rId1"/>
          <a:stretch/>
        </p:blipFill>
        <p:spPr>
          <a:xfrm>
            <a:off x="3124080" y="3352680"/>
            <a:ext cx="31975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ад пашней, чистотой берез плакучих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ам, где бомбежек, свастики паучь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 сердца впечатан  след на много лет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Где не было ни хаты, ни кола,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воните, памяти колокола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.Милосер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х забрала вой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ока, оборванная пулей… Сколько их оборвали пули, сразившие молодых поэтов, не реализовавших свой дар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ячеслав Афанасье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орис Ко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алентин Шульче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ячеслав Николаевич Афанасьев (1903-194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стигнутый последней метой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, не успев всего допет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лагославлю я землю эту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гда придется умереть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920" y="304920"/>
            <a:ext cx="6705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эт родился и вырос в Тамбове. Здесь он окончил школу и педагогический техникум. Природа родного края пробудила в нем желание писать стих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.Н.Афанасьев добровольцем ушел на фронт, защищал Москву, партизанил на Смоленщине. В сентябре 1943 года поэт погиб в бою за освобождение Смоленс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, что успел написать наш земляк, поражает искренностью и вдохновени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олько милого, родн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е могли стереть г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Я родимого Тамбо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е забуду никог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C:\Users\Евгений\Downloads\images.jpg"/>
          <p:cNvPicPr/>
          <p:nvPr/>
        </p:nvPicPr>
        <p:blipFill>
          <a:blip r:embed="rId1"/>
          <a:stretch/>
        </p:blipFill>
        <p:spPr>
          <a:xfrm>
            <a:off x="7010280" y="182880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Борис Александрович Котов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(1909-194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очь сыплет жгучим градом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очь сыплет в нас свинцом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А смерть тяжелым взгляд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Уставилась в лиц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51920" y="533160"/>
            <a:ext cx="632484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роженец села Пахотный Угол Бондарского района, был освобожден по состоянию здоровья от военной службы. Это не помешало ему уйти добровольцем на фронт и служить минометчико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эт погиб в 1943 году на Днепровском плацдарме, совершив подвиг. Звание Героя Советского Союза было присвоено Б.А. Котову посмерт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C:\Users\Евгений\Downloads\ktv.jpg"/>
          <p:cNvPicPr/>
          <p:nvPr/>
        </p:nvPicPr>
        <p:blipFill>
          <a:blip r:embed="rId1"/>
          <a:stretch/>
        </p:blipFill>
        <p:spPr>
          <a:xfrm>
            <a:off x="6858000" y="1295280"/>
            <a:ext cx="18288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алентин Иванович Шульчев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(1914-194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Мстить врагу беспощадно и смело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Мать-Отчизна, мы слышим твой зов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В бой выходят за правое дел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артизаны орловских лес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6840" y="4572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первых дней войны староюрьевец Шульчев Василий, корреспондент газеты «Во славу Родины!», воевал в отряде 1-й Курской партизанской бригады. Раненый. Он попал в плен, но бежал оттуда и снова встал в строй. Его стихи, песни, частушки распространялись по окопам и заучивались наизусть. В строках, написанных Василием Шульчевым, была вера в побед, жажда жизн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гиб поэт, спасая раненого товарища, в начале 1943 года под Курском. В тетради, спрятанной на его груди, друзья прочитали: «…И умру, как следует бойцу…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C:\Users\Евгений\Downloads\shu.jpg"/>
          <p:cNvPicPr/>
          <p:nvPr/>
        </p:nvPicPr>
        <p:blipFill>
          <a:blip r:embed="rId1"/>
          <a:stretch/>
        </p:blipFill>
        <p:spPr>
          <a:xfrm>
            <a:off x="6629400" y="1523880"/>
            <a:ext cx="23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вгений</dc:creator>
  <dc:description/>
  <dc:language>en-US</dc:language>
  <cp:lastModifiedBy>школа</cp:lastModifiedBy>
  <dcterms:modified xsi:type="dcterms:W3CDTF">2015-11-28T06:09:2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