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FB1-DBEA-43FE-A0E2-21722C5E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CB7-54A6-4915-8CE5-32ECA1A1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4EF-8E52-454F-8CFB-4964CE98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1ED-F4DE-4061-8FE9-07A2281F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9ED2-5160-4CB0-9571-57A35B95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A229-E633-4A8B-98B5-DAD6969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6A28-212E-4D23-9524-11D1F0D3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0253-A0CE-4632-9035-B7AEDFDC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2FD6-35C8-4CAA-8371-61B54784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7342-F87D-4692-8B03-4EE8D4B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5511-D6E4-4169-9648-BBECAD5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958-72F1-40F4-BBD0-89F87D9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2F8-6B45-4C4F-A2DE-46DE45F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616-DC89-47B7-B86E-68D828C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14A-0FE3-4A10-9B6B-16A7FC9A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312F-5449-4347-B274-3B225B3F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438-D4FD-4E44-A2BF-1B3A6773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554C-0F97-4DCD-8C51-C422FD91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D8A2-C4BB-4EB7-935C-E89C78A5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097D-C0BD-4D97-A86E-156FDAA2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F160-51A3-478E-AD1E-D12FB055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A0CD-A85E-46EE-B178-0FBF0DE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142-652F-4B7B-B20E-EC50729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3102-44D7-4F42-B442-7F46EFDE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28AE-9776-4A6F-899A-AF1737D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24E0-DFA1-45CD-BFFA-BDE2B55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F40B-2E8D-4FD7-A6A6-DFF9AC3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C411-894A-4FF5-A484-14E954C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E8C9-AA07-493B-AA95-8F45DC2A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366E-3A90-41B4-9210-A11F4A6C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4B86-194E-4161-B5AF-F0E1989F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B7DB-EF11-4F14-A3E1-A909954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9B6C-0A55-4809-BE4E-2337C60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1BF-F4DE-4AFB-9662-8C7F9DA6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0553-5076-4908-8135-3C069EFF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9230-DAB9-4AD6-88FF-E833AAD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45CF-A8D3-4BC5-8DD2-05557108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4C79-A344-4C6B-BFB0-AB465F2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73F0-6ACF-4CDB-BEA7-F0F21A2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B608-CEDB-400B-945B-B10695E7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F910-42E0-42B3-B2BD-9C88540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BBA2-C88F-431E-9DA9-930D9A0A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55FE-45F7-472F-9413-6A3F6099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E66-EF5B-4880-B119-777C5DC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674-E851-4247-9652-290F8FE9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40A-73B0-4535-AC0D-4A9024A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F43-FA8D-47A4-904E-9A9BB422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D89-E87A-423A-8D04-749BC1D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B373-435F-4EE4-9732-89925CD99D4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AED5-D8B6-46C5-B2BA-86EEB9F5DA3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8070-16C2-43EF-ABCC-4974E2D92D5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035-3CC7-41C2-BCF7-07A25F17BB1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-122400"/>
            <a:ext cx="7785000" cy="2408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657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зентация подготовле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млевским А.В. учащимся 9 класс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уководитель: Воронина В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ерхоценского филиала МБОУ «Сатинская СОШ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C:\Users\Евгений\Downloads\images (3).jpg"/>
          <p:cNvPicPr/>
          <p:nvPr/>
        </p:nvPicPr>
        <p:blipFill>
          <a:blip r:embed="rId2"/>
          <a:stretch/>
        </p:blipFill>
        <p:spPr>
          <a:xfrm>
            <a:off x="152280" y="32004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98" name="lit.mp3" descr=""/>
          <p:cNvPicPr/>
          <p:nvPr/>
        </p:nvPicPr>
        <p:blipFill>
          <a:blip r:embed="rId3"/>
          <a:stretch/>
        </p:blipFill>
        <p:spPr>
          <a:xfrm>
            <a:off x="44956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C:\Users\Евгений\Downloads\kuchin.jpg"/>
          <p:cNvPicPr/>
          <p:nvPr/>
        </p:nvPicPr>
        <p:blipFill>
          <a:blip r:embed="rId1"/>
          <a:stretch/>
        </p:blipFill>
        <p:spPr>
          <a:xfrm>
            <a:off x="4495680" y="2133720"/>
            <a:ext cx="1406520" cy="2009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амбовские поэты-фронтов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.М. Кубанё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В.Шам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И Голова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.А.Дорош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С.Куч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С.Милосер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.В.Стрыг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C:\Users\Евгений\Downloads\images (1).jpg"/>
          <p:cNvPicPr/>
          <p:nvPr/>
        </p:nvPicPr>
        <p:blipFill>
          <a:blip r:embed="rId2"/>
          <a:stretch/>
        </p:blipFill>
        <p:spPr>
          <a:xfrm>
            <a:off x="7620120" y="7621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Users\Евгений\Downloads\shamov.jpg"/>
          <p:cNvPicPr/>
          <p:nvPr/>
        </p:nvPicPr>
        <p:blipFill>
          <a:blip r:embed="rId3"/>
          <a:stretch/>
        </p:blipFill>
        <p:spPr>
          <a:xfrm>
            <a:off x="7162920" y="2286000"/>
            <a:ext cx="149220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Евгений\Downloads\golovanov.jpg"/>
          <p:cNvPicPr/>
          <p:nvPr/>
        </p:nvPicPr>
        <p:blipFill>
          <a:blip r:embed="rId4"/>
          <a:stretch/>
        </p:blipFill>
        <p:spPr>
          <a:xfrm>
            <a:off x="6934320" y="3962520"/>
            <a:ext cx="158904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Евгений\Downloads\miloserdov.jpg"/>
          <p:cNvPicPr/>
          <p:nvPr/>
        </p:nvPicPr>
        <p:blipFill>
          <a:blip r:embed="rId5"/>
          <a:stretch/>
        </p:blipFill>
        <p:spPr>
          <a:xfrm>
            <a:off x="5638680" y="4979880"/>
            <a:ext cx="1479600" cy="187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Евгений\Downloads\str.jpg"/>
          <p:cNvPicPr/>
          <p:nvPr/>
        </p:nvPicPr>
        <p:blipFill>
          <a:blip r:embed="rId6"/>
          <a:stretch/>
        </p:blipFill>
        <p:spPr>
          <a:xfrm>
            <a:off x="4343400" y="3962520"/>
            <a:ext cx="1495440" cy="2066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Евгений\Downloads\doroshin.jpg"/>
          <p:cNvPicPr/>
          <p:nvPr/>
        </p:nvPicPr>
        <p:blipFill>
          <a:blip r:embed="rId7"/>
          <a:stretch/>
        </p:blipFill>
        <p:spPr>
          <a:xfrm>
            <a:off x="5791320" y="2590920"/>
            <a:ext cx="1469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676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Ходите прямо, дышите лег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се, сгибавшие спины низк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от Берлина до Москвы далек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 от Москвы до Берлина – близк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убанев В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игом был путь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йденный нашими солдатами 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ицерами от Москв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Берлина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вигом была вся их жизнь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аленная войно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C:\Users\Евгений\Downloads\images (2).jpg"/>
          <p:cNvPicPr/>
          <p:nvPr/>
        </p:nvPicPr>
        <p:blipFill>
          <a:blip r:embed="rId1"/>
          <a:stretch/>
        </p:blipFill>
        <p:spPr>
          <a:xfrm>
            <a:off x="152280" y="2666880"/>
            <a:ext cx="3372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поэтов-фронтовиков тема войны была главной. Они были участниками, писали о реальной войне – со взрывами, минами, кровью и смертью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:\Users\Евгений\Downloads\4iskh.jpg"/>
          <p:cNvPicPr/>
          <p:nvPr/>
        </p:nvPicPr>
        <p:blipFill>
          <a:blip r:embed="rId1"/>
          <a:stretch/>
        </p:blipFill>
        <p:spPr>
          <a:xfrm>
            <a:off x="3505320" y="3733920"/>
            <a:ext cx="20574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чная память и слав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им великим людям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C:\Users\Евгений\Downloads\Ony_srazhalis_za_Rodinu01.jpg"/>
          <p:cNvPicPr/>
          <p:nvPr/>
        </p:nvPicPr>
        <p:blipFill>
          <a:blip r:embed="rId1"/>
          <a:stretch/>
        </p:blipFill>
        <p:spPr>
          <a:xfrm>
            <a:off x="3124080" y="3352680"/>
            <a:ext cx="31975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д пашней, чистотой берез плакучих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ам, где бомбежек, свастики паучь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сердца впечатан  след на много лет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не было ни хаты, ни кола,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воните, памяти колокола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.Милосер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х забрала вой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ока, оборванная пулей… Сколько их оборвали пули, сразившие молодых поэтов, не реализовавших свой дар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ячеслав Афанась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рис Ко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лентин Шульч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ячеслав Николаевич Афанасьев (1903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стигнутый последней мето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, не успев всего допе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лагославлю я землю эт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гда придется умереть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920" y="304920"/>
            <a:ext cx="6705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эт родился и вырос в Тамбове. Здесь он окончил школу и педагогический техникум. Природа родного края пробудила в нем желание писать стих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.Н.Афанасьев добровольцем ушел на фронт, защищал Москву, партизанил на Смоленщине. В сентябре 1943 года поэт погиб в бою за освобождение Смоленс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, что успел написать наш земляк, поражает искренностью и вдохнове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олько милого, род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могли стереть г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 родимого Тамбо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забуду никог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C:\Users\Евгений\Downloads\images.jpg"/>
          <p:cNvPicPr/>
          <p:nvPr/>
        </p:nvPicPr>
        <p:blipFill>
          <a:blip r:embed="rId1"/>
          <a:stretch/>
        </p:blipFill>
        <p:spPr>
          <a:xfrm>
            <a:off x="7010280" y="18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Борис Александрович Кото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1909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чь сыплет жгучим град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чь сыплет в нас свинц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А смерть тяжелым взгляд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ставилась в лиц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1920" y="533160"/>
            <a:ext cx="63248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женец села Пахотный Угол Бондарского района, был освобожден по состоянию здоровья от военной службы. Это не помешало ему уйти добровольцем на фронт и служить минометчик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эт погиб в 1943 году на Днепровском плацдарме, совершив подвиг. Звание Героя Советского Союза было присвоено Б.А. Котову посмерт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Users\Евгений\Downloads\ktv.jpg"/>
          <p:cNvPicPr/>
          <p:nvPr/>
        </p:nvPicPr>
        <p:blipFill>
          <a:blip r:embed="rId1"/>
          <a:stretch/>
        </p:blipFill>
        <p:spPr>
          <a:xfrm>
            <a:off x="6858000" y="1295280"/>
            <a:ext cx="18288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лентин Иванович Шульче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(1914-194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стить врагу беспощадно и смело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ать-Отчизна, мы слышим твой зов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 бой выходят за правое дел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артизаны орловских лес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4572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первых дней войны староюрьевец Шульчев Василий, корреспондент газеты «Во славу Родины!», воевал в отряде 1-й Курской партизанской бригады. Раненый. Он попал в плен, но бежал оттуда и снова встал в строй. Его стихи, песни, частушки распространялись по окопам и заучивались наизусть. В строках, написанных Василием Шульчевым, была вера в побед, жажда жизн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гиб поэт, спасая раненого товарища, в начале 1943 года под Курском. В тетради, спрятанной на его груди, друзья прочитали: «…И умру, как следует бойцу…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C:\Users\Евгений\Downloads\shu.jpg"/>
          <p:cNvPicPr/>
          <p:nvPr/>
        </p:nvPicPr>
        <p:blipFill>
          <a:blip r:embed="rId1"/>
          <a:stretch/>
        </p:blipFill>
        <p:spPr>
          <a:xfrm>
            <a:off x="6629400" y="152388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й</dc:creator>
  <dc:description/>
  <dc:language>en-US</dc:language>
  <cp:lastModifiedBy>школа</cp:lastModifiedBy>
  <dcterms:modified xsi:type="dcterms:W3CDTF">2015-11-28T06:09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